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0.png" ContentType="image/png"/>
  <Override PartName="/ppt/media/image3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B4D8-3800-408C-8EC2-D1016B9A0C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1F0-25F7-45D5-A937-B4A21261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CFFB-9A83-4EE9-BA38-E42F2A11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0DF-225A-4E42-83E7-07802C6C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2D5D-1592-4675-A985-A196DCF8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7DE9-994E-445C-94F4-8D501084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F36A-A9E3-4FB4-9D8B-7A5474B2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036D-485B-498D-8A4D-AF92117B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17B2-40C8-463F-A50D-C187547C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6099-2453-45DA-A7E7-8AC46ADA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A397-1692-453C-BA4E-81BEDB13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47D9-3B6F-463F-B5BD-9BE3DBF5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C17-4D86-4A22-9B6C-E3EFC7F5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1687-4CB2-47C5-AE93-73319259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C217-A506-47ED-B3EC-EBB07277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7073-588F-4D92-BB1C-E1DEA86F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BB37-DB42-412D-A78D-D18D645D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4D9B-41A6-44C4-821C-44E8769A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FCB2-A8AE-4A7C-BAA7-E286AB91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D76-3C85-470D-BA6A-CED41AF8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3AF-9151-48C9-85A3-B8E6913A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57F-2B44-48F3-9170-0CE1C311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D12-5754-4AB1-BCA3-DDF1AC90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F94-98F8-4EBD-B144-7C7DAF05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E1C-BBD6-4634-AFF6-3FCBE95A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79A1-16A0-4027-B7E8-53C8FA51FA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D5C3-2607-41A0-B840-8FBC1B194C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th12.vln.dreamhosters.com/images/math12.vln.dreamhosters.com/1/16/F(x)_%253D_-absolute_x.jpg&amp;imgrefurl=http://math12.vln.dreamhosters.com/wiki/Polynomic_Functions&amp;usg=__01xGfS9cAeUdBo2sUga4zfy0eZY=&amp;h=259&amp;w=576&amp;sz=18&amp;hl=en&amp;start=13&amp;zoom=1&amp;um=1&amp;itbs=1&amp;tbnid=0GX4kbien9YOvM:&amp;tbnh=60&amp;tbnw=134&amp;prev=/images%3Fq%3Dnegative%2Babsolute%2Bvalue%2Bfunction%2Bgraph%26um%3D1%26hl%3Den%26safe%3Dactive%26sa%3DN%26ndsp%3D20%26tbs%3Disch:1&amp;ei=bzhdTduPLMWblgeI6LDYC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Nam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Dat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Period:</a:t>
            </a:r>
            <a:br>
              <a:rPr sz="20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Topic: </a:t>
            </a:r>
            <a:r>
              <a:rPr b="1" lang="en-US" sz="3200" spc="-1" strike="noStrike" u="sng">
                <a:solidFill>
                  <a:srgbClr val="330033"/>
                </a:solidFill>
                <a:uFillTx/>
                <a:latin typeface="Times New Roman"/>
              </a:rPr>
              <a:t>Graphing Absolute Value Equation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rm-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2880" y="4302000"/>
          <a:ext cx="3581640" cy="2560680"/>
        </p:xfrm>
        <a:graphic>
          <a:graphicData uri="http://schemas.openxmlformats.org/drawingml/2006/table">
            <a:tbl>
              <a:tblPr/>
              <a:tblGrid>
                <a:gridCol w="358920"/>
                <a:gridCol w="357120"/>
                <a:gridCol w="358920"/>
                <a:gridCol w="357120"/>
                <a:gridCol w="358920"/>
                <a:gridCol w="358560"/>
                <a:gridCol w="357120"/>
                <a:gridCol w="358920"/>
                <a:gridCol w="357120"/>
                <a:gridCol w="358920"/>
              </a:tblGrid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</a:tbl>
          </a:graphicData>
        </a:graphic>
      </p:graphicFrame>
      <p:cxnSp>
        <p:nvCxnSpPr>
          <p:cNvPr id="107" name="Straight Arrow Connector 6"/>
          <p:cNvCxnSpPr/>
          <p:nvPr/>
        </p:nvCxnSpPr>
        <p:spPr>
          <a:xfrm>
            <a:off x="6400440" y="4267080"/>
            <a:ext cx="1080" cy="274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8" name="Straight Arrow Connector 10"/>
          <p:cNvCxnSpPr/>
          <p:nvPr/>
        </p:nvCxnSpPr>
        <p:spPr>
          <a:xfrm flipH="1">
            <a:off x="4876200" y="5790960"/>
            <a:ext cx="3734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9" name="Straight Arrow Connector 27"/>
          <p:cNvCxnSpPr/>
          <p:nvPr/>
        </p:nvCxnSpPr>
        <p:spPr>
          <a:xfrm flipV="1">
            <a:off x="4952520" y="4191120"/>
            <a:ext cx="2591640" cy="2667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rizont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275602\Local Settings\Temporary Internet Files\Content.IE5\8CZ25BBI\MC900434403[1].wmf"/>
          <p:cNvPicPr/>
          <p:nvPr/>
        </p:nvPicPr>
        <p:blipFill>
          <a:blip r:embed="rId1"/>
          <a:stretch/>
        </p:blipFill>
        <p:spPr>
          <a:xfrm>
            <a:off x="7848720" y="457200"/>
            <a:ext cx="604800" cy="8478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5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6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4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1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│x - 4 │+ 5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Picture 3" descr="C:\Users\user\AppData\Local\Microsoft\Windows\Temporary Internet Files\Content.IE5\RKD2LOJ0\MM900282747[1].gif"/>
          <p:cNvPicPr/>
          <p:nvPr/>
        </p:nvPicPr>
        <p:blipFill>
          <a:blip r:embed="rId1"/>
          <a:stretch/>
        </p:blipFill>
        <p:spPr>
          <a:xfrm rot="21299400">
            <a:off x="73915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274320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-│x - 2 │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Picture 2" descr="C:\Users\user\AppData\Local\Microsoft\Windows\Temporary Internet Files\Content.IE5\FMINL040\MC900383550[1].wmf"/>
          <p:cNvPicPr/>
          <p:nvPr/>
        </p:nvPicPr>
        <p:blipFill>
          <a:blip r:embed="rId1"/>
          <a:stretch/>
        </p:blipFill>
        <p:spPr>
          <a:xfrm rot="21028800">
            <a:off x="685440" y="3429000"/>
            <a:ext cx="1425600" cy="3138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user\AppData\Local\Microsoft\Windows\Temporary Internet Files\Content.IE5\RKD2LOJ0\MM900282747[1].gif"/>
          <p:cNvPicPr/>
          <p:nvPr/>
        </p:nvPicPr>
        <p:blipFill>
          <a:blip r:embed="rId2"/>
          <a:stretch/>
        </p:blipFill>
        <p:spPr>
          <a:xfrm>
            <a:off x="7620120" y="152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user\AppData\Local\Microsoft\Windows\Temporary Internet Files\Content.IE5\NNA2BYPD\MC900293468[1].wmf"/>
          <p:cNvPicPr/>
          <p:nvPr/>
        </p:nvPicPr>
        <p:blipFill>
          <a:blip r:embed="rId3"/>
          <a:stretch/>
        </p:blipFill>
        <p:spPr>
          <a:xfrm>
            <a:off x="685800" y="0"/>
            <a:ext cx="107460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user\AppData\Local\Microsoft\Windows\Temporary Internet Files\Content.IE5\FMINL040\MC900304311[1].wmf"/>
          <p:cNvPicPr/>
          <p:nvPr/>
        </p:nvPicPr>
        <p:blipFill>
          <a:blip r:embed="rId4"/>
          <a:stretch/>
        </p:blipFill>
        <p:spPr>
          <a:xfrm flipH="1">
            <a:off x="7620120" y="4724280"/>
            <a:ext cx="1295280" cy="18097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-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1" name="Picture 2" descr="http://t0.gstatic.com/images?q=tbn:ANd9GcQ2HTiFzrEdIDpgHTabub4GZ2eioCGCh3SeFhpX8LnZrBQw-eIhxSIIAa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828800"/>
            <a:ext cx="5715000" cy="29527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3982680" y="571500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C:\Documents and Settings\275602\Local Settings\Temporary Internet Files\Content.IE5\GUNV34DJ\MC900440412[1].wmf"/>
          <p:cNvPicPr/>
          <p:nvPr/>
        </p:nvPicPr>
        <p:blipFill>
          <a:blip r:embed="rId3"/>
          <a:stretch/>
        </p:blipFill>
        <p:spPr>
          <a:xfrm>
            <a:off x="8001000" y="6176880"/>
            <a:ext cx="839880" cy="6811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4124520" y="213372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C:\Users\user\AppData\Local\Microsoft\Windows\Temporary Internet Files\Content.IE5\RKD2LOJ0\MC900440516[1].wmf"/>
          <p:cNvPicPr/>
          <p:nvPr/>
        </p:nvPicPr>
        <p:blipFill>
          <a:blip r:embed="rId4"/>
          <a:stretch/>
        </p:blipFill>
        <p:spPr>
          <a:xfrm>
            <a:off x="7696080" y="2819520"/>
            <a:ext cx="144792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C:\Users\user\AppData\Local\Microsoft\Windows\Temporary Internet Files\Content.IE5\M5XL5LPK\MM900282742[1].gif"/>
          <p:cNvPicPr/>
          <p:nvPr/>
        </p:nvPicPr>
        <p:blipFill>
          <a:blip r:embed="rId5"/>
          <a:stretch/>
        </p:blipFill>
        <p:spPr>
          <a:xfrm>
            <a:off x="0" y="5105520"/>
            <a:ext cx="1219320" cy="17524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actice Time!!!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lgebra Aerobics!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1447920"/>
            <a:ext cx="43434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3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3│ + 3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572000" y="1371600"/>
            <a:ext cx="4572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6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1│ - 1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Mix Algebra Aerob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14400" y="160020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4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2120" y="365760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5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057120" y="5715000"/>
            <a:ext cx="244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│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010920" y="1828800"/>
            <a:ext cx="30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2│ -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5853240" y="3733920"/>
            <a:ext cx="29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7│ +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46360" y="525780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x + 3y ≤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176520" y="5181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3813840" y="44956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≥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359160" y="281952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≥ -3x 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305920" cy="50292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143000" y="1486080"/>
            <a:ext cx="7696080" cy="53719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Home-Learning Assignment #5 Review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762120" y="1666800"/>
            <a:ext cx="8153280" cy="51912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bal Comprehension Analy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144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functions y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│x │ and y = │x - 3 │ together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│x │- 3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- │x │ together on a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negative sign have on the graph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rap-up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Quiz #8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Graphing Absolute Value Equation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167652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0" y="5057640"/>
            <a:ext cx="1347840" cy="180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7000920" y="0"/>
            <a:ext cx="2143080" cy="1600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5"/>
          <a:stretch/>
        </p:blipFill>
        <p:spPr>
          <a:xfrm>
            <a:off x="3429000" y="0"/>
            <a:ext cx="175248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bsolute value transformation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cabular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ifts the parent function graph horizontally and ver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fle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reates a mirror image of the parent-function graph across the line of ref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rent Function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Picture 2" descr="http://schoolwires.henry.k12.ga.us/437520715143758627/lib/437520715143758627/absolute_value_function_graph.gif"/>
          <p:cNvPicPr/>
          <p:nvPr/>
        </p:nvPicPr>
        <p:blipFill>
          <a:blip r:embed="rId1"/>
          <a:stretch/>
        </p:blipFill>
        <p:spPr>
          <a:xfrm>
            <a:off x="762120" y="1752480"/>
            <a:ext cx="7816680" cy="4419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Users\user\AppData\Local\Microsoft\Windows\Temporary Internet Files\Content.IE5\NNA2BYPD\MC900446036[1].wmf"/>
          <p:cNvPicPr/>
          <p:nvPr/>
        </p:nvPicPr>
        <p:blipFill>
          <a:blip r:embed="rId2"/>
          <a:stretch/>
        </p:blipFill>
        <p:spPr>
          <a:xfrm>
            <a:off x="7391520" y="5005440"/>
            <a:ext cx="1752480" cy="1852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user\AppData\Local\Microsoft\Windows\Temporary Internet Files\Content.IE5\M5XL5LPK\MC900292252[1].wmf"/>
          <p:cNvPicPr/>
          <p:nvPr/>
        </p:nvPicPr>
        <p:blipFill>
          <a:blip r:embed="rId3"/>
          <a:stretch/>
        </p:blipFill>
        <p:spPr>
          <a:xfrm flipH="1">
            <a:off x="0" y="5124600"/>
            <a:ext cx="1168560" cy="1733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tic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Documents and Settings\275602\Local Settings\Temporary Internet Files\Content.IE5\L9JD6LDM\MC900434411[1].wmf"/>
          <p:cNvPicPr/>
          <p:nvPr/>
        </p:nvPicPr>
        <p:blipFill>
          <a:blip r:embed="rId1"/>
          <a:stretch/>
        </p:blipFill>
        <p:spPr>
          <a:xfrm>
            <a:off x="7162920" y="228600"/>
            <a:ext cx="1041120" cy="1171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1:06:11Z</dcterms:created>
  <dc:creator>Jane Neff</dc:creator>
  <dc:description/>
  <dc:language>en-US</dc:language>
  <cp:lastModifiedBy>LEGION</cp:lastModifiedBy>
  <dcterms:modified xsi:type="dcterms:W3CDTF">2017-07-06T06:35:02Z</dcterms:modified>
  <cp:revision>58</cp:revision>
  <dc:subject/>
  <dc:title>Graphing Absolute Value Equations</dc:title>
</cp:coreProperties>
</file>