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16.png" ContentType="image/png"/>
  <Override PartName="/ppt/media/image15.wmf" ContentType="image/x-wmf"/>
  <Override PartName="/ppt/media/projctor.wav" ContentType="audio/x-wav"/>
  <Override PartName="/ppt/media/image8.wmf" ContentType="image/x-wmf"/>
  <Override PartName="/ppt/media/CHIMES.WAV" ContentType="audio/x-wav"/>
  <Override PartName="/ppt/media/image6.wmf" ContentType="image/x-wmf"/>
  <Override PartName="/ppt/media/image14.wmf" ContentType="image/x-wmf"/>
  <Override PartName="/ppt/media/image1.png" ContentType="image/png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A352-55E4-4074-A040-3BD29169E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m &lt; 9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m &lt; 9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 + a &lt; 6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 + a &lt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lt; 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lt; 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&gt; x - 3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2 &gt; x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1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1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+ (-3) &gt; -4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 + (-3) &gt; 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t &gt; -1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t &gt; -1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 + y &lt; -2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 + y &lt;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5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5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&lt; -8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x &lt; 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4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4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&gt; 6k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2 &gt; 6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k &lt; 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k &lt; 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6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6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-10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-10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9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9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- 1 &gt; 5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x - 1 &gt;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2n + 3 &lt; 7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2n + 3 &lt;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&lt; 2 - 3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&lt; 2 - 3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 &lt;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 &lt;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7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7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is great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-3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is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-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less than a numb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ess than 9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less than a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ess than 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- 2 &lt; 9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- 2 &lt; 9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(5x + 2) - 7x &gt; 38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(5x + 2) - 7x &gt; 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4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4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    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    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have 5 apples and you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3 apples, how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pples do you have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have 5 apples and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3 apples,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pples do you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3 apples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took them!)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3 apples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took them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= 3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= 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sed dot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sed dot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Open dot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Open dot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left of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lef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 -2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 -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2 &lt; y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2 &lt; 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ntersection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ntersection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union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union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y &lt; -6 or 3y &gt; 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y &lt; -6 or 3y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3 or y &gt; 0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3 or y &gt; 0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&gt; 6 and 2x &gt; -6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&gt; 6 and 2x &gt; 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3 &lt; x &lt;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3 &lt; x &lt;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8 &lt; 2z - 4 &lt; 4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8 &lt; 2z - 4 &lt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2 &lt; z &lt; 4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2 &lt; z &lt; 4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meter of the given rectangle is 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92 cm. Using the diagram, writ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equality representing the perimeter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meter of the given rectangle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92 cm. Using the diagram, 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equality representing the perime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stants: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put down you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ools and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for furth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sta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put down y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ool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for fur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8x + 6 &gt;= 9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"8x + 6 &gt;= 9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's all 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oday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luck on 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est!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's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luck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e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!!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 Double Round 1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 Double Round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- 3 &lt; 6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 - 3 &lt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14A3-5699-4E98-8300-3A1B6926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A553-D3C1-4FE7-A340-4512ECAD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AA4A-EAB7-4751-B102-7BAD4403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843-B357-4017-9B82-8F3DC062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1748-E3AA-41A1-B522-085E5A6C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DF95-3665-4410-B251-55BC6068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046B-9E42-4E9A-88F8-6EBB00AF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D8E7-E84B-4547-9794-C8C01A02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5E51-9E1D-475A-93C2-7A8D1037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4E3A-B167-42ED-AF0F-C66E83A1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43D4-7372-44F0-BEEF-4A9E232B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E349-B074-4179-BE9E-3174E885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6404-AAB4-4FD8-AA51-067E670F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8F30-BC27-4C06-BA83-A221C0F8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F744-1EF8-437B-BF0F-2981EE77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8374-9419-46C9-B1A2-2BA5DF15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8591-6E85-437B-93D7-567F7F36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9E14-2707-48C3-BDF4-84091A21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5DCA-7A43-484E-A3BE-D291F51F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1EF4-2292-484F-807C-288A3212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8166-0C8C-47A0-9DDC-04E275C5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B97D-ACF3-478D-AE07-843E92BF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E7B9-5BCC-46B6-A163-EDE7B957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A949-D6EB-4336-BADB-D7854658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05D6-C15B-4FF7-8589-65E625BC1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CE60-0175-4BA0-AFAF-5953506AD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74.xml"/><Relationship Id="rId12" Type="http://schemas.openxmlformats.org/officeDocument/2006/relationships/slide" Target="slide27.xml"/><Relationship Id="rId13" Type="http://schemas.openxmlformats.org/officeDocument/2006/relationships/slide" Target="slide29.xml"/><Relationship Id="rId14" Type="http://schemas.openxmlformats.org/officeDocument/2006/relationships/slide" Target="slide31.xml"/><Relationship Id="rId15" Type="http://schemas.openxmlformats.org/officeDocument/2006/relationships/slide" Target="slide33.xml"/><Relationship Id="rId16" Type="http://schemas.openxmlformats.org/officeDocument/2006/relationships/slide" Target="slide35.xml"/><Relationship Id="rId17" Type="http://schemas.openxmlformats.org/officeDocument/2006/relationships/slide" Target="slide37.xml"/><Relationship Id="rId18" Type="http://schemas.openxmlformats.org/officeDocument/2006/relationships/slide" Target="slide39.xml"/><Relationship Id="rId19" Type="http://schemas.openxmlformats.org/officeDocument/2006/relationships/slide" Target="slide41.xml"/><Relationship Id="rId20" Type="http://schemas.openxmlformats.org/officeDocument/2006/relationships/slide" Target="slide43.xml"/><Relationship Id="rId21" Type="http://schemas.openxmlformats.org/officeDocument/2006/relationships/slide" Target="slide45.xml"/><Relationship Id="rId22" Type="http://schemas.openxmlformats.org/officeDocument/2006/relationships/slide" Target="slide47.xml"/><Relationship Id="rId23" Type="http://schemas.openxmlformats.org/officeDocument/2006/relationships/slide" Target="slide49.xml"/><Relationship Id="rId24" Type="http://schemas.openxmlformats.org/officeDocument/2006/relationships/slide" Target="slide51.xml"/><Relationship Id="rId25" Type="http://schemas.openxmlformats.org/officeDocument/2006/relationships/slide" Target="slide53.xml"/><Relationship Id="rId26" Type="http://schemas.openxmlformats.org/officeDocument/2006/relationships/slide" Target="slide55.xml"/><Relationship Id="rId27" Type="http://schemas.openxmlformats.org/officeDocument/2006/relationships/slide" Target="slide57.xml"/><Relationship Id="rId28" Type="http://schemas.openxmlformats.org/officeDocument/2006/relationships/slide" Target="slide74.xml"/><Relationship Id="rId29" Type="http://schemas.openxmlformats.org/officeDocument/2006/relationships/slide" Target="slide61.xml"/><Relationship Id="rId30" Type="http://schemas.openxmlformats.org/officeDocument/2006/relationships/slide" Target="slide63.xml"/><Relationship Id="rId31" Type="http://schemas.openxmlformats.org/officeDocument/2006/relationships/slide" Target="slide65.xml"/><Relationship Id="rId32" Type="http://schemas.openxmlformats.org/officeDocument/2006/relationships/slide" Target="slide67.xml"/><Relationship Id="rId33" Type="http://schemas.openxmlformats.org/officeDocument/2006/relationships/slide" Target="slide69.xml"/><Relationship Id="rId34" Type="http://schemas.openxmlformats.org/officeDocument/2006/relationships/image" Target="../media/image3.png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WELC1424.WAV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90" name="RNDO1424.WAV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91" name="FADE1424.WAV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jeopardy"/>
          <p:cNvPicPr/>
          <p:nvPr/>
        </p:nvPicPr>
        <p:blipFill>
          <a:blip r:embed="rId5"/>
          <a:stretch/>
        </p:blipFill>
        <p:spPr>
          <a:xfrm>
            <a:off x="228600" y="1219320"/>
            <a:ext cx="8610480" cy="4572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0"/>
          <p:cNvSpPr/>
          <p:nvPr/>
        </p:nvSpPr>
        <p:spPr>
          <a:xfrm>
            <a:off x="3048120" y="64990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95"/>
                </a:solidFill>
                <a:latin typeface="Capitals"/>
              </a:rPr>
              <a:t>With Mr. Tyl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73648" presetSubtype="170701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46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969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467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95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762120" y="1155600"/>
            <a:ext cx="7696080" cy="453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m &lt; 9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58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WordArt 8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+ a &lt; 6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3" name="time1471.wav" descr=""/>
          <p:cNvPicPr/>
          <p:nvPr/>
        </p:nvPicPr>
        <p:blipFill>
          <a:blip r:embed="rId1"/>
          <a:stretch/>
        </p:blipFill>
        <p:spPr>
          <a:xfrm>
            <a:off x="7924680" y="-533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838080" y="1200240"/>
            <a:ext cx="7620120" cy="44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&lt; 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69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2 &gt; x - 3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74" name="time1471.wav" descr=""/>
          <p:cNvPicPr/>
          <p:nvPr/>
        </p:nvPicPr>
        <p:blipFill>
          <a:blip r:embed="rId1"/>
          <a:stretch/>
        </p:blipFill>
        <p:spPr>
          <a:xfrm>
            <a:off x="7924680" y="-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685800" y="1111320"/>
            <a:ext cx="7772400" cy="457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1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80" name="AutoShape 7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WordArt 8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 + (-3) &gt; -4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5" name="time1471.wav" descr=""/>
          <p:cNvPicPr/>
          <p:nvPr/>
        </p:nvPicPr>
        <p:blipFill>
          <a:blip r:embed="rId1"/>
          <a:stretch/>
        </p:blipFill>
        <p:spPr>
          <a:xfrm>
            <a:off x="7924680" y="-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90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t &gt; -1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1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WordArt 7"/>
          <p:cNvSpPr txBox="1"/>
          <p:nvPr/>
        </p:nvSpPr>
        <p:spPr>
          <a:xfrm>
            <a:off x="762120" y="1155600"/>
            <a:ext cx="7619760" cy="463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+ y &lt; -2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6" name="time1471.wav" descr=""/>
          <p:cNvPicPr/>
          <p:nvPr/>
        </p:nvPicPr>
        <p:blipFill>
          <a:blip r:embed="rId1"/>
          <a:stretch/>
        </p:blipFill>
        <p:spPr>
          <a:xfrm>
            <a:off x="7924680" y="-533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1" name="WordArt 7"/>
          <p:cNvSpPr txBox="1"/>
          <p:nvPr/>
        </p:nvSpPr>
        <p:spPr>
          <a:xfrm>
            <a:off x="762120" y="914400"/>
            <a:ext cx="7619760" cy="448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y &lt; -5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7" name="WordArt 7"/>
          <p:cNvSpPr txBox="1"/>
          <p:nvPr/>
        </p:nvSpPr>
        <p:spPr>
          <a:xfrm>
            <a:off x="1447920" y="1523880"/>
            <a:ext cx="63244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x &lt; -8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8" name="time1486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9"/>
          <p:cNvSpPr/>
          <p:nvPr/>
        </p:nvSpPr>
        <p:spPr>
          <a:xfrm>
            <a:off x="3336840" y="39196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990720" y="114300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d/Sub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96" name="WILL1439.WAV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867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867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4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4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5" name="AutoShape 8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WordArt 5"/>
          <p:cNvSpPr txBox="1"/>
          <p:nvPr/>
        </p:nvSpPr>
        <p:spPr>
          <a:xfrm>
            <a:off x="1295280" y="1469880"/>
            <a:ext cx="6629400" cy="390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2 &gt; 6k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20" name="time1486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5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k &lt; 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6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WordArt 5"/>
          <p:cNvSpPr txBox="1"/>
          <p:nvPr/>
        </p:nvSpPr>
        <p:spPr>
          <a:xfrm>
            <a:off x="762120" y="1155600"/>
            <a:ext cx="7619760" cy="189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31" name="time1486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Object 8"/>
          <p:cNvGraphicFramePr/>
          <p:nvPr/>
        </p:nvGraphicFramePr>
        <p:xfrm>
          <a:off x="2475000" y="2849400"/>
          <a:ext cx="4505400" cy="33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75000" y="2849400"/>
                    <a:ext cx="450540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38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&gt; 6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9" name="AutoShape 11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WordArt 5"/>
          <p:cNvSpPr txBox="1"/>
          <p:nvPr/>
        </p:nvSpPr>
        <p:spPr>
          <a:xfrm>
            <a:off x="762120" y="1155600"/>
            <a:ext cx="76197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mplify.</a:t>
            </a:r>
            <a:endParaRPr b="1" lang="en-US" sz="800" spc="1" strike="noStrike">
              <a:ln w="32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44" name="time1502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Object 8"/>
          <p:cNvGraphicFramePr/>
          <p:nvPr/>
        </p:nvGraphicFramePr>
        <p:xfrm>
          <a:off x="2405160" y="3232080"/>
          <a:ext cx="4257720" cy="300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05160" y="3232080"/>
                    <a:ext cx="4257720" cy="30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1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&gt; -10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2" name="AutoShape 8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WordArt 5"/>
          <p:cNvSpPr txBox="1"/>
          <p:nvPr/>
        </p:nvSpPr>
        <p:spPr>
          <a:xfrm>
            <a:off x="762120" y="1155600"/>
            <a:ext cx="7619760" cy="204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57" name="time1502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8" name="Object 7"/>
          <p:cNvGraphicFramePr/>
          <p:nvPr/>
        </p:nvGraphicFramePr>
        <p:xfrm>
          <a:off x="2612880" y="3232080"/>
          <a:ext cx="4222800" cy="304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12880" y="3232080"/>
                    <a:ext cx="422280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4" name="WordArt 8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9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5" name="AutoShape 10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0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x - 1 &gt; 5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71" name="time1502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7"/>
          <p:cNvSpPr txBox="1"/>
          <p:nvPr/>
        </p:nvSpPr>
        <p:spPr>
          <a:xfrm>
            <a:off x="990720" y="114300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ult/Div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WordArt 2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gt; 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7" name="AutoShape 7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WordArt 6"/>
          <p:cNvSpPr txBox="1"/>
          <p:nvPr/>
        </p:nvSpPr>
        <p:spPr>
          <a:xfrm>
            <a:off x="762120" y="1523880"/>
            <a:ext cx="76197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2n + 3 &lt; 7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82" name="time1517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8"/>
          <p:cNvSpPr/>
          <p:nvPr/>
        </p:nvSpPr>
        <p:spPr>
          <a:xfrm>
            <a:off x="7680240" y="60786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1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2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n &gt;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9" name="AutoShape 7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4530600" y="41482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WordArt 5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8 &lt; 2 - 3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95" name="time1517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WordArt 2"/>
          <p:cNvSpPr txBox="1"/>
          <p:nvPr/>
        </p:nvSpPr>
        <p:spPr>
          <a:xfrm>
            <a:off x="838080" y="1200240"/>
            <a:ext cx="7391520" cy="43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r &lt;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1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WordArt 5"/>
          <p:cNvSpPr txBox="1"/>
          <p:nvPr/>
        </p:nvSpPr>
        <p:spPr>
          <a:xfrm>
            <a:off x="1066680" y="1155600"/>
            <a:ext cx="7315200" cy="17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06" name="time1517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Object 9"/>
          <p:cNvGraphicFramePr/>
          <p:nvPr/>
        </p:nvGraphicFramePr>
        <p:xfrm>
          <a:off x="1974960" y="2819520"/>
          <a:ext cx="5499000" cy="327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4960" y="2819520"/>
                    <a:ext cx="549900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WordArt 2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WordArt 5"/>
          <p:cNvSpPr txBox="1"/>
          <p:nvPr/>
        </p:nvSpPr>
        <p:spPr>
          <a:xfrm>
            <a:off x="1371600" y="1155600"/>
            <a:ext cx="6324480" cy="17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19" name="time1533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Object 10"/>
          <p:cNvGraphicFramePr/>
          <p:nvPr/>
        </p:nvGraphicFramePr>
        <p:xfrm>
          <a:off x="1306440" y="2971800"/>
          <a:ext cx="6685200" cy="309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6440" y="2971800"/>
                    <a:ext cx="668520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1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2"/>
          <p:cNvSpPr txBox="1"/>
          <p:nvPr/>
        </p:nvSpPr>
        <p:spPr>
          <a:xfrm>
            <a:off x="1371600" y="1828800"/>
            <a:ext cx="65530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7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7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2" name="WordArt 8"/>
          <p:cNvSpPr txBox="1"/>
          <p:nvPr/>
        </p:nvSpPr>
        <p:spPr>
          <a:xfrm>
            <a:off x="914400" y="1371600"/>
            <a:ext cx="74674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e an inequality: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number is great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n -3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33" name="time1533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5"/>
          <p:cNvSpPr txBox="1"/>
          <p:nvPr/>
        </p:nvSpPr>
        <p:spPr>
          <a:xfrm>
            <a:off x="990720" y="2057400"/>
            <a:ext cx="71625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-Step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8" name="WordArt 7"/>
          <p:cNvSpPr txBox="1"/>
          <p:nvPr/>
        </p:nvSpPr>
        <p:spPr>
          <a:xfrm>
            <a:off x="762120" y="1828800"/>
            <a:ext cx="76197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n &gt; -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WordArt 5"/>
          <p:cNvSpPr txBox="1"/>
          <p:nvPr/>
        </p:nvSpPr>
        <p:spPr>
          <a:xfrm>
            <a:off x="762120" y="1371600"/>
            <a:ext cx="761976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e an inequality: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less than a numb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less than 9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44" name="time1533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2"/>
          <p:cNvSpPr txBox="1"/>
          <p:nvPr/>
        </p:nvSpPr>
        <p:spPr>
          <a:xfrm>
            <a:off x="838080" y="1600200"/>
            <a:ext cx="75438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n - 2 &lt; 9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4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50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WordArt 5"/>
          <p:cNvSpPr txBox="1"/>
          <p:nvPr/>
        </p:nvSpPr>
        <p:spPr>
          <a:xfrm>
            <a:off x="1066680" y="1676520"/>
            <a:ext cx="71629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(5x + 2) - 7x &gt; 38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55" name="time1549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60" name="WordArt 7"/>
          <p:cNvSpPr txBox="1"/>
          <p:nvPr/>
        </p:nvSpPr>
        <p:spPr>
          <a:xfrm>
            <a:off x="762120" y="1447920"/>
            <a:ext cx="76197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gt; 4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WordArt 5"/>
          <p:cNvSpPr txBox="1"/>
          <p:nvPr/>
        </p:nvSpPr>
        <p:spPr>
          <a:xfrm>
            <a:off x="1752480" y="990720"/>
            <a:ext cx="5257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66" name="time1549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7" name="Object 7"/>
          <p:cNvGraphicFramePr/>
          <p:nvPr/>
        </p:nvGraphicFramePr>
        <p:xfrm>
          <a:off x="2314440" y="3232080"/>
          <a:ext cx="4540320" cy="281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14440" y="3232080"/>
                    <a:ext cx="454032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73" name="WordArt 7"/>
          <p:cNvSpPr txBox="1"/>
          <p:nvPr/>
        </p:nvSpPr>
        <p:spPr>
          <a:xfrm>
            <a:off x="1447920" y="1752480"/>
            <a:ext cx="64008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     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74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graphicFrame>
        <p:nvGraphicFramePr>
          <p:cNvPr id="375" name="Object 10"/>
          <p:cNvGraphicFramePr/>
          <p:nvPr/>
        </p:nvGraphicFramePr>
        <p:xfrm>
          <a:off x="2784600" y="3232080"/>
          <a:ext cx="254952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4600" y="3232080"/>
                    <a:ext cx="254952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time1549.wav" descr=""/>
          <p:cNvPicPr/>
          <p:nvPr/>
        </p:nvPicPr>
        <p:blipFill>
          <a:blip r:embed="rId1"/>
          <a:stretch/>
        </p:blipFill>
        <p:spPr>
          <a:xfrm>
            <a:off x="7924680" y="-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81" name="WordArt 8"/>
          <p:cNvSpPr txBox="1"/>
          <p:nvPr/>
        </p:nvSpPr>
        <p:spPr>
          <a:xfrm>
            <a:off x="838080" y="1905120"/>
            <a:ext cx="73915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I have 5 apples and you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ke away 3 apples, how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ny apples do you have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1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86" name="WordArt 7"/>
          <p:cNvSpPr txBox="1"/>
          <p:nvPr/>
        </p:nvSpPr>
        <p:spPr>
          <a:xfrm>
            <a:off x="762120" y="1219320"/>
            <a:ext cx="761976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3 apples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You took them!)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87" name="AutoShape 9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92" name="WordArt 7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gt;= 3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type of dot goe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he 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93" name="time1564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9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3"/>
          <p:cNvSpPr txBox="1"/>
          <p:nvPr/>
        </p:nvSpPr>
        <p:spPr>
          <a:xfrm>
            <a:off x="762120" y="2590920"/>
            <a:ext cx="76960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scellaneou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98" name="WordArt 7"/>
          <p:cNvSpPr txBox="1"/>
          <p:nvPr/>
        </p:nvSpPr>
        <p:spPr>
          <a:xfrm>
            <a:off x="762120" y="1523880"/>
            <a:ext cx="761976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Closed dot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99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time1564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04" name="WordArt 9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lt; 3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type of dot goe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he 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8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09" name="WordArt 7"/>
          <p:cNvSpPr txBox="1"/>
          <p:nvPr/>
        </p:nvSpPr>
        <p:spPr>
          <a:xfrm>
            <a:off x="762120" y="1295280"/>
            <a:ext cx="76197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Open dot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10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time1580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15" name="WordArt 9"/>
          <p:cNvSpPr txBox="1"/>
          <p:nvPr/>
        </p:nvSpPr>
        <p:spPr>
          <a:xfrm>
            <a:off x="762120" y="1866960"/>
            <a:ext cx="761976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lt; 3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de this part of th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" fill="hold"/>
                                        <p:tgtEl>
                                          <p:spTgt spid="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20" name="WordArt 7"/>
          <p:cNvSpPr txBox="1"/>
          <p:nvPr/>
        </p:nvSpPr>
        <p:spPr>
          <a:xfrm>
            <a:off x="1523880" y="1447920"/>
            <a:ext cx="61722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left of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1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time1580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26" name="WordArt 11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gt; -2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de this part of th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6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WordArt 7"/>
          <p:cNvSpPr txBox="1"/>
          <p:nvPr/>
        </p:nvSpPr>
        <p:spPr>
          <a:xfrm>
            <a:off x="762120" y="1066680"/>
            <a:ext cx="761976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right of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time1580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7" name="WordArt 10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2 &lt; y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de this part of th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5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WordArt 7"/>
          <p:cNvSpPr txBox="1"/>
          <p:nvPr/>
        </p:nvSpPr>
        <p:spPr>
          <a:xfrm>
            <a:off x="762120" y="1295280"/>
            <a:ext cx="761976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right of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4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3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8" name="WordArt 7"/>
          <p:cNvSpPr txBox="1"/>
          <p:nvPr/>
        </p:nvSpPr>
        <p:spPr>
          <a:xfrm>
            <a:off x="838080" y="1371600"/>
            <a:ext cx="7543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cribe the shaded region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Venn diagram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49" name="time1595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4" descr=""/>
          <p:cNvPicPr/>
          <p:nvPr/>
        </p:nvPicPr>
        <p:blipFill>
          <a:blip r:embed="rId2"/>
          <a:stretch/>
        </p:blipFill>
        <p:spPr>
          <a:xfrm>
            <a:off x="3276720" y="3886200"/>
            <a:ext cx="2495520" cy="1587600"/>
          </a:xfrm>
          <a:prstGeom prst="rect">
            <a:avLst/>
          </a:prstGeom>
          <a:ln w="0">
            <a:noFill/>
          </a:ln>
        </p:spPr>
      </p:pic>
      <p:sp>
        <p:nvSpPr>
          <p:cNvPr id="4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4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1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762120" y="2133720"/>
            <a:ext cx="769608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phing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WordArt 2"/>
          <p:cNvSpPr txBox="1"/>
          <p:nvPr/>
        </p:nvSpPr>
        <p:spPr>
          <a:xfrm>
            <a:off x="914400" y="1219320"/>
            <a:ext cx="7391520" cy="43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intersection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5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56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time1595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1" name="WordArt 8"/>
          <p:cNvSpPr txBox="1"/>
          <p:nvPr/>
        </p:nvSpPr>
        <p:spPr>
          <a:xfrm>
            <a:off x="838080" y="1371600"/>
            <a:ext cx="7543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cribe the shaded region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Venn diagram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62" name="Picture 10" descr=""/>
          <p:cNvPicPr/>
          <p:nvPr/>
        </p:nvPicPr>
        <p:blipFill>
          <a:blip r:embed="rId2"/>
          <a:stretch/>
        </p:blipFill>
        <p:spPr>
          <a:xfrm>
            <a:off x="3324240" y="3962520"/>
            <a:ext cx="2495520" cy="158724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3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1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WordArt 2"/>
          <p:cNvSpPr txBox="1"/>
          <p:nvPr/>
        </p:nvSpPr>
        <p:spPr>
          <a:xfrm>
            <a:off x="1219320" y="1523880"/>
            <a:ext cx="68580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union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6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time1611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73" name="WordArt 7"/>
          <p:cNvSpPr txBox="1"/>
          <p:nvPr/>
        </p:nvSpPr>
        <p:spPr>
          <a:xfrm>
            <a:off x="838080" y="1752480"/>
            <a:ext cx="7543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y &lt; -6 or 3y &gt; 0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" fill="hold"/>
                                        <p:tgtEl>
                                          <p:spTgt spid="4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WordArt 2"/>
          <p:cNvSpPr txBox="1"/>
          <p:nvPr/>
        </p:nvSpPr>
        <p:spPr>
          <a:xfrm>
            <a:off x="914400" y="1981080"/>
            <a:ext cx="746748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y &lt; -3 or y &gt; 0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7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79" name="AutoShape 9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time1611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84" name="WordArt 6"/>
          <p:cNvSpPr txBox="1"/>
          <p:nvPr/>
        </p:nvSpPr>
        <p:spPr>
          <a:xfrm>
            <a:off x="800280" y="1714680"/>
            <a:ext cx="7543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3x &gt; 6 and 2x &gt; -6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1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1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WordArt 2"/>
          <p:cNvSpPr txBox="1"/>
          <p:nvPr/>
        </p:nvSpPr>
        <p:spPr>
          <a:xfrm>
            <a:off x="838080" y="1905120"/>
            <a:ext cx="75438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-3 &lt; x &lt;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8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2"/>
          <p:cNvSpPr txBox="1"/>
          <p:nvPr/>
        </p:nvSpPr>
        <p:spPr>
          <a:xfrm>
            <a:off x="838080" y="1828800"/>
            <a:ext cx="76201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8 &lt; 2z - 4 &lt; 4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9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time1611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0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1" fill="hold"/>
                                        <p:tgtEl>
                                          <p:spTgt spid="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WordArt 2"/>
          <p:cNvSpPr txBox="1"/>
          <p:nvPr/>
        </p:nvSpPr>
        <p:spPr>
          <a:xfrm>
            <a:off x="838080" y="1905120"/>
            <a:ext cx="75438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-2 &lt; z &lt; 4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9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1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2" name="Rectangle 8"/>
          <p:cNvSpPr/>
          <p:nvPr/>
        </p:nvSpPr>
        <p:spPr>
          <a:xfrm>
            <a:off x="5343480" y="4199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05" name="WordArt 3"/>
          <p:cNvSpPr txBox="1"/>
          <p:nvPr/>
        </p:nvSpPr>
        <p:spPr>
          <a:xfrm>
            <a:off x="914400" y="4572000"/>
            <a:ext cx="746748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7600"/>
                    </a:gs>
                    <a:gs pos="50000">
                      <a:srgbClr val="ffff00"/>
                    </a:gs>
                    <a:gs pos="100000">
                      <a:srgbClr val="767600"/>
                    </a:gs>
                  </a:gsLst>
                  <a:lin ang="5400000"/>
                </a:gradFill>
                <a:latin typeface="Comic Sans MS"/>
              </a:rPr>
              <a:t>Perimet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7600"/>
                  </a:gs>
                  <a:gs pos="50000">
                    <a:srgbClr val="ffff00"/>
                  </a:gs>
                  <a:gs pos="100000">
                    <a:srgbClr val="767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506" name="AutoShape 5"/>
          <p:cNvSpPr/>
          <p:nvPr/>
        </p:nvSpPr>
        <p:spPr>
          <a:xfrm>
            <a:off x="1143000" y="1752480"/>
            <a:ext cx="76212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7" name="AutoShape 6"/>
          <p:cNvSpPr/>
          <p:nvPr/>
        </p:nvSpPr>
        <p:spPr>
          <a:xfrm>
            <a:off x="7620120" y="1981080"/>
            <a:ext cx="76176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8" name="AutoShape 7"/>
          <p:cNvSpPr/>
          <p:nvPr/>
        </p:nvSpPr>
        <p:spPr>
          <a:xfrm>
            <a:off x="6934320" y="3581280"/>
            <a:ext cx="76176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9" name="AutoShape 8"/>
          <p:cNvSpPr/>
          <p:nvPr/>
        </p:nvSpPr>
        <p:spPr>
          <a:xfrm>
            <a:off x="1981080" y="1219320"/>
            <a:ext cx="76212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007600"/>
              </a:gs>
              <a:gs pos="50000">
                <a:srgbClr val="00ff00"/>
              </a:gs>
              <a:gs pos="100000">
                <a:srgbClr val="00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10" name="AutoShape 9"/>
          <p:cNvSpPr/>
          <p:nvPr/>
        </p:nvSpPr>
        <p:spPr>
          <a:xfrm>
            <a:off x="6019920" y="1676520"/>
            <a:ext cx="76176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5"/>
          <p:cNvSpPr txBox="1"/>
          <p:nvPr/>
        </p:nvSpPr>
        <p:spPr>
          <a:xfrm>
            <a:off x="1066680" y="1447920"/>
            <a:ext cx="70106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equalitie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666880" y="327672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jeop1627.wav" descr=""/>
          <p:cNvPicPr/>
          <p:nvPr/>
        </p:nvPicPr>
        <p:blipFill>
          <a:blip r:embed="rId1"/>
          <a:stretch/>
        </p:blipFill>
        <p:spPr>
          <a:xfrm>
            <a:off x="380880" y="62485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513" name="WordArt 7"/>
          <p:cNvSpPr txBox="1"/>
          <p:nvPr/>
        </p:nvSpPr>
        <p:spPr>
          <a:xfrm>
            <a:off x="762120" y="1447920"/>
            <a:ext cx="76960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erimeter of the given rectangle is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 least 92 cm. Using the diagram, writ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inequality representing the perimeter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14" name="time1627.wav" descr=""/>
          <p:cNvPicPr/>
          <p:nvPr/>
        </p:nvPicPr>
        <p:blipFill>
          <a:blip r:embed="rId2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515" name="Group 13"/>
          <p:cNvGrpSpPr/>
          <p:nvPr/>
        </p:nvGrpSpPr>
        <p:grpSpPr>
          <a:xfrm>
            <a:off x="3429000" y="4214880"/>
            <a:ext cx="3162600" cy="1576440"/>
            <a:chOff x="3429000" y="4214880"/>
            <a:chExt cx="3162600" cy="1576440"/>
          </a:xfrm>
        </p:grpSpPr>
        <p:sp>
          <p:nvSpPr>
            <p:cNvPr id="516" name="Rectangle 10"/>
            <p:cNvSpPr/>
            <p:nvPr/>
          </p:nvSpPr>
          <p:spPr>
            <a:xfrm>
              <a:off x="3429000" y="4648320"/>
              <a:ext cx="220968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5fbe"/>
                </a:solidFill>
                <a:latin typeface="Times New Roman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5639760" y="491832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3x cm</a:t>
              </a:r>
              <a:endParaRPr b="0" lang="en-US" sz="2400" spc="-1" strike="noStrike">
                <a:solidFill>
                  <a:srgbClr val="005fbe"/>
                </a:solidFill>
                <a:latin typeface="Times New Roman"/>
              </a:endParaRPr>
            </a:p>
          </p:txBody>
        </p:sp>
        <p:sp>
          <p:nvSpPr>
            <p:cNvPr id="518" name="Rectangle 12"/>
            <p:cNvSpPr/>
            <p:nvPr/>
          </p:nvSpPr>
          <p:spPr>
            <a:xfrm>
              <a:off x="3902760" y="42148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x + 3 cm</a:t>
              </a:r>
              <a:endParaRPr b="0" lang="en-US" sz="2400" spc="-1" strike="noStrike">
                <a:solidFill>
                  <a:srgbClr val="005fbe"/>
                </a:solidFill>
                <a:latin typeface="Times New Roman"/>
              </a:endParaRPr>
            </a:p>
          </p:txBody>
        </p:sp>
      </p:grp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62" nodeType="afterEffect" fill="hold" presetClass="mediacall" presetID="1">
                                  <p:stCondLst>
                                    <p:cond delay="2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" fill="hold"/>
                                        <p:tgtEl>
                                          <p:spTgt spid="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WordArt 3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estants: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ease put down you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ing tools and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it for furth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tructions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21" name="Picture 4" descr="hh01633_"/>
          <p:cNvPicPr/>
          <p:nvPr/>
        </p:nvPicPr>
        <p:blipFill>
          <a:blip r:embed="rId1"/>
          <a:stretch/>
        </p:blipFill>
        <p:spPr>
          <a:xfrm>
            <a:off x="6705720" y="4572000"/>
            <a:ext cx="1846080" cy="1603440"/>
          </a:xfrm>
          <a:prstGeom prst="rect">
            <a:avLst/>
          </a:prstGeom>
          <a:ln w="0">
            <a:noFill/>
          </a:ln>
        </p:spPr>
      </p:pic>
      <p:sp>
        <p:nvSpPr>
          <p:cNvPr id="5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WordArt 2"/>
          <p:cNvSpPr txBox="1"/>
          <p:nvPr/>
        </p:nvSpPr>
        <p:spPr>
          <a:xfrm>
            <a:off x="990720" y="1523880"/>
            <a:ext cx="73152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8x + 6 &gt;= 9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WordArt 2"/>
          <p:cNvSpPr txBox="1"/>
          <p:nvPr/>
        </p:nvSpPr>
        <p:spPr>
          <a:xfrm>
            <a:off x="1295280" y="1295280"/>
            <a:ext cx="678204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t's all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 today.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ood luck on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r test!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11"/>
          <p:cNvSpPr/>
          <p:nvPr/>
        </p:nvSpPr>
        <p:spPr>
          <a:xfrm>
            <a:off x="5257800" y="3276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28" name="AutoShape 15"/>
          <p:cNvSpPr/>
          <p:nvPr/>
        </p:nvSpPr>
        <p:spPr>
          <a:xfrm>
            <a:off x="3200400" y="16765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29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530" name="CHIM1642.WAV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531" name="AutoShape 4"/>
          <p:cNvSpPr/>
          <p:nvPr/>
        </p:nvSpPr>
        <p:spPr>
          <a:xfrm>
            <a:off x="1371600" y="914400"/>
            <a:ext cx="685800" cy="685800"/>
          </a:xfrm>
          <a:custGeom>
            <a:avLst/>
            <a:gdLst/>
            <a:ahLst/>
            <a:rect l="l" t="t" r="r" b="b"/>
            <a:pathLst>
              <a:path w="685800" h="685800">
                <a:moveTo>
                  <a:pt x="1" y="261952"/>
                </a:moveTo>
                <a:lnTo>
                  <a:pt x="261954" y="261953"/>
                </a:lnTo>
                <a:lnTo>
                  <a:pt x="342900" y="0"/>
                </a:lnTo>
                <a:lnTo>
                  <a:pt x="423846" y="261953"/>
                </a:lnTo>
                <a:lnTo>
                  <a:pt x="685799" y="261952"/>
                </a:lnTo>
                <a:lnTo>
                  <a:pt x="473874" y="423846"/>
                </a:lnTo>
                <a:lnTo>
                  <a:pt x="554823" y="685798"/>
                </a:lnTo>
                <a:lnTo>
                  <a:pt x="342900" y="523901"/>
                </a:lnTo>
                <a:lnTo>
                  <a:pt x="130977" y="685798"/>
                </a:lnTo>
                <a:lnTo>
                  <a:pt x="211926" y="423846"/>
                </a:lnTo>
                <a:lnTo>
                  <a:pt x="1" y="26195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990720" y="1523880"/>
            <a:ext cx="53316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29" y="533399"/>
                </a:lnTo>
                <a:lnTo>
                  <a:pt x="266700" y="407479"/>
                </a:lnTo>
                <a:lnTo>
                  <a:pt x="101871" y="533399"/>
                </a:lnTo>
                <a:lnTo>
                  <a:pt x="164831" y="329658"/>
                </a:lnTo>
                <a:lnTo>
                  <a:pt x="1" y="2037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3" name="AutoShape 6"/>
          <p:cNvSpPr/>
          <p:nvPr/>
        </p:nvSpPr>
        <p:spPr>
          <a:xfrm>
            <a:off x="7086600" y="152388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4" name="AutoShape 7"/>
          <p:cNvSpPr/>
          <p:nvPr/>
        </p:nvSpPr>
        <p:spPr>
          <a:xfrm>
            <a:off x="7620120" y="19051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5" name="AutoShape 8"/>
          <p:cNvSpPr/>
          <p:nvPr/>
        </p:nvSpPr>
        <p:spPr>
          <a:xfrm>
            <a:off x="914400" y="9907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6" name="AutoShape 9"/>
          <p:cNvSpPr/>
          <p:nvPr/>
        </p:nvSpPr>
        <p:spPr>
          <a:xfrm>
            <a:off x="2819520" y="2209680"/>
            <a:ext cx="53316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29" y="533399"/>
                </a:lnTo>
                <a:lnTo>
                  <a:pt x="266700" y="407479"/>
                </a:lnTo>
                <a:lnTo>
                  <a:pt x="101871" y="533399"/>
                </a:lnTo>
                <a:lnTo>
                  <a:pt x="164831" y="329658"/>
                </a:lnTo>
                <a:lnTo>
                  <a:pt x="1" y="2037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7" name="AutoShape 10"/>
          <p:cNvSpPr/>
          <p:nvPr/>
        </p:nvSpPr>
        <p:spPr>
          <a:xfrm>
            <a:off x="7162920" y="2209680"/>
            <a:ext cx="53316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29" y="533399"/>
                </a:lnTo>
                <a:lnTo>
                  <a:pt x="266700" y="407479"/>
                </a:lnTo>
                <a:lnTo>
                  <a:pt x="101871" y="533399"/>
                </a:lnTo>
                <a:lnTo>
                  <a:pt x="164831" y="329658"/>
                </a:lnTo>
                <a:lnTo>
                  <a:pt x="1" y="2037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8" name="AutoShape 12"/>
          <p:cNvSpPr/>
          <p:nvPr/>
        </p:nvSpPr>
        <p:spPr>
          <a:xfrm>
            <a:off x="3733920" y="541008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9" name="AutoShape 13"/>
          <p:cNvSpPr/>
          <p:nvPr/>
        </p:nvSpPr>
        <p:spPr>
          <a:xfrm>
            <a:off x="4191120" y="502920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0" name="AutoShape 14"/>
          <p:cNvSpPr/>
          <p:nvPr/>
        </p:nvSpPr>
        <p:spPr>
          <a:xfrm>
            <a:off x="3429000" y="48769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Daily Double Round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1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689" fill="hold"/>
                                        <p:tgtEl>
                                          <p:spTgt spid="5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689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189"/>
                            </p:stCondLst>
                            <p:childTnLst>
                              <p:par>
                                <p:cTn id="3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jeopardy"/>
          <p:cNvPicPr/>
          <p:nvPr/>
        </p:nvPicPr>
        <p:blipFill>
          <a:blip r:embed="rId1"/>
          <a:stretch/>
        </p:blipFill>
        <p:spPr>
          <a:xfrm>
            <a:off x="228600" y="1219320"/>
            <a:ext cx="8610480" cy="4572000"/>
          </a:xfrm>
          <a:prstGeom prst="rect">
            <a:avLst/>
          </a:prstGeom>
          <a:ln w="0">
            <a:noFill/>
          </a:ln>
        </p:spPr>
      </p:pic>
      <p:pic>
        <p:nvPicPr>
          <p:cNvPr id="545" name="time1658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5"/>
          <p:cNvSpPr/>
          <p:nvPr/>
        </p:nvSpPr>
        <p:spPr>
          <a:xfrm>
            <a:off x="2895480" y="5943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95"/>
                </a:solidFill>
                <a:latin typeface="Capitals"/>
              </a:rPr>
              <a:t>With Mr. Tyler</a:t>
            </a:r>
            <a:endParaRPr b="0" lang="en-US" sz="2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479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228600" y="304920"/>
            <a:ext cx="11174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dd/Sub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0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2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3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4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5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6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7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8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9" name="Text Box 52">
            <a:hlinkClick r:id="rId11" action="ppaction://hlinksldjump"/>
          </p:cNvPr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0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1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2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3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4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5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6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7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8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9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0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1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2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3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4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5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6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7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8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9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0" name="AutoShape 74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/>
            <a:ahLst/>
            <a:rect l="l" t="t" r="r" b="b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400"/>
                </a:lnTo>
                <a:lnTo>
                  <a:pt x="114300" y="116422"/>
                </a:lnTo>
                <a:lnTo>
                  <a:pt x="43659" y="152400"/>
                </a:lnTo>
                <a:lnTo>
                  <a:pt x="70642" y="94188"/>
                </a:lnTo>
                <a:lnTo>
                  <a:pt x="0" y="5821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1" name="WordArt 77"/>
          <p:cNvSpPr txBox="1"/>
          <p:nvPr/>
        </p:nvSpPr>
        <p:spPr>
          <a:xfrm>
            <a:off x="7772400" y="299880"/>
            <a:ext cx="12193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mpound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equalities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2" name="WordArt 78"/>
          <p:cNvSpPr txBox="1"/>
          <p:nvPr/>
        </p:nvSpPr>
        <p:spPr>
          <a:xfrm>
            <a:off x="6248520" y="457200"/>
            <a:ext cx="12301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raphing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WordArt 79"/>
          <p:cNvSpPr txBox="1"/>
          <p:nvPr/>
        </p:nvSpPr>
        <p:spPr>
          <a:xfrm>
            <a:off x="4753080" y="446040"/>
            <a:ext cx="120636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scellaneous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WordArt 81"/>
          <p:cNvSpPr txBox="1"/>
          <p:nvPr/>
        </p:nvSpPr>
        <p:spPr>
          <a:xfrm>
            <a:off x="3257640" y="426960"/>
            <a:ext cx="11286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2-step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45" name="boar1455.wav" descr=""/>
          <p:cNvPicPr/>
          <p:nvPr/>
        </p:nvPicPr>
        <p:blipFill>
          <a:blip r:embed="rId34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WordArt 88"/>
          <p:cNvSpPr txBox="1"/>
          <p:nvPr/>
        </p:nvSpPr>
        <p:spPr>
          <a:xfrm>
            <a:off x="1778040" y="330120"/>
            <a:ext cx="11174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ult/Div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762120" y="1227240"/>
            <a:ext cx="7619760" cy="448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 - 3 &lt; 6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52" name="time1455.wav" descr=""/>
          <p:cNvPicPr/>
          <p:nvPr/>
        </p:nvPicPr>
        <p:blipFill>
          <a:blip r:embed="rId1"/>
          <a:stretch/>
        </p:blipFill>
        <p:spPr>
          <a:xfrm>
            <a:off x="7924680" y="-533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LEGION</cp:lastModifiedBy>
  <dcterms:modified xsi:type="dcterms:W3CDTF">2017-07-06T06:35:22Z</dcterms:modified>
  <cp:revision>175</cp:revision>
  <dc:subject/>
  <dc:title>No Slide Title</dc:title>
</cp:coreProperties>
</file>