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33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3273E-76C0-43DC-9CFC-AD8FD901D2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it One of Nine Uni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it One of Nine Unit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im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, 3, 5, 7, 11, 13, and 17 are prime numbe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im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atural number (except one) that has only one and itself as facto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, 3, 5, 7, 11, 13, and 17 are prime number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it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osit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osite number has at least one factor other than itself and o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eatest common factor (GCF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eatest common factor (GCF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largest common factor of a list of integers or the largest term that is a factor of all terms in the polynomial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west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owest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raction is in lowest terms when there are no common factors in the numerator and denominator (except 1)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iproca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irs of numbers whose product is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and 3 are reciproc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ciproca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irs of numbers whose product is 1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/3 and 3 are reciprocal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ot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divis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ot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divis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n addi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n addi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ast common denominator (LCD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east common denominator (LCD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several denominators, the smallest expression that is divisible by all the denominators is called the least common denominato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xed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ixed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whole number and a fraction written together and understood to be their su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subtrac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fferenc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subtrac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LC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ing the Introductory Algebra Glossary is simple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io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ELCOM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sing the Introductory Algebra Glossary is simple.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lick thru the slide show and check your knowledge of definitions before you display them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 (power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that indicates how many times a factor is repeated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exponent is thr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 (power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that indicates how many times a factor is repeated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exponent is thre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 23 the base is tw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ba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that is a repeated factor when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iven 23 the base is tw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onential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or letter (variable) written with an exponen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23 or x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ponential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or letter (variable) written with an exponen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s: 23 or x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uping symbol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rentheses, ( ), square brackets, [ ], or fraction b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ouping symbol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entheses, ( ), square brackets, [ ], or fraction ba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is a symbol used to represent an unknown number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term 3x the variable is x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ariabl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variable is a symbol used to represent an unknown number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 the term 3x the variable is x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gebraic express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tatement that two algebraic expressions are equal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 4x = 5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statement that two algebraic expressions are equal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xample:  4x = 5y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lution of an equ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replacement for the variable that makes the equation tru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olution of an equ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replacement for the variable that makes the equation tru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collection of objec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llection of objec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ments (members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bjects that belong to a se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lements (members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bjects that belong to a set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ur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s used for counting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1, 2, 3, 4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atur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s used for counting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1, 2, 3, 4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 lin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lin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line with a scale that is used to show how numbers relate to each other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a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left of zero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ega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left of zero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located to the right of zero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ositive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located to the right of zero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gned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bers that can be written with a positive or negative sig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igned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s that can be written with a positive or negative sign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g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integ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...-3, -2, -1, 0, 1, 2, 3,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eg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integ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...-3, -2, -1, 0, 1, 2, 3,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ph of a numbe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graph of a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oint on a number line that corresponds to a number is its graph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ational numbers can be written as the quotient of two integers, with denominator not zero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et-builder notation is used to describe a set of numbers without actually having to list all of the element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rrational numbers cannot be written as the quotient of two integers but can be represented by points on the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al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ll numbers that can be represented by points on the number line, that is, all rational and irrational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le number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et of whole numbers i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{0, 1, 2, 3, 4, 5, ...}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hole number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et of whole numbers i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{0, 1, 2, 3, 4, 5, ...}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ditive invers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dditive invers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wo numbers that are the same distance from zero on a number line but on opposite sides of zero. The sum of two additive inverses equals zero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bsolute value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stance between zero and a number on a number li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bsolute value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distance between zero and a number on a number lin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plicative inverse (reciprocal)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multiplicative inverse (reciprocal)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multiplicative inverse of a nonzero real number a is 1/a. The product of multiplicative inverses is one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4 + 3 = 3 + 6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order of numbers in an addition problem can be changed without changing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4 + 3 = 3 + 6 + 4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utative property of multiplica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4 = 4 •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mutative property of multiplic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product in a multiplication problem remains the same regardless of the order of the factors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4 = 4 • 6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addi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+ (3 + 2) = (6 + 3)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addi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added are grouped does not change the sum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+ (3 + 2) = (6 + 3) + 2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ssociative property of multiplication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• (2 • 3) = (6 • 2) •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ssociative property of multiplica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way in which numbers being multiplied are grouped does not change the product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• (2 • 3) = (6 • 2) • 3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dentity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0 = x        x • 1 =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dentity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um of zero and any number equals the number, and the product of one and any number equals the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X + 0 = x        x • 1 = x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erse property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 + (-1) = 0       1 • (1/2) =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verse property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added to its opposite is zero and a number multiplied by its reciprocal is one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 + (-1) = 0       1 • (1/2) = 1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ributive proper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(b + c) = ab + a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tributive propert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or any real numbers a, b, and c, the distributive property states that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(b + c) = ab + ac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a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a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above the fraction bar that shows how many equivalent parts are being considered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, a variable, or the product or quotient of a number and one or more variables raised to pow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umerical coefficien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erical coefficie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erical factor in a term. In the term 6x2 the numerical coefficient is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ame variables raised to exactly the same powers.  The terms 2x2 and 7x2 are like terms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un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erms that do not have the same variable or the variables are not raised to the same powers. The terms 2x2 and 7x3 are unlike term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ing like terms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x2 + 7x2 = 9x2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bining like terms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method of adding or subtracting like terms by using the properties of real numbers: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2x2 + 7x2 = 9x2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ominator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enominato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number below the fraction bar in a fraction. It shows the number of equal parts in a whole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, 2, 3 and 6 are factors of 6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divides evenly (without remainder) into the given number: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1, 2, 3 and 6 are factors of 6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t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nswer to a multiplication proble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the product of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roduc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nswer to a multiplication problem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the product of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ctored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is factored as 2 times 3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factored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number is factored by writing it as the product of two or more numbers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6 is factored as 2 times 3.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1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2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3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4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5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  <a:p>
            <a:pPr lvl="6" marL="270720" indent="-270720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://www.jqjacobs.net/edu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Arial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Unit One of Nine Units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im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atural number (except one) that has only one and itself as facto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, 3, 5, 7, 11, 13, and 17 are prime number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posit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mposite number has at least one factor other than itself and o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eatest common factor (GCF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largest common factor of a list of integers or the largest term that is a factor of all terms in the polynomial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owest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fraction is in lowest terms when there are no common factors in the numerator and denominator (except 1)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ciproca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irs of numbers whose product is 1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/3 and 3 are reciprocal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quot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divis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u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n addi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ast common denominator (LCD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several denominators, the smallest expression that is divisible by all the denominators is called the least common denominato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ixed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whole number and a fraction written together and understood to be their su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fferenc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subtrac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WELCOME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Using the Introductory Algebra Glossary is simple.  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ick thru the slide show and check your knowledge of definitions before you display the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 (power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that indicates how many times a factor is repeated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exponent is thre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ba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that is a repeated factor when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Given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base is tw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xponential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or letter (variable) written with an exponen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s: 2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or 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6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ouping symbol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Parentheses, ( ), square brackets, [ ], or fraction ba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variabl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variable is a symbol used to represent an unknown number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n the term 3x the variable is x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lgebraic express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666880"/>
            <a:ext cx="77724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collection of numbers or variables joined by the basic operations of addition, subtraction, multiplication, or division (except by zero), or the operation of taking roo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statement that two algebraic expressions are equal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Example:  4x = 5y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olution of an equ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replacement for the variable that makes the equation tru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collection of objec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elements (members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bjects that belong to a set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atur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s used for counting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1, 2, 3, 4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ber lin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line with a scale that is used to show how numbers relate to each other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ega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left of zero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ositive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located to the right of zero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igned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Numbers that can be written with a positive or negative sign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teg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integ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...-3, -2, -1, 0, 1, 2, 3,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graph of a numbe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oint on a number line that corresponds to a number is its graph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Rational numbers can be written as the quotient of two integers, with denominator not zero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set-builder not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Set-builder notation is used to describe a set of numbers without actually having to list all of the element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rration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Irrational numbers cannot be written as the quotient of two integers but can be represented by points on the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real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ll numbers that can be represented by points on the number line, that is, all rational and irrational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whole number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et of whole numbers i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{0, 1, 2, 3, 4, 5, ...}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dditive invers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wo numbers that are the same distance from zero on a number line but on opposite sides of zero. The sum of two additive inverses equals zero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bsolute value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distance between zero and a number on a number lin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multiplicative inverse (reciprocal)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multiplicative inverse of a nonzero real number a is 1/a. The product of multiplicative inverses is one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order of numbers in an addition problem can be changed without changing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4 + 3 = 3 + 6 + 4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mutative property of multiplication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product in a multiplication problem remains the same regardless of the order of the factors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4 = 4 • 6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addi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added are grouped does not change the sum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+ (3 + 2) = (6 + 3) + 2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associative property of multiplication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way in which numbers being multiplied are grouped does not change the product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2 • 3) = (6 • 2) • 3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dentity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um of zero and any number equals the number, and the product of one and any number equals the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X + 0 = x        x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1 = x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inverse property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added to its opposite is zero and a number multiplied by its reciprocal is one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 + (-1) = 0       1 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  <a:ea typeface="Arial"/>
              </a:rPr>
              <a:t>• (1/2) = 1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istributive property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For any real numbers a, b, and c, the distributive property states that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(b + c) = ab + ac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a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above the fraction bar that shows how many equivalent parts are being considered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term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, a variable, or the product or quotient of a number and one or more variables raised to pow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numerical coefficien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erical factor in a term. In the term 6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the numerical coefficient is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same variables raised to exactly the same powers. 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like terms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un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erms that do not have the same variable or the variables are not raised to the same powers. The terms 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nd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3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are unlike term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combining like terms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method of adding or subtracting like terms by using the properties of real numbers: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2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+ 7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 = 9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Arial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Arial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Created by 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6600"/>
                </a:solidFill>
                <a:latin typeface="Arial"/>
              </a:rPr>
              <a:t>James Q. Jacobs</a:t>
            </a:r>
            <a:endParaRPr b="0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denominator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number below the fraction bar in a fraction. It shows the number of equal parts in a whole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ny number that divides evenly (without remainder) into the given number: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1, 2, 3 and 6 are factors of 6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product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The answer to a multiplication problem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the product of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factored  </a:t>
            </a:r>
            <a:endParaRPr b="0" lang="en-US" sz="5400" spc="-1" strike="noStrike">
              <a:solidFill>
                <a:srgbClr val="a5002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A number is factored by writing it as the product of two or more numbers. 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Arial"/>
              </a:rPr>
              <a:t>6 is factored as 2 times 3.</a:t>
            </a:r>
            <a:endParaRPr b="0" lang="en-US" sz="40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LEGION</cp:lastModifiedBy>
  <dcterms:modified xsi:type="dcterms:W3CDTF">2017-07-06T06:35:47Z</dcterms:modified>
  <cp:revision>11</cp:revision>
  <dc:subject/>
  <dc:title>Introductory Algebra</dc:title>
</cp:coreProperties>
</file>