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22EF-EC25-4A87-AA9B-A05063D83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ration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: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by Skip Tyler, Varina High School and Nicole Kessinger Deep Run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ration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: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by Skip Tyler, Varina High School and Nicole Kessinger Deep Run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ign of the product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3)(-4)(-5)(0)(-1)(-6)(-91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ign of the product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3)(-4)(-5)(0)(-1)(-6)(-91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If the numbers have the same signs then the product is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7) • (-4) = 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If the numbers have different signs then the product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7) • 4 = -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If the numbers have the same signs then the product is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7) • (-4) = 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If the numbers have different signs then the product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7) • 4 = -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(3x)(-8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both numbers as a f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-cancel if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fra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 # • top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 # • bottom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(3x)(-8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both numbers as a f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-cancel if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fra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 # • top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 # • bottom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 two negative numbers, the product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 two negative numbers, the product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 a negative number and a positive number, use the sign of the larger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 a negative number and a positive number, use the sign of the larger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ltiply: (-3)(4)(-2)(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: (-3)(4)(-2)(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asy way to determine the sign of the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negative signs -&gt; Odd -&gt; answer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n odd number of negatives, the answer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n even number of negatives, the answer is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(-2)(-8)(3)(-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have an even or odd number of negative sig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asy way to determine the sign of the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negative signs -&gt; Odd -&gt; answer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n odd number of negatives, the answer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n even number of negatives, the answer is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(-2)(-8)(3)(-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have an even or odd number of negative sig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or negative answ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- even # of negative sign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ll numbers as fractions and multip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or negative answ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- even # of negative sign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ll numbers as fractions and multip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A213-5C7D-4BB8-B79F-FCC71636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5040-1504-48AF-90E0-7641261D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85A1-B551-454E-9955-36BFE952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EDA0-ABF9-4906-84BF-18A5B9399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A2EE-110F-4359-9AF8-837E37C2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245F-33EB-4BF3-9302-2BA28E44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EF56-A615-4B98-8E77-20019334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30BA-B31A-4BDF-B489-B128208A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09B8-1218-468C-8E63-462383B6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1E26-753D-47B9-9BDA-83CE2852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8D60-A6F3-449C-8629-DC77685F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AE7B-7536-438C-AF53-594E0513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0D0E-806E-4FDB-9D00-3A7F8F0B4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17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ply rational numb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L: n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1030320"/>
            <a:ext cx="7848720" cy="167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6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295280" y="601992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ed by Skip Tyler, Varina High School and Nicole Kessinger Deep Run Hi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sign of the product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-3)(-4)(-5)(0)(-1)(-6)(-91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CorShape1"/>
          <p:cNvSpPr/>
          <p:nvPr/>
        </p:nvSpPr>
        <p:spPr>
          <a:xfrm>
            <a:off x="223920" y="3368520"/>
            <a:ext cx="291960" cy="2923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AnswerNow"/>
          <p:cNvGrpSpPr/>
          <p:nvPr/>
        </p:nvGrpSpPr>
        <p:grpSpPr>
          <a:xfrm>
            <a:off x="304920" y="4572000"/>
            <a:ext cx="4444920" cy="698400"/>
            <a:chOff x="304920" y="4572000"/>
            <a:chExt cx="4444920" cy="698400"/>
          </a:xfrm>
        </p:grpSpPr>
        <p:sp>
          <p:nvSpPr>
            <p:cNvPr id="126" name="ANShape"/>
            <p:cNvSpPr/>
            <p:nvPr/>
          </p:nvSpPr>
          <p:spPr>
            <a:xfrm>
              <a:off x="2368440" y="45720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ANText"/>
            <p:cNvSpPr/>
            <p:nvPr/>
          </p:nvSpPr>
          <p:spPr>
            <a:xfrm>
              <a:off x="304920" y="47624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ultiply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 If the numbers have the same signs then the product i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osi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(-7) • (-4) = 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)  If the numbers have different signs then the product i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ega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(-7) • 4 = -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533520" y="76320"/>
            <a:ext cx="822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 (3x)(-8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9"/>
          <p:cNvGrpSpPr/>
          <p:nvPr/>
        </p:nvGrpSpPr>
        <p:grpSpPr>
          <a:xfrm>
            <a:off x="533520" y="2819520"/>
            <a:ext cx="2437920" cy="1025280"/>
            <a:chOff x="533520" y="2819520"/>
            <a:chExt cx="2437920" cy="1025280"/>
          </a:xfrm>
        </p:grpSpPr>
        <p:graphicFrame>
          <p:nvGraphicFramePr>
            <p:cNvPr id="57" name="Object 5"/>
            <p:cNvGraphicFramePr/>
            <p:nvPr/>
          </p:nvGraphicFramePr>
          <p:xfrm>
            <a:off x="1295280" y="2819520"/>
            <a:ext cx="1676160" cy="1025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95280" y="2819520"/>
                      <a:ext cx="1676160" cy="102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" name="Text Box 6"/>
            <p:cNvSpPr/>
            <p:nvPr/>
          </p:nvSpPr>
          <p:spPr>
            <a:xfrm>
              <a:off x="533520" y="29304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Text Box 7"/>
          <p:cNvSpPr/>
          <p:nvPr/>
        </p:nvSpPr>
        <p:spPr>
          <a:xfrm>
            <a:off x="3429000" y="289548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both numbers as a fr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-cancel if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12"/>
          <p:cNvGraphicFramePr/>
          <p:nvPr/>
        </p:nvGraphicFramePr>
        <p:xfrm>
          <a:off x="1143000" y="4237200"/>
          <a:ext cx="1905120" cy="102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237200"/>
                    <a:ext cx="190512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13"/>
          <p:cNvGraphicFramePr/>
          <p:nvPr/>
        </p:nvGraphicFramePr>
        <p:xfrm>
          <a:off x="1523880" y="5410080"/>
          <a:ext cx="106200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5410080"/>
                    <a:ext cx="10620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" name="Group 17"/>
          <p:cNvGrpSpPr/>
          <p:nvPr/>
        </p:nvGrpSpPr>
        <p:grpSpPr>
          <a:xfrm>
            <a:off x="2971800" y="5562720"/>
            <a:ext cx="2057400" cy="703440"/>
            <a:chOff x="2971800" y="5562720"/>
            <a:chExt cx="2057400" cy="703440"/>
          </a:xfrm>
        </p:grpSpPr>
        <p:sp>
          <p:nvSpPr>
            <p:cNvPr id="66" name="Text Box 14"/>
            <p:cNvSpPr/>
            <p:nvPr/>
          </p:nvSpPr>
          <p:spPr>
            <a:xfrm>
              <a:off x="2971800" y="556272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5"/>
            <p:cNvSpPr/>
            <p:nvPr/>
          </p:nvSpPr>
          <p:spPr>
            <a:xfrm>
              <a:off x="3657600" y="556272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c0128"/>
                  </a:solidFill>
                  <a:latin typeface="Times New Roman"/>
                </a:rPr>
                <a:t>-1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16"/>
          <p:cNvSpPr/>
          <p:nvPr/>
        </p:nvSpPr>
        <p:spPr>
          <a:xfrm>
            <a:off x="4648320" y="4267080"/>
            <a:ext cx="4114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Multiplying fract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op # • top 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Bottom # • bottom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3658680" y="1905120"/>
            <a:ext cx="136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-24x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multiplying two negative numbers, the product is negati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CorShape1"/>
          <p:cNvSpPr/>
          <p:nvPr/>
        </p:nvSpPr>
        <p:spPr>
          <a:xfrm>
            <a:off x="223920" y="270828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AnswerNow"/>
          <p:cNvGrpSpPr/>
          <p:nvPr/>
        </p:nvGrpSpPr>
        <p:grpSpPr>
          <a:xfrm>
            <a:off x="304920" y="4572000"/>
            <a:ext cx="4444920" cy="698400"/>
            <a:chOff x="304920" y="4572000"/>
            <a:chExt cx="4444920" cy="698400"/>
          </a:xfrm>
        </p:grpSpPr>
        <p:sp>
          <p:nvSpPr>
            <p:cNvPr id="75" name="ANShape"/>
            <p:cNvSpPr/>
            <p:nvPr/>
          </p:nvSpPr>
          <p:spPr>
            <a:xfrm>
              <a:off x="2368440" y="45720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NText"/>
            <p:cNvSpPr/>
            <p:nvPr/>
          </p:nvSpPr>
          <p:spPr>
            <a:xfrm>
              <a:off x="304920" y="47624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multiplying a negative number and a positive number, use the sign of the larger numb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CorShape1"/>
          <p:cNvSpPr/>
          <p:nvPr/>
        </p:nvSpPr>
        <p:spPr>
          <a:xfrm>
            <a:off x="223920" y="270828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AnswerNow"/>
          <p:cNvGrpSpPr/>
          <p:nvPr/>
        </p:nvGrpSpPr>
        <p:grpSpPr>
          <a:xfrm>
            <a:off x="304920" y="4572000"/>
            <a:ext cx="4444920" cy="698400"/>
            <a:chOff x="304920" y="4572000"/>
            <a:chExt cx="4444920" cy="698400"/>
          </a:xfrm>
        </p:grpSpPr>
        <p:sp>
          <p:nvSpPr>
            <p:cNvPr id="82" name="ANShape"/>
            <p:cNvSpPr/>
            <p:nvPr/>
          </p:nvSpPr>
          <p:spPr>
            <a:xfrm>
              <a:off x="2368440" y="45720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ANText"/>
            <p:cNvSpPr/>
            <p:nvPr/>
          </p:nvSpPr>
          <p:spPr>
            <a:xfrm>
              <a:off x="304920" y="47624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7"/>
          <p:cNvGrpSpPr/>
          <p:nvPr/>
        </p:nvGrpSpPr>
        <p:grpSpPr>
          <a:xfrm>
            <a:off x="762120" y="533520"/>
            <a:ext cx="2958840" cy="1176120"/>
            <a:chOff x="762120" y="533520"/>
            <a:chExt cx="2958840" cy="1176120"/>
          </a:xfrm>
        </p:grpSpPr>
        <p:graphicFrame>
          <p:nvGraphicFramePr>
            <p:cNvPr id="86" name="Object 5"/>
            <p:cNvGraphicFramePr/>
            <p:nvPr/>
          </p:nvGraphicFramePr>
          <p:xfrm>
            <a:off x="1447920" y="533520"/>
            <a:ext cx="2273040" cy="1176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533520"/>
                      <a:ext cx="2273040" cy="117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" name="Text Box 6"/>
            <p:cNvSpPr/>
            <p:nvPr/>
          </p:nvSpPr>
          <p:spPr>
            <a:xfrm>
              <a:off x="762120" y="60948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Group 12"/>
          <p:cNvGrpSpPr/>
          <p:nvPr/>
        </p:nvGrpSpPr>
        <p:grpSpPr>
          <a:xfrm>
            <a:off x="1371600" y="2286000"/>
            <a:ext cx="1611360" cy="1397160"/>
            <a:chOff x="1371600" y="2286000"/>
            <a:chExt cx="1611360" cy="1397160"/>
          </a:xfrm>
        </p:grpSpPr>
        <p:graphicFrame>
          <p:nvGraphicFramePr>
            <p:cNvPr id="90" name="Object 8"/>
            <p:cNvGraphicFramePr/>
            <p:nvPr/>
          </p:nvGraphicFramePr>
          <p:xfrm>
            <a:off x="2133720" y="2286000"/>
            <a:ext cx="849240" cy="1397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1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33720" y="2286000"/>
                      <a:ext cx="849240" cy="13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Text Box 10"/>
            <p:cNvSpPr/>
            <p:nvPr/>
          </p:nvSpPr>
          <p:spPr>
            <a:xfrm>
              <a:off x="1371600" y="257508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13"/>
          <p:cNvGrpSpPr/>
          <p:nvPr/>
        </p:nvGrpSpPr>
        <p:grpSpPr>
          <a:xfrm>
            <a:off x="1371600" y="4114800"/>
            <a:ext cx="1482840" cy="1447920"/>
            <a:chOff x="1371600" y="4114800"/>
            <a:chExt cx="1482840" cy="1447920"/>
          </a:xfrm>
        </p:grpSpPr>
        <p:graphicFrame>
          <p:nvGraphicFramePr>
            <p:cNvPr id="94" name="Object 9"/>
            <p:cNvGraphicFramePr/>
            <p:nvPr/>
          </p:nvGraphicFramePr>
          <p:xfrm>
            <a:off x="2286000" y="4114800"/>
            <a:ext cx="568440" cy="1447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5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0" y="4114800"/>
                      <a:ext cx="568440" cy="144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" name="Text Box 11"/>
            <p:cNvSpPr/>
            <p:nvPr/>
          </p:nvSpPr>
          <p:spPr>
            <a:xfrm>
              <a:off x="1371600" y="447984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: (-3)(4)(-2)(-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CorShape1"/>
          <p:cNvSpPr/>
          <p:nvPr/>
        </p:nvSpPr>
        <p:spPr>
          <a:xfrm>
            <a:off x="223920" y="255600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AnswerNow"/>
          <p:cNvGrpSpPr/>
          <p:nvPr/>
        </p:nvGrpSpPr>
        <p:grpSpPr>
          <a:xfrm>
            <a:off x="304920" y="4572000"/>
            <a:ext cx="4444920" cy="698400"/>
            <a:chOff x="304920" y="4572000"/>
            <a:chExt cx="4444920" cy="698400"/>
          </a:xfrm>
        </p:grpSpPr>
        <p:sp>
          <p:nvSpPr>
            <p:cNvPr id="102" name="ANShape"/>
            <p:cNvSpPr/>
            <p:nvPr/>
          </p:nvSpPr>
          <p:spPr>
            <a:xfrm>
              <a:off x="2368440" y="45720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ANText"/>
            <p:cNvSpPr/>
            <p:nvPr/>
          </p:nvSpPr>
          <p:spPr>
            <a:xfrm>
              <a:off x="304920" y="47624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6"/>
          <p:cNvSpPr/>
          <p:nvPr/>
        </p:nvSpPr>
        <p:spPr>
          <a:xfrm>
            <a:off x="228600" y="1522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 easy way to determine the sign of th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28600" y="51339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3 negative sign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&gt; 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Odd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&gt; 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nswer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-4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04920" y="8380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you have a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od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number of negatives, the answer i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nega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you have a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ve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number of negatives, the answer i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osi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304920" y="3200400"/>
            <a:ext cx="853416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)  (-2)(-8)(3)(-1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 you have an even or odd number of negative sig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4"/>
          <p:cNvGrpSpPr/>
          <p:nvPr/>
        </p:nvGrpSpPr>
        <p:grpSpPr>
          <a:xfrm>
            <a:off x="609480" y="152280"/>
            <a:ext cx="5410440" cy="2036880"/>
            <a:chOff x="609480" y="152280"/>
            <a:chExt cx="5410440" cy="2036880"/>
          </a:xfrm>
        </p:grpSpPr>
        <p:sp>
          <p:nvSpPr>
            <p:cNvPr id="111" name="Text Box 4"/>
            <p:cNvSpPr/>
            <p:nvPr/>
          </p:nvSpPr>
          <p:spPr>
            <a:xfrm>
              <a:off x="3276720" y="152280"/>
              <a:ext cx="266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ast one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Group 13"/>
            <p:cNvGrpSpPr/>
            <p:nvPr/>
          </p:nvGrpSpPr>
          <p:grpSpPr>
            <a:xfrm>
              <a:off x="609480" y="914400"/>
              <a:ext cx="5410440" cy="1274760"/>
              <a:chOff x="609480" y="914400"/>
              <a:chExt cx="5410440" cy="1274760"/>
            </a:xfrm>
          </p:grpSpPr>
          <p:sp>
            <p:nvSpPr>
              <p:cNvPr id="113" name="Text Box 5"/>
              <p:cNvSpPr/>
              <p:nvPr/>
            </p:nvSpPr>
            <p:spPr>
              <a:xfrm>
                <a:off x="609480" y="1050840"/>
                <a:ext cx="762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5)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14" name="Object 6"/>
              <p:cNvGraphicFramePr/>
              <p:nvPr/>
            </p:nvGraphicFramePr>
            <p:xfrm>
              <a:off x="1371600" y="914400"/>
              <a:ext cx="4648320" cy="1274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15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71600" y="914400"/>
                        <a:ext cx="4648320" cy="1274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16" name="Text Box 7"/>
          <p:cNvSpPr/>
          <p:nvPr/>
        </p:nvSpPr>
        <p:spPr>
          <a:xfrm>
            <a:off x="609480" y="220968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itive or negative answ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Posi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even # of negative signs (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914400" y="36115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ll numbers as fractions and multip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581280" y="615636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=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11"/>
          <p:cNvGraphicFramePr/>
          <p:nvPr/>
        </p:nvGraphicFramePr>
        <p:xfrm>
          <a:off x="2362320" y="4191120"/>
          <a:ext cx="4038480" cy="19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4191120"/>
                    <a:ext cx="4038480" cy="19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0:49:38Z</dcterms:created>
  <dc:creator>Skip Tyler</dc:creator>
  <dc:description/>
  <dc:language>en-US</dc:language>
  <cp:lastModifiedBy>LEGION</cp:lastModifiedBy>
  <dcterms:modified xsi:type="dcterms:W3CDTF">2017-07-06T06:35:56Z</dcterms:modified>
  <cp:revision>23</cp:revision>
  <dc:subject/>
  <dc:title>Multiply Rational Numbers</dc:title>
</cp:coreProperties>
</file>