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C36-0055-4723-907D-DE9DBD84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(-4) = 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7) • 4 = 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fra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# • top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# • botto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sy way to determine the sign of the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negative signs -&gt; Odd -&gt; answer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odd number of negatives, the answer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n even number of negatives, the answer is posi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- even # of negative sign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31D-2BB4-4EE9-80B2-8440E9BD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5A7-050E-4186-8BC5-57BEA07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A96-BD0C-466F-90D7-282A6013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793C-3F2A-4CA5-BB7D-4813071C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4F1A-831A-4B48-959C-D2DEFEE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46D1-4013-470F-B200-D3C1ACDB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2AE-DB31-49C3-ACB3-42F4435F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12F-6DF7-44C0-AF6D-4305269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3ED-3226-4ABF-83F2-DC8BB293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728-374D-448C-81C9-7972B82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B02-C8AF-4179-A0D6-F0481782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E5B-D924-4F77-B7D9-6EBBA651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E98-E26A-4853-AB4C-5AA8345A8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1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 rational nu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L: n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030320"/>
            <a:ext cx="7848720" cy="16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295280" y="60199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ed by Skip Tyler, Varina High School and Nicole Kessinger Deep Run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sign of the product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-3)(-4)(-5)(0)(-1)(-6)(-91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>
            <a:off x="223920" y="3368520"/>
            <a:ext cx="291960" cy="2923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26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ying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If the numbers have the same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(-4) = 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 If the numbers have different signs then the product i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(-7) • 4 = -2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d49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3520" y="7632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 (3x)(-8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533520" y="2819520"/>
            <a:ext cx="2437920" cy="1025280"/>
            <a:chOff x="533520" y="2819520"/>
            <a:chExt cx="2437920" cy="1025280"/>
          </a:xfrm>
        </p:grpSpPr>
        <p:graphicFrame>
          <p:nvGraphicFramePr>
            <p:cNvPr id="57" name="Object 5"/>
            <p:cNvGraphicFramePr/>
            <p:nvPr/>
          </p:nvGraphicFramePr>
          <p:xfrm>
            <a:off x="1295280" y="2819520"/>
            <a:ext cx="167616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167616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6"/>
            <p:cNvSpPr/>
            <p:nvPr/>
          </p:nvSpPr>
          <p:spPr>
            <a:xfrm>
              <a:off x="533520" y="29304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7"/>
          <p:cNvSpPr/>
          <p:nvPr/>
        </p:nvSpPr>
        <p:spPr>
          <a:xfrm>
            <a:off x="3429000" y="28954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oth numbers as a fr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cancel if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1143000" y="4237200"/>
          <a:ext cx="1905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237200"/>
                    <a:ext cx="1905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1523880" y="5410080"/>
          <a:ext cx="10620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1062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17"/>
          <p:cNvGrpSpPr/>
          <p:nvPr/>
        </p:nvGrpSpPr>
        <p:grpSpPr>
          <a:xfrm>
            <a:off x="2971800" y="5562720"/>
            <a:ext cx="2057400" cy="703440"/>
            <a:chOff x="2971800" y="5562720"/>
            <a:chExt cx="2057400" cy="703440"/>
          </a:xfrm>
        </p:grpSpPr>
        <p:sp>
          <p:nvSpPr>
            <p:cNvPr id="66" name="Text Box 14"/>
            <p:cNvSpPr/>
            <p:nvPr/>
          </p:nvSpPr>
          <p:spPr>
            <a:xfrm>
              <a:off x="2971800" y="5562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3657600" y="55627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c0128"/>
                  </a:solidFill>
                  <a:latin typeface="Times New Roman"/>
                </a:rPr>
                <a:t>-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6"/>
          <p:cNvSpPr/>
          <p:nvPr/>
        </p:nvSpPr>
        <p:spPr>
          <a:xfrm>
            <a:off x="4648320" y="426708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ultiplying fr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op # • top 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Bottom # • bottom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3658680" y="1905120"/>
            <a:ext cx="13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-24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two negative numbers, the product is negat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75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multiplying a negative number and a positive number, use the sign of the larger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>
            <a:off x="223920" y="270828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7"/>
          <p:cNvGrpSpPr/>
          <p:nvPr/>
        </p:nvGrpSpPr>
        <p:grpSpPr>
          <a:xfrm>
            <a:off x="762120" y="533520"/>
            <a:ext cx="2958840" cy="1176120"/>
            <a:chOff x="762120" y="533520"/>
            <a:chExt cx="2958840" cy="1176120"/>
          </a:xfrm>
        </p:grpSpPr>
        <p:graphicFrame>
          <p:nvGraphicFramePr>
            <p:cNvPr id="86" name="Object 5"/>
            <p:cNvGraphicFramePr/>
            <p:nvPr/>
          </p:nvGraphicFramePr>
          <p:xfrm>
            <a:off x="1447920" y="533520"/>
            <a:ext cx="2273040" cy="117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533520"/>
                      <a:ext cx="2273040" cy="11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Text Box 6"/>
            <p:cNvSpPr/>
            <p:nvPr/>
          </p:nvSpPr>
          <p:spPr>
            <a:xfrm>
              <a:off x="762120" y="6094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371600" y="2286000"/>
            <a:ext cx="1611360" cy="1397160"/>
            <a:chOff x="1371600" y="2286000"/>
            <a:chExt cx="1611360" cy="1397160"/>
          </a:xfrm>
        </p:grpSpPr>
        <p:graphicFrame>
          <p:nvGraphicFramePr>
            <p:cNvPr id="90" name="Object 8"/>
            <p:cNvGraphicFramePr/>
            <p:nvPr/>
          </p:nvGraphicFramePr>
          <p:xfrm>
            <a:off x="2133720" y="2286000"/>
            <a:ext cx="849240" cy="1397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286000"/>
                      <a:ext cx="849240" cy="13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Text Box 10"/>
            <p:cNvSpPr/>
            <p:nvPr/>
          </p:nvSpPr>
          <p:spPr>
            <a:xfrm>
              <a:off x="1371600" y="25750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1371600" y="4114800"/>
            <a:ext cx="1482840" cy="1447920"/>
            <a:chOff x="1371600" y="4114800"/>
            <a:chExt cx="1482840" cy="1447920"/>
          </a:xfrm>
        </p:grpSpPr>
        <p:graphicFrame>
          <p:nvGraphicFramePr>
            <p:cNvPr id="94" name="Object 9"/>
            <p:cNvGraphicFramePr/>
            <p:nvPr/>
          </p:nvGraphicFramePr>
          <p:xfrm>
            <a:off x="2286000" y="4114800"/>
            <a:ext cx="568440" cy="1447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5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4114800"/>
                      <a:ext cx="56844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Text Box 11"/>
            <p:cNvSpPr/>
            <p:nvPr/>
          </p:nvSpPr>
          <p:spPr>
            <a:xfrm>
              <a:off x="1371600" y="447984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: (-3)(4)(-2)(-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rShape1"/>
          <p:cNvSpPr/>
          <p:nvPr/>
        </p:nvSpPr>
        <p:spPr>
          <a:xfrm>
            <a:off x="223920" y="2556000"/>
            <a:ext cx="291960" cy="2919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AnswerNow"/>
          <p:cNvGrpSpPr/>
          <p:nvPr/>
        </p:nvGrpSpPr>
        <p:grpSpPr>
          <a:xfrm>
            <a:off x="304920" y="4572000"/>
            <a:ext cx="4444920" cy="698400"/>
            <a:chOff x="304920" y="4572000"/>
            <a:chExt cx="4444920" cy="698400"/>
          </a:xfrm>
        </p:grpSpPr>
        <p:sp>
          <p:nvSpPr>
            <p:cNvPr id="102" name="ANShape"/>
            <p:cNvSpPr/>
            <p:nvPr/>
          </p:nvSpPr>
          <p:spPr>
            <a:xfrm>
              <a:off x="2368440" y="45720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NText"/>
            <p:cNvSpPr/>
            <p:nvPr/>
          </p:nvSpPr>
          <p:spPr>
            <a:xfrm>
              <a:off x="304920" y="47624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aec5e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228600" y="152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 easy way to determine the sign of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513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3 negative sign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Od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&gt; </a:t>
            </a: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answer is neg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-4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04920" y="838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d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you have 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v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umber of negatives, the answer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04920" y="3200400"/>
            <a:ext cx="853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)  (-2)(-8)(3)(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n even or odd number of negative sig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cf4ea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4"/>
          <p:cNvGrpSpPr/>
          <p:nvPr/>
        </p:nvGrpSpPr>
        <p:grpSpPr>
          <a:xfrm>
            <a:off x="609480" y="152280"/>
            <a:ext cx="5410440" cy="2036880"/>
            <a:chOff x="609480" y="152280"/>
            <a:chExt cx="5410440" cy="2036880"/>
          </a:xfrm>
        </p:grpSpPr>
        <p:sp>
          <p:nvSpPr>
            <p:cNvPr id="111" name="Text Box 4"/>
            <p:cNvSpPr/>
            <p:nvPr/>
          </p:nvSpPr>
          <p:spPr>
            <a:xfrm>
              <a:off x="3276720" y="15228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ast one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Group 13"/>
            <p:cNvGrpSpPr/>
            <p:nvPr/>
          </p:nvGrpSpPr>
          <p:grpSpPr>
            <a:xfrm>
              <a:off x="609480" y="914400"/>
              <a:ext cx="5410440" cy="1274760"/>
              <a:chOff x="609480" y="914400"/>
              <a:chExt cx="5410440" cy="1274760"/>
            </a:xfrm>
          </p:grpSpPr>
          <p:sp>
            <p:nvSpPr>
              <p:cNvPr id="113" name="Text Box 5"/>
              <p:cNvSpPr/>
              <p:nvPr/>
            </p:nvSpPr>
            <p:spPr>
              <a:xfrm>
                <a:off x="609480" y="1050840"/>
                <a:ext cx="762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5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Object 6"/>
              <p:cNvGraphicFramePr/>
              <p:nvPr/>
            </p:nvGraphicFramePr>
            <p:xfrm>
              <a:off x="1371600" y="914400"/>
              <a:ext cx="4648320" cy="12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5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71600" y="914400"/>
                        <a:ext cx="4648320" cy="12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16" name="Text Box 7"/>
          <p:cNvSpPr/>
          <p:nvPr/>
        </p:nvSpPr>
        <p:spPr>
          <a:xfrm>
            <a:off x="609480" y="220968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itive or negative answ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Positiv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even # of negative sign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14400" y="3611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ll numbers as fractions and multip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5812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imes New Roman"/>
              </a:rPr>
              <a:t>=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2362320" y="4191120"/>
          <a:ext cx="4038480" cy="19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191120"/>
                    <a:ext cx="403848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9:38Z</dcterms:created>
  <dc:creator>Skip Tyler</dc:creator>
  <dc:description/>
  <dc:language>en-US</dc:language>
  <cp:lastModifiedBy>LEGION</cp:lastModifiedBy>
  <dcterms:modified xsi:type="dcterms:W3CDTF">2017-07-06T06:35:56Z</dcterms:modified>
  <cp:revision>23</cp:revision>
  <dc:subject/>
  <dc:title>Multiply Rational Numbers</dc:title>
</cp:coreProperties>
</file>