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ADBE-EA73-41DB-B8E4-3A4B0D1D2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wo polynomials using the FOIL method, Box method and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wo polynomials using the FOIL method, Box method and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ethod is the Box Method. This method works for every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how you do it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(3x –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box. Write a polynomial on the top and side of a box. It does not matter which goes w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be modeled in the next problem along with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ethod is the Box Method. This method works for every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how you do it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(3x –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box. Write a polynomial on the top and side of a box. It does not matter which goes w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be modeled in the next problem along with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Multiply (3x -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 - 19x –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3 techniques. Pick the one you like the be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Multiply (3x -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 - 19x –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3 techniques. Pick the one you like the be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Multiply (7p - 2)(3p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 – 34p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Multiply (7p - 2)(3p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 – 34p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y + 4)(y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y + 4)(y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ultiply (2a – 3b)(2a + 4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14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14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8ab – 6ba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2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2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ultiply (2a – 3b)(2a + 4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14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14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8ab – 6ba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2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2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(x2 - 5x + 4) - 5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+ 8x - 5x2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and 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- 5x2 + 8x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(x2 - 5x + 4) - 5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+ 8x - 5x2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and 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- 5x2 + 8x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You cannot use FOIL because they are not BOTH binomials.  You must use the distributive property or box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d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the next slid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You cannot use FOIL because they are not BOTH binomials.  You must use the distributive property or box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d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the next slid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bin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–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bin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–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2p + 1)(p2 – 3p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p3 + 2p3 + p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2p + 1)(p2 – 3p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p3 + 2p3 + p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techniques you can use for multiplying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part about it is that they are all the same! Huh? Whaddaya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l about how you write it…Here they 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 back, relax (but make sure to write this down), and I’ll show y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techniques you can use for multiplying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part about it is that they are all the same! Huh? Whaddaya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l about how you write it…Here they 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 back, relax (but make sure to write this down), and I’ll show y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. (2x + 3)(5x +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distributive property, multiply 2x(5x + 8) + 3(5x + 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16x + 15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31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cut of the distributive property is called the FOIL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. (2x + 3)(5x +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distributive property, multiply 2x(5x + 8) + 3(5x + 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16x + 15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31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cut of the distributive property is called the FOIL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IL method is ONLY used when you multiply 2 binomials. It is an acronym and tells you which terms to multip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)  Use the FOIL method to multiply the following binomi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IL method is ONLY used when you multiply 2 binomials. It is an acronym and tells you which terms to multip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)  Use the FOIL method to multiply the following binomi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tells you to multiply the FIR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tells you to multiply the FIR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tells you to multiply the OUT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tells you to multiply the OUT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ells you to multiply the INN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ells you to multiply the INN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tells you to multiply the LA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10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tells you to multiply the LA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10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FOIL reminds you to multiply th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FOIL reminds you to multiply th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5386-E4BA-4DA9-B6F8-FB9FFB0E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9291-037E-4747-AE40-1AB5F2DE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E84C-2FB0-4BBA-BE42-5DAD3AAD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E63E-50F8-491D-BAB4-E24795C0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EFF9-2BFB-4005-B99F-010A32B0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82C4-2E04-4E57-8867-520D5C0B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A64F-C656-477B-B95E-8ED8EAB0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F9EA-0ED2-4908-8350-6F7B2465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F293-5284-4ACF-8D50-66F6D91C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00D0-D84D-4788-A0F5-DB94E711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DF58-A0A3-46A7-A7A0-F4659E56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C527-0ADC-43E2-A3A2-F7337220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8DF2-3E1E-4C77-986A-7698FDED1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5800" y="839880"/>
            <a:ext cx="78487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60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3002760"/>
            <a:ext cx="86868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two polynomials using the FOIL method, Box method and the distributive propert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887560" y="6324480"/>
            <a:ext cx="340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130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third method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Box Metho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This method works for every problem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’s how you do it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 (3x – 5)(5x +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a box. Write a polynomial on the top and side of a box. It does not matter which goes w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ill be modeled in the next problem along with FO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952880" y="1905120"/>
          <a:ext cx="3810240" cy="4114800"/>
        </p:xfrm>
        <a:graphic>
          <a:graphicData uri="http://schemas.openxmlformats.org/drawingml/2006/table">
            <a:tbl>
              <a:tblPr/>
              <a:tblGrid>
                <a:gridCol w="127008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017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)  Multiply (3x - 5)(5x +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imes New Roman"/>
              </a:rPr>
              <a:t>15x</a:t>
            </a:r>
            <a:r>
              <a:rPr b="1" lang="en-US" sz="36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279f"/>
                </a:solidFill>
                <a:latin typeface="Times New Roman"/>
              </a:rPr>
              <a:t> - 19x –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876920" y="1981080"/>
          <a:ext cx="3809880" cy="411480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94" name="Text Box 24"/>
          <p:cNvSpPr/>
          <p:nvPr/>
        </p:nvSpPr>
        <p:spPr>
          <a:xfrm>
            <a:off x="627372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34"/>
          <p:cNvGrpSpPr/>
          <p:nvPr/>
        </p:nvGrpSpPr>
        <p:grpSpPr>
          <a:xfrm>
            <a:off x="6172200" y="3352680"/>
            <a:ext cx="2514600" cy="2743200"/>
            <a:chOff x="6172200" y="3352680"/>
            <a:chExt cx="2514600" cy="2743200"/>
          </a:xfrm>
        </p:grpSpPr>
        <p:sp>
          <p:nvSpPr>
            <p:cNvPr id="96" name="Oval 29"/>
            <p:cNvSpPr/>
            <p:nvPr/>
          </p:nvSpPr>
          <p:spPr>
            <a:xfrm>
              <a:off x="6172200" y="47242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67480" y="33526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 rot="18931800">
              <a:off x="6400800" y="4309560"/>
              <a:ext cx="20988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Text Box 25"/>
          <p:cNvSpPr/>
          <p:nvPr/>
        </p:nvSpPr>
        <p:spPr>
          <a:xfrm>
            <a:off x="617220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6"/>
          <p:cNvSpPr/>
          <p:nvPr/>
        </p:nvSpPr>
        <p:spPr>
          <a:xfrm>
            <a:off x="746748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749304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5"/>
          <p:cNvSpPr/>
          <p:nvPr/>
        </p:nvSpPr>
        <p:spPr>
          <a:xfrm>
            <a:off x="63000" y="6126120"/>
            <a:ext cx="90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have 3 techniques. Pick the one you like the be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rc 39"/>
          <p:cNvSpPr/>
          <p:nvPr/>
        </p:nvSpPr>
        <p:spPr>
          <a:xfrm flipH="1">
            <a:off x="4648320" y="642960"/>
            <a:ext cx="175248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rc 40"/>
          <p:cNvSpPr/>
          <p:nvPr/>
        </p:nvSpPr>
        <p:spPr>
          <a:xfrm flipH="1">
            <a:off x="4648320" y="533520"/>
            <a:ext cx="2743200" cy="3808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rc 41"/>
          <p:cNvSpPr/>
          <p:nvPr/>
        </p:nvSpPr>
        <p:spPr>
          <a:xfrm flipH="1" flipV="1">
            <a:off x="5486400" y="1447200"/>
            <a:ext cx="914400" cy="1522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rc 43"/>
          <p:cNvSpPr/>
          <p:nvPr/>
        </p:nvSpPr>
        <p:spPr>
          <a:xfrm flipH="1" flipV="1">
            <a:off x="5486400" y="1447200"/>
            <a:ext cx="190512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4"/>
          <p:cNvSpPr/>
          <p:nvPr/>
        </p:nvSpPr>
        <p:spPr>
          <a:xfrm>
            <a:off x="2889360" y="192096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9"/>
          <p:cNvSpPr/>
          <p:nvPr/>
        </p:nvSpPr>
        <p:spPr>
          <a:xfrm>
            <a:off x="2895480" y="2666880"/>
            <a:ext cx="114300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5"/>
          <p:cNvSpPr/>
          <p:nvPr/>
        </p:nvSpPr>
        <p:spPr>
          <a:xfrm>
            <a:off x="2889360" y="25909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6"/>
          <p:cNvSpPr/>
          <p:nvPr/>
        </p:nvSpPr>
        <p:spPr>
          <a:xfrm>
            <a:off x="2889360" y="32464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7"/>
          <p:cNvSpPr/>
          <p:nvPr/>
        </p:nvSpPr>
        <p:spPr>
          <a:xfrm>
            <a:off x="2889360" y="3914640"/>
            <a:ext cx="8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017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)  Multiply (7p - 2)(3p -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21p</a:t>
            </a:r>
            <a:r>
              <a:rPr b="1" lang="en-US" sz="36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 – 34p +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876920" y="1981080"/>
          <a:ext cx="3809880" cy="411480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16" name="Text Box 26"/>
          <p:cNvSpPr/>
          <p:nvPr/>
        </p:nvSpPr>
        <p:spPr>
          <a:xfrm>
            <a:off x="627372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1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27"/>
          <p:cNvGrpSpPr/>
          <p:nvPr/>
        </p:nvGrpSpPr>
        <p:grpSpPr>
          <a:xfrm>
            <a:off x="6172200" y="3352680"/>
            <a:ext cx="2514600" cy="2743200"/>
            <a:chOff x="6172200" y="3352680"/>
            <a:chExt cx="2514600" cy="2743200"/>
          </a:xfrm>
        </p:grpSpPr>
        <p:sp>
          <p:nvSpPr>
            <p:cNvPr id="118" name="Oval 28"/>
            <p:cNvSpPr/>
            <p:nvPr/>
          </p:nvSpPr>
          <p:spPr>
            <a:xfrm>
              <a:off x="6172200" y="47242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Oval 29"/>
            <p:cNvSpPr/>
            <p:nvPr/>
          </p:nvSpPr>
          <p:spPr>
            <a:xfrm>
              <a:off x="7467480" y="33526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 rot="18931800">
              <a:off x="6400800" y="4309560"/>
              <a:ext cx="20988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Text Box 31"/>
          <p:cNvSpPr/>
          <p:nvPr/>
        </p:nvSpPr>
        <p:spPr>
          <a:xfrm>
            <a:off x="617220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746748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3"/>
          <p:cNvSpPr/>
          <p:nvPr/>
        </p:nvSpPr>
        <p:spPr>
          <a:xfrm>
            <a:off x="749304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rc 35"/>
          <p:cNvSpPr/>
          <p:nvPr/>
        </p:nvSpPr>
        <p:spPr>
          <a:xfrm flipH="1">
            <a:off x="4648320" y="642960"/>
            <a:ext cx="175248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rc 36"/>
          <p:cNvSpPr/>
          <p:nvPr/>
        </p:nvSpPr>
        <p:spPr>
          <a:xfrm flipH="1">
            <a:off x="4648320" y="533520"/>
            <a:ext cx="2743200" cy="3808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rc 37"/>
          <p:cNvSpPr/>
          <p:nvPr/>
        </p:nvSpPr>
        <p:spPr>
          <a:xfrm flipH="1" flipV="1">
            <a:off x="5486400" y="1447200"/>
            <a:ext cx="914400" cy="1522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rc 38"/>
          <p:cNvSpPr/>
          <p:nvPr/>
        </p:nvSpPr>
        <p:spPr>
          <a:xfrm flipH="1" flipV="1">
            <a:off x="5486400" y="1447200"/>
            <a:ext cx="190512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9"/>
          <p:cNvSpPr/>
          <p:nvPr/>
        </p:nvSpPr>
        <p:spPr>
          <a:xfrm>
            <a:off x="2889360" y="192096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1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3"/>
          <p:cNvSpPr/>
          <p:nvPr/>
        </p:nvSpPr>
        <p:spPr>
          <a:xfrm>
            <a:off x="2895480" y="2666880"/>
            <a:ext cx="1143000" cy="1295640"/>
          </a:xfrm>
          <a:prstGeom prst="rect">
            <a:avLst/>
          </a:prstGeom>
          <a:solidFill>
            <a:srgbClr val="c2d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0"/>
          <p:cNvSpPr/>
          <p:nvPr/>
        </p:nvSpPr>
        <p:spPr>
          <a:xfrm>
            <a:off x="2889360" y="259092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2889360" y="32464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2889360" y="3914640"/>
            <a:ext cx="8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y + 4)(y –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7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7y 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7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7y 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CorShape1"/>
          <p:cNvSpPr/>
          <p:nvPr/>
        </p:nvSpPr>
        <p:spPr>
          <a:xfrm rot="10800000">
            <a:off x="253800" y="1425240"/>
            <a:ext cx="253800" cy="253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2a – 3b)(2a + 4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CorShape1"/>
          <p:cNvSpPr/>
          <p:nvPr/>
        </p:nvSpPr>
        <p:spPr>
          <a:xfrm rot="10800000">
            <a:off x="223560" y="319068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4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4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8ab – 6ba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 + 4)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- 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8x -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25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oup and 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8x + 25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- 15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+ 33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523880" y="2540160"/>
          <a:ext cx="6096240" cy="4089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3539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4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952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 or box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5"/>
          <p:cNvSpPr/>
          <p:nvPr/>
        </p:nvSpPr>
        <p:spPr>
          <a:xfrm>
            <a:off x="3429000" y="4160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3352680" y="55324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4699080" y="4160880"/>
            <a:ext cx="132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4648320" y="5532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rc 33"/>
          <p:cNvSpPr/>
          <p:nvPr/>
        </p:nvSpPr>
        <p:spPr>
          <a:xfrm flipH="1">
            <a:off x="4037760" y="228600"/>
            <a:ext cx="160020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rc 34"/>
          <p:cNvSpPr/>
          <p:nvPr/>
        </p:nvSpPr>
        <p:spPr>
          <a:xfrm flipH="1">
            <a:off x="4038480" y="228600"/>
            <a:ext cx="228600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rc 35"/>
          <p:cNvSpPr/>
          <p:nvPr/>
        </p:nvSpPr>
        <p:spPr>
          <a:xfrm flipH="1" flipV="1">
            <a:off x="4876200" y="838080"/>
            <a:ext cx="609480" cy="1238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rc 36"/>
          <p:cNvSpPr/>
          <p:nvPr/>
        </p:nvSpPr>
        <p:spPr>
          <a:xfrm flipH="1" flipV="1">
            <a:off x="4876920" y="838080"/>
            <a:ext cx="1371600" cy="1526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0"/>
          <p:cNvSpPr/>
          <p:nvPr/>
        </p:nvSpPr>
        <p:spPr>
          <a:xfrm>
            <a:off x="6426360" y="41608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1"/>
          <p:cNvSpPr/>
          <p:nvPr/>
        </p:nvSpPr>
        <p:spPr>
          <a:xfrm>
            <a:off x="6502320" y="5532480"/>
            <a:ext cx="96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rc 72"/>
          <p:cNvSpPr/>
          <p:nvPr/>
        </p:nvSpPr>
        <p:spPr>
          <a:xfrm flipH="1">
            <a:off x="4037760" y="144360"/>
            <a:ext cx="3124440" cy="3128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rc 73"/>
          <p:cNvSpPr/>
          <p:nvPr/>
        </p:nvSpPr>
        <p:spPr>
          <a:xfrm flipH="1" flipV="1">
            <a:off x="4876920" y="761400"/>
            <a:ext cx="228600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8"/>
          <p:cNvSpPr/>
          <p:nvPr/>
        </p:nvSpPr>
        <p:spPr>
          <a:xfrm>
            <a:off x="7772400" y="4724280"/>
            <a:ext cx="123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d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523880" y="1397160"/>
          <a:ext cx="6096240" cy="4089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3539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4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952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like term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5"/>
          <p:cNvSpPr/>
          <p:nvPr/>
        </p:nvSpPr>
        <p:spPr>
          <a:xfrm>
            <a:off x="3429000" y="3017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26"/>
          <p:cNvGrpSpPr/>
          <p:nvPr/>
        </p:nvGrpSpPr>
        <p:grpSpPr>
          <a:xfrm>
            <a:off x="3048120" y="2743200"/>
            <a:ext cx="3047400" cy="2743200"/>
            <a:chOff x="3048120" y="2743200"/>
            <a:chExt cx="3047400" cy="2743200"/>
          </a:xfrm>
        </p:grpSpPr>
        <p:sp>
          <p:nvSpPr>
            <p:cNvPr id="165" name="Oval 27"/>
            <p:cNvSpPr/>
            <p:nvPr/>
          </p:nvSpPr>
          <p:spPr>
            <a:xfrm>
              <a:off x="3048120" y="4114800"/>
              <a:ext cx="147780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28"/>
            <p:cNvSpPr/>
            <p:nvPr/>
          </p:nvSpPr>
          <p:spPr>
            <a:xfrm>
              <a:off x="4617720" y="2743200"/>
              <a:ext cx="147780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29"/>
            <p:cNvSpPr/>
            <p:nvPr/>
          </p:nvSpPr>
          <p:spPr>
            <a:xfrm rot="18931800">
              <a:off x="3324960" y="3700080"/>
              <a:ext cx="25434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Text Box 30"/>
          <p:cNvSpPr/>
          <p:nvPr/>
        </p:nvSpPr>
        <p:spPr>
          <a:xfrm>
            <a:off x="3352680" y="43894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1"/>
          <p:cNvSpPr/>
          <p:nvPr/>
        </p:nvSpPr>
        <p:spPr>
          <a:xfrm>
            <a:off x="4699080" y="3017880"/>
            <a:ext cx="132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2"/>
          <p:cNvGrpSpPr/>
          <p:nvPr/>
        </p:nvGrpSpPr>
        <p:grpSpPr>
          <a:xfrm>
            <a:off x="4572000" y="2743200"/>
            <a:ext cx="3047760" cy="2743200"/>
            <a:chOff x="4572000" y="2743200"/>
            <a:chExt cx="3047760" cy="2743200"/>
          </a:xfrm>
        </p:grpSpPr>
        <p:sp>
          <p:nvSpPr>
            <p:cNvPr id="171" name="Oval 33"/>
            <p:cNvSpPr/>
            <p:nvPr/>
          </p:nvSpPr>
          <p:spPr>
            <a:xfrm>
              <a:off x="4572000" y="4114800"/>
              <a:ext cx="1477800" cy="137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34"/>
            <p:cNvSpPr/>
            <p:nvPr/>
          </p:nvSpPr>
          <p:spPr>
            <a:xfrm>
              <a:off x="6141960" y="2743200"/>
              <a:ext cx="1477800" cy="137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35"/>
            <p:cNvSpPr/>
            <p:nvPr/>
          </p:nvSpPr>
          <p:spPr>
            <a:xfrm rot="18931800">
              <a:off x="4848840" y="3700080"/>
              <a:ext cx="2543760" cy="79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36"/>
          <p:cNvSpPr/>
          <p:nvPr/>
        </p:nvSpPr>
        <p:spPr>
          <a:xfrm>
            <a:off x="4648320" y="4389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1"/>
          <p:cNvSpPr/>
          <p:nvPr/>
        </p:nvSpPr>
        <p:spPr>
          <a:xfrm>
            <a:off x="6426360" y="30178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2"/>
          <p:cNvSpPr/>
          <p:nvPr/>
        </p:nvSpPr>
        <p:spPr>
          <a:xfrm>
            <a:off x="6502320" y="4389480"/>
            <a:ext cx="96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5"/>
          <p:cNvSpPr/>
          <p:nvPr/>
        </p:nvSpPr>
        <p:spPr>
          <a:xfrm>
            <a:off x="2309760" y="5775480"/>
            <a:ext cx="449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fc0128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 – 15x</a:t>
            </a:r>
            <a:r>
              <a:rPr b="0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 + 33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2p + 1)(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3p +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p +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y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7y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7y 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are three techniques you can use for multiplying polynomia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est part about it is that they are all the same! Huh? Whaddaya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’s all about how you write it…Here they ar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x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 back, relax (but make sure to write this down), and I’ll show y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 Multiply. (2x + 3)(5x +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distributive propert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multiply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x + 8) +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x + 8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16x + 15x + 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10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+ 31x + 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hortcut of the distributive property is called the </a:t>
            </a:r>
            <a:r>
              <a:rPr b="1" lang="en-US" sz="4000" spc="-1" strike="noStrike" u="sng">
                <a:solidFill>
                  <a:srgbClr val="00279f"/>
                </a:solidFill>
                <a:uFillTx/>
                <a:latin typeface="Times New Roman"/>
              </a:rPr>
              <a:t>FOI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OIL metho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ONLY used when you multiply 2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binomial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It is an acronym and tells you which terms to multiply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2)  Use the FOIL method to multiply the following binomial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IR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4876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y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3200400" y="1828800"/>
            <a:ext cx="1601640" cy="355680"/>
            <a:chOff x="3200400" y="1828800"/>
            <a:chExt cx="1601640" cy="355680"/>
          </a:xfrm>
        </p:grpSpPr>
        <p:sp>
          <p:nvSpPr>
            <p:cNvPr id="63" name="Arc 5"/>
            <p:cNvSpPr/>
            <p:nvPr/>
          </p:nvSpPr>
          <p:spPr>
            <a:xfrm rot="10800000">
              <a:off x="4027320" y="1828800"/>
              <a:ext cx="7747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Arc 6"/>
            <p:cNvSpPr/>
            <p:nvPr/>
          </p:nvSpPr>
          <p:spPr>
            <a:xfrm rot="10800000">
              <a:off x="3200400" y="1828800"/>
              <a:ext cx="7747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UT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48006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7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3276720" y="1752480"/>
            <a:ext cx="2439720" cy="355680"/>
            <a:chOff x="3276720" y="1752480"/>
            <a:chExt cx="2439720" cy="355680"/>
          </a:xfrm>
        </p:grpSpPr>
        <p:sp>
          <p:nvSpPr>
            <p:cNvPr id="69" name="Arc 5"/>
            <p:cNvSpPr/>
            <p:nvPr/>
          </p:nvSpPr>
          <p:spPr>
            <a:xfrm rot="10800000">
              <a:off x="4522680" y="1752480"/>
              <a:ext cx="11937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Arc 6"/>
            <p:cNvSpPr/>
            <p:nvPr/>
          </p:nvSpPr>
          <p:spPr>
            <a:xfrm rot="10800000">
              <a:off x="3276720" y="1752480"/>
              <a:ext cx="11937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NN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52280" y="4876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7y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3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4114800" y="1752480"/>
            <a:ext cx="687240" cy="355680"/>
            <a:chOff x="4114800" y="1752480"/>
            <a:chExt cx="687240" cy="355680"/>
          </a:xfrm>
        </p:grpSpPr>
        <p:sp>
          <p:nvSpPr>
            <p:cNvPr id="75" name="Arc 5"/>
            <p:cNvSpPr/>
            <p:nvPr/>
          </p:nvSpPr>
          <p:spPr>
            <a:xfrm rot="10800000">
              <a:off x="4484520" y="1752480"/>
              <a:ext cx="3175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rc 6"/>
            <p:cNvSpPr/>
            <p:nvPr/>
          </p:nvSpPr>
          <p:spPr>
            <a:xfrm rot="10800000">
              <a:off x="4114800" y="1752480"/>
              <a:ext cx="3175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A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960" y="3580920"/>
            <a:ext cx="883908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7y + 3y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+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y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+ 10y +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4114800" y="1143000"/>
            <a:ext cx="1525680" cy="355680"/>
            <a:chOff x="4114800" y="1143000"/>
            <a:chExt cx="1525680" cy="355680"/>
          </a:xfrm>
        </p:grpSpPr>
        <p:sp>
          <p:nvSpPr>
            <p:cNvPr id="81" name="Arc 5"/>
            <p:cNvSpPr/>
            <p:nvPr/>
          </p:nvSpPr>
          <p:spPr>
            <a:xfrm rot="10800000">
              <a:off x="4903920" y="1143000"/>
              <a:ext cx="7365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Arc 6"/>
            <p:cNvSpPr/>
            <p:nvPr/>
          </p:nvSpPr>
          <p:spPr>
            <a:xfrm rot="10800000">
              <a:off x="4114800" y="1143000"/>
              <a:ext cx="7365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, FOIL reminds you to multiply th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437920" y="182844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st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t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n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5T01:21:20Z</dcterms:created>
  <dc:creator>Skip Tyler</dc:creator>
  <dc:description/>
  <dc:language>en-US</dc:language>
  <cp:lastModifiedBy>LEGION</cp:lastModifiedBy>
  <dcterms:modified xsi:type="dcterms:W3CDTF">2017-07-06T06:36:06Z</dcterms:modified>
  <cp:revision>34</cp:revision>
  <dc:subject/>
  <dc:title>Multiply Polynomials</dc:title>
</cp:coreProperties>
</file>