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9D87-B5EB-4784-85AC-06D9B5D0C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B51-B898-4CAC-B530-B0A5A056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EA8-A876-4BB6-B783-5253A658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7FCA-D91B-4568-8A0E-13D20649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44C-7048-457A-827F-BED55CB2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5FF-159A-468F-92C9-BD61FEA7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38F-F041-4D74-8EE1-FB0B0635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060-0BEA-45A9-860F-8F446368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580-E12A-4906-BEF0-276AB728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A54-43DE-4D3E-9C5E-E275E8A2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8FF-64F7-4275-8CC3-A3D93529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84E-D689-46B1-A9AF-C3A652A0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1E5-FB7D-4532-8383-8AEB2BFD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AB52-A031-464B-8D85-2ED9EC7F9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839880"/>
            <a:ext cx="7848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002760"/>
            <a:ext cx="86868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87560" y="632448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30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hird method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ox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his method works for every problem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52880" y="1905120"/>
          <a:ext cx="3810240" cy="411480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15x</a:t>
            </a:r>
            <a:r>
              <a:rPr b="1" lang="en-US" sz="36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 - 19x –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24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4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96" name="Oval 29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25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63000" y="6126120"/>
            <a:ext cx="90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rc 39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rc 40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rc 41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rc 43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5"/>
          <p:cNvSpPr/>
          <p:nvPr/>
        </p:nvSpPr>
        <p:spPr>
          <a:xfrm>
            <a:off x="2889360" y="2590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7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21p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 – 34p +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7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118" name="Oval 28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Text Box 31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rc 35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rc 36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37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38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3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c2d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2889360" y="259092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rShape1"/>
          <p:cNvSpPr/>
          <p:nvPr/>
        </p:nvSpPr>
        <p:spPr>
          <a:xfrm rot="10800000">
            <a:off x="253800" y="142524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rShape1"/>
          <p:cNvSpPr/>
          <p:nvPr/>
        </p:nvSpPr>
        <p:spPr>
          <a:xfrm rot="10800000">
            <a:off x="223560" y="31906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ab – 6ba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 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- 15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523880" y="2540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 or box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3429000" y="4160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3352680" y="5532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4699080" y="4160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4648320" y="5532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rc 33"/>
          <p:cNvSpPr/>
          <p:nvPr/>
        </p:nvSpPr>
        <p:spPr>
          <a:xfrm flipH="1">
            <a:off x="4037760" y="228600"/>
            <a:ext cx="160020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rc 34"/>
          <p:cNvSpPr/>
          <p:nvPr/>
        </p:nvSpPr>
        <p:spPr>
          <a:xfrm flipH="1">
            <a:off x="4038480" y="2286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rc 35"/>
          <p:cNvSpPr/>
          <p:nvPr/>
        </p:nvSpPr>
        <p:spPr>
          <a:xfrm flipH="1" flipV="1">
            <a:off x="4876200" y="838080"/>
            <a:ext cx="609480" cy="123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rc 36"/>
          <p:cNvSpPr/>
          <p:nvPr/>
        </p:nvSpPr>
        <p:spPr>
          <a:xfrm flipH="1" flipV="1">
            <a:off x="4876920" y="838080"/>
            <a:ext cx="1371600" cy="1526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0"/>
          <p:cNvSpPr/>
          <p:nvPr/>
        </p:nvSpPr>
        <p:spPr>
          <a:xfrm>
            <a:off x="6426360" y="4160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1"/>
          <p:cNvSpPr/>
          <p:nvPr/>
        </p:nvSpPr>
        <p:spPr>
          <a:xfrm>
            <a:off x="6502320" y="5532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rc 72"/>
          <p:cNvSpPr/>
          <p:nvPr/>
        </p:nvSpPr>
        <p:spPr>
          <a:xfrm flipH="1">
            <a:off x="4037760" y="144360"/>
            <a:ext cx="3124440" cy="312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rc 73"/>
          <p:cNvSpPr/>
          <p:nvPr/>
        </p:nvSpPr>
        <p:spPr>
          <a:xfrm flipH="1" flipV="1">
            <a:off x="4876920" y="7614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7772400" y="4724280"/>
            <a:ext cx="123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23880" y="1397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like ter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3429000" y="3017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6"/>
          <p:cNvGrpSpPr/>
          <p:nvPr/>
        </p:nvGrpSpPr>
        <p:grpSpPr>
          <a:xfrm>
            <a:off x="3048120" y="2743200"/>
            <a:ext cx="3047400" cy="2743200"/>
            <a:chOff x="3048120" y="2743200"/>
            <a:chExt cx="3047400" cy="2743200"/>
          </a:xfrm>
        </p:grpSpPr>
        <p:sp>
          <p:nvSpPr>
            <p:cNvPr id="165" name="Oval 27"/>
            <p:cNvSpPr/>
            <p:nvPr/>
          </p:nvSpPr>
          <p:spPr>
            <a:xfrm>
              <a:off x="3048120" y="41148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28"/>
            <p:cNvSpPr/>
            <p:nvPr/>
          </p:nvSpPr>
          <p:spPr>
            <a:xfrm>
              <a:off x="4617720" y="27432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 rot="18931800">
              <a:off x="3324960" y="3700080"/>
              <a:ext cx="25434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30"/>
          <p:cNvSpPr/>
          <p:nvPr/>
        </p:nvSpPr>
        <p:spPr>
          <a:xfrm>
            <a:off x="3352680" y="4389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4699080" y="3017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2"/>
          <p:cNvGrpSpPr/>
          <p:nvPr/>
        </p:nvGrpSpPr>
        <p:grpSpPr>
          <a:xfrm>
            <a:off x="4572000" y="2743200"/>
            <a:ext cx="3047760" cy="2743200"/>
            <a:chOff x="4572000" y="2743200"/>
            <a:chExt cx="3047760" cy="2743200"/>
          </a:xfrm>
        </p:grpSpPr>
        <p:sp>
          <p:nvSpPr>
            <p:cNvPr id="171" name="Oval 33"/>
            <p:cNvSpPr/>
            <p:nvPr/>
          </p:nvSpPr>
          <p:spPr>
            <a:xfrm>
              <a:off x="4572000" y="41148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34"/>
            <p:cNvSpPr/>
            <p:nvPr/>
          </p:nvSpPr>
          <p:spPr>
            <a:xfrm>
              <a:off x="6141960" y="27432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 rot="18931800">
              <a:off x="4848840" y="3700080"/>
              <a:ext cx="2543760" cy="79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4648320" y="4389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6426360" y="3017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6502320" y="4389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5"/>
          <p:cNvSpPr/>
          <p:nvPr/>
        </p:nvSpPr>
        <p:spPr>
          <a:xfrm>
            <a:off x="2309760" y="5775480"/>
            <a:ext cx="44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– 15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p + 1)(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p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 +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multiply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 +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16x + 15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10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1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</a:t>
            </a:r>
            <a:r>
              <a:rPr b="1" lang="en-US" sz="4000" spc="-1" strike="noStrike" u="sng">
                <a:solidFill>
                  <a:srgbClr val="00279f"/>
                </a:solidFill>
                <a:uFillTx/>
                <a:latin typeface="Times New Roman"/>
              </a:rPr>
              <a:t>FO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IL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ONLY used when you multiply 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inomia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It is an acronym and tells you which terms to multip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3200400" y="1828800"/>
            <a:ext cx="1601640" cy="355680"/>
            <a:chOff x="3200400" y="1828800"/>
            <a:chExt cx="1601640" cy="355680"/>
          </a:xfrm>
        </p:grpSpPr>
        <p:sp>
          <p:nvSpPr>
            <p:cNvPr id="63" name="Arc 5"/>
            <p:cNvSpPr/>
            <p:nvPr/>
          </p:nvSpPr>
          <p:spPr>
            <a:xfrm rot="10800000">
              <a:off x="402732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rc 6"/>
            <p:cNvSpPr/>
            <p:nvPr/>
          </p:nvSpPr>
          <p:spPr>
            <a:xfrm rot="10800000">
              <a:off x="320040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7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3276720" y="1752480"/>
            <a:ext cx="2439720" cy="355680"/>
            <a:chOff x="3276720" y="1752480"/>
            <a:chExt cx="2439720" cy="355680"/>
          </a:xfrm>
        </p:grpSpPr>
        <p:sp>
          <p:nvSpPr>
            <p:cNvPr id="69" name="Arc 5"/>
            <p:cNvSpPr/>
            <p:nvPr/>
          </p:nvSpPr>
          <p:spPr>
            <a:xfrm rot="10800000">
              <a:off x="452268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rc 6"/>
            <p:cNvSpPr/>
            <p:nvPr/>
          </p:nvSpPr>
          <p:spPr>
            <a:xfrm rot="10800000">
              <a:off x="327672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N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4114800" y="1752480"/>
            <a:ext cx="687240" cy="355680"/>
            <a:chOff x="4114800" y="1752480"/>
            <a:chExt cx="687240" cy="355680"/>
          </a:xfrm>
        </p:grpSpPr>
        <p:sp>
          <p:nvSpPr>
            <p:cNvPr id="75" name="Arc 5"/>
            <p:cNvSpPr/>
            <p:nvPr/>
          </p:nvSpPr>
          <p:spPr>
            <a:xfrm rot="10800000">
              <a:off x="448452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rc 6"/>
            <p:cNvSpPr/>
            <p:nvPr/>
          </p:nvSpPr>
          <p:spPr>
            <a:xfrm rot="10800000">
              <a:off x="411480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960" y="358092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+ 3y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10y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4114800" y="1143000"/>
            <a:ext cx="1525680" cy="355680"/>
            <a:chOff x="4114800" y="1143000"/>
            <a:chExt cx="1525680" cy="355680"/>
          </a:xfrm>
        </p:grpSpPr>
        <p:sp>
          <p:nvSpPr>
            <p:cNvPr id="81" name="Arc 5"/>
            <p:cNvSpPr/>
            <p:nvPr/>
          </p:nvSpPr>
          <p:spPr>
            <a:xfrm rot="10800000">
              <a:off x="490392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rc 6"/>
            <p:cNvSpPr/>
            <p:nvPr/>
          </p:nvSpPr>
          <p:spPr>
            <a:xfrm rot="10800000">
              <a:off x="411480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182844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n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21:20Z</dcterms:created>
  <dc:creator>Skip Tyler</dc:creator>
  <dc:description/>
  <dc:language>en-US</dc:language>
  <cp:lastModifiedBy>LEGION</cp:lastModifiedBy>
  <dcterms:modified xsi:type="dcterms:W3CDTF">2017-07-06T06:36:06Z</dcterms:modified>
  <cp:revision>34</cp:revision>
  <dc:subject/>
  <dc:title>Multiply Polynomials</dc:title>
</cp:coreProperties>
</file>