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5C88-321A-425B-9C78-82E91A140B3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Polynomial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polynomials in standar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:  The lead coefficient should be positive in standar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do this, multiply the polynomial by –1 using the distributive propert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Exampl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Write the polynomials in standard form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Remember:  The lead coefficient should be positive in standard form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o do this, multiply the polynomial by –1 using the distributive property. 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polynomials in standard form and identify the polynomial by degree and number of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ractic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Write the polynomials in standard form and identify the polynomial by degree and number of term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1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2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3rd degree, or cubic, tr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roblem 1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is is a 3rd degree, or cubic, tri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2nd  degree, or quadratic, tr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roblem 2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is is a 2nd  degree, or quadratic, tri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able to determine the degree of a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able to classify a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able to write a polynomial in standar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Objectiv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Be able to determine the degree of a poly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Be able to classify a poly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Be able to write a polynomial in standard form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mial:  A number, a variable or the product of a number and one or more vari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:  A monomial or a sum of mo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nomial:  A polynomial with exactly two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nomial:  A polynomial with exactly three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efficient:  A numerical factor in a term of an algebraic expr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Vocabulary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Monomial:  A number, a variable or the product of a number and one or more variable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olynomial:  A monomial or a sum of monomial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Binomial:  A polynomial with exactly two term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rinomial:  A polynomial with exactly three term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Coefficient:  A numerical factor in a term of an algebraic expression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 of a monomial:  The sum of the exponents of all of the variables in the mo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 of a polynomial in one variable:  The largest exponent of that vari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form:  When the terms of a polynomial are arranged from the largest exponent to the smallest exponent in decreasing 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Vocabulary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Degree of a monomial:  The sum of the exponents of all of the variables in the mo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Degree of a polynomial in one variable:  The largest exponent of that variable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tandard form:  When the terms of a polynomial are arranged from the largest exponent to the smallest exponent in decreasing order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 of a Mo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degree of the monomia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ee of a monomial is the sum of the exponents of the variables in the mo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ponents of each variable are 4 and 2.  4+2 =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ee of the monomial is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nomial can be referred to as a sixth degree mo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Degree of a Mo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What is the degree of the monomial?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degree of a monomial is the sum of the exponents of the variables in the mo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exponents of each variable are 4 and 2.  4+2 = 6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degree of the monomial is 6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monomial can be referred to as a sixth degree mo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 in One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is a monomial or the sum of mo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monomial in a polynomial is a term of the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factor of a term is called the coeffic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efficient of the first term in a polynomial is the lead coeffic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with two terms is called a b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with three terms is called a tr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olynomials in One Variabl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 polynomial is a monomial or the sum of monomial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Each monomial in a polynomial is a term of the poly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number factor of a term is called the coefficient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coefficient of the first term in a polynomial is the lead coefficient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 polynomial with two terms is called a bi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 polynomial with three terms is called a tri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 in One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ee of a polynomial in one variable is the largest exponent of that vari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stant has no variable.  It is a 0 degree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1st degree polynomial.  1st degree polynomials are line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2nd degree polynomial.  2nd degree polynomials are quadra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3rd degree polynomial.  3rd degree polynomials are cub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olynomials in One Variabl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degree of a polynomial in one variable is the largest exponent of that variable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 constant has no variable.  It is a 0 degree poly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is is a 1st degree polynomial.  1st degree polynomials are linear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is is a 2nd degree polynomial.  2nd degree polynomials are quadratic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is is a 3rd degree polynomial.  3rd degree polynomials are cubic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 the polynomials by degree and number of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 by 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 by number of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n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dr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i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ub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lassify the polynomials by degree and number of term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Exampl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Poly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a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b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d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Degre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lassify by degre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lassify by number of term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Zero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onstan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Mo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Firs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Linear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Bi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Second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Quadratic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Bi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Third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ubic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Tri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rewrite a polynomial in standard form, rearrange the terms of the polynomial starting with the largest degree term and ending with the lowest degree ter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ading coefficient, the coefficient of the first term in a polynomial written in standard form, should be posi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tandard For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o rewrite a polynomial in standard form, rearrange the terms of the polynomial starting with the largest degree term and ending with the lowest degree term.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leading coefficient, the coefficient of the first term in a polynomial written in standard form, should be positive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5880-AF0C-42FE-8D9D-DE318C7AD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6B5E-C268-4A6A-8072-1F52E282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F16E-9580-41DD-9E6C-6E90D170C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51E1-56F1-4D57-A677-1E8CE3E5E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21B3-E119-492A-A0DF-01A3E9C56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BE38-3664-4261-B06D-658668EE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876B-3BDE-4056-9080-C774DF48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EE2D-CC78-4EDC-B2EC-294E7E42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DB10-DE76-4269-8FE3-CFBCA6BE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DC57-2435-4C2D-B105-BFBAE3AB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BEAF-0818-41D5-930D-2132B25D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B305-B81D-4666-A408-7368C0A8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FD58-EC25-44C0-8F8F-9A470A8C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6C97-CCA1-413F-9517-CEC9BF4A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5244-A1AC-4C8D-AE99-BE301F80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A10A-B375-4DEB-819F-D17632E20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11F4-DE8A-4678-BAF2-3C3CFB79F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3E28-CDF0-4D59-BE32-ACB8524F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D9C8-0008-4672-BB57-4665F522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D259-C222-42B0-BDEE-E601C318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4156-A782-48A0-AB3E-9AB06FD5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1ABC-85A4-4921-BC79-7F7C373E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08A8-F212-4372-8B38-92ED87DD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C3C9-B668-48FF-A0DC-C55BC72F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B512-A9BF-425D-B92C-966647FA33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52D4-EB56-46AD-866A-06A060C4542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3"/>
          <p:cNvSpPr txBox="1"/>
          <p:nvPr/>
        </p:nvSpPr>
        <p:spPr>
          <a:xfrm>
            <a:off x="914400" y="1828800"/>
            <a:ext cx="59436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olynomial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0" name="Object 2"/>
              <p:cNvSpPr txBox="1"/>
              <p:nvPr/>
            </p:nvSpPr>
            <p:spPr>
              <a:xfrm>
                <a:off x="1295280" y="2209680"/>
                <a:ext cx="26528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WordArt 3"/>
          <p:cNvSpPr txBox="1"/>
          <p:nvPr/>
        </p:nvSpPr>
        <p:spPr>
          <a:xfrm>
            <a:off x="609480" y="304920"/>
            <a:ext cx="5105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amples</a:t>
            </a:r>
            <a:endParaRPr b="0" lang="en-US" sz="2400" spc="1" strike="noStrike">
              <a:ln w="28440">
                <a:solidFill>
                  <a:srgbClr val="660066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7"/>
              <p:cNvSpPr txBox="1"/>
              <p:nvPr/>
            </p:nvSpPr>
            <p:spPr>
              <a:xfrm>
                <a:off x="2666880" y="3352680"/>
                <a:ext cx="7765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8"/>
              <p:cNvSpPr txBox="1"/>
              <p:nvPr/>
            </p:nvSpPr>
            <p:spPr>
              <a:xfrm>
                <a:off x="1371600" y="3276720"/>
                <a:ext cx="64620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9"/>
              <p:cNvSpPr txBox="1"/>
              <p:nvPr/>
            </p:nvSpPr>
            <p:spPr>
              <a:xfrm>
                <a:off x="1981080" y="3276720"/>
                <a:ext cx="7444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10"/>
              <p:cNvSpPr txBox="1"/>
              <p:nvPr/>
            </p:nvSpPr>
            <p:spPr>
              <a:xfrm>
                <a:off x="3429000" y="3352680"/>
                <a:ext cx="5824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6" name="Rectangle 12"/>
          <p:cNvSpPr/>
          <p:nvPr/>
        </p:nvSpPr>
        <p:spPr>
          <a:xfrm>
            <a:off x="1219320" y="2133720"/>
            <a:ext cx="2819160" cy="190476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7" name="Text Box 13"/>
          <p:cNvSpPr/>
          <p:nvPr/>
        </p:nvSpPr>
        <p:spPr>
          <a:xfrm>
            <a:off x="1219320" y="16002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rite the polynomials in standard for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Rectangle 14"/>
          <p:cNvSpPr/>
          <p:nvPr/>
        </p:nvSpPr>
        <p:spPr>
          <a:xfrm>
            <a:off x="4343400" y="2133720"/>
            <a:ext cx="4267080" cy="426708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15"/>
              <p:cNvSpPr txBox="1"/>
              <p:nvPr/>
            </p:nvSpPr>
            <p:spPr>
              <a:xfrm>
                <a:off x="4724280" y="2362320"/>
                <a:ext cx="35308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20"/>
              <p:cNvSpPr txBox="1"/>
              <p:nvPr/>
            </p:nvSpPr>
            <p:spPr>
              <a:xfrm>
                <a:off x="5257800" y="3200400"/>
                <a:ext cx="9399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21"/>
              <p:cNvSpPr txBox="1"/>
              <p:nvPr/>
            </p:nvSpPr>
            <p:spPr>
              <a:xfrm>
                <a:off x="4648320" y="3200400"/>
                <a:ext cx="7444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22"/>
              <p:cNvSpPr txBox="1"/>
              <p:nvPr/>
            </p:nvSpPr>
            <p:spPr>
              <a:xfrm>
                <a:off x="7620120" y="3276720"/>
                <a:ext cx="58248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23"/>
              <p:cNvSpPr txBox="1"/>
              <p:nvPr/>
            </p:nvSpPr>
            <p:spPr>
              <a:xfrm>
                <a:off x="6858000" y="3276720"/>
                <a:ext cx="77616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24"/>
              <p:cNvSpPr txBox="1"/>
              <p:nvPr/>
            </p:nvSpPr>
            <p:spPr>
              <a:xfrm>
                <a:off x="6095880" y="3200400"/>
                <a:ext cx="938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30"/>
              <p:cNvSpPr txBox="1"/>
              <p:nvPr/>
            </p:nvSpPr>
            <p:spPr>
              <a:xfrm>
                <a:off x="4419720" y="4648320"/>
                <a:ext cx="41148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33"/>
              <p:cNvSpPr txBox="1"/>
              <p:nvPr/>
            </p:nvSpPr>
            <p:spPr>
              <a:xfrm>
                <a:off x="5257800" y="5562720"/>
                <a:ext cx="9079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34"/>
              <p:cNvSpPr txBox="1"/>
              <p:nvPr/>
            </p:nvSpPr>
            <p:spPr>
              <a:xfrm>
                <a:off x="4776840" y="5562720"/>
                <a:ext cx="4539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35"/>
              <p:cNvSpPr txBox="1"/>
              <p:nvPr/>
            </p:nvSpPr>
            <p:spPr>
              <a:xfrm>
                <a:off x="7588080" y="5638680"/>
                <a:ext cx="6159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36"/>
              <p:cNvSpPr txBox="1"/>
              <p:nvPr/>
            </p:nvSpPr>
            <p:spPr>
              <a:xfrm>
                <a:off x="6842160" y="5638680"/>
                <a:ext cx="7761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37"/>
              <p:cNvSpPr txBox="1"/>
              <p:nvPr/>
            </p:nvSpPr>
            <p:spPr>
              <a:xfrm>
                <a:off x="6095880" y="5562720"/>
                <a:ext cx="9064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1" name="AutoShape 51"/>
          <p:cNvSpPr/>
          <p:nvPr/>
        </p:nvSpPr>
        <p:spPr>
          <a:xfrm>
            <a:off x="4724280" y="4191120"/>
            <a:ext cx="609840" cy="504720"/>
          </a:xfrm>
          <a:custGeom>
            <a:avLst/>
            <a:gdLst>
              <a:gd name="textAreaLeft" fmla="*/ 122040 w 609840"/>
              <a:gd name="textAreaRight" fmla="*/ 369720 w 60984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8768" y="0"/>
                </a:lnTo>
                <a:arcTo wR="8640" hR="21600" stAng="-5400000" swAng="1144127"/>
                <a:lnTo>
                  <a:pt x="18609" y="5257"/>
                </a:lnTo>
                <a:lnTo>
                  <a:pt x="17344" y="21600"/>
                </a:lnTo>
                <a:lnTo>
                  <a:pt x="10097" y="5257"/>
                </a:lnTo>
                <a:lnTo>
                  <a:pt x="14289" y="5257"/>
                </a:lnTo>
                <a:arcTo wR="8640" hR="21600" stAng="-4255873" swAng="-1133941"/>
                <a:lnTo>
                  <a:pt x="8704" y="1"/>
                </a:lnTo>
                <a:arcTo wR="864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10186"/>
                <a:lnTo>
                  <a:pt x="8704" y="1"/>
                </a:lnTo>
                <a:arcTo wR="8640" hR="21600" stAng="-5410186" swAng="-5389814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2" name="AutoShape 52"/>
          <p:cNvSpPr/>
          <p:nvPr/>
        </p:nvSpPr>
        <p:spPr>
          <a:xfrm>
            <a:off x="4724280" y="4191120"/>
            <a:ext cx="1600200" cy="533160"/>
          </a:xfrm>
          <a:custGeom>
            <a:avLst/>
            <a:gdLst>
              <a:gd name="textAreaLeft" fmla="*/ 320040 w 1600200"/>
              <a:gd name="textAreaRight" fmla="*/ 969480 w 160020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8768" y="0"/>
                </a:lnTo>
                <a:arcTo wR="8640" hR="21600" stAng="-5400000" swAng="1144127"/>
                <a:lnTo>
                  <a:pt x="18609" y="5257"/>
                </a:lnTo>
                <a:lnTo>
                  <a:pt x="17344" y="21600"/>
                </a:lnTo>
                <a:lnTo>
                  <a:pt x="10097" y="5257"/>
                </a:lnTo>
                <a:lnTo>
                  <a:pt x="14289" y="5257"/>
                </a:lnTo>
                <a:arcTo wR="8640" hR="21600" stAng="-4255873" swAng="-1133941"/>
                <a:lnTo>
                  <a:pt x="8704" y="1"/>
                </a:lnTo>
                <a:arcTo wR="864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10186"/>
                <a:lnTo>
                  <a:pt x="8704" y="1"/>
                </a:lnTo>
                <a:arcTo wR="8640" hR="21600" stAng="-5410186" swAng="-5389814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3" name="AutoShape 53"/>
          <p:cNvSpPr/>
          <p:nvPr/>
        </p:nvSpPr>
        <p:spPr>
          <a:xfrm>
            <a:off x="4724280" y="4191120"/>
            <a:ext cx="2743200" cy="504720"/>
          </a:xfrm>
          <a:custGeom>
            <a:avLst/>
            <a:gdLst>
              <a:gd name="textAreaLeft" fmla="*/ 548640 w 2743200"/>
              <a:gd name="textAreaRight" fmla="*/ 1662120 w 274320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8768" y="0"/>
                </a:lnTo>
                <a:arcTo wR="8640" hR="21600" stAng="-5400000" swAng="1144127"/>
                <a:lnTo>
                  <a:pt x="18609" y="5257"/>
                </a:lnTo>
                <a:lnTo>
                  <a:pt x="17344" y="21600"/>
                </a:lnTo>
                <a:lnTo>
                  <a:pt x="10097" y="5257"/>
                </a:lnTo>
                <a:lnTo>
                  <a:pt x="14289" y="5257"/>
                </a:lnTo>
                <a:arcTo wR="8640" hR="21600" stAng="-4255873" swAng="-1133941"/>
                <a:lnTo>
                  <a:pt x="8704" y="1"/>
                </a:lnTo>
                <a:arcTo wR="864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10186"/>
                <a:lnTo>
                  <a:pt x="8704" y="1"/>
                </a:lnTo>
                <a:arcTo wR="8640" hR="21600" stAng="-5410186" swAng="-5389814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4" name="AutoShape 54"/>
          <p:cNvSpPr/>
          <p:nvPr/>
        </p:nvSpPr>
        <p:spPr>
          <a:xfrm>
            <a:off x="4724280" y="4191120"/>
            <a:ext cx="3657600" cy="504720"/>
          </a:xfrm>
          <a:custGeom>
            <a:avLst/>
            <a:gdLst>
              <a:gd name="textAreaLeft" fmla="*/ 731520 w 3657600"/>
              <a:gd name="textAreaRight" fmla="*/ 2216160 w 365760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8768" y="0"/>
                </a:lnTo>
                <a:arcTo wR="8640" hR="21600" stAng="-5400000" swAng="1144127"/>
                <a:lnTo>
                  <a:pt x="18609" y="5257"/>
                </a:lnTo>
                <a:lnTo>
                  <a:pt x="17344" y="21600"/>
                </a:lnTo>
                <a:lnTo>
                  <a:pt x="10097" y="5257"/>
                </a:lnTo>
                <a:lnTo>
                  <a:pt x="14289" y="5257"/>
                </a:lnTo>
                <a:arcTo wR="8640" hR="21600" stAng="-4255873" swAng="-1133941"/>
                <a:lnTo>
                  <a:pt x="8704" y="1"/>
                </a:lnTo>
                <a:arcTo wR="864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10186"/>
                <a:lnTo>
                  <a:pt x="8704" y="1"/>
                </a:lnTo>
                <a:arcTo wR="8640" hR="21600" stAng="-5410186" swAng="-5389814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5" name="AutoShape 55"/>
          <p:cNvSpPr/>
          <p:nvPr/>
        </p:nvSpPr>
        <p:spPr>
          <a:xfrm>
            <a:off x="4724280" y="4191120"/>
            <a:ext cx="4267440" cy="504720"/>
          </a:xfrm>
          <a:custGeom>
            <a:avLst/>
            <a:gdLst>
              <a:gd name="textAreaLeft" fmla="*/ 853560 w 4267440"/>
              <a:gd name="textAreaRight" fmla="*/ 2585880 w 426744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8768" y="0"/>
                </a:lnTo>
                <a:arcTo wR="8640" hR="21600" stAng="-5400000" swAng="1144127"/>
                <a:lnTo>
                  <a:pt x="18609" y="5257"/>
                </a:lnTo>
                <a:lnTo>
                  <a:pt x="17344" y="21600"/>
                </a:lnTo>
                <a:lnTo>
                  <a:pt x="10097" y="5257"/>
                </a:lnTo>
                <a:lnTo>
                  <a:pt x="14289" y="5257"/>
                </a:lnTo>
                <a:arcTo wR="8640" hR="21600" stAng="-4255873" swAng="-1133941"/>
                <a:lnTo>
                  <a:pt x="8704" y="1"/>
                </a:lnTo>
                <a:arcTo wR="864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10186"/>
                <a:lnTo>
                  <a:pt x="8704" y="1"/>
                </a:lnTo>
                <a:arcTo wR="8640" hR="21600" stAng="-5410186" swAng="-5389814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6" name="AutoShape 56"/>
          <p:cNvSpPr/>
          <p:nvPr/>
        </p:nvSpPr>
        <p:spPr>
          <a:xfrm>
            <a:off x="152280" y="4114800"/>
            <a:ext cx="4191120" cy="2514600"/>
          </a:xfrm>
          <a:prstGeom prst="cloudCallout">
            <a:avLst>
              <a:gd name="adj1" fmla="val 53523"/>
              <a:gd name="adj2" fmla="val -74050"/>
            </a:avLst>
          </a:prstGeom>
          <a:solidFill>
            <a:srgbClr val="cfdbfd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Text Box 57"/>
          <p:cNvSpPr/>
          <p:nvPr/>
        </p:nvSpPr>
        <p:spPr>
          <a:xfrm>
            <a:off x="838080" y="4495680"/>
            <a:ext cx="2514600" cy="21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Tahoma"/>
              </a:rPr>
              <a:t>Remember:  The lead coefficient should be positive in standard form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Tahoma"/>
              </a:rPr>
              <a:t>To do this, multiply the polynomial by –1 using the distributive property.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8" name="Line 60"/>
          <p:cNvSpPr/>
          <p:nvPr/>
        </p:nvSpPr>
        <p:spPr>
          <a:xfrm>
            <a:off x="1523880" y="2514600"/>
            <a:ext cx="1676520" cy="10666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9" name="Line 61"/>
          <p:cNvSpPr/>
          <p:nvPr/>
        </p:nvSpPr>
        <p:spPr>
          <a:xfrm flipH="1">
            <a:off x="1599840" y="2514600"/>
            <a:ext cx="685800" cy="10666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0" name="Line 63"/>
          <p:cNvSpPr/>
          <p:nvPr/>
        </p:nvSpPr>
        <p:spPr>
          <a:xfrm flipH="1">
            <a:off x="2437920" y="2514600"/>
            <a:ext cx="685800" cy="10666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1" name="Line 64"/>
          <p:cNvSpPr/>
          <p:nvPr/>
        </p:nvSpPr>
        <p:spPr>
          <a:xfrm>
            <a:off x="3809880" y="2514600"/>
            <a:ext cx="0" cy="10666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2" name="Line 66"/>
          <p:cNvSpPr/>
          <p:nvPr/>
        </p:nvSpPr>
        <p:spPr>
          <a:xfrm>
            <a:off x="4952880" y="2666880"/>
            <a:ext cx="83844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3" name="Line 67"/>
          <p:cNvSpPr/>
          <p:nvPr/>
        </p:nvSpPr>
        <p:spPr>
          <a:xfrm flipH="1">
            <a:off x="5105160" y="2666880"/>
            <a:ext cx="68580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Line 68"/>
          <p:cNvSpPr/>
          <p:nvPr/>
        </p:nvSpPr>
        <p:spPr>
          <a:xfrm>
            <a:off x="6477120" y="2666880"/>
            <a:ext cx="152388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Line 69"/>
          <p:cNvSpPr/>
          <p:nvPr/>
        </p:nvSpPr>
        <p:spPr>
          <a:xfrm>
            <a:off x="7162920" y="2666880"/>
            <a:ext cx="22860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6" name="Line 70"/>
          <p:cNvSpPr/>
          <p:nvPr/>
        </p:nvSpPr>
        <p:spPr>
          <a:xfrm flipH="1">
            <a:off x="6629040" y="2666880"/>
            <a:ext cx="121932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305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55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405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8" dur="1" fill="hold">
                                    <p:stCondLst>
                                      <p:cond evt="end">
                                        <p:tn val="325"/>
                                      </p:cond>
                                    </p:stCondLst>
                                  </p:cTn>
                                  <p:tgtEl>
                                    <p:spTgt spid="3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755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8050"/>
                            </p:stCondLst>
                            <p:childTnLst>
                              <p:par>
                                <p:cTn id="334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7" dur="1" fill="hold">
                                    <p:stCondLst>
                                      <p:cond evt="end">
                                        <p:tn val="334"/>
                                      </p:cond>
                                    </p:stCondLst>
                                  </p:cTn>
                                  <p:tgtEl>
                                    <p:spTgt spid="3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155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205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6" dur="1" fill="hold">
                                    <p:stCondLst>
                                      <p:cond evt="end">
                                        <p:tn val="343"/>
                                      </p:cond>
                                    </p:stCondLst>
                                  </p:cTn>
                                  <p:tgtEl>
                                    <p:spTgt spid="3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55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605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5" dur="1" fill="hold">
                                    <p:stCondLst>
                                      <p:cond evt="end">
                                        <p:tn val="352"/>
                                      </p:cond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955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2005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355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4050"/>
                            </p:stCondLst>
                            <p:childTnLst>
                              <p:par>
                                <p:cTn id="368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1" dur="1" fill="hold">
                                    <p:stCondLst>
                                      <p:cond evt="end">
                                        <p:tn val="368"/>
                                      </p:cond>
                                    </p:stCondLst>
                                  </p:cTn>
                                  <p:tgtEl>
                                    <p:spTgt spid="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2755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8050"/>
                            </p:stCondLst>
                            <p:childTnLst>
                              <p:par>
                                <p:cTn id="377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0" dur="1" fill="hold">
                                    <p:stCondLst>
                                      <p:cond evt="end">
                                        <p:tn val="377"/>
                                      </p:cond>
                                    </p:stCondLst>
                                  </p:cTn>
                                  <p:tgtEl>
                                    <p:spTgt spid="3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3155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32049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9" dur="1" fill="hold">
                                    <p:stCondLst>
                                      <p:cond evt="end">
                                        <p:tn val="386"/>
                                      </p:cond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3555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3605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8" dur="1" fill="hold">
                                    <p:stCondLst>
                                      <p:cond evt="end">
                                        <p:tn val="395"/>
                                      </p:cond>
                                    </p:stCondLst>
                                  </p:cTn>
                                  <p:tgtEl>
                                    <p:spTgt spid="3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955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4005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7" dur="1" fill="hold">
                                    <p:stCondLst>
                                      <p:cond evt="end">
                                        <p:tn val="404"/>
                                      </p:cond>
                                    </p:stCondLst>
                                  </p:cTn>
                                  <p:tgtEl>
                                    <p:spTgt spid="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4355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44050"/>
                            </p:stCondLst>
                            <p:childTnLst>
                              <p:par>
                                <p:cTn id="413" nodeType="afterEffect" fill="hold" presetClass="entr" presetID="2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48550"/>
                            </p:stCondLst>
                            <p:childTnLst>
                              <p:par>
                                <p:cTn id="4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49050"/>
                            </p:stCondLst>
                            <p:childTnLst>
                              <p:par>
                                <p:cTn id="422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355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9" dur="1" fill="hold">
                                    <p:stCondLst>
                                      <p:cond evt="end">
                                        <p:tn val="426"/>
                                      </p:cond>
                                    </p:stCondLst>
                                  </p:cTn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605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655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8" dur="1" fill="hold">
                                    <p:stCondLst>
                                      <p:cond evt="end">
                                        <p:tn val="435"/>
                                      </p:cond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6105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6155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7" dur="1" fill="hold">
                                    <p:stCondLst>
                                      <p:cond evt="end">
                                        <p:tn val="444"/>
                                      </p:cond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6605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6655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6" dur="1" fill="hold">
                                    <p:stCondLst>
                                      <p:cond evt="end">
                                        <p:tn val="453"/>
                                      </p:cond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7105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7155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5" dur="1" fill="hold">
                                    <p:stCondLst>
                                      <p:cond evt="end">
                                        <p:tn val="462"/>
                                      </p:cond>
                                    </p:stCondLst>
                                  </p:cTn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7605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WordArt 2"/>
          <p:cNvSpPr txBox="1"/>
          <p:nvPr/>
        </p:nvSpPr>
        <p:spPr>
          <a:xfrm>
            <a:off x="609480" y="304920"/>
            <a:ext cx="52437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actic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914400" y="1676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rite the polynomials in standard form and identify the polynomial by degree and number of term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4"/>
              <p:cNvSpPr txBox="1"/>
              <p:nvPr/>
            </p:nvSpPr>
            <p:spPr>
              <a:xfrm>
                <a:off x="2590920" y="2743200"/>
                <a:ext cx="358776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1" name="Text Box 5"/>
          <p:cNvSpPr/>
          <p:nvPr/>
        </p:nvSpPr>
        <p:spPr>
          <a:xfrm>
            <a:off x="1905120" y="29718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1905120" y="4648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2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7"/>
              <p:cNvSpPr txBox="1"/>
              <p:nvPr/>
            </p:nvSpPr>
            <p:spPr>
              <a:xfrm>
                <a:off x="2666880" y="4495680"/>
                <a:ext cx="297180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665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WordArt 2"/>
          <p:cNvSpPr txBox="1"/>
          <p:nvPr/>
        </p:nvSpPr>
        <p:spPr>
          <a:xfrm rot="5400000">
            <a:off x="-1208880" y="2732760"/>
            <a:ext cx="4875480" cy="10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roblem 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3"/>
              <p:cNvSpPr txBox="1"/>
              <p:nvPr/>
            </p:nvSpPr>
            <p:spPr>
              <a:xfrm>
                <a:off x="2925720" y="533520"/>
                <a:ext cx="31384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4"/>
              <p:cNvSpPr txBox="1"/>
              <p:nvPr/>
            </p:nvSpPr>
            <p:spPr>
              <a:xfrm>
                <a:off x="3363840" y="1828800"/>
                <a:ext cx="21859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5"/>
              <p:cNvSpPr txBox="1"/>
              <p:nvPr/>
            </p:nvSpPr>
            <p:spPr>
              <a:xfrm>
                <a:off x="3124080" y="2666880"/>
                <a:ext cx="957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7"/>
              <p:cNvSpPr txBox="1"/>
              <p:nvPr/>
            </p:nvSpPr>
            <p:spPr>
              <a:xfrm>
                <a:off x="3962520" y="2666880"/>
                <a:ext cx="990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8"/>
              <p:cNvSpPr txBox="1"/>
              <p:nvPr/>
            </p:nvSpPr>
            <p:spPr>
              <a:xfrm>
                <a:off x="4876920" y="2743200"/>
                <a:ext cx="6490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10"/>
              <p:cNvSpPr txBox="1"/>
              <p:nvPr/>
            </p:nvSpPr>
            <p:spPr>
              <a:xfrm>
                <a:off x="2757600" y="3505320"/>
                <a:ext cx="31701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11"/>
              <p:cNvSpPr txBox="1"/>
              <p:nvPr/>
            </p:nvSpPr>
            <p:spPr>
              <a:xfrm>
                <a:off x="3367080" y="4419720"/>
                <a:ext cx="223992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Text Box 12"/>
          <p:cNvSpPr/>
          <p:nvPr/>
        </p:nvSpPr>
        <p:spPr>
          <a:xfrm>
            <a:off x="1981080" y="51814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s is a 3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r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degree, or cubic, tri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WordArt 2"/>
          <p:cNvSpPr txBox="1"/>
          <p:nvPr/>
        </p:nvSpPr>
        <p:spPr>
          <a:xfrm rot="5400000">
            <a:off x="-1208880" y="2732760"/>
            <a:ext cx="4875480" cy="10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roblem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3"/>
              <p:cNvSpPr txBox="1"/>
              <p:nvPr/>
            </p:nvSpPr>
            <p:spPr>
              <a:xfrm>
                <a:off x="3071880" y="533520"/>
                <a:ext cx="28447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4"/>
              <p:cNvSpPr txBox="1"/>
              <p:nvPr/>
            </p:nvSpPr>
            <p:spPr>
              <a:xfrm>
                <a:off x="3465360" y="1828800"/>
                <a:ext cx="19814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5"/>
              <p:cNvSpPr txBox="1"/>
              <p:nvPr/>
            </p:nvSpPr>
            <p:spPr>
              <a:xfrm>
                <a:off x="3260880" y="2666880"/>
                <a:ext cx="6825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6"/>
              <p:cNvSpPr txBox="1"/>
              <p:nvPr/>
            </p:nvSpPr>
            <p:spPr>
              <a:xfrm>
                <a:off x="3962520" y="2743200"/>
                <a:ext cx="8524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7"/>
              <p:cNvSpPr txBox="1"/>
              <p:nvPr/>
            </p:nvSpPr>
            <p:spPr>
              <a:xfrm>
                <a:off x="4876920" y="2743200"/>
                <a:ext cx="5461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Text Box 10"/>
          <p:cNvSpPr/>
          <p:nvPr/>
        </p:nvSpPr>
        <p:spPr>
          <a:xfrm>
            <a:off x="1905120" y="38862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s is a 2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degree, or quadratic, tri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1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2"/>
          <p:cNvSpPr txBox="1"/>
          <p:nvPr/>
        </p:nvSpPr>
        <p:spPr>
          <a:xfrm>
            <a:off x="609480" y="304920"/>
            <a:ext cx="52149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Objectiv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914400" y="2133720"/>
            <a:ext cx="7620120" cy="19378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40458c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 able to determine the degree of a poly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40458c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 able to classify a poly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40458c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 able to write a polynomial in standard for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2"/>
          <p:cNvSpPr txBox="1"/>
          <p:nvPr/>
        </p:nvSpPr>
        <p:spPr>
          <a:xfrm>
            <a:off x="609480" y="304920"/>
            <a:ext cx="536760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Vocabular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609480" y="14479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Mo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A number, a variable or the product of a number and one or more variab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609480" y="25146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Poly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A monomial or a sum of monomial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609480" y="3429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Bi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A polynomial with exactly two term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609480" y="4419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Tri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A polynomial with exactly three term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09480" y="548640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Coefficient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A numerical factor in a term of an algebraic expressio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675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6525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7525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875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2"/>
          <p:cNvSpPr txBox="1"/>
          <p:nvPr/>
        </p:nvSpPr>
        <p:spPr>
          <a:xfrm>
            <a:off x="609480" y="304920"/>
            <a:ext cx="536760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Vocabular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609480" y="18288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Degree of a mo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The sum of the exponents of all of the variables in the mo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609480" y="31240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Degree of a polynomial in one variable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The largest exponent of that variab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609480" y="44956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Standard form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When the terms of a polynomial are arranged from the largest exponent to the smallest exponent in decreasing ord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825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8775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WordArt 2"/>
          <p:cNvSpPr txBox="1"/>
          <p:nvPr/>
        </p:nvSpPr>
        <p:spPr>
          <a:xfrm>
            <a:off x="685800" y="380880"/>
            <a:ext cx="6224760" cy="11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Degree of a Monomi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600200" y="1676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hat is the degree of the monomial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3429000" y="2057400"/>
                <a:ext cx="12952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5" name="Text Box 5"/>
          <p:cNvSpPr/>
          <p:nvPr/>
        </p:nvSpPr>
        <p:spPr>
          <a:xfrm>
            <a:off x="685800" y="27432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degree of a monomial is the sum of the exponents of the variables in the mo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685800" y="3657600"/>
            <a:ext cx="8153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exponents of each variable are 4 and 2.  4+2 = 6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degree of the monomial is 6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monomial can be referred to as a sixth degree mo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675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175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2425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545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2"/>
          <p:cNvSpPr txBox="1"/>
          <p:nvPr/>
        </p:nvSpPr>
        <p:spPr>
          <a:xfrm>
            <a:off x="990720" y="380880"/>
            <a:ext cx="7386480" cy="10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Polynomials in One Varia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609480" y="18288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polynomial is a monomial or the sum of monomial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1219320" y="2438280"/>
                <a:ext cx="761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2743200" y="2438280"/>
                <a:ext cx="1371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6"/>
              <p:cNvSpPr txBox="1"/>
              <p:nvPr/>
            </p:nvSpPr>
            <p:spPr>
              <a:xfrm>
                <a:off x="4876920" y="2438280"/>
                <a:ext cx="2546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Text Box 7"/>
          <p:cNvSpPr/>
          <p:nvPr/>
        </p:nvSpPr>
        <p:spPr>
          <a:xfrm>
            <a:off x="609480" y="3200400"/>
            <a:ext cx="82296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ach monomial in a polynomial is a term of the poly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number factor of a term is called the coefficient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coefficient of the first term in a polynomial is the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lead coefficien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polynomial with two terms is called a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bi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polynomial with three terms is called a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tri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575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4075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8575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3075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675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805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67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3775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3"/>
          <p:cNvSpPr txBox="1"/>
          <p:nvPr/>
        </p:nvSpPr>
        <p:spPr>
          <a:xfrm>
            <a:off x="990720" y="380880"/>
            <a:ext cx="7386480" cy="10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Polynomials in One Varia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4"/>
              <p:cNvSpPr txBox="1"/>
              <p:nvPr/>
            </p:nvSpPr>
            <p:spPr>
              <a:xfrm>
                <a:off x="552600" y="3352680"/>
                <a:ext cx="1180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5"/>
              <p:cNvSpPr txBox="1"/>
              <p:nvPr/>
            </p:nvSpPr>
            <p:spPr>
              <a:xfrm>
                <a:off x="609480" y="5105520"/>
                <a:ext cx="1371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6"/>
              <p:cNvSpPr txBox="1"/>
              <p:nvPr/>
            </p:nvSpPr>
            <p:spPr>
              <a:xfrm>
                <a:off x="533520" y="4114800"/>
                <a:ext cx="2546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Text Box 7"/>
          <p:cNvSpPr/>
          <p:nvPr/>
        </p:nvSpPr>
        <p:spPr>
          <a:xfrm>
            <a:off x="685800" y="16765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degree of a polynomial in one variable is the largest exponent of that variab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8"/>
              <p:cNvSpPr txBox="1"/>
              <p:nvPr/>
            </p:nvSpPr>
            <p:spPr>
              <a:xfrm>
                <a:off x="914400" y="2590920"/>
                <a:ext cx="4730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Text Box 9"/>
          <p:cNvSpPr/>
          <p:nvPr/>
        </p:nvSpPr>
        <p:spPr>
          <a:xfrm>
            <a:off x="1523880" y="2743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 constant has no variable.  It is a 0 degree polynomial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1600200" y="34290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is is a 1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st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.  1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st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s are </a:t>
            </a:r>
            <a:r>
              <a:rPr b="1" i="1" lang="en-US" sz="1800" spc="-1" strike="noStrike">
                <a:solidFill>
                  <a:srgbClr val="40458c"/>
                </a:solidFill>
                <a:latin typeface="Tahoma"/>
              </a:rPr>
              <a:t>linear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2971800" y="41148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is is a 2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nd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.  2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nd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s are </a:t>
            </a:r>
            <a:r>
              <a:rPr b="1" i="1" lang="en-US" sz="1800" spc="-1" strike="noStrike">
                <a:solidFill>
                  <a:srgbClr val="40458c"/>
                </a:solidFill>
                <a:latin typeface="Tahoma"/>
              </a:rPr>
              <a:t>quadratic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2133720" y="51814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is is a 3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rd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.  3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rd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s are </a:t>
            </a:r>
            <a:r>
              <a:rPr b="1" i="1" lang="en-US" sz="1800" spc="-1" strike="noStrike">
                <a:solidFill>
                  <a:srgbClr val="40458c"/>
                </a:solidFill>
                <a:latin typeface="Tahoma"/>
              </a:rPr>
              <a:t>cubic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25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77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22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30475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4975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3475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7975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3"/>
          <p:cNvSpPr/>
          <p:nvPr/>
        </p:nvSpPr>
        <p:spPr>
          <a:xfrm>
            <a:off x="762120" y="1752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lassify the polynomials by degree and number of term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WordArt 4"/>
          <p:cNvSpPr txBox="1"/>
          <p:nvPr/>
        </p:nvSpPr>
        <p:spPr>
          <a:xfrm>
            <a:off x="609480" y="380880"/>
            <a:ext cx="459576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ampl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219320" y="26668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olynomia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609480" y="3124080"/>
            <a:ext cx="3812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7"/>
              <p:cNvSpPr txBox="1"/>
              <p:nvPr/>
            </p:nvSpPr>
            <p:spPr>
              <a:xfrm>
                <a:off x="1676520" y="3124080"/>
                <a:ext cx="293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8"/>
              <p:cNvSpPr txBox="1"/>
              <p:nvPr/>
            </p:nvSpPr>
            <p:spPr>
              <a:xfrm>
                <a:off x="1219320" y="3886200"/>
                <a:ext cx="1076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9"/>
              <p:cNvSpPr txBox="1"/>
              <p:nvPr/>
            </p:nvSpPr>
            <p:spPr>
              <a:xfrm>
                <a:off x="1203480" y="4692600"/>
                <a:ext cx="12398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10"/>
              <p:cNvSpPr txBox="1"/>
              <p:nvPr/>
            </p:nvSpPr>
            <p:spPr>
              <a:xfrm>
                <a:off x="914400" y="5486400"/>
                <a:ext cx="18604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Text Box 11"/>
          <p:cNvSpPr/>
          <p:nvPr/>
        </p:nvSpPr>
        <p:spPr>
          <a:xfrm>
            <a:off x="2971800" y="2666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egre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4191120" y="2362320"/>
            <a:ext cx="17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lassify by degre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6400800" y="21337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lassify by number of term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3124080" y="3124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Zer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Line 15"/>
          <p:cNvSpPr/>
          <p:nvPr/>
        </p:nvSpPr>
        <p:spPr>
          <a:xfrm>
            <a:off x="914400" y="3048120"/>
            <a:ext cx="76201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0" y="3124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onstan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6705720" y="3124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onomia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3124080" y="3962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ir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4572000" y="39625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Linea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6705720" y="3962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inomia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3124080" y="48006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con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4572000" y="4800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Quadratic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6" name="Text Box 23"/>
          <p:cNvSpPr/>
          <p:nvPr/>
        </p:nvSpPr>
        <p:spPr>
          <a:xfrm>
            <a:off x="6705720" y="4800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inomia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7" name="Text Box 24"/>
          <p:cNvSpPr/>
          <p:nvPr/>
        </p:nvSpPr>
        <p:spPr>
          <a:xfrm>
            <a:off x="3124080" y="5562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ir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Text Box 25"/>
          <p:cNvSpPr/>
          <p:nvPr/>
        </p:nvSpPr>
        <p:spPr>
          <a:xfrm>
            <a:off x="4572000" y="5562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ubic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9" name="Text Box 26"/>
          <p:cNvSpPr/>
          <p:nvPr/>
        </p:nvSpPr>
        <p:spPr>
          <a:xfrm>
            <a:off x="6705720" y="5486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rinomia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Line 27"/>
          <p:cNvSpPr/>
          <p:nvPr/>
        </p:nvSpPr>
        <p:spPr>
          <a:xfrm>
            <a:off x="2819520" y="3048120"/>
            <a:ext cx="0" cy="304776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Line 28"/>
          <p:cNvSpPr/>
          <p:nvPr/>
        </p:nvSpPr>
        <p:spPr>
          <a:xfrm>
            <a:off x="4267080" y="3048120"/>
            <a:ext cx="0" cy="304776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2" name="Line 29"/>
          <p:cNvSpPr/>
          <p:nvPr/>
        </p:nvSpPr>
        <p:spPr>
          <a:xfrm>
            <a:off x="6095880" y="3048120"/>
            <a:ext cx="0" cy="304776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Line 30"/>
          <p:cNvSpPr/>
          <p:nvPr/>
        </p:nvSpPr>
        <p:spPr>
          <a:xfrm>
            <a:off x="914400" y="3657600"/>
            <a:ext cx="76201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Line 31"/>
          <p:cNvSpPr/>
          <p:nvPr/>
        </p:nvSpPr>
        <p:spPr>
          <a:xfrm>
            <a:off x="914400" y="4572000"/>
            <a:ext cx="76201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5" name="Line 32"/>
          <p:cNvSpPr/>
          <p:nvPr/>
        </p:nvSpPr>
        <p:spPr>
          <a:xfrm>
            <a:off x="914400" y="5334120"/>
            <a:ext cx="76201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025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7525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8025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8525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9025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2525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3025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3525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4025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4525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25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5525"/>
                            </p:stCondLst>
                            <p:childTnLst>
                              <p:par>
                                <p:cTn id="2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6024"/>
                            </p:stCondLst>
                            <p:childTnLst>
                              <p:par>
                                <p:cTn id="2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6525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7025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7525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8025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2525"/>
                            </p:stCondLst>
                            <p:childTnLst>
                              <p:par>
                                <p:cTn id="251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7025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31525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36025"/>
                            </p:stCondLst>
                            <p:childTnLst>
                              <p:par>
                                <p:cTn id="263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40525"/>
                            </p:stCondLst>
                            <p:childTnLst>
                              <p:par>
                                <p:cTn id="267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45025"/>
                            </p:stCondLst>
                            <p:childTnLst>
                              <p:par>
                                <p:cTn id="271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49525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4025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8525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63025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68525"/>
                            </p:stCondLst>
                            <p:childTnLst>
                              <p:par>
                                <p:cTn id="291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WordArt 2"/>
          <p:cNvSpPr txBox="1"/>
          <p:nvPr/>
        </p:nvSpPr>
        <p:spPr>
          <a:xfrm>
            <a:off x="609480" y="380880"/>
            <a:ext cx="580068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Standard For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914400" y="2438280"/>
            <a:ext cx="78487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o rewrite a polynomial in standard form, rearrange the terms of the polynomial starting with the largest degree term and ending with the lowest degree term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leading coefficien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the coefficient of the first term in a polynomial written in standard form, should be positiv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17:25:23Z</dcterms:created>
  <dc:creator>Curriculum and Professional Development</dc:creator>
  <dc:description/>
  <dc:language>en-US</dc:language>
  <cp:lastModifiedBy>LEGION</cp:lastModifiedBy>
  <dcterms:modified xsi:type="dcterms:W3CDTF">2017-07-06T06:36:43Z</dcterms:modified>
  <cp:revision>11</cp:revision>
  <dc:subject/>
  <dc:title>PowerPoint Presentation</dc:title>
</cp:coreProperties>
</file>