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B7BA-0C8A-46A3-8982-97DCBF15226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Polynomi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polynomials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  The lead coefficient should be positive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o this, multiply the polynomial by –1 using the distributive propert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xampl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rite the polynomials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Remember:  The lead coefficient should be positive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do this, multiply the polynomial by –1 using the distributive property.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polynomials in standard form and identify the polynomial by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actic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rite the polynomials in standard form and identify the polynomial by degree and number of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1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2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3rd degree, or cubic,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blem 1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3rd degree, or cubic,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2nd  degree, or quadratic,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blem 2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2nd  degree, or quadratic,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determine the degree of a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classify a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write a polynomial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Objectiv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determine the degree of a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classify a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write a polynomial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:  A number, a variable or the product of a number and one or more vari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:  A monomial or a sum of mo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:  A polynomial with exactly two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:  A polynomial with exactly thre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efficient:  A numerical factor in a term of an algebraic ex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Vocabular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Monomial:  A number, a variable or the product of a number and one or more variable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:  A monomial or a sum of monomial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inomial:  A polynomial with exactly two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rinomial:  A polynomial with exactly three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oefficient:  A numerical factor in a term of an algebraic express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monomial:  The sum of the exponents of all of the variables in th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polynomial in one variable:  The largest exponent of tha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:  When the terms of a polynomial are arranged from the largest exponent to the smallest exponent in decreasing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Vocabular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monomial:  The sum of the exponents of all of the variables in th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polynomial in one variable:  The largest exponent of that variabl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tandard form:  When the terms of a polynomial are arranged from the largest exponent to the smallest exponent in decreasing orde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egree of the monomi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a monomial is the sum of the exponents of the variables in th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ponents of each variable are 4 and 2.  4+2 =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the monomial is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nomial can be referred to as a sixth degre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Mo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hat is the degree of the monomial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a monomial is the sum of the exponents of the variables in th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exponents of each variable are 4 and 2.  4+2 = 6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the monomial is 6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monomial can be referred to as a sixth degre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in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is a monomial or the sum of mo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monomial in a polynomial is a term of th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factor of a term is called the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efficient of the first term in a polynomial is the lead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with two terms is called a b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with three terms is called a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s in One Variab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is a monomial or the sum of monomi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ach monomial in a polynomial is a term of the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number factor of a term is called the coefficient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coefficient of the first term in a polynomial is the lead coefficient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with two terms is called a b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with three terms is called a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in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a polynomial in one variable is the largest exponent of tha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stant has no variable.  It is a 0 degre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1st degree polynomial.  1st degree polynomials are lin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2nd degree polynomial.  2nd degree polynomials are quadra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3rd degree polynomial.  3rd degree polynomials are cub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s in One Variab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a polynomial in one variable is the largest exponent of that variabl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constant has no variable.  It is a 0 degree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1st degree polynomial.  1st degree polynomials are linea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2nd degree polynomial.  2nd degree polynomials are quadrati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3rd degree polynomial.  3rd degree polynomials are cubi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the polynomials by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by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by number of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n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the polynomials by degree and number of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Poly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a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d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Degre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by degre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by number of term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Zero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onsta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Mo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Firs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econd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Quadrat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Third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ub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Tr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write a polynomial in standard form, rearrange the terms of the polynomial starting with the largest degree term and ending with the lowest degree te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ading coefficient, the coefficient of the first term in a polynomial written in standard form, should be posi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tandard For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rewrite a polynomial in standard form, rearrange the terms of the polynomial starting with the largest degree term and ending with the lowest degree term.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leading coefficient, the coefficient of the first term in a polynomial written in standard form, should be positiv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685D-59F1-40A7-B0BF-2C454A34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FBC1-BC09-4C6C-A962-98245C47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C8F-04C8-4819-B83C-D3747B37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EEAB-E501-41E8-8CDE-920D1AAC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4386-E1F7-44B4-AC8A-EAA04BEB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627D-BD6E-441C-8C0B-04537D18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1717-3FC1-4A19-BD0D-C3C65436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7723-9DFE-446C-9E9A-75A3F519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5676-772C-4C1D-AEC0-D521E5CA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C525-0570-4B00-BFC6-9A0D232E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C6D9-B043-4AB8-8194-649A7A64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8E32-93D4-4894-81CE-9EA5E095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159C-0F3F-4171-9E99-4BEE5811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1A16-9E61-410C-B2F9-EFA0D823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ED66-36CB-40EC-A117-4830E42E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805E-903F-409A-A43F-3B6FC3F4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3DF7-1C53-4F54-A7FC-457B5AEC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12E5-2800-44EE-A3DD-8265EA0D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4C7-37EC-403B-81D0-0001DABF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A0CD-D0C9-477B-9379-FC025030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0EA-7342-44AF-B19E-623D4AAE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E81-D66E-416E-BA00-D77E682A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9C3C-83CA-4CFF-BD34-A3C89218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910B-6320-4923-8405-4E00B4F9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0EE2-AFCB-4939-98F9-434175880B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8705-FBEC-4026-A458-E9841EC7BC1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3"/>
          <p:cNvSpPr txBox="1"/>
          <p:nvPr/>
        </p:nvSpPr>
        <p:spPr>
          <a:xfrm>
            <a:off x="914400" y="1828800"/>
            <a:ext cx="59436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lynomial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0" name="Object 2"/>
              <p:cNvSpPr txBox="1"/>
              <p:nvPr/>
            </p:nvSpPr>
            <p:spPr>
              <a:xfrm>
                <a:off x="1295280" y="2209680"/>
                <a:ext cx="2652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WordArt 3"/>
          <p:cNvSpPr txBox="1"/>
          <p:nvPr/>
        </p:nvSpPr>
        <p:spPr>
          <a:xfrm>
            <a:off x="609480" y="30492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amples</a:t>
            </a:r>
            <a:endParaRPr b="0" lang="en-US" sz="2400" spc="1" strike="noStrike">
              <a:ln w="28440">
                <a:solidFill>
                  <a:srgbClr val="660066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7"/>
              <p:cNvSpPr txBox="1"/>
              <p:nvPr/>
            </p:nvSpPr>
            <p:spPr>
              <a:xfrm>
                <a:off x="2666880" y="3352680"/>
                <a:ext cx="7765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8"/>
              <p:cNvSpPr txBox="1"/>
              <p:nvPr/>
            </p:nvSpPr>
            <p:spPr>
              <a:xfrm>
                <a:off x="1371600" y="3276720"/>
                <a:ext cx="6462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9"/>
              <p:cNvSpPr txBox="1"/>
              <p:nvPr/>
            </p:nvSpPr>
            <p:spPr>
              <a:xfrm>
                <a:off x="1981080" y="3276720"/>
                <a:ext cx="7444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10"/>
              <p:cNvSpPr txBox="1"/>
              <p:nvPr/>
            </p:nvSpPr>
            <p:spPr>
              <a:xfrm>
                <a:off x="3429000" y="3352680"/>
                <a:ext cx="5824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Rectangle 12"/>
          <p:cNvSpPr/>
          <p:nvPr/>
        </p:nvSpPr>
        <p:spPr>
          <a:xfrm>
            <a:off x="1219320" y="2133720"/>
            <a:ext cx="2819160" cy="19047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1219320" y="16002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rite the polynomials in standard for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4343400" y="2133720"/>
            <a:ext cx="4267080" cy="426708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15"/>
              <p:cNvSpPr txBox="1"/>
              <p:nvPr/>
            </p:nvSpPr>
            <p:spPr>
              <a:xfrm>
                <a:off x="4724280" y="2362320"/>
                <a:ext cx="35308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0"/>
              <p:cNvSpPr txBox="1"/>
              <p:nvPr/>
            </p:nvSpPr>
            <p:spPr>
              <a:xfrm>
                <a:off x="5257800" y="3200400"/>
                <a:ext cx="939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1"/>
              <p:cNvSpPr txBox="1"/>
              <p:nvPr/>
            </p:nvSpPr>
            <p:spPr>
              <a:xfrm>
                <a:off x="4648320" y="3200400"/>
                <a:ext cx="7444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2"/>
              <p:cNvSpPr txBox="1"/>
              <p:nvPr/>
            </p:nvSpPr>
            <p:spPr>
              <a:xfrm>
                <a:off x="7620120" y="3276720"/>
                <a:ext cx="5824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3"/>
              <p:cNvSpPr txBox="1"/>
              <p:nvPr/>
            </p:nvSpPr>
            <p:spPr>
              <a:xfrm>
                <a:off x="6858000" y="3276720"/>
                <a:ext cx="7761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4"/>
              <p:cNvSpPr txBox="1"/>
              <p:nvPr/>
            </p:nvSpPr>
            <p:spPr>
              <a:xfrm>
                <a:off x="6095880" y="3200400"/>
                <a:ext cx="938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30"/>
              <p:cNvSpPr txBox="1"/>
              <p:nvPr/>
            </p:nvSpPr>
            <p:spPr>
              <a:xfrm>
                <a:off x="4419720" y="4648320"/>
                <a:ext cx="4114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33"/>
              <p:cNvSpPr txBox="1"/>
              <p:nvPr/>
            </p:nvSpPr>
            <p:spPr>
              <a:xfrm>
                <a:off x="5257800" y="5562720"/>
                <a:ext cx="907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4"/>
              <p:cNvSpPr txBox="1"/>
              <p:nvPr/>
            </p:nvSpPr>
            <p:spPr>
              <a:xfrm>
                <a:off x="4776840" y="5562720"/>
                <a:ext cx="453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5"/>
              <p:cNvSpPr txBox="1"/>
              <p:nvPr/>
            </p:nvSpPr>
            <p:spPr>
              <a:xfrm>
                <a:off x="7588080" y="5638680"/>
                <a:ext cx="615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36"/>
              <p:cNvSpPr txBox="1"/>
              <p:nvPr/>
            </p:nvSpPr>
            <p:spPr>
              <a:xfrm>
                <a:off x="6842160" y="5638680"/>
                <a:ext cx="7761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37"/>
              <p:cNvSpPr txBox="1"/>
              <p:nvPr/>
            </p:nvSpPr>
            <p:spPr>
              <a:xfrm>
                <a:off x="6095880" y="5562720"/>
                <a:ext cx="906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AutoShape 51"/>
          <p:cNvSpPr/>
          <p:nvPr/>
        </p:nvSpPr>
        <p:spPr>
          <a:xfrm>
            <a:off x="4724280" y="4191120"/>
            <a:ext cx="609840" cy="504720"/>
          </a:xfrm>
          <a:custGeom>
            <a:avLst/>
            <a:gdLst>
              <a:gd name="textAreaLeft" fmla="*/ 122040 w 609840"/>
              <a:gd name="textAreaRight" fmla="*/ 369720 w 60984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AutoShape 52"/>
          <p:cNvSpPr/>
          <p:nvPr/>
        </p:nvSpPr>
        <p:spPr>
          <a:xfrm>
            <a:off x="4724280" y="4191120"/>
            <a:ext cx="1600200" cy="533160"/>
          </a:xfrm>
          <a:custGeom>
            <a:avLst/>
            <a:gdLst>
              <a:gd name="textAreaLeft" fmla="*/ 320040 w 1600200"/>
              <a:gd name="textAreaRight" fmla="*/ 969480 w 16002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AutoShape 53"/>
          <p:cNvSpPr/>
          <p:nvPr/>
        </p:nvSpPr>
        <p:spPr>
          <a:xfrm>
            <a:off x="4724280" y="4191120"/>
            <a:ext cx="2743200" cy="504720"/>
          </a:xfrm>
          <a:custGeom>
            <a:avLst/>
            <a:gdLst>
              <a:gd name="textAreaLeft" fmla="*/ 548640 w 2743200"/>
              <a:gd name="textAreaRight" fmla="*/ 1662120 w 27432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AutoShape 54"/>
          <p:cNvSpPr/>
          <p:nvPr/>
        </p:nvSpPr>
        <p:spPr>
          <a:xfrm>
            <a:off x="4724280" y="4191120"/>
            <a:ext cx="3657600" cy="504720"/>
          </a:xfrm>
          <a:custGeom>
            <a:avLst/>
            <a:gdLst>
              <a:gd name="textAreaLeft" fmla="*/ 731520 w 3657600"/>
              <a:gd name="textAreaRight" fmla="*/ 2216160 w 36576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AutoShape 55"/>
          <p:cNvSpPr/>
          <p:nvPr/>
        </p:nvSpPr>
        <p:spPr>
          <a:xfrm>
            <a:off x="4724280" y="4191120"/>
            <a:ext cx="4267440" cy="504720"/>
          </a:xfrm>
          <a:custGeom>
            <a:avLst/>
            <a:gdLst>
              <a:gd name="textAreaLeft" fmla="*/ 853560 w 4267440"/>
              <a:gd name="textAreaRight" fmla="*/ 2585880 w 426744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AutoShape 56"/>
          <p:cNvSpPr/>
          <p:nvPr/>
        </p:nvSpPr>
        <p:spPr>
          <a:xfrm>
            <a:off x="152280" y="4114800"/>
            <a:ext cx="4191120" cy="2514600"/>
          </a:xfrm>
          <a:prstGeom prst="cloudCallout">
            <a:avLst>
              <a:gd name="adj1" fmla="val 53523"/>
              <a:gd name="adj2" fmla="val -74050"/>
            </a:avLst>
          </a:prstGeom>
          <a:solidFill>
            <a:srgbClr val="cfdbfd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Text Box 57"/>
          <p:cNvSpPr/>
          <p:nvPr/>
        </p:nvSpPr>
        <p:spPr>
          <a:xfrm>
            <a:off x="838080" y="4495680"/>
            <a:ext cx="2514600" cy="21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Remember:  The lead coefficient should be positive in standard form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To do this, multiply the polynomial by –1 using the distributive property.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Line 60"/>
          <p:cNvSpPr/>
          <p:nvPr/>
        </p:nvSpPr>
        <p:spPr>
          <a:xfrm>
            <a:off x="1523880" y="2514600"/>
            <a:ext cx="167652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Line 61"/>
          <p:cNvSpPr/>
          <p:nvPr/>
        </p:nvSpPr>
        <p:spPr>
          <a:xfrm flipH="1">
            <a:off x="1599840" y="2514600"/>
            <a:ext cx="68580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Line 63"/>
          <p:cNvSpPr/>
          <p:nvPr/>
        </p:nvSpPr>
        <p:spPr>
          <a:xfrm flipH="1">
            <a:off x="2437920" y="2514600"/>
            <a:ext cx="68580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Line 64"/>
          <p:cNvSpPr/>
          <p:nvPr/>
        </p:nvSpPr>
        <p:spPr>
          <a:xfrm>
            <a:off x="3809880" y="2514600"/>
            <a:ext cx="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Line 66"/>
          <p:cNvSpPr/>
          <p:nvPr/>
        </p:nvSpPr>
        <p:spPr>
          <a:xfrm>
            <a:off x="4952880" y="2666880"/>
            <a:ext cx="83844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Line 67"/>
          <p:cNvSpPr/>
          <p:nvPr/>
        </p:nvSpPr>
        <p:spPr>
          <a:xfrm flipH="1">
            <a:off x="5105160" y="2666880"/>
            <a:ext cx="68580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Line 68"/>
          <p:cNvSpPr/>
          <p:nvPr/>
        </p:nvSpPr>
        <p:spPr>
          <a:xfrm>
            <a:off x="6477120" y="2666880"/>
            <a:ext cx="152388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Line 69"/>
          <p:cNvSpPr/>
          <p:nvPr/>
        </p:nvSpPr>
        <p:spPr>
          <a:xfrm>
            <a:off x="7162920" y="2666880"/>
            <a:ext cx="22860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Line 70"/>
          <p:cNvSpPr/>
          <p:nvPr/>
        </p:nvSpPr>
        <p:spPr>
          <a:xfrm flipH="1">
            <a:off x="6629040" y="2666880"/>
            <a:ext cx="121932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8" dur="1" fill="hold">
                                    <p:stCondLst>
                                      <p:cond evt="end">
                                        <p:tn val="325"/>
                                      </p:cond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805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155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205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evt="end">
                                        <p:tn val="343"/>
                                      </p:cond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55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605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evt="end">
                                        <p:tn val="352"/>
                                      </p:cond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955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5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355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405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evt="end">
                                        <p:tn val="368"/>
                                      </p:cond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755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805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evt="end">
                                        <p:tn val="377"/>
                                      </p:cond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3155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2049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evt="end">
                                        <p:tn val="386"/>
                                      </p:cond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555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605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evt="end">
                                        <p:tn val="395"/>
                                      </p:cond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955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005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7" dur="1" fill="hold">
                                    <p:stCondLst>
                                      <p:cond evt="end">
                                        <p:tn val="404"/>
                                      </p:cond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4355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4050"/>
                            </p:stCondLst>
                            <p:childTnLst>
                              <p:par>
                                <p:cTn id="413" nodeType="after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4855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905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355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evt="end">
                                        <p:tn val="426"/>
                                      </p:cond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605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655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evt="end">
                                        <p:tn val="435"/>
                                      </p:cond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6105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6155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evt="end">
                                        <p:tn val="444"/>
                                      </p:cond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6605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6655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6" dur="1" fill="hold">
                                    <p:stCondLst>
                                      <p:cond evt="end">
                                        <p:tn val="453"/>
                                      </p:cond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7105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7155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evt="end">
                                        <p:tn val="462"/>
                                      </p:cond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7605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WordArt 2"/>
          <p:cNvSpPr txBox="1"/>
          <p:nvPr/>
        </p:nvSpPr>
        <p:spPr>
          <a:xfrm>
            <a:off x="609480" y="304920"/>
            <a:ext cx="5243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actic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914400" y="1676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rite the polynomials in standard form and identify the polynomial by degree and number of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4"/>
              <p:cNvSpPr txBox="1"/>
              <p:nvPr/>
            </p:nvSpPr>
            <p:spPr>
              <a:xfrm>
                <a:off x="2590920" y="2743200"/>
                <a:ext cx="35877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1" name="Text Box 5"/>
          <p:cNvSpPr/>
          <p:nvPr/>
        </p:nvSpPr>
        <p:spPr>
          <a:xfrm>
            <a:off x="1905120" y="2971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905120" y="4648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7"/>
              <p:cNvSpPr txBox="1"/>
              <p:nvPr/>
            </p:nvSpPr>
            <p:spPr>
              <a:xfrm>
                <a:off x="2666880" y="4495680"/>
                <a:ext cx="29718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665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2"/>
          <p:cNvSpPr txBox="1"/>
          <p:nvPr/>
        </p:nvSpPr>
        <p:spPr>
          <a:xfrm rot="5400000">
            <a:off x="-1208880" y="2732760"/>
            <a:ext cx="4875480" cy="10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2925720" y="533520"/>
                <a:ext cx="31384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3363840" y="1828800"/>
                <a:ext cx="2185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5"/>
              <p:cNvSpPr txBox="1"/>
              <p:nvPr/>
            </p:nvSpPr>
            <p:spPr>
              <a:xfrm>
                <a:off x="3124080" y="2666880"/>
                <a:ext cx="957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3962520" y="2666880"/>
                <a:ext cx="990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8"/>
              <p:cNvSpPr txBox="1"/>
              <p:nvPr/>
            </p:nvSpPr>
            <p:spPr>
              <a:xfrm>
                <a:off x="4876920" y="2743200"/>
                <a:ext cx="6490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0"/>
              <p:cNvSpPr txBox="1"/>
              <p:nvPr/>
            </p:nvSpPr>
            <p:spPr>
              <a:xfrm>
                <a:off x="2757600" y="3505320"/>
                <a:ext cx="3170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1"/>
              <p:cNvSpPr txBox="1"/>
              <p:nvPr/>
            </p:nvSpPr>
            <p:spPr>
              <a:xfrm>
                <a:off x="3367080" y="4419720"/>
                <a:ext cx="2239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Text Box 12"/>
          <p:cNvSpPr/>
          <p:nvPr/>
        </p:nvSpPr>
        <p:spPr>
          <a:xfrm>
            <a:off x="1981080" y="51814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3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, or cubic, 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WordArt 2"/>
          <p:cNvSpPr txBox="1"/>
          <p:nvPr/>
        </p:nvSpPr>
        <p:spPr>
          <a:xfrm rot="5400000">
            <a:off x="-1208880" y="2732760"/>
            <a:ext cx="4875480" cy="10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3"/>
              <p:cNvSpPr txBox="1"/>
              <p:nvPr/>
            </p:nvSpPr>
            <p:spPr>
              <a:xfrm>
                <a:off x="3071880" y="533520"/>
                <a:ext cx="2844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3465360" y="1828800"/>
                <a:ext cx="1981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5"/>
              <p:cNvSpPr txBox="1"/>
              <p:nvPr/>
            </p:nvSpPr>
            <p:spPr>
              <a:xfrm>
                <a:off x="3260880" y="2666880"/>
                <a:ext cx="682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3962520" y="2743200"/>
                <a:ext cx="8524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7"/>
              <p:cNvSpPr txBox="1"/>
              <p:nvPr/>
            </p:nvSpPr>
            <p:spPr>
              <a:xfrm>
                <a:off x="4876920" y="2743200"/>
                <a:ext cx="546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Text Box 10"/>
          <p:cNvSpPr/>
          <p:nvPr/>
        </p:nvSpPr>
        <p:spPr>
          <a:xfrm>
            <a:off x="1905120" y="3886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2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degree, or quadratic, 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609480" y="304920"/>
            <a:ext cx="52149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bjectiv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14400" y="2133720"/>
            <a:ext cx="7620120" cy="19378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determine the degree of a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classify a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write a polynomial in standard for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2"/>
          <p:cNvSpPr txBox="1"/>
          <p:nvPr/>
        </p:nvSpPr>
        <p:spPr>
          <a:xfrm>
            <a:off x="609480" y="304920"/>
            <a:ext cx="536760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ocabula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609480" y="14479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Mo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number, a variable or the product of a number and one or more vari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609480" y="2514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Poly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monomial or a sum of monomial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609480" y="3429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Bi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polynomial with exactly two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09480" y="4419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Tri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polynomial with exactly three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09480" y="54864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Coefficient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numerical factor in a term of an algebraic express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675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6525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7525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875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2"/>
          <p:cNvSpPr txBox="1"/>
          <p:nvPr/>
        </p:nvSpPr>
        <p:spPr>
          <a:xfrm>
            <a:off x="609480" y="304920"/>
            <a:ext cx="536760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ocabula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09480" y="1828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Degree of a mo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The sum of the exponents of all of the variables in th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09480" y="31240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Degree of a polynomial in one variable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The largest exponent of that vari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09480" y="4495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Standard form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When the terms of a polynomial are arranged from the largest exponent to the smallest exponent in decreasing ord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825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8775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2"/>
          <p:cNvSpPr txBox="1"/>
          <p:nvPr/>
        </p:nvSpPr>
        <p:spPr>
          <a:xfrm>
            <a:off x="685800" y="380880"/>
            <a:ext cx="622476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Degree of a Monomi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600200" y="1676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at is the degree of the monomial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3429000" y="2057400"/>
                <a:ext cx="1295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5" name="Text Box 5"/>
          <p:cNvSpPr/>
          <p:nvPr/>
        </p:nvSpPr>
        <p:spPr>
          <a:xfrm>
            <a:off x="685800" y="27432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a monomial is the sum of the exponents of the variables in th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685800" y="3657600"/>
            <a:ext cx="8153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exponents of each variable are 4 and 2.  4+2 = 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the monomial is 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monomial can be referred to as a sixth degre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675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175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2425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45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990720" y="380880"/>
            <a:ext cx="73864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olynomials in One Vari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609480" y="1828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is a monomial or the sum of monomia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1219320" y="2438280"/>
                <a:ext cx="761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2743200" y="2438280"/>
                <a:ext cx="1371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4876920" y="2438280"/>
                <a:ext cx="254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 Box 7"/>
          <p:cNvSpPr/>
          <p:nvPr/>
        </p:nvSpPr>
        <p:spPr>
          <a:xfrm>
            <a:off x="609480" y="3200400"/>
            <a:ext cx="82296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ach monomial in a polynomial is a term of the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number factor of a term is called the coefficien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coefficient of the first term in a polynomial is th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lead coefficien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with two terms is called a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b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with three terms is called a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8575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075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675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805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67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377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3"/>
          <p:cNvSpPr txBox="1"/>
          <p:nvPr/>
        </p:nvSpPr>
        <p:spPr>
          <a:xfrm>
            <a:off x="990720" y="380880"/>
            <a:ext cx="73864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olynomials in One Vari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552600" y="3352680"/>
                <a:ext cx="1180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5"/>
              <p:cNvSpPr txBox="1"/>
              <p:nvPr/>
            </p:nvSpPr>
            <p:spPr>
              <a:xfrm>
                <a:off x="609480" y="510552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6"/>
              <p:cNvSpPr txBox="1"/>
              <p:nvPr/>
            </p:nvSpPr>
            <p:spPr>
              <a:xfrm>
                <a:off x="533520" y="4114800"/>
                <a:ext cx="254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Text Box 7"/>
          <p:cNvSpPr/>
          <p:nvPr/>
        </p:nvSpPr>
        <p:spPr>
          <a:xfrm>
            <a:off x="685800" y="16765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a polynomial in one variable is the largest exponent of that vari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8"/>
              <p:cNvSpPr txBox="1"/>
              <p:nvPr/>
            </p:nvSpPr>
            <p:spPr>
              <a:xfrm>
                <a:off x="914400" y="2590920"/>
                <a:ext cx="473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Text Box 9"/>
          <p:cNvSpPr/>
          <p:nvPr/>
        </p:nvSpPr>
        <p:spPr>
          <a:xfrm>
            <a:off x="1523880" y="2743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 constant has no variable.  It is a 0 degree polynomial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1600200" y="34290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1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1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linear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2971800" y="41148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2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2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quadratic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2133720" y="5181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3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3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cubic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77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22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475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4975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3475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7975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762120" y="175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assify the polynomials by degree and number of term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WordArt 4"/>
          <p:cNvSpPr txBox="1"/>
          <p:nvPr/>
        </p:nvSpPr>
        <p:spPr>
          <a:xfrm>
            <a:off x="609480" y="380880"/>
            <a:ext cx="459576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219320" y="2666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oly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609480" y="3124080"/>
            <a:ext cx="3812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1676520" y="3124080"/>
                <a:ext cx="293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8"/>
              <p:cNvSpPr txBox="1"/>
              <p:nvPr/>
            </p:nvSpPr>
            <p:spPr>
              <a:xfrm>
                <a:off x="1219320" y="3886200"/>
                <a:ext cx="1076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9"/>
              <p:cNvSpPr txBox="1"/>
              <p:nvPr/>
            </p:nvSpPr>
            <p:spPr>
              <a:xfrm>
                <a:off x="1203480" y="4692600"/>
                <a:ext cx="12398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0"/>
              <p:cNvSpPr txBox="1"/>
              <p:nvPr/>
            </p:nvSpPr>
            <p:spPr>
              <a:xfrm>
                <a:off x="914400" y="5486400"/>
                <a:ext cx="18604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Text Box 11"/>
          <p:cNvSpPr/>
          <p:nvPr/>
        </p:nvSpPr>
        <p:spPr>
          <a:xfrm>
            <a:off x="2971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gre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4191120" y="236232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ify by degre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6400800" y="2133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ify by number of term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3124080" y="3124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Zer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Line 15"/>
          <p:cNvSpPr/>
          <p:nvPr/>
        </p:nvSpPr>
        <p:spPr>
          <a:xfrm>
            <a:off x="914400" y="304812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0" y="312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nsta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6705720" y="312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o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12408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ir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4572000" y="3962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670572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3124080" y="4800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co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572000" y="4800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uadrati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6705720" y="4800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3124080" y="5562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r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Text Box 25"/>
          <p:cNvSpPr/>
          <p:nvPr/>
        </p:nvSpPr>
        <p:spPr>
          <a:xfrm>
            <a:off x="4572000" y="5562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ubi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670572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r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Line 27"/>
          <p:cNvSpPr/>
          <p:nvPr/>
        </p:nvSpPr>
        <p:spPr>
          <a:xfrm>
            <a:off x="281952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Line 28"/>
          <p:cNvSpPr/>
          <p:nvPr/>
        </p:nvSpPr>
        <p:spPr>
          <a:xfrm>
            <a:off x="426708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Line 29"/>
          <p:cNvSpPr/>
          <p:nvPr/>
        </p:nvSpPr>
        <p:spPr>
          <a:xfrm>
            <a:off x="609588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Line 30"/>
          <p:cNvSpPr/>
          <p:nvPr/>
        </p:nvSpPr>
        <p:spPr>
          <a:xfrm>
            <a:off x="914400" y="365760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Line 31"/>
          <p:cNvSpPr/>
          <p:nvPr/>
        </p:nvSpPr>
        <p:spPr>
          <a:xfrm>
            <a:off x="914400" y="457200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Line 32"/>
          <p:cNvSpPr/>
          <p:nvPr/>
        </p:nvSpPr>
        <p:spPr>
          <a:xfrm>
            <a:off x="914400" y="533412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025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25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8025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8525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9025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2525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3025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25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4025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4525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25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525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6024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6525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7025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7525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8025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2525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7025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1525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6025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525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45025"/>
                            </p:stCondLst>
                            <p:childTnLst>
                              <p:par>
                                <p:cTn id="27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49525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4025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8525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3025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68525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2"/>
          <p:cNvSpPr txBox="1"/>
          <p:nvPr/>
        </p:nvSpPr>
        <p:spPr>
          <a:xfrm>
            <a:off x="609480" y="380880"/>
            <a:ext cx="58006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tandard For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914400" y="2438280"/>
            <a:ext cx="7848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o rewrite a polynomial in standard form, rearrange the terms of the polynomial starting with the largest degree term and ending with the lowest degree term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leading coefficien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the coefficient of the first term in a polynomial written in standard form, should be positi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7:25:23Z</dcterms:created>
  <dc:creator>Curriculum and Professional Development</dc:creator>
  <dc:description/>
  <dc:language>en-US</dc:language>
  <cp:lastModifiedBy>LEGION</cp:lastModifiedBy>
  <dcterms:modified xsi:type="dcterms:W3CDTF">2017-07-06T06:36:43Z</dcterms:modified>
  <cp:revision>11</cp:revision>
  <dc:subject/>
  <dc:title>PowerPoint Presentation</dc:title>
</cp:coreProperties>
</file>