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1320-1117-40DB-92E8-F606115577E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mials  - a number, a variable, or a product of a number and one or more variables. 4x, 20x2yw3, -3, a2b3, and 3yz are all mo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nomials – one or more monomials added or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x + 6x2, 20xy - 4, and 3a2 - 5a + 4 are all polynom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a2b, 4ab2, 3ab, -5a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ab2 and -5ab2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a2b = 3aab, which is different from 4ab2 = 4ab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3x, 2x2, 4,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:  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Underline like ter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Add the coefficients of like terms, do not change the powers of the vari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4x2) + 3x + (1 + 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 + (4x2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x2 + 3x +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2 + 3x +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4x2              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 and add these polynomials:   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+3ab+4b2) + (7a2+ab+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a2 + 3ab + 4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 (7a2 + ab + -2b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a2 + 4ab + 2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: (3x2 + 2x + 7) - (x2 + x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   Change subtraction to addition (Keep-Change-Change.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   Underline OR line up the like terms and ad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+ 2x + 7) 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x2  + 2x  + 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(- x2 + - x + -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x2    + x +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Polynom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C5C4-1C16-4FA7-A978-4D7855D5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F2B6-A1B5-480C-821B-7CBB6AD3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985E-3029-492F-93AF-6B705F79A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6308-06EB-4749-A0F4-7D4E8A31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B982-D29C-4853-B47F-7D5D87B30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82CB-A1B5-48B6-BFFC-75A83919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2775-DD77-4BA1-B0E6-C1675CE5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58D-CFC7-46C1-9ADF-652462E7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D1E-9B46-4013-B772-4E9AA9FF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ABEE-27FC-42E4-BD22-E1ED4B28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5BBE-F822-4A12-B7FC-30D4422E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EF52-D688-4E7D-B5B8-7FD9A967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CCB5-5ACC-4DD3-B6B7-3DE45B61E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5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6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11040"/>
            <a:ext cx="77724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200" spc="-1" strike="noStrike">
                <a:solidFill>
                  <a:srgbClr val="cc0099"/>
                </a:solidFill>
                <a:latin typeface="Times New Roman"/>
              </a:rPr>
              <a:t>Polynomials</a:t>
            </a:r>
            <a:endParaRPr b="0" lang="en-US" sz="9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16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ng Polynom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Like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712880"/>
            <a:ext cx="7772400" cy="39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nomial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- a number, a variable, or a product of a number and one or more variable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x, 20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w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-3,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3yz are all monomi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olynomial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one or more monomials added or subtra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3333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x + 6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0xy - 4, and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5a + 4 are all polynom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09480" y="1447920"/>
            <a:ext cx="7682040" cy="119124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Terms refers to monomials that have the same variable(s) but may have different coefficients.  The variables in the terms must have the same pow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625320" y="31845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,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3ab, -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2941560" y="41241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d -5a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736560" y="4835520"/>
            <a:ext cx="7655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the others have the same variables, the exponents are not the sam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= 3aab, which is different from 4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ab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a89"/>
                </a:solidFill>
                <a:latin typeface="Times New Roman"/>
              </a:rPr>
              <a:t>Like Te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00ba8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09480" y="1447920"/>
            <a:ext cx="7682040" cy="459720"/>
          </a:xfrm>
          <a:prstGeom prst="rect">
            <a:avLst/>
          </a:prstGeom>
          <a:solidFill>
            <a:srgbClr val="fdff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tants are like ter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625320" y="225432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x, -3, 5b,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779560" y="290844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3 and 0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620640" y="362916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3x, 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4,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774880" y="428292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x and x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15960" y="5003640"/>
            <a:ext cx="76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terms are like?      2wx, w, 3x, 4x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2770200" y="5657760"/>
            <a:ext cx="3470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wx and 4xw are li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4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2306520" y="1295280"/>
            <a:ext cx="4400640" cy="459720"/>
          </a:xfrm>
          <a:prstGeom prst="rect">
            <a:avLst/>
          </a:prstGeom>
          <a:solidFill>
            <a:srgbClr val="ff99ff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: 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789120" y="22575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like te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68240" y="42624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the coefficients of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ke term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do not change the powers of the variab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1"/>
          <p:cNvSpPr/>
          <p:nvPr/>
        </p:nvSpPr>
        <p:spPr>
          <a:xfrm>
            <a:off x="2263680" y="283212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 +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81"/>
          <p:cNvGrpSpPr/>
          <p:nvPr/>
        </p:nvGrpSpPr>
        <p:grpSpPr>
          <a:xfrm>
            <a:off x="3059280" y="3244680"/>
            <a:ext cx="2313000" cy="7920"/>
            <a:chOff x="3059280" y="3244680"/>
            <a:chExt cx="2313000" cy="7920"/>
          </a:xfrm>
        </p:grpSpPr>
        <p:sp>
          <p:nvSpPr>
            <p:cNvPr id="79" name="Line 72"/>
            <p:cNvSpPr/>
            <p:nvPr/>
          </p:nvSpPr>
          <p:spPr>
            <a:xfrm>
              <a:off x="3059280" y="3244680"/>
              <a:ext cx="32040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73"/>
            <p:cNvSpPr/>
            <p:nvPr/>
          </p:nvSpPr>
          <p:spPr>
            <a:xfrm>
              <a:off x="5051520" y="3252600"/>
              <a:ext cx="320760" cy="0"/>
            </a:xfrm>
            <a:prstGeom prst="line">
              <a:avLst/>
            </a:prstGeom>
            <a:ln w="28440">
              <a:solidFill>
                <a:srgbClr val="ff1b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82"/>
          <p:cNvGrpSpPr/>
          <p:nvPr/>
        </p:nvGrpSpPr>
        <p:grpSpPr>
          <a:xfrm>
            <a:off x="4302000" y="3244680"/>
            <a:ext cx="1617840" cy="90000"/>
            <a:chOff x="4302000" y="3244680"/>
            <a:chExt cx="1617840" cy="90000"/>
          </a:xfrm>
        </p:grpSpPr>
        <p:grpSp>
          <p:nvGrpSpPr>
            <p:cNvPr id="82" name="Group 76"/>
            <p:cNvGrpSpPr/>
            <p:nvPr/>
          </p:nvGrpSpPr>
          <p:grpSpPr>
            <a:xfrm>
              <a:off x="4302000" y="3252600"/>
              <a:ext cx="320760" cy="82080"/>
              <a:chOff x="4302000" y="3252600"/>
              <a:chExt cx="320760" cy="82080"/>
            </a:xfrm>
          </p:grpSpPr>
          <p:sp>
            <p:nvSpPr>
              <p:cNvPr id="83" name="Line 74"/>
              <p:cNvSpPr/>
              <p:nvPr/>
            </p:nvSpPr>
            <p:spPr>
              <a:xfrm>
                <a:off x="4302000" y="325260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75"/>
              <p:cNvSpPr/>
              <p:nvPr/>
            </p:nvSpPr>
            <p:spPr>
              <a:xfrm flipV="1">
                <a:off x="4314600" y="333324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Group 77"/>
            <p:cNvGrpSpPr/>
            <p:nvPr/>
          </p:nvGrpSpPr>
          <p:grpSpPr>
            <a:xfrm>
              <a:off x="5599080" y="3244680"/>
              <a:ext cx="320760" cy="82080"/>
              <a:chOff x="5599080" y="3244680"/>
              <a:chExt cx="320760" cy="82080"/>
            </a:xfrm>
          </p:grpSpPr>
          <p:sp>
            <p:nvSpPr>
              <p:cNvPr id="86" name="Line 78"/>
              <p:cNvSpPr/>
              <p:nvPr/>
            </p:nvSpPr>
            <p:spPr>
              <a:xfrm>
                <a:off x="5599080" y="3244680"/>
                <a:ext cx="320760" cy="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79"/>
              <p:cNvSpPr/>
              <p:nvPr/>
            </p:nvSpPr>
            <p:spPr>
              <a:xfrm flipV="1">
                <a:off x="5611680" y="3325320"/>
                <a:ext cx="304920" cy="1440"/>
              </a:xfrm>
              <a:prstGeom prst="line">
                <a:avLst/>
              </a:prstGeom>
              <a:ln w="28440">
                <a:solidFill>
                  <a:srgbClr val="00a87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" name="Text Box 80"/>
          <p:cNvSpPr/>
          <p:nvPr/>
        </p:nvSpPr>
        <p:spPr>
          <a:xfrm>
            <a:off x="2289240" y="3532320"/>
            <a:ext cx="49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ice:  ‘3x’ doesn’t have a like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3"/>
          <p:cNvSpPr/>
          <p:nvPr/>
        </p:nvSpPr>
        <p:spPr>
          <a:xfrm>
            <a:off x="2325600" y="514656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3x + (1 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4"/>
          <p:cNvSpPr/>
          <p:nvPr/>
        </p:nvSpPr>
        <p:spPr>
          <a:xfrm>
            <a:off x="3519360" y="5630760"/>
            <a:ext cx="194940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771480" y="138096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eople prefer to add polynomials by stacking them.  If you choose to do this, be sure to line up the like term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87520" y="2711520"/>
            <a:ext cx="33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) +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0"/>
          <p:cNvSpPr/>
          <p:nvPr/>
        </p:nvSpPr>
        <p:spPr>
          <a:xfrm>
            <a:off x="6073920" y="3238560"/>
            <a:ext cx="180468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3x 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532400" y="2309760"/>
            <a:ext cx="3398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x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5846760" y="3151080"/>
            <a:ext cx="207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3"/>
          <p:cNvSpPr/>
          <p:nvPr/>
        </p:nvSpPr>
        <p:spPr>
          <a:xfrm>
            <a:off x="4307040" y="2705040"/>
            <a:ext cx="982440" cy="447840"/>
          </a:xfrm>
          <a:prstGeom prst="rightArrow">
            <a:avLst>
              <a:gd name="adj1" fmla="val 50000"/>
              <a:gd name="adj2" fmla="val 5484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4"/>
          <p:cNvSpPr/>
          <p:nvPr/>
        </p:nvSpPr>
        <p:spPr>
          <a:xfrm>
            <a:off x="260280" y="4189320"/>
            <a:ext cx="85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ck and add these polynomials:   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369720" y="5151600"/>
            <a:ext cx="41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3ab+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7a2+ab+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6"/>
          <p:cNvSpPr/>
          <p:nvPr/>
        </p:nvSpPr>
        <p:spPr>
          <a:xfrm>
            <a:off x="4700520" y="5162400"/>
            <a:ext cx="982800" cy="447840"/>
          </a:xfrm>
          <a:prstGeom prst="rightArrow">
            <a:avLst>
              <a:gd name="adj1" fmla="val 50000"/>
              <a:gd name="adj2" fmla="val 54863"/>
            </a:avLst>
          </a:prstGeom>
          <a:solidFill>
            <a:srgbClr val="ff5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5835600" y="4749840"/>
            <a:ext cx="274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ab + 4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(7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ab + -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0"/>
          <p:cNvSpPr/>
          <p:nvPr/>
        </p:nvSpPr>
        <p:spPr>
          <a:xfrm>
            <a:off x="6089760" y="5718240"/>
            <a:ext cx="24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1"/>
          <p:cNvSpPr/>
          <p:nvPr/>
        </p:nvSpPr>
        <p:spPr>
          <a:xfrm>
            <a:off x="6329520" y="5840280"/>
            <a:ext cx="2233440" cy="459720"/>
          </a:xfrm>
          <a:prstGeom prst="rect">
            <a:avLst/>
          </a:prstGeom>
          <a:noFill/>
          <a:ln w="9360">
            <a:solidFill>
              <a:srgbClr val="ff1b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4ab + 2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cap="rnd" w="101520">
            <a:solidFill>
              <a:srgbClr val="cc00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Add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15"/>
          <p:cNvGraphicFramePr/>
          <p:nvPr/>
        </p:nvGraphicFramePr>
        <p:xfrm>
          <a:off x="297000" y="2470320"/>
          <a:ext cx="456552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7000" y="2470320"/>
                    <a:ext cx="456552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6"/>
          <p:cNvGraphicFramePr/>
          <p:nvPr/>
        </p:nvGraphicFramePr>
        <p:xfrm>
          <a:off x="4987800" y="2538360"/>
          <a:ext cx="14796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87800" y="2538360"/>
                    <a:ext cx="14796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7"/>
          <p:cNvGraphicFramePr/>
          <p:nvPr/>
        </p:nvGraphicFramePr>
        <p:xfrm>
          <a:off x="236520" y="3592440"/>
          <a:ext cx="58737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4" name="Object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6520" y="3592440"/>
                    <a:ext cx="5873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8"/>
          <p:cNvGraphicFramePr/>
          <p:nvPr/>
        </p:nvGraphicFramePr>
        <p:xfrm>
          <a:off x="6222960" y="3633840"/>
          <a:ext cx="2211480" cy="471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22960" y="3633840"/>
                    <a:ext cx="22114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21"/>
          <p:cNvGraphicFramePr/>
          <p:nvPr/>
        </p:nvGraphicFramePr>
        <p:xfrm>
          <a:off x="247680" y="4703760"/>
          <a:ext cx="590076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18" name="Object 21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7680" y="4703760"/>
                    <a:ext cx="59007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2"/>
          <p:cNvGraphicFramePr/>
          <p:nvPr/>
        </p:nvGraphicFramePr>
        <p:xfrm>
          <a:off x="5751360" y="5334120"/>
          <a:ext cx="2990880" cy="4698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20" name="Object 22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51360" y="5334120"/>
                    <a:ext cx="29908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8060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he following polynomials; you may stack them if you pref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335320" y="1246320"/>
            <a:ext cx="5065560" cy="459720"/>
          </a:xfrm>
          <a:prstGeom prst="rect">
            <a:avLst/>
          </a:prstGeom>
          <a:solidFill>
            <a:srgbClr val="fbb167"/>
          </a:solidFill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tract: (3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2x + 7) - (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x 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166680" y="1987560"/>
            <a:ext cx="88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subtraction to addition (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Keep-Change-Chang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9"/>
          <p:cNvSpPr/>
          <p:nvPr/>
        </p:nvSpPr>
        <p:spPr>
          <a:xfrm>
            <a:off x="779400" y="340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tep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line OR line up the like terms and ad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0"/>
          <p:cNvSpPr/>
          <p:nvPr/>
        </p:nvSpPr>
        <p:spPr>
          <a:xfrm>
            <a:off x="2028960" y="2757600"/>
            <a:ext cx="50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+ 7) 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1"/>
          <p:cNvSpPr/>
          <p:nvPr/>
        </p:nvSpPr>
        <p:spPr>
          <a:xfrm>
            <a:off x="3289320" y="4125960"/>
            <a:ext cx="2543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x  + 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-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- x + -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3451320" y="5097600"/>
            <a:ext cx="216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3"/>
          <p:cNvSpPr/>
          <p:nvPr/>
        </p:nvSpPr>
        <p:spPr>
          <a:xfrm>
            <a:off x="3843360" y="5234040"/>
            <a:ext cx="1919160" cy="459720"/>
          </a:xfrm>
          <a:prstGeom prst="rect">
            <a:avLst/>
          </a:prstGeom>
          <a:noFill/>
          <a:ln w="9360">
            <a:solidFill>
              <a:srgbClr val="ff64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2"/>
          <p:cNvSpPr/>
          <p:nvPr/>
        </p:nvSpPr>
        <p:spPr>
          <a:xfrm>
            <a:off x="41400" y="957240"/>
            <a:ext cx="9144000" cy="0"/>
          </a:xfrm>
          <a:prstGeom prst="line">
            <a:avLst/>
          </a:prstGeom>
          <a:ln cap="rnd" w="101520">
            <a:solidFill>
              <a:srgbClr val="ce7b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7100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417"/>
                </a:solidFill>
                <a:latin typeface="Times New Roman"/>
              </a:rPr>
              <a:t>Subtracting Polynom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24"/>
          <p:cNvGraphicFramePr/>
          <p:nvPr/>
        </p:nvGraphicFramePr>
        <p:xfrm>
          <a:off x="190440" y="2470320"/>
          <a:ext cx="533736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440" y="2470320"/>
                    <a:ext cx="533736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25"/>
          <p:cNvGraphicFramePr/>
          <p:nvPr/>
        </p:nvGraphicFramePr>
        <p:xfrm>
          <a:off x="5553000" y="2500200"/>
          <a:ext cx="2286000" cy="471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53000" y="2500200"/>
                    <a:ext cx="228600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26"/>
          <p:cNvGraphicFramePr/>
          <p:nvPr/>
        </p:nvGraphicFramePr>
        <p:xfrm>
          <a:off x="139680" y="3639960"/>
          <a:ext cx="5537160" cy="63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Object 2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9680" y="3639960"/>
                    <a:ext cx="55371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7"/>
          <p:cNvGraphicFramePr/>
          <p:nvPr/>
        </p:nvGraphicFramePr>
        <p:xfrm>
          <a:off x="5753160" y="3683160"/>
          <a:ext cx="2244600" cy="539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2" name="Object 2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53160" y="3683160"/>
                    <a:ext cx="224460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8"/>
          <p:cNvGraphicFramePr/>
          <p:nvPr/>
        </p:nvGraphicFramePr>
        <p:xfrm>
          <a:off x="157320" y="4803840"/>
          <a:ext cx="5532120" cy="638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4" name="Object 2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7320" y="4803840"/>
                    <a:ext cx="55321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29"/>
          <p:cNvGraphicFramePr/>
          <p:nvPr/>
        </p:nvGraphicFramePr>
        <p:xfrm>
          <a:off x="5788080" y="4856040"/>
          <a:ext cx="2824200" cy="5367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6" name="Object 2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788080" y="4856040"/>
                    <a:ext cx="282420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324080"/>
            <a:ext cx="77724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ract the following polynomials by changing to addition (Keep-Change-Change.), then ad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5T23:23:32Z</dcterms:created>
  <dc:creator>Joyce DuVall</dc:creator>
  <dc:description/>
  <dc:language>en-US</dc:language>
  <cp:lastModifiedBy>LEGION</cp:lastModifiedBy>
  <dcterms:modified xsi:type="dcterms:W3CDTF">2017-07-06T06:37:05Z</dcterms:modified>
  <cp:revision>18</cp:revision>
  <dc:subject/>
  <dc:title>PowerPoint Presentation</dc:title>
</cp:coreProperties>
</file>