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BC12-8A44-45B0-B7EA-9FFE0DF597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D0B-5F6D-471F-A599-80EC2E9B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D72-E10E-47A2-9EC2-5FB5A6FA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6CD-46F7-4AC5-BBF9-3AFE4568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58F-4BA3-4EB7-A04B-693072B2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CFA7-657F-4E71-B125-61B77293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D1C9-2809-4128-A456-8933D1D3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5BC7-ED40-4C41-B508-D6BEF84D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C0F6-2326-411B-AA28-68DD67F5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3D33-F23E-4559-9E0D-8F3DE174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5934-F302-4767-BEAC-5484DBDF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1B35-CEE8-4724-B213-56744134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83F-3B82-4430-89A5-B183AB18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5FBE-4F10-4832-8D6C-6722E324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910E-23C9-4975-964A-A54E475F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1125-F0F2-4FEC-99DF-372DD167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5126-85DB-4392-AED3-B3407CD0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55C2-3864-402E-BA77-9793D149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95A-9537-4247-845B-10BC7B31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886-2687-4BEF-B5EE-610D7AC6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4A1-D4C4-4A01-B17C-B5A71EED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937-76DF-48B8-BB3D-F8B216F4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9FA-34B9-40EC-AED1-74E8594F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B8D-2A19-496B-A411-4A8C3EA9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94E-B036-4972-8976-9B9B1093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AC5A-0635-4FA3-AC25-6ED3095BE8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530A-0494-4DB3-A6CD-7FDBE30765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28600" y="25909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comic"/>
              </a:rPr>
              <a:t>POLYNOMI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7467480" y="3805200"/>
                <a:ext cx="1295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066680" y="3048120"/>
                <a:ext cx="114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029200" cy="4386240"/>
          </a:xfrm>
          <a:prstGeom prst="rect">
            <a:avLst/>
          </a:prstGeom>
          <a:ln w="0">
            <a:noFill/>
          </a:ln>
        </p:spPr>
      </p:pic>
      <p:sp>
        <p:nvSpPr>
          <p:cNvPr id="193" name="Line 17"/>
          <p:cNvSpPr/>
          <p:nvPr/>
        </p:nvSpPr>
        <p:spPr>
          <a:xfrm flipH="1" flipV="1">
            <a:off x="6095520" y="38858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1143000" y="4572000"/>
                <a:ext cx="14479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Line 20"/>
          <p:cNvSpPr/>
          <p:nvPr/>
        </p:nvSpPr>
        <p:spPr>
          <a:xfrm flipV="1">
            <a:off x="2362320" y="43430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 flipV="1">
            <a:off x="205740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6095880" y="1905120"/>
                <a:ext cx="774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2355840" y="4921200"/>
                <a:ext cx="927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6934320" y="2743200"/>
                <a:ext cx="190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3962520" cy="3728880"/>
          </a:xfrm>
          <a:prstGeom prst="rect">
            <a:avLst/>
          </a:prstGeom>
          <a:ln w="0">
            <a:noFill/>
          </a:ln>
        </p:spPr>
      </p:pic>
      <p:sp>
        <p:nvSpPr>
          <p:cNvPr id="203" name="Line 13"/>
          <p:cNvSpPr/>
          <p:nvPr/>
        </p:nvSpPr>
        <p:spPr>
          <a:xfrm flipH="1">
            <a:off x="5105520" y="30481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 flipH="1">
            <a:off x="3962520" y="2209680"/>
            <a:ext cx="22096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609480" y="4419720"/>
                <a:ext cx="1295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Line 19"/>
          <p:cNvSpPr/>
          <p:nvPr/>
        </p:nvSpPr>
        <p:spPr>
          <a:xfrm flipV="1">
            <a:off x="1905120" y="44193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eros of a polynomial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l number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l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r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, the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 is an x –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intercepts of a polynomi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 i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polynomial x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( r ) =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is an 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o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u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Polynomia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30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219320" y="2286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1274760" y="2286000"/>
                <a:ext cx="7051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380880" y="312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981080" y="31240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1828800" y="3124080"/>
                <a:ext cx="320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14"/>
          <p:cNvSpPr/>
          <p:nvPr/>
        </p:nvSpPr>
        <p:spPr>
          <a:xfrm flipV="1">
            <a:off x="1752480" y="3275640"/>
            <a:ext cx="73915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990720" y="3581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685800" y="37339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real number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nonnegative 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et of re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562720" y="3352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685800" y="5181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e Degree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914400" y="1905120"/>
            <a:ext cx="762012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a polynomial function in one variable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st power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838080" y="4876920"/>
            <a:ext cx="7696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990720" y="350532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polynomial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7"/>
              <p:cNvSpPr txBox="1"/>
              <p:nvPr/>
            </p:nvSpPr>
            <p:spPr>
              <a:xfrm>
                <a:off x="2438280" y="4038480"/>
                <a:ext cx="2743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perties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inu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ve is one that 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Sharp corners or cu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2120" y="41148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8600" y="3809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s graph  ha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breaks, gaps or h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3144960" y="2666880"/>
                <a:ext cx="1293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Text Box 4"/>
          <p:cNvSpPr/>
          <p:nvPr/>
        </p:nvSpPr>
        <p:spPr>
          <a:xfrm>
            <a:off x="1828800" y="304020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80880" y="3352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96252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3962520" y="3352680"/>
                <a:ext cx="504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Text Box 11"/>
          <p:cNvSpPr/>
          <p:nvPr/>
        </p:nvSpPr>
        <p:spPr>
          <a:xfrm>
            <a:off x="762120" y="441972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2133720" y="4419720"/>
                <a:ext cx="609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2133720" y="4800600"/>
                <a:ext cx="53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2133720" y="5257800"/>
                <a:ext cx="5601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power function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676520" y="2743200"/>
                <a:ext cx="685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1994040" y="2036880"/>
                <a:ext cx="718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073320" y="1827360"/>
            <a:ext cx="2590920" cy="2444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209680" y="20574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971800" y="16765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990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666880" y="22096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1828800" y="1523880"/>
                <a:ext cx="914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Line 16"/>
          <p:cNvSpPr/>
          <p:nvPr/>
        </p:nvSpPr>
        <p:spPr>
          <a:xfrm flipV="1">
            <a:off x="2438280" y="266652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5800" y="4343400"/>
            <a:ext cx="7848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n     2 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unctions graphed above are even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 between (-1, 1)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when x &gt; 1 and when x &lt; -1.  As |x| gets bigger and bigger, the graph increases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4114800" y="4343400"/>
                <a:ext cx="1143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6934320" y="4419720"/>
                <a:ext cx="241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even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0, 0) (1,1) (-1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2762280" y="2617920"/>
                <a:ext cx="1173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2786040" y="1600200"/>
            <a:ext cx="2300400" cy="2216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3886200" y="3886200"/>
                <a:ext cx="9907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1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5334120" y="1600200"/>
                <a:ext cx="761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Text Box 18"/>
          <p:cNvSpPr/>
          <p:nvPr/>
        </p:nvSpPr>
        <p:spPr>
          <a:xfrm>
            <a:off x="5257800" y="2895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2514600" y="1600200"/>
                <a:ext cx="685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3"/>
              <p:cNvSpPr txBox="1"/>
              <p:nvPr/>
            </p:nvSpPr>
            <p:spPr>
              <a:xfrm>
                <a:off x="1828800" y="2330280"/>
                <a:ext cx="7621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Line 25"/>
          <p:cNvSpPr/>
          <p:nvPr/>
        </p:nvSpPr>
        <p:spPr>
          <a:xfrm>
            <a:off x="3200400" y="19051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2590920" y="236196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 flipH="1">
            <a:off x="449532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380880" y="3809880"/>
            <a:ext cx="838224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    3  is odd.  The functions graphed above are odd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 &lt; x &lt;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 when x &gt; 1  or decreases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5"/>
              <p:cNvSpPr txBox="1"/>
              <p:nvPr/>
            </p:nvSpPr>
            <p:spPr>
              <a:xfrm>
                <a:off x="6477120" y="3962520"/>
                <a:ext cx="18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odd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17524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0, 0) (1,1) (-1,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34:36Z</dcterms:created>
  <dc:creator>Yvonne Powell</dc:creator>
  <dc:description/>
  <dc:language>en-US</dc:language>
  <cp:lastModifiedBy>LEGION</cp:lastModifiedBy>
  <dcterms:modified xsi:type="dcterms:W3CDTF">2017-07-06T06:38:14Z</dcterms:modified>
  <cp:revision>18</cp:revision>
  <dc:subject/>
  <dc:title>Polynomials</dc:title>
</cp:coreProperties>
</file>