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1.png" ContentType="image/png"/>
  <Override PartName="/ppt/media/image19.jpeg" ContentType="image/jpeg"/>
  <Override PartName="/ppt/media/image11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9E2A-0E91-48FC-BFFC-9A3662715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and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C8C0-C629-4090-82E9-CA3AA0ED28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ars and Jupiter is and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B5FC-6162-4437-BEA1-4B71176F95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, the largest planet, is fif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rings, and 6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Red Spot is a storm that has been there ever since Galileo saw it 400 years a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4D62-28E7-48E9-B564-7B0BCD830F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the sixth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famous for its rings, which are easy to see with a telescope – Galileo saw them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56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E729-BA76-4E5E-8F0E-46097B28DD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is a gas planet, too – all four of the outer planet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pins sideways, probably because it was hit by a comet or aste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has thin rings and 27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D186-6EBA-462D-8C8D-56527906EF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is the farthest a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strong winds, over 400 miles an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has 1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DF9F-1F6B-41DA-B9A0-079031979C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and the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is another body now called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n irregular orbit – tilted and elong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3 moons – one is very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is, the newest body, is also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ly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D9F3-DDCC-4BCB-AA56-2D87E62128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o think ab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t least one more planet, but it may be a giant, we just don’t know ye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is always going on to help us know our way around our neighborhood –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someday YOU will travel to one of these wonderful pla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6028-BD1D-4F9C-83CE-069CCBC512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re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s and 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junk and tr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CD34-4642-437E-A870-0EEB56A915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– our very own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center of our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rd “solar” means “of the su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a medium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medium-hot, and yel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A8DE-90F9-4417-A2DB-6BE2F6C75A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lay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is called the core – it is 27,000,00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layer is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under the chromosphere is the photosphere, where light and other forms of energy are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photosphere is the convective zone where heat is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above the core is the 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3F14-3240-4403-8CAF-8A671EC03D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made up of g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abundant gas is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undergo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make Helium, which releases a huge amount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energy released include light, heat, and various rays, like X rays and gamma rays, which are forms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2452-88FF-4716-83AC-959B8F9ACD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DC7-EC07-4B90-9921-4374EA137D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-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planets are formed mostly of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i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littl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VERY H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F7E9-9339-4B5C-AC6A-A7D8855B85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a very thick atmosphere, and this makes the temperature the highest 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bout the same size as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4F10-8717-4EB2-AC96-E170C50DEA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is 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medium-thick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3FFC-53BE-4958-9DD2-8ED80356C2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is fou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thinner atmosphere tha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urface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winds some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1494-844D-4D1E-946A-12530F586C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F0F-FF32-402C-A3FF-29A85EB6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222-E544-47DD-B0E2-C9FA4F45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5A7-E788-4620-937C-BE9CCF9C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DE4-9AC5-4112-AC04-7E6D7282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ED68-8B05-4F92-B3A9-41A84B73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3B3B-FCCC-4E40-9572-A0129B9A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A8EB-B9B3-436E-AA60-3B46FB61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C39C-02E7-4B7A-97F5-D5CB0C1B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FFB9-BEE3-433F-B757-F85B3F65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1693-EEA2-4C90-B8ED-4F55BC55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7A9A-4A4A-4ED6-888C-6233D674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EFF-29E1-49C6-B6D7-792BA2A7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290D-19A9-4E3F-A120-56AE95B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30FE-D163-4A86-8789-5632C9EB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291B-34AB-41E4-AF89-DA84C996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CF61-B4AC-47FE-B5E9-E6EE7957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27BB-6240-4C72-AF69-5E25336A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1F9-C6BA-4408-B5D5-68FBF94C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D36-12A0-4EE3-9B27-9202D553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D78-4E7E-45E9-9539-ADE9892E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EFD-AEF2-4198-B3D9-E50FA31B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A00-C534-4D36-BA15-FA2998E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481-3558-4725-860A-5AD39195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64C-C728-4B27-A78C-B779F7B9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D829-8B99-43BA-B47C-96358F8403D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61C6-ECF7-48A8-A633-31D086B9EC5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eighborhood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tween Mars and Jupiter is and asteroid be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ts of roc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3" descr="asteroid belt.jpg"/>
          <p:cNvPicPr/>
          <p:nvPr/>
        </p:nvPicPr>
        <p:blipFill>
          <a:blip r:embed="rId2"/>
          <a:stretch/>
        </p:blipFill>
        <p:spPr>
          <a:xfrm>
            <a:off x="3581280" y="3200400"/>
            <a:ext cx="40719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, the largest planet, is fif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rings, and 6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reat Red Spot is a storm that has been there ever since Galileo saw it 400 years ago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jupiter.jpg"/>
          <p:cNvPicPr/>
          <p:nvPr/>
        </p:nvPicPr>
        <p:blipFill>
          <a:blip r:embed="rId2"/>
          <a:stretch/>
        </p:blipFill>
        <p:spPr>
          <a:xfrm>
            <a:off x="3429000" y="4114800"/>
            <a:ext cx="25909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the sixth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lso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famous for its rings, which are easy to see with a telescope – Galileo saw them, to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s 56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saturn.jpg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saturns rings.jpg"/>
          <p:cNvPicPr/>
          <p:nvPr/>
        </p:nvPicPr>
        <p:blipFill>
          <a:blip r:embed="rId3"/>
          <a:stretch/>
        </p:blipFill>
        <p:spPr>
          <a:xfrm>
            <a:off x="4876920" y="3733920"/>
            <a:ext cx="33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is a gas planet, too – all four of the outer planets 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pins sideways, probably because it was hit by a comet or aster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has thin rings and 27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3" descr="uranus.jpg"/>
          <p:cNvPicPr/>
          <p:nvPr/>
        </p:nvPicPr>
        <p:blipFill>
          <a:blip r:embed="rId2"/>
          <a:stretch/>
        </p:blipFill>
        <p:spPr>
          <a:xfrm>
            <a:off x="3352680" y="4038480"/>
            <a:ext cx="25909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is the farthest aw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VERY strong winds, over 400 miles an ho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has 1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neptune.jpg"/>
          <p:cNvPicPr/>
          <p:nvPr/>
        </p:nvPicPr>
        <p:blipFill>
          <a:blip r:embed="rId2"/>
          <a:stretch/>
        </p:blipFill>
        <p:spPr>
          <a:xfrm>
            <a:off x="3352680" y="42670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uto is another body now called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n irregular orbit – tilted and elonga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3 moons – one is very lar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is, the newest body, is also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ly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pluto.jpg"/>
          <p:cNvPicPr/>
          <p:nvPr/>
        </p:nvPicPr>
        <p:blipFill>
          <a:blip r:embed="rId2"/>
          <a:stretch/>
        </p:blipFill>
        <p:spPr>
          <a:xfrm>
            <a:off x="762120" y="43434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ris.jpg"/>
          <p:cNvPicPr/>
          <p:nvPr/>
        </p:nvPicPr>
        <p:blipFill>
          <a:blip r:embed="rId3"/>
          <a:stretch/>
        </p:blipFill>
        <p:spPr>
          <a:xfrm>
            <a:off x="4851360" y="3962520"/>
            <a:ext cx="3454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at least one more planet, but it may be a giant, we just don’t know yet…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earch is always going on to help us know our way around our neighborhood – the SOLAR SYSTE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be someday YOU will travel to one of these wonderful pla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also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eors and com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du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junk and tra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3" descr="comet.jpg"/>
          <p:cNvPicPr/>
          <p:nvPr/>
        </p:nvPicPr>
        <p:blipFill>
          <a:blip r:embed="rId2"/>
          <a:stretch/>
        </p:blipFill>
        <p:spPr>
          <a:xfrm>
            <a:off x="0" y="48006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meteor.jpg"/>
          <p:cNvPicPr/>
          <p:nvPr/>
        </p:nvPicPr>
        <p:blipFill>
          <a:blip r:embed="rId3"/>
          <a:stretch/>
        </p:blipFill>
        <p:spPr>
          <a:xfrm>
            <a:off x="57150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eteor crater.jpg"/>
          <p:cNvPicPr/>
          <p:nvPr/>
        </p:nvPicPr>
        <p:blipFill>
          <a:blip r:embed="rId4"/>
          <a:stretch/>
        </p:blipFill>
        <p:spPr>
          <a:xfrm>
            <a:off x="7238880" y="5334120"/>
            <a:ext cx="177480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rater 2.jpg"/>
          <p:cNvPicPr/>
          <p:nvPr/>
        </p:nvPicPr>
        <p:blipFill>
          <a:blip r:embed="rId5"/>
          <a:stretch/>
        </p:blipFill>
        <p:spPr>
          <a:xfrm>
            <a:off x="1752480" y="40384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atellite.jpg"/>
          <p:cNvPicPr/>
          <p:nvPr/>
        </p:nvPicPr>
        <p:blipFill>
          <a:blip r:embed="rId6"/>
          <a:stretch/>
        </p:blipFill>
        <p:spPr>
          <a:xfrm>
            <a:off x="2895480" y="4572000"/>
            <a:ext cx="2689200" cy="188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unk.jpg"/>
          <p:cNvPicPr/>
          <p:nvPr/>
        </p:nvPicPr>
        <p:blipFill>
          <a:blip r:embed="rId7"/>
          <a:stretch/>
        </p:blipFill>
        <p:spPr>
          <a:xfrm>
            <a:off x="4876920" y="1295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the center of our sola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d “solar” means “of the sun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a medium-sized st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medium-hot, and yello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sun.jpg"/>
          <p:cNvPicPr/>
          <p:nvPr/>
        </p:nvPicPr>
        <p:blipFill>
          <a:blip r:embed="rId2"/>
          <a:stretch/>
        </p:blipFill>
        <p:spPr>
          <a:xfrm>
            <a:off x="3200400" y="4191120"/>
            <a:ext cx="2625840" cy="25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unIm08_eclipse2.jpg"/>
          <p:cNvPicPr/>
          <p:nvPr/>
        </p:nvPicPr>
        <p:blipFill>
          <a:blip r:embed="rId3"/>
          <a:stretch/>
        </p:blipFill>
        <p:spPr>
          <a:xfrm>
            <a:off x="6248520" y="449568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sun flare.jpg"/>
          <p:cNvPicPr/>
          <p:nvPr/>
        </p:nvPicPr>
        <p:blipFill>
          <a:blip r:embed="rId4"/>
          <a:stretch/>
        </p:blipFill>
        <p:spPr>
          <a:xfrm>
            <a:off x="380880" y="4619520"/>
            <a:ext cx="243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has lay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iddle is called the core – it is 27,000,000 degrees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uter layer is the chro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under the chromosphere is the photosphere, where light and other forms of energy are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der the photosphere is the convective zone where heat is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above the core is the radiative zo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made up of gas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ost abundant gas is Hydroge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ydrogen is undergo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us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make Helium, which releases a huge amount of en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s of energy released include light, heat, and various rays, like X rays and gamma rays, which are forms of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Content Placeholder 3" descr="sun diagram.jpg"/>
          <p:cNvPicPr/>
          <p:nvPr/>
        </p:nvPicPr>
        <p:blipFill>
          <a:blip r:embed="rId1"/>
          <a:stretch/>
        </p:blipFill>
        <p:spPr>
          <a:xfrm>
            <a:off x="3809880" y="3200400"/>
            <a:ext cx="4700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4" descr="temp graph of sun.png"/>
          <p:cNvPicPr/>
          <p:nvPr/>
        </p:nvPicPr>
        <p:blipFill>
          <a:blip r:embed="rId1"/>
          <a:stretch/>
        </p:blipFill>
        <p:spPr>
          <a:xfrm>
            <a:off x="5410080" y="3886200"/>
            <a:ext cx="353376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unActiv_sunCutaway.gif"/>
          <p:cNvPicPr/>
          <p:nvPr/>
        </p:nvPicPr>
        <p:blipFill>
          <a:blip r:embed="rId2"/>
          <a:stretch/>
        </p:blipFill>
        <p:spPr>
          <a:xfrm>
            <a:off x="609480" y="1828800"/>
            <a:ext cx="474048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sun-full.gif"/>
          <p:cNvPicPr/>
          <p:nvPr/>
        </p:nvPicPr>
        <p:blipFill>
          <a:blip r:embed="rId3"/>
          <a:stretch/>
        </p:blipFill>
        <p:spPr>
          <a:xfrm>
            <a:off x="5410080" y="1522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inner four planets are formed mostly of ro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rcury is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very little at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VERY HO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3" descr="mercury.jpg"/>
          <p:cNvPicPr/>
          <p:nvPr/>
        </p:nvPicPr>
        <p:blipFill>
          <a:blip r:embed="rId2"/>
          <a:stretch/>
        </p:blipFill>
        <p:spPr>
          <a:xfrm>
            <a:off x="4724280" y="3657600"/>
            <a:ext cx="4197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nus is seco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 has a very thick atmosphere, and this makes the temperature the highest in the solar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about the same size as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venus.jpg"/>
          <p:cNvPicPr/>
          <p:nvPr/>
        </p:nvPicPr>
        <p:blipFill>
          <a:blip r:embed="rId2"/>
          <a:stretch/>
        </p:blipFill>
        <p:spPr>
          <a:xfrm>
            <a:off x="304812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rth is th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 medium-thick atmosp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’s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3" descr="earth 1.jpg"/>
          <p:cNvPicPr/>
          <p:nvPr/>
        </p:nvPicPr>
        <p:blipFill>
          <a:blip r:embed="rId2"/>
          <a:stretch/>
        </p:blipFill>
        <p:spPr>
          <a:xfrm>
            <a:off x="5257800" y="3429000"/>
            <a:ext cx="3287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s is fou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a thinner atmosphere than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surface 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 winds someti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3" descr="mars.jpg"/>
          <p:cNvPicPr/>
          <p:nvPr/>
        </p:nvPicPr>
        <p:blipFill>
          <a:blip r:embed="rId2"/>
          <a:stretch/>
        </p:blipFill>
        <p:spPr>
          <a:xfrm>
            <a:off x="4419720" y="3581280"/>
            <a:ext cx="310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21:22Z</dcterms:created>
  <dc:creator>Ector County ISD Employee</dc:creator>
  <dc:description/>
  <dc:language>en-US</dc:language>
  <cp:lastModifiedBy>RomaK</cp:lastModifiedBy>
  <dcterms:modified xsi:type="dcterms:W3CDTF">2015-07-31T23:19:38Z</dcterms:modified>
  <cp:revision>54</cp:revision>
  <dc:subject/>
  <dc:title>Our Solar system</dc:title>
</cp:coreProperties>
</file>