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9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38.jpeg" ContentType="image/jpeg"/>
  <Override PartName="/ppt/media/image30.jpeg" ContentType="image/jpeg"/>
  <Override PartName="/ppt/media/image31.png" ContentType="image/png"/>
  <Override PartName="/ppt/media/image19.jpeg" ContentType="image/jpeg"/>
  <Override PartName="/ppt/media/image11.png" ContentType="image/png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41.jpeg" ContentType="image/jpeg"/>
  <Override PartName="/ppt/media/image39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15E8-AF19-4F8F-A972-9ACBF3E771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un and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where we 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A059-91A7-46E0-8A83-1E8606C7406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Mars and Jupiter is and asteroid be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of 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liqui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AC02-73A5-446F-902A-0F6F815A91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, the largest planet, is fif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is a gas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rings, and 63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Red Spot is a storm that has been there ever since Galileo saw it 400 years ag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76A8-A4C7-4B8C-BAA2-652931E91B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the sixth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a gas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famous for its rings, which are easy to see with a telescope – Galileo saw them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56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52C3-6A1E-4431-B973-70A182D728B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is a gas planet, too – all four of the outer planets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pins sideways, probably because it was hit by a comet or aster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has thin rings and 27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2C60-0688-49CE-9613-1E11141E61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is the farthest aw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gas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VERY strong winds, over 400 miles an h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has 13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EFF1-E59D-4D32-9B77-A2A97022C3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 and the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 is another body now called a PLUT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n irregular orbit – tilted and elong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3 moons – one is very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is, the newest body, is also a Plut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only on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0257-2E10-4053-AF3E-A90A88CBED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o think abo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t least one more planet, but it may be a giant, we just don’t know yet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is always going on to help us know our way around our neighborhood –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someday YOU will travel to one of these wonderful plac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18AB-D5E5-49FB-8747-5ED1AD77CE8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re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s and com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 junk and tr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A9A5-D4C1-4B42-83FE-7665A8EE63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– our very own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center of our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rd “solar” means “of the su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un is a medium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un is medium-hot, and yell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BBCD-DADB-4448-BF67-A3F5DEA1BF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lay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is called the core – it is 27,000,000 degre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layer is 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yer under the chromosphere is the photosphere, where light and other forms of energy are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the photosphere is the convective zone where heat is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yer above the core is the radia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F241-3F28-4591-B49C-4EA6DBEBA0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made up of g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abundant gas is Hydrog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undergoing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us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make Helium, which releases a huge amount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of energy released include light, heat, and various rays, like X rays and gamma rays, which are forms of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A93F-BFE8-4284-A2D3-C84D87716C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22B3-42CF-418F-A3E2-391C4BE388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four - 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four planets are formed mostly of r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is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very little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no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VERY HO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2D57-2183-4CD9-8D34-78BD5BBCCE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a very thick atmosphere, and this makes the temperature the highest 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no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bout the same size as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C8F3-E6E8-4D98-B372-7588040C3E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is thi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liqui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medium-thick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on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where we 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E74F-DE0B-4DF3-A58B-CEDECBE795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is fou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thinner atmosphere tha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urface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winds some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3FAC-E099-423F-84F0-62AD7342D5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66D-1CB7-4B8B-A157-F07FD006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BC37-7891-4441-9991-4255AFCF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1EF8-715C-4D2E-B46F-DBA85C2F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4301-3ACD-43C0-B5AC-8F783F12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BD2F-C947-48FF-8554-E404742A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72E4-3101-4325-8BDC-409CB008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0339-EEEA-4F88-9CF9-1B1EE12C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F01B-AFA9-440F-8DA0-9938FEA4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2A76-6BC8-41BC-BDD7-ED465B2D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389F-890E-4C14-BDB5-29762CA0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09FD-F68A-4C94-AC4B-A6921C62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CAF7-E438-4452-8A2A-CB7A5A3D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5D69-6F74-4D58-9922-04B91FC6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7947-BA4A-48EA-A475-30392D12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6720-88A2-4DD3-AA01-8D0F40C8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33A4-AE15-46FE-A429-822CC075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D2D4-16E9-4412-AAB8-7478EF19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1F0F-29ED-4FF3-9C36-61695B95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A39-D662-4B62-B98B-D9B889FB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A35D-96D0-4698-A250-73B567FB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D2A-D0E1-49B8-8DEB-4E0CE6B6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CF2E-18B5-48E4-84A2-59824E20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6C06-A142-4ACB-B231-E3CCB037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50DD-6878-4136-8EEA-F417FF7C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DEDE-64BB-45C2-BD9C-DBC3B264BDE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A4D7-D253-48E9-986B-69A7761318F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1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neighborhood where we li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tween Mars and Jupiter is and asteroid bel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ts of rock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 liquid 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Picture 3" descr="asteroid belt.jpg"/>
          <p:cNvPicPr/>
          <p:nvPr/>
        </p:nvPicPr>
        <p:blipFill>
          <a:blip r:embed="rId2"/>
          <a:stretch/>
        </p:blipFill>
        <p:spPr>
          <a:xfrm>
            <a:off x="3581280" y="3200400"/>
            <a:ext cx="40719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piter, the largest planet, is fif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piter is a gas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rings, and 63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Great Red Spot is a storm that has been there ever since Galileo saw it 400 years ago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Picture 3" descr="jupiter.jpg"/>
          <p:cNvPicPr/>
          <p:nvPr/>
        </p:nvPicPr>
        <p:blipFill>
          <a:blip r:embed="rId2"/>
          <a:stretch/>
        </p:blipFill>
        <p:spPr>
          <a:xfrm>
            <a:off x="3429000" y="4114800"/>
            <a:ext cx="25909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turn is the sixth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also a gas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turn is famous for its rings, which are easy to see with a telescope – Galileo saw them, to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s 56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" name="Picture 3" descr="saturn.jpg"/>
          <p:cNvPicPr/>
          <p:nvPr/>
        </p:nvPicPr>
        <p:blipFill>
          <a:blip r:embed="rId2"/>
          <a:stretch/>
        </p:blipFill>
        <p:spPr>
          <a:xfrm>
            <a:off x="609480" y="41911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saturns rings.jpg"/>
          <p:cNvPicPr/>
          <p:nvPr/>
        </p:nvPicPr>
        <p:blipFill>
          <a:blip r:embed="rId3"/>
          <a:stretch/>
        </p:blipFill>
        <p:spPr>
          <a:xfrm>
            <a:off x="4876920" y="3733920"/>
            <a:ext cx="33764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anus is a gas planet, too – all four of the outer planets 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spins sideways, probably because it was hit by a comet or aster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anus has thin rings and 27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3" descr="uranus.jpg"/>
          <p:cNvPicPr/>
          <p:nvPr/>
        </p:nvPicPr>
        <p:blipFill>
          <a:blip r:embed="rId2"/>
          <a:stretch/>
        </p:blipFill>
        <p:spPr>
          <a:xfrm>
            <a:off x="3352680" y="4038480"/>
            <a:ext cx="259092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ptune is the farthest away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a gas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VERY strong winds, over 400 miles an hou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ptune has 13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2" name="Picture 3" descr="neptune.jpg"/>
          <p:cNvPicPr/>
          <p:nvPr/>
        </p:nvPicPr>
        <p:blipFill>
          <a:blip r:embed="rId2"/>
          <a:stretch/>
        </p:blipFill>
        <p:spPr>
          <a:xfrm>
            <a:off x="3352680" y="42670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luto is another body now called a PLUT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an irregular orbit – tilted and elongat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3 moons – one is very lar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ris, the newest body, is also a Plut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only one mo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5" name="Picture 3" descr="pluto.jpg"/>
          <p:cNvPicPr/>
          <p:nvPr/>
        </p:nvPicPr>
        <p:blipFill>
          <a:blip r:embed="rId2"/>
          <a:stretch/>
        </p:blipFill>
        <p:spPr>
          <a:xfrm>
            <a:off x="762120" y="434340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eris.jpg"/>
          <p:cNvPicPr/>
          <p:nvPr/>
        </p:nvPicPr>
        <p:blipFill>
          <a:blip r:embed="rId3"/>
          <a:stretch/>
        </p:blipFill>
        <p:spPr>
          <a:xfrm>
            <a:off x="4851360" y="3962520"/>
            <a:ext cx="3454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is at least one more planet, but it may be a giant, we just don’t know yet…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earch is always going on to help us know our way around our neighborhood – the SOLAR SYSTEM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ybe someday YOU will travel to one of these wonderful place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are also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teors and come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ace dus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atellit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ace junk and tras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1" name="Picture 3" descr="comet.jpg"/>
          <p:cNvPicPr/>
          <p:nvPr/>
        </p:nvPicPr>
        <p:blipFill>
          <a:blip r:embed="rId2"/>
          <a:stretch/>
        </p:blipFill>
        <p:spPr>
          <a:xfrm>
            <a:off x="0" y="480060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meteor.jpg"/>
          <p:cNvPicPr/>
          <p:nvPr/>
        </p:nvPicPr>
        <p:blipFill>
          <a:blip r:embed="rId3"/>
          <a:stretch/>
        </p:blipFill>
        <p:spPr>
          <a:xfrm>
            <a:off x="57150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meteor crater.jpg"/>
          <p:cNvPicPr/>
          <p:nvPr/>
        </p:nvPicPr>
        <p:blipFill>
          <a:blip r:embed="rId4"/>
          <a:stretch/>
        </p:blipFill>
        <p:spPr>
          <a:xfrm>
            <a:off x="7238880" y="5334120"/>
            <a:ext cx="1774800" cy="1076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rater 2.jpg"/>
          <p:cNvPicPr/>
          <p:nvPr/>
        </p:nvPicPr>
        <p:blipFill>
          <a:blip r:embed="rId5"/>
          <a:stretch/>
        </p:blipFill>
        <p:spPr>
          <a:xfrm>
            <a:off x="1752480" y="403848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satellite.jpg"/>
          <p:cNvPicPr/>
          <p:nvPr/>
        </p:nvPicPr>
        <p:blipFill>
          <a:blip r:embed="rId6"/>
          <a:stretch/>
        </p:blipFill>
        <p:spPr>
          <a:xfrm>
            <a:off x="2895480" y="4572000"/>
            <a:ext cx="2689200" cy="1882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junk.jpg"/>
          <p:cNvPicPr/>
          <p:nvPr/>
        </p:nvPicPr>
        <p:blipFill>
          <a:blip r:embed="rId7"/>
          <a:stretch/>
        </p:blipFill>
        <p:spPr>
          <a:xfrm>
            <a:off x="4876920" y="1295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un is the center of our solar syst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word “solar” means “of the sun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r sun is a medium-sized st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r sun is medium-hot, and yellow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3" descr="sun.jpg"/>
          <p:cNvPicPr/>
          <p:nvPr/>
        </p:nvPicPr>
        <p:blipFill>
          <a:blip r:embed="rId2"/>
          <a:stretch/>
        </p:blipFill>
        <p:spPr>
          <a:xfrm>
            <a:off x="3200400" y="4191120"/>
            <a:ext cx="2625840" cy="254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SunIm08_eclipse2.jpg"/>
          <p:cNvPicPr/>
          <p:nvPr/>
        </p:nvPicPr>
        <p:blipFill>
          <a:blip r:embed="rId3"/>
          <a:stretch/>
        </p:blipFill>
        <p:spPr>
          <a:xfrm>
            <a:off x="6248520" y="4495680"/>
            <a:ext cx="221904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sun flare.jpg"/>
          <p:cNvPicPr/>
          <p:nvPr/>
        </p:nvPicPr>
        <p:blipFill>
          <a:blip r:embed="rId4"/>
          <a:stretch/>
        </p:blipFill>
        <p:spPr>
          <a:xfrm>
            <a:off x="380880" y="4619520"/>
            <a:ext cx="2438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un has layer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iddle is called the core – it is 27,000,000 degrees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outer layer is the chromosphe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layer under the chromosphere is the photosphere, where light and other forms of energy are releas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nder the photosphere is the convective zone where heat is releas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layer above the core is the radiative zo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un is made up of gass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ost abundant gas is Hydrogen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ydrogen is undergoing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fusio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o make Helium, which releases a huge amount of energ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ms of energy released include light, heat, and various rays, like X rays and gamma rays, which are forms of radi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Content Placeholder 3" descr="sun diagram.jpg"/>
          <p:cNvPicPr/>
          <p:nvPr/>
        </p:nvPicPr>
        <p:blipFill>
          <a:blip r:embed="rId1"/>
          <a:stretch/>
        </p:blipFill>
        <p:spPr>
          <a:xfrm>
            <a:off x="3809880" y="3200400"/>
            <a:ext cx="4700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1" name="Picture 4" descr="temp graph of sun.png"/>
          <p:cNvPicPr/>
          <p:nvPr/>
        </p:nvPicPr>
        <p:blipFill>
          <a:blip r:embed="rId1"/>
          <a:stretch/>
        </p:blipFill>
        <p:spPr>
          <a:xfrm>
            <a:off x="5410080" y="3886200"/>
            <a:ext cx="3533760" cy="2590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SunActiv_sunCutaway.gif"/>
          <p:cNvPicPr/>
          <p:nvPr/>
        </p:nvPicPr>
        <p:blipFill>
          <a:blip r:embed="rId2"/>
          <a:stretch/>
        </p:blipFill>
        <p:spPr>
          <a:xfrm>
            <a:off x="609480" y="1828800"/>
            <a:ext cx="4740480" cy="373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sun-full.gif"/>
          <p:cNvPicPr/>
          <p:nvPr/>
        </p:nvPicPr>
        <p:blipFill>
          <a:blip r:embed="rId3"/>
          <a:stretch/>
        </p:blipFill>
        <p:spPr>
          <a:xfrm>
            <a:off x="5410080" y="15228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inner four planets are formed mostly of roc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rcury is fir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very little atmosphe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no mo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is VERY HOT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3" descr="mercury.jpg"/>
          <p:cNvPicPr/>
          <p:nvPr/>
        </p:nvPicPr>
        <p:blipFill>
          <a:blip r:embed="rId2"/>
          <a:stretch/>
        </p:blipFill>
        <p:spPr>
          <a:xfrm>
            <a:off x="4724280" y="3657600"/>
            <a:ext cx="4197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enus is seco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 has a very thick atmosphere, and this makes the temperature the highest in the solar syst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no mo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is about the same size as Eart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0" name="Picture 3" descr="venus.jpg"/>
          <p:cNvPicPr/>
          <p:nvPr/>
        </p:nvPicPr>
        <p:blipFill>
          <a:blip r:embed="rId2"/>
          <a:stretch/>
        </p:blipFill>
        <p:spPr>
          <a:xfrm>
            <a:off x="3048120" y="3962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arth is thir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liquid 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a medium-thick atmosphe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one mo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’s where we li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Picture 3" descr="earth 1.jpg"/>
          <p:cNvPicPr/>
          <p:nvPr/>
        </p:nvPicPr>
        <p:blipFill>
          <a:blip r:embed="rId2"/>
          <a:stretch/>
        </p:blipFill>
        <p:spPr>
          <a:xfrm>
            <a:off x="5257800" y="3429000"/>
            <a:ext cx="32878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rs is four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a thinner atmosphere than Eart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 surface wa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igh winds sometim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wo mo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Picture 3" descr="mars.jpg"/>
          <p:cNvPicPr/>
          <p:nvPr/>
        </p:nvPicPr>
        <p:blipFill>
          <a:blip r:embed="rId2"/>
          <a:stretch/>
        </p:blipFill>
        <p:spPr>
          <a:xfrm>
            <a:off x="4419720" y="3581280"/>
            <a:ext cx="3105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9:21:22Z</dcterms:created>
  <dc:creator>Ector County ISD Employee</dc:creator>
  <dc:description/>
  <dc:language>en-US</dc:language>
  <cp:lastModifiedBy>RomaK</cp:lastModifiedBy>
  <dcterms:modified xsi:type="dcterms:W3CDTF">2015-07-31T23:19:38Z</dcterms:modified>
  <cp:revision>54</cp:revision>
  <dc:subject/>
  <dc:title>Our Solar system</dc:title>
</cp:coreProperties>
</file>