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73044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4137120" y="0"/>
            <a:ext cx="316368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253880" y="719280"/>
            <a:ext cx="4794120" cy="35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9107280"/>
            <a:ext cx="316404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4137120" y="9107280"/>
            <a:ext cx="31636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1210-ECF9-44F0-ADDF-26922124059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III Properties of Mat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III Properties of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e special name that scientists give to homogenous mixtur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ions may be gases, liquids or soli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example: solution of sugar in wa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pecial name that scientists give to homogenous mix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 may be gases, liquids or sol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: solution of sugar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 part of a system with uniform composition and properties is called a pha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a homogenous mixture you have “one phase” onl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a heterogenous mixture you have “two or more phases”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part of a system with uniform composition and properties is called a ph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 homogenous mixture you have “one phase” on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 heterogenous mixture you have “two or more phase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ses in a heterogenous mix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 in a heterogenous mi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ses in a homogenous mix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 in a homogenous mi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parating 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pose you had a mixture of iron nails, salt and water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would you separate this mixture completely?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sed on which physical properties would you base your method on?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ng 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you had a mixture of iron nails, salt and wate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you separate this mixture completely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which physical properties would you base your method on?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parating 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would you separate the components in tap wat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l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liquid is boiled to produce vapor that is then condensed again to a liquid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ng 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you separate the components in tap wa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i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quid is boiled to produce vapor that is then condensed again to a liqui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eparating 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parating 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ple probl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an a mixture of iron fillings and aluminum fillings be separat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-Analyze: Plan a problem solving strate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st the properties of iron and aluminum and look for something that would be useful in separating the mix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a mixture of iron fillings and aluminum fillings be separa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-Analyze: Plan a problem solving strate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the properties of iron and aluminum and look for something that would be useful in separating the mi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o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yis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soluble in 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tracted to a mag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uminum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yis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soluble in 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attracted to magne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- Solve: Apply the problem-solving strateg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ke use of a property that differentiates the metals; use a magnet to attract the iron filling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y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soluble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acted to a mag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y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soluble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ttracted to mag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- Solve: Apply the problem-solving strate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se of a property that differentiates the metals; use a magnet to attract the iron fill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LL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 mixtur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an it be separat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you provide another example?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L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mix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it be separa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provide another example?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-Evaluate: Does the result make sens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cause the magnet attracts iron but not aluminum filings, the iron would be removed while the aluminum would be left behin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-Evaluate: Does the result make sen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the magnet attracts iron but not aluminum filings, the iron would be removed while the aluminum would be left beh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actice Proble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physical properties could be used to separate iron filings from sal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of the following are homogenous? heterogenou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-Spaghetti sauce  4.-Cough syru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-Glass                   5.-Mixture of nitrogen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-Muddy Water           and helium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physical properties could be used to separate iron filings from sal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f the following are homogenous? heterogeno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-Spaghetti sauce  4.-Cough syr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-Glass                   5.-Mixture of nitrogen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-Muddy Water           and helium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ELL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LL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mixture is a physical blend of two or         more substanc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ir composition varies (Air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are two types of mixtures: homogenous and heterogeno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ixture is a physical blend of two or         more substa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composition varies (Ai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mixtures: homogenous and heter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terogenous 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e type of mixture that is not uniform in composi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you were to sample one portion of such a mixture, it’s composition would be different from that of another por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genous 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ype of mixture that is not uniform in com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ere to sample one portion of such a mixture, it’s composition would be different from that of another por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genous mix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e type of mixture that has a completely uniform composition throughout itself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components are evenly distributed throughout the sampl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mi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ype of mixture that has a completely uniform composition throughout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components are evenly distributed throughout the sam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omogenous or Heterogenou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lt 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a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ineg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ydrogen perox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lad dress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p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rani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aundry deterg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r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mogenous or Heterogeno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t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neg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pe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ad dr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an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undry deter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292C-8CA8-4C87-8B3E-FF98E80C6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F6C2-34AD-4287-92D6-5FF72480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E58E-D365-49BC-A19E-52AF365AE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FC90-4577-4E2A-AE95-5C2DAC3BF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E6E6-16AF-4F67-AC55-76D9D6E7E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D241-1A79-4CFF-9244-38DA0AC8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B4DEE-A013-4B54-84D2-ADE50C79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0C71-2044-47AE-AE8A-433CB350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31D2-BF06-4D4A-847F-972FE6DF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63F24-9A1F-49CE-9B35-620D9BDE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F1B6D-037F-4578-8196-0F0221B9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FD2F-5DB6-4D37-B9E5-9D074FDD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A836-20B4-4E54-AC0B-64F168D0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F4865-0FCB-42B8-9681-3E6AB5D7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6C46-F19D-4EC0-8E0B-65889039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910D-09E6-42D3-822B-657F556ED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4598F-4AD5-4EDA-84C6-A819733BA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BC76-BF53-4C45-9983-5721632A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67FE-4BFA-4EBC-8883-F0E46186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A14D-2061-46B1-BCB9-E92713C7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758E-128E-463C-8465-D3CD55E1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C7FD-C0D6-471D-B54C-D7F43526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1E2B-7F1C-4EF2-9972-2B019500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D20F-320B-430B-8169-42558655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05C8-34EC-49E3-B8C9-4248BEFAD7A8}" type="slidenum">
              <a:rPr b="0" lang="es-ES_trad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6C2B-6CA6-4270-981E-79CBCBBCB270}" type="slidenum">
              <a:rPr b="0" lang="es-ES_trad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b2b2b2"/>
                </a:solidFill>
                <a:latin typeface="Arial"/>
              </a:rPr>
              <a:t>Mixtur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Unit III Properties of Ma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Solu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s the special name that scientists give to homogenous mixt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olutions may be gases, liquids or soli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n example: solution of sugar in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Solu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1981080"/>
          <a:ext cx="8291520" cy="4145040"/>
        </p:xfrm>
        <a:graphic>
          <a:graphicData uri="http://schemas.openxmlformats.org/drawingml/2006/table">
            <a:tbl>
              <a:tblPr/>
              <a:tblGrid>
                <a:gridCol w="4146480"/>
                <a:gridCol w="4145040"/>
              </a:tblGrid>
              <a:tr h="5004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Some common types of solutions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18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                           Examples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s-g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</a:t>
                      </a:r>
                      <a:r>
                        <a:rPr b="0" lang="en-GB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and O in N (air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quid-g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ter vapor in ai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s-liqu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</a:t>
                      </a:r>
                      <a:r>
                        <a:rPr b="0" lang="en-GB" sz="27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in </a:t>
                      </a:r>
                      <a:r>
                        <a:rPr b="0" lang="es-ES_tradnl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r>
                        <a:rPr b="0" lang="es-ES_tradnl" sz="2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s-ES_tradnl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 (Soda water)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0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quid-liqu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etic acid in H</a:t>
                      </a:r>
                      <a:r>
                        <a:rPr b="0" lang="es-ES_tradnl" sz="25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s-ES_tradnl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 (vinegar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id-liqu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Cl in </a:t>
                      </a:r>
                      <a:r>
                        <a:rPr b="0" lang="es-ES_tradnl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r>
                        <a:rPr b="0" lang="es-ES_tradnl" sz="25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s-ES_tradnl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 (brine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id-sol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 in Ag (Sterling silver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6" name="Picture 52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Phas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ny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part of a system with uniform composition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nd properties is called a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phas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On a homogenous mixture you have “one phase” on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On a heterogenous mixture you have “two or more phases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b2b2b2"/>
                </a:solidFill>
                <a:latin typeface="Arial"/>
              </a:rPr>
              <a:t>Phases in a heterogenous mixtur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1" name="Picture 5" descr="6a00cdf3a364f7cb8f00e398b5ba7b0004-500pi"/>
          <p:cNvPicPr/>
          <p:nvPr/>
        </p:nvPicPr>
        <p:blipFill>
          <a:blip r:embed="rId1"/>
          <a:stretch/>
        </p:blipFill>
        <p:spPr>
          <a:xfrm>
            <a:off x="1116000" y="1258920"/>
            <a:ext cx="6846840" cy="4762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b2b2b2"/>
                </a:solidFill>
                <a:latin typeface="Arial"/>
              </a:rPr>
              <a:t>Phases in a homogenous mixtur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4" name="Picture 6" descr="chocolate-milk"/>
          <p:cNvPicPr/>
          <p:nvPr/>
        </p:nvPicPr>
        <p:blipFill>
          <a:blip r:embed="rId1"/>
          <a:stretch/>
        </p:blipFill>
        <p:spPr>
          <a:xfrm>
            <a:off x="1835280" y="1197000"/>
            <a:ext cx="5688000" cy="5184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Separating 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uppose you had a mixture of iron nails, salt and water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How would you separate this mixture completely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Based on which physical properties would you base your method on?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Separating 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How would you separate the components in tap wa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Distil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 liquid is boiled to produce vapor that is then condensed again to a liquid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Separating 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3" name="Picture 5" descr="image"/>
          <p:cNvPicPr/>
          <p:nvPr/>
        </p:nvPicPr>
        <p:blipFill>
          <a:blip r:embed="rId1"/>
          <a:stretch/>
        </p:blipFill>
        <p:spPr>
          <a:xfrm>
            <a:off x="971640" y="1303200"/>
            <a:ext cx="6626160" cy="4862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Sampl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How can a mixture of iron fillings and aluminum fillings be separat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1.-Analyze: Plan a problem solving strate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ist the properties of iron and aluminum and look for something that would be useful in separating the mix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064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r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e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ray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Not soluble in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ttracted to a mag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320" y="2206440"/>
            <a:ext cx="4171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luminu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e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ray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Not soluble in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Not attracted to magn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468360" y="162864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2.- Solve: Apply the problem-solving strateg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468360" y="499752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ake use of a property that differentiates the metals; use a magnet to attract the iron filling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9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BELLWOR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What is a mixtu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How can it be separat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an you provide another example?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6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3.-Evaluate: Does the result make sens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Because the magnet attracts iron but not aluminum filings, the iron would be removed while the aluminum would be left behi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10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Practice Problem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What physical properties could be used to separate iron filings from sal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Which of the following are homogenous? heterogenou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1.-Spaghetti sauce  4.-Cough syru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2.-Glass                   5.-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ixture of nitrogen g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3.-Muddy Water           and helium g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BELLWOR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2" name="Picture 6" descr="Gold_nuggets_istock"/>
          <p:cNvPicPr/>
          <p:nvPr/>
        </p:nvPicPr>
        <p:blipFill>
          <a:blip r:embed="rId1"/>
          <a:stretch/>
        </p:blipFill>
        <p:spPr>
          <a:xfrm>
            <a:off x="539640" y="1197000"/>
            <a:ext cx="7920000" cy="4896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 mixture is a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physical blend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of two or         more substa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Their composition varies (Ai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There are two types of mixtures: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homogenous and heterogen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Heterogenous mix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s the type of mixture that is not uniform in composi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f you were to sample one portion of such a mixture, it’s composition would be different from that of another por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Reiki%20Salad"/>
          <p:cNvPicPr/>
          <p:nvPr/>
        </p:nvPicPr>
        <p:blipFill>
          <a:blip r:embed="rId1"/>
          <a:stretch/>
        </p:blipFill>
        <p:spPr>
          <a:xfrm>
            <a:off x="1123920" y="692280"/>
            <a:ext cx="6977160" cy="5392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Homogenous mix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s the type of mixture that has a completely uniform composition throughout itsel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t’s components are evenly distributed throughout the sampl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glass2"/>
          <p:cNvPicPr/>
          <p:nvPr/>
        </p:nvPicPr>
        <p:blipFill>
          <a:blip r:embed="rId1"/>
          <a:stretch/>
        </p:blipFill>
        <p:spPr>
          <a:xfrm>
            <a:off x="2666880" y="890640"/>
            <a:ext cx="3810240" cy="5076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Homogenous or Heterogenous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alt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Br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ineg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Hydrogen perox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alad dres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p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a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ra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aundry deterg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er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6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07:15:28Z</dcterms:created>
  <dc:creator>WinuE</dc:creator>
  <dc:description/>
  <dc:language>en-US</dc:language>
  <cp:lastModifiedBy>RomaK</cp:lastModifiedBy>
  <dcterms:modified xsi:type="dcterms:W3CDTF">2015-09-02T05:58:07Z</dcterms:modified>
  <cp:revision>13</cp:revision>
  <dc:subject/>
  <dc:title>Mixtures properties of matter</dc:title>
</cp:coreProperties>
</file>