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LASER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93B24-E98D-465E-BAAC-7EB63583BCF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adra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r. Claude S. Moo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Quadra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r. Claude S. Moo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&lt;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s of a polynomial function for n eve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&gt;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ding Coefficient Test: n ev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&lt;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s of a polynomial function for n ev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&gt;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ing Coefficient Test: n e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llowing statements are equivalent f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 a and polynomial function f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x = a is root or zero of 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x = a is solution of f (x) =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(x - a) is factor of f (x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(a, 0) is x-intercept of graph of f (x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ts, Zeros,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llowing statements are equivalent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l number a and polynomial function f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x = a is root or zero of 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x = a is solution of f (x) =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(x - a) is factor of f (x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(a, 0) is x-intercept of graph of f (x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s, Zeros,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If a polynomial function contains a factor (x - a)k, then x = a is a repeated root of multiplicity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If k is even, the graph touches (not crosses) the x-axis at x = 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If k is odd, the graph crosses the x-axis at x = 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eated Roots (Zero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If a polynomial function contains a factor (x - a)k, then x = a is a repeated root of multiplicity 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If k is even, the graph touches (not crosses) the x-axis at x = 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If k is odd, the graph crosses the x-axis at x = 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eated Roots (Zero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 &lt; b are two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 f (x)is a polynomial 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f (a)  f (b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f (x) takes on every r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value betwee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(a) and f (b) for a  x  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mediate Value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&lt; b are two real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 f (x)is a polynomial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f (a)  f (b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f (x) takes on every re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value betwe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(a) and f (b) for a  x 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mediate Value Theor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 f (x) be a polynomial function and a &lt; b be two re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 f (a) and f (b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opposite sig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one positive and one negative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f (x) = 0 for a &lt; x &lt; 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to Intermediate Val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f (x) be a polynomial function and a &lt; b be two real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 f (a) and f (b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opposite sig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ne positive and one negative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f (x) = 0 for a &lt; x &lt;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o Intermediate 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lynomial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ynthetic Di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r. Claude S. Moo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lynomial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ynthetic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r. Claude S. Moo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f (x) and d(x) are polynomi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d(x)  0 and the degree of d(x) 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 than or equal to the degree of f(x)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q(x) and r (x) are uniqu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s such th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(x) = d(x) ·q(x) + r (x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r (x) = 0 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s a degree less than d(x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ll Division Algorith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f (x) and d(x) are polynomi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d(x)  0 and the degree of d(x) 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than or equal to the degree of f(x)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q(x) and r (x) are uniqu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nomials such th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(x) = d(x) ·q(x) + r (x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r (x) = 0 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a degree less than d(x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ll Division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(x) = d(x) ·q(x) + r (x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n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oti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diviso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remai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r (x) = 0 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s a degree less than d(x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 Division Algorith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(x) = d(x) ·q(x) + r (x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e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oti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divis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remai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r (x) = 0 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a degree less than d(x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Division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x3 + bx2 + cx + d divided by x -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efficients of quotient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remai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. Copy leading coeffici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. Multiply diagonally.  3. Add vertical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ynthetic Di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x3 + bx2 + cx + d divided by x - 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efficients of quotient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remai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 Copy leading coeffici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. Multiply diagonally.  3. Add vertic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ynthetic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 polynomial  f (x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divided by x - k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mainder is  r = f (k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ainde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polynomial  f (x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divided by x - k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mainder is  r = f (k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ainder Theor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lynomial function of degree n is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the a’s are real numbers an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’s are nonnegative integer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an 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 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lynomial function of degree n is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the a’s are real numbers an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’s are nonnegative integer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n 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nomial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lynomial  f (x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s a factor (x - k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nd only if  f (k) =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lynomial  f (x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a factor (x - k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d only if  f (k) =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Theor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al Zeros of Polynomi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r. Claude S. Moo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al Zeros of Polynomial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r. Claude S. Moo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’s are real numbers, an  0, and a0 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Number of positive real zeros of f  equals number of variations in sign of f(x), or less than that number by an even integ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Number of negative real zeros of f equals number of variations in sign of f(-x), or less than that number by an even integ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artes’s Rule of Sig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’s are real numbers, an  0, and a0 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Number of positive real zeros of f  equals number of variations in sign of f(x), or less than that number by an even integ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Number of negative real zeros of f equals number of variations in sign of f(-x), or less than that number by an even integ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artes’s Rule of Sig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’s are real numbers, an  0, and a0 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f(x) has two change-of-signs; thus, f(x) has two or zero positive real roo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f(-x) = -4x3 - 5x2 + 6 has one change-of-signs; thus, f(x) has one negative real roo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1: Descartes’s Rule of Sig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’s are real numbers, an  0, and a0 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f(x) has two change-of-signs; thus, f(x) has two or zero positive real roo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f(-x) = -4x3 - 5x2 + 6 has one change-of-signs; thus, f(x) has one negative real ro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1: Descartes’s Rule of Sig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out x; f(x) = x(4x2 - 5x + 6) = xg(x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g(x) has two change-of-signs; thus, g(x) has two or zero positive real roo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g(-x) = 4x2 + 5x + 6 has zero change-of-signs; thus, g(x) has no negative real roo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2: Descartes’s Rule of Sig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out x; f(x) = x(4x2 - 5x + 6) = xg(x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g(x) has two change-of-signs; thus, g(x) has two or zero positive real roo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g(-x) = 4x2 + 5x + 6 has zero change-of-signs; thus, g(x) has no negative real ro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2: Descartes’s Rule of Sig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’s are integers, every rational zero of f  has the for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 zero =  p/q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reduced form, and p and q are factors of a0 and an, respective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 Zero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’s are integers, every rational zero of f  has the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 zero =  p/q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duced form, and p and q are factors of a0 and an, respective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 Zer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(x) = 4x3 - 5x2 + 6 </a:t>
            </a:r>
            <a:br>
              <a:rPr sz="1200"/>
            </a:b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  {1, 2, 3, 6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  {1, 2, 4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/q  {1, 2, 3, 6,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1/2, 1/4, 3/2, 3/4}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presents all possible rational roots of f(x) = 4x3 - 5x2 + 6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 3:  Rational Zero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(x) = 4x3 - 5x2 + 6 </a:t>
            </a:r>
            <a:br>
              <a:rPr sz="1200"/>
            </a:b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  {1, 2, 3, 6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q  {1, 2, 4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/q  {1, 2, 3, 6,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1/2, 1/4, 3/2, 3/4}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presents all possible rational roots of f(x) = 4x3 - 5x2 + 6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xample 3:  Rational Zer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x) is a polynomial with real coefficients and an &gt; 0 wit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x)  (x - c), using synthetic divis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If c &gt; 0 and each # in last row is either positive or zero, c is an upper b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If c &lt; 0 and the #’s in the last row alternate positive and negative, c is an lower b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pper and Lower B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is a polynomial with real coefficients and an &gt; 0 wit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 (x - c), using synthetic divis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If c &gt; 0 and each # in last row is either positive or zero, c is an upper b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If c &lt; 0 and the #’s in the last row alternate positive and negative, c is an lower b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per and Lower B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x3 - 3x2 - 12x + 8 divided by x +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-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-12           8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-6             27         -4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-9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15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-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 = -3 &lt; 0 and #’s in last row alternate positive/negative.  Thus, x = -3 is a lower bound to real roo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4: Upper and Lower B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 - 3x2 - 12x + 8 divided by x +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-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-12           8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-6             27         -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-9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-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= -3 &lt; 0 and #’s in last row alternate positive/negative.  Thus, x = -3 is a lower bound to real roo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4: Upper and Lower B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lynomial function of degree 2 is called a quadratic fun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of the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, b, and c are real number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a 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dratic 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lynomial function of degree 2 is called a quadratic fun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of the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, b, and c are real number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 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dratic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quadratic function of the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s the axis of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mmet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xis of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 quadratic function of the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s the axis of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is of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quadratic function of the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in standard fo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xis of symmetry:  x = 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tex:  (h, k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ndard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quadratic function of the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in standard 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is of symmetry:  x = 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ex:  (h, 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aracteristics of Parabo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 &gt;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 &lt;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vertex: minim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vertex: maxim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aracteristics of Para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 &gt;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 &lt;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vertex: mini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vertex: maxi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igher Degre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lynomi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r. Claude S. Moo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igher Degre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lynomial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r. Claude S. Moo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aph of a polynomial function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Is continuo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Has smooth, rounded tur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For n even, both sides go same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For n odd, sides go opposite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For a &gt; 0, right side goes u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For a &lt; 0, right side goes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acteris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aph of a polynomial function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Is continuo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Has smooth, rounded tur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For n even, both sides go same 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For n odd, sides go opposite 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For a &gt; 0, right side goes 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For a &lt; 0, right side goes d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&lt;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s of a polynomial function for n od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ding Coefficient Test: n od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&gt;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&lt;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s of a polynomial function for n od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ing Coefficient Test: n od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&gt;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BF1D-4C33-4B65-9E93-FB3382130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7346-5534-4706-A86E-2C8FE9425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3A43-7399-4A29-9D89-C4DDECCEE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3FD7-706D-44AD-BFBB-311CF40B5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9AB3-B538-4997-AC5F-7DF60D57A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F1E7-DF39-484F-ACE9-A65AB554C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82E4-5E01-4749-AB2D-DB7650D2A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0A55-E793-446B-8D1C-26E9BD89A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DD3B-D70A-4B48-B030-BA59DD8AC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527D-3C33-41DF-92FC-4CCC8C439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7432-A18D-43C4-BDD9-25B770D43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AED0-0DA5-4D0A-AAE4-3E8783C8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F3141-6BD6-4182-9468-67E4094431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76320" y="2133720"/>
            <a:ext cx="4419360" cy="2819160"/>
          </a:xfrm>
          <a:prstGeom prst="rect">
            <a:avLst/>
          </a:prstGeom>
          <a:solidFill>
            <a:srgbClr val="ffcc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Quadratic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1003320" y="5270400"/>
            <a:ext cx="7454880" cy="15876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1143000" y="5499000"/>
            <a:ext cx="7058160" cy="1282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50000">
                <a:srgbClr val="c29b4e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Dr. Claude S. Moore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Danville Community Colle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167652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00"/>
                </a:solidFill>
                <a:latin typeface="Times New Roman"/>
              </a:rPr>
              <a:t>PRECALCULUS I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4800600" y="2133720"/>
            <a:ext cx="4114800" cy="2819160"/>
          </a:xfrm>
          <a:prstGeom prst="rect">
            <a:avLst/>
          </a:prstGeom>
          <a:solidFill>
            <a:srgbClr val="ffddbb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5181480" y="2514600"/>
            <a:ext cx="3124440" cy="2095560"/>
          </a:xfrm>
          <a:custGeom>
            <a:avLst/>
            <a:gdLst/>
            <a:ahLst/>
            <a:rect l="l" t="t" r="r" b="b"/>
            <a:pathLst>
              <a:path w="1968" h="1320">
                <a:moveTo>
                  <a:pt x="0" y="0"/>
                </a:moveTo>
                <a:cubicBezTo>
                  <a:pt x="364" y="636"/>
                  <a:pt x="728" y="1272"/>
                  <a:pt x="1056" y="1296"/>
                </a:cubicBezTo>
                <a:cubicBezTo>
                  <a:pt x="1384" y="1320"/>
                  <a:pt x="1676" y="732"/>
                  <a:pt x="1968" y="144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3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2209680"/>
            <a:ext cx="9144000" cy="4648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7010280" y="2743200"/>
            <a:ext cx="1219320" cy="648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&lt;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0" y="762120"/>
            <a:ext cx="9144000" cy="1676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raphs of a polynomial function for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n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 eve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5"/>
              <p:cNvSpPr txBox="1"/>
              <p:nvPr/>
            </p:nvSpPr>
            <p:spPr>
              <a:xfrm>
                <a:off x="609480" y="685800"/>
                <a:ext cx="7772400" cy="10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⋅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1" name="Text Box 6"/>
          <p:cNvSpPr/>
          <p:nvPr/>
        </p:nvSpPr>
        <p:spPr>
          <a:xfrm>
            <a:off x="685800" y="2773440"/>
            <a:ext cx="1295280" cy="648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Group 7"/>
          <p:cNvGrpSpPr/>
          <p:nvPr/>
        </p:nvGrpSpPr>
        <p:grpSpPr>
          <a:xfrm>
            <a:off x="4876920" y="3429000"/>
            <a:ext cx="3657600" cy="2819520"/>
            <a:chOff x="4876920" y="3429000"/>
            <a:chExt cx="3657600" cy="2819520"/>
          </a:xfrm>
        </p:grpSpPr>
        <mc:AlternateContent>
          <mc:Choice xmlns:a14="http://schemas.microsoft.com/office/drawing/2010/main" Requires="a14">
            <p:sp>
              <p:nvSpPr>
                <p:cNvPr id="123" name="Object 8"/>
                <p:cNvSpPr txBox="1"/>
                <p:nvPr/>
              </p:nvSpPr>
              <p:spPr>
                <a:xfrm>
                  <a:off x="7010280" y="5373720"/>
                  <a:ext cx="1524240" cy="87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→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s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124" name="Group 9"/>
            <p:cNvGrpSpPr/>
            <p:nvPr/>
          </p:nvGrpSpPr>
          <p:grpSpPr>
            <a:xfrm>
              <a:off x="5943240" y="3429000"/>
              <a:ext cx="1448280" cy="1562040"/>
              <a:chOff x="5943240" y="3429000"/>
              <a:chExt cx="1448280" cy="1562040"/>
            </a:xfrm>
          </p:grpSpPr>
          <p:sp>
            <p:nvSpPr>
              <p:cNvPr id="125" name="Freeform 10"/>
              <p:cNvSpPr/>
              <p:nvPr/>
            </p:nvSpPr>
            <p:spPr>
              <a:xfrm flipV="1">
                <a:off x="6019920" y="3429000"/>
                <a:ext cx="1295280" cy="1333440"/>
              </a:xfrm>
              <a:custGeom>
                <a:avLst/>
                <a:gdLst/>
                <a:ahLst/>
                <a:rect l="l" t="t" r="r" b="b"/>
                <a:pathLst>
                  <a:path w="816" h="840">
                    <a:moveTo>
                      <a:pt x="0" y="0"/>
                    </a:moveTo>
                    <a:cubicBezTo>
                      <a:pt x="84" y="348"/>
                      <a:pt x="168" y="696"/>
                      <a:pt x="240" y="768"/>
                    </a:cubicBezTo>
                    <a:cubicBezTo>
                      <a:pt x="312" y="840"/>
                      <a:pt x="376" y="432"/>
                      <a:pt x="432" y="432"/>
                    </a:cubicBezTo>
                    <a:cubicBezTo>
                      <a:pt x="488" y="432"/>
                      <a:pt x="512" y="840"/>
                      <a:pt x="576" y="768"/>
                    </a:cubicBezTo>
                    <a:cubicBezTo>
                      <a:pt x="640" y="696"/>
                      <a:pt x="728" y="348"/>
                      <a:pt x="816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Line 11"/>
              <p:cNvSpPr/>
              <p:nvPr/>
            </p:nvSpPr>
            <p:spPr>
              <a:xfrm>
                <a:off x="7238880" y="4534200"/>
                <a:ext cx="152640" cy="45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Line 12"/>
              <p:cNvSpPr/>
              <p:nvPr/>
            </p:nvSpPr>
            <p:spPr>
              <a:xfrm flipH="1">
                <a:off x="5943240" y="4457880"/>
                <a:ext cx="152280" cy="53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28" name="Object 13"/>
                <p:cNvSpPr txBox="1"/>
                <p:nvPr/>
              </p:nvSpPr>
              <p:spPr>
                <a:xfrm>
                  <a:off x="4876920" y="5376960"/>
                  <a:ext cx="1517400" cy="87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→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s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9" name="Group 14"/>
          <p:cNvGrpSpPr/>
          <p:nvPr/>
        </p:nvGrpSpPr>
        <p:grpSpPr>
          <a:xfrm>
            <a:off x="380880" y="3733920"/>
            <a:ext cx="3530880" cy="2590200"/>
            <a:chOff x="380880" y="3733920"/>
            <a:chExt cx="3530880" cy="2590200"/>
          </a:xfrm>
        </p:grpSpPr>
        <mc:AlternateContent>
          <mc:Choice xmlns:a14="http://schemas.microsoft.com/office/drawing/2010/main" Requires="a14">
            <p:sp>
              <p:nvSpPr>
                <p:cNvPr id="130" name="Object 15"/>
                <p:cNvSpPr txBox="1"/>
                <p:nvPr/>
              </p:nvSpPr>
              <p:spPr>
                <a:xfrm>
                  <a:off x="2514600" y="3733920"/>
                  <a:ext cx="1397160" cy="90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s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131" name="Group 16"/>
            <p:cNvGrpSpPr/>
            <p:nvPr/>
          </p:nvGrpSpPr>
          <p:grpSpPr>
            <a:xfrm>
              <a:off x="1371240" y="4762080"/>
              <a:ext cx="1448280" cy="1562040"/>
              <a:chOff x="1371240" y="4762080"/>
              <a:chExt cx="1448280" cy="1562040"/>
            </a:xfrm>
          </p:grpSpPr>
          <p:sp>
            <p:nvSpPr>
              <p:cNvPr id="132" name="Freeform 17"/>
              <p:cNvSpPr/>
              <p:nvPr/>
            </p:nvSpPr>
            <p:spPr>
              <a:xfrm>
                <a:off x="1447920" y="4990680"/>
                <a:ext cx="1295280" cy="1333440"/>
              </a:xfrm>
              <a:custGeom>
                <a:avLst/>
                <a:gdLst/>
                <a:ahLst/>
                <a:rect l="l" t="t" r="r" b="b"/>
                <a:pathLst>
                  <a:path w="816" h="840">
                    <a:moveTo>
                      <a:pt x="0" y="0"/>
                    </a:moveTo>
                    <a:cubicBezTo>
                      <a:pt x="84" y="348"/>
                      <a:pt x="168" y="696"/>
                      <a:pt x="240" y="768"/>
                    </a:cubicBezTo>
                    <a:cubicBezTo>
                      <a:pt x="312" y="840"/>
                      <a:pt x="376" y="432"/>
                      <a:pt x="432" y="432"/>
                    </a:cubicBezTo>
                    <a:cubicBezTo>
                      <a:pt x="488" y="432"/>
                      <a:pt x="512" y="840"/>
                      <a:pt x="576" y="768"/>
                    </a:cubicBezTo>
                    <a:cubicBezTo>
                      <a:pt x="640" y="696"/>
                      <a:pt x="728" y="348"/>
                      <a:pt x="816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Line 18"/>
              <p:cNvSpPr/>
              <p:nvPr/>
            </p:nvSpPr>
            <p:spPr>
              <a:xfrm flipV="1">
                <a:off x="2666880" y="4762080"/>
                <a:ext cx="152640" cy="45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Line 19"/>
              <p:cNvSpPr/>
              <p:nvPr/>
            </p:nvSpPr>
            <p:spPr>
              <a:xfrm flipH="1" flipV="1">
                <a:off x="1371240" y="4762080"/>
                <a:ext cx="152280" cy="53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35" name="Object 20"/>
                <p:cNvSpPr txBox="1"/>
                <p:nvPr/>
              </p:nvSpPr>
              <p:spPr>
                <a:xfrm>
                  <a:off x="380880" y="3733920"/>
                  <a:ext cx="1600200" cy="95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s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76320" y="-360"/>
            <a:ext cx="8991360" cy="7621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Leading Coefficient Test: </a:t>
            </a:r>
            <a:r>
              <a:rPr b="1" i="1" lang="en-US" sz="4800" spc="-1" strike="noStrike" u="sng">
                <a:solidFill>
                  <a:srgbClr val="ff0000"/>
                </a:solidFill>
                <a:uFillTx/>
                <a:latin typeface="Times New Roman"/>
              </a:rPr>
              <a:t>n ev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22"/>
          <p:cNvSpPr/>
          <p:nvPr/>
        </p:nvSpPr>
        <p:spPr>
          <a:xfrm>
            <a:off x="4495680" y="2666880"/>
            <a:ext cx="0" cy="3810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following statements are equivalent f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al number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polynomial function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 = 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roo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zer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 = 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solu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 = 0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 - 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facto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0) is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x-intercep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f graph o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0666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Roots, Zeros, Solution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. If a polynomial function contains a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factor (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x - a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)</a:t>
            </a:r>
            <a:r>
              <a:rPr b="0" lang="en-US" sz="60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 then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 = 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s a repeated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root of multiplicity k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. If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k is even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 the graph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touche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(not crosses) the x-axis at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 = 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. If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k is odd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 the graph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crosse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the x-axis at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 = 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0666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Repeated Roots (Zeros)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are two real numb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is a polynomial fun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 takes on every re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umber value betwee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0666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Intermediate Value Theore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 be a polynomial function and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be two real number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f  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f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(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) and 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f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(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)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have opposite sign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one positive and one negative)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f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 (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) = 0 for 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 &lt; 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 &lt; 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0666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NOTE to Intermediate Valu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76320" y="2133720"/>
            <a:ext cx="8915400" cy="2819160"/>
          </a:xfrm>
          <a:prstGeom prst="rect">
            <a:avLst/>
          </a:prstGeom>
          <a:solidFill>
            <a:srgbClr val="ccec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Polynomial an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Synthetic Divisi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1003320" y="5270400"/>
            <a:ext cx="7454880" cy="15876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4"/>
          <p:cNvSpPr/>
          <p:nvPr/>
        </p:nvSpPr>
        <p:spPr>
          <a:xfrm>
            <a:off x="1066680" y="5486400"/>
            <a:ext cx="7058160" cy="1282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50000">
                <a:srgbClr val="c29b4e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Dr. Claude S. Moore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Danville Community Colle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167652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00"/>
                </a:solidFill>
                <a:latin typeface="Times New Roman"/>
              </a:rPr>
              <a:t>PRECALCULUS I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1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5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and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are polynomia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0 and the degree o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i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ss than or equal to the degree o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f(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and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are uniqu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lynomials such that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x) =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x) ·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x) +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x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= 0 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s a degree less than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93a5d7"/>
              </a:gs>
              <a:gs pos="50000">
                <a:srgbClr val="eeb5aa"/>
              </a:gs>
              <a:gs pos="100000">
                <a:srgbClr val="93a5d7"/>
              </a:gs>
            </a:gsLst>
            <a:lin ang="18900000"/>
          </a:gra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Full Division Algorithm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x) =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x) ·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x) +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x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viden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oti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diviso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remain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x) = 0 o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as a degree less than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x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93a5d7"/>
              </a:gs>
              <a:gs pos="50000">
                <a:srgbClr val="eeb5aa"/>
              </a:gs>
              <a:gs pos="100000">
                <a:srgbClr val="93a5d7"/>
              </a:gs>
            </a:gsLst>
            <a:lin ang="18900000"/>
          </a:gra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Short Division Algorithm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Group 4"/>
          <p:cNvGrpSpPr/>
          <p:nvPr/>
        </p:nvGrpSpPr>
        <p:grpSpPr>
          <a:xfrm>
            <a:off x="2362320" y="2514240"/>
            <a:ext cx="4572000" cy="1523880"/>
            <a:chOff x="2362320" y="2514240"/>
            <a:chExt cx="4572000" cy="1523880"/>
          </a:xfrm>
        </p:grpSpPr>
        <p:sp>
          <p:nvSpPr>
            <p:cNvPr id="162" name="Line 5"/>
            <p:cNvSpPr/>
            <p:nvPr/>
          </p:nvSpPr>
          <p:spPr>
            <a:xfrm flipV="1">
              <a:off x="2362320" y="251460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6"/>
            <p:cNvSpPr/>
            <p:nvPr/>
          </p:nvSpPr>
          <p:spPr>
            <a:xfrm flipV="1">
              <a:off x="3962520" y="2514600"/>
              <a:ext cx="0" cy="144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7"/>
            <p:cNvSpPr/>
            <p:nvPr/>
          </p:nvSpPr>
          <p:spPr>
            <a:xfrm flipV="1">
              <a:off x="5334120" y="2514600"/>
              <a:ext cx="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8"/>
            <p:cNvSpPr/>
            <p:nvPr/>
          </p:nvSpPr>
          <p:spPr>
            <a:xfrm flipV="1">
              <a:off x="6934320" y="2514240"/>
              <a:ext cx="0" cy="15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0" lang="en-US" sz="5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+ bx</a:t>
            </a:r>
            <a:r>
              <a:rPr b="0" lang="en-US" sz="5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+ cx + d divided by x - 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k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coefficients of quotient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 remain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Copy leading coefficien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Multiply diagonally.  3. Add verticall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93a5d7"/>
              </a:gs>
              <a:gs pos="50000">
                <a:srgbClr val="eeb5aa"/>
              </a:gs>
              <a:gs pos="100000">
                <a:srgbClr val="93a5d7"/>
              </a:gs>
            </a:gsLst>
            <a:lin ang="18900000"/>
          </a:gra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Synthetic Divisi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Oval 4"/>
          <p:cNvSpPr/>
          <p:nvPr/>
        </p:nvSpPr>
        <p:spPr>
          <a:xfrm>
            <a:off x="5410080" y="2743200"/>
            <a:ext cx="60984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Oval 5"/>
          <p:cNvSpPr/>
          <p:nvPr/>
        </p:nvSpPr>
        <p:spPr>
          <a:xfrm>
            <a:off x="1752480" y="2057400"/>
            <a:ext cx="60984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Oval 6"/>
          <p:cNvSpPr/>
          <p:nvPr/>
        </p:nvSpPr>
        <p:spPr>
          <a:xfrm>
            <a:off x="7238880" y="2743200"/>
            <a:ext cx="60984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Oval 7"/>
          <p:cNvSpPr/>
          <p:nvPr/>
        </p:nvSpPr>
        <p:spPr>
          <a:xfrm>
            <a:off x="3429000" y="274320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Oval 8"/>
          <p:cNvSpPr/>
          <p:nvPr/>
        </p:nvSpPr>
        <p:spPr>
          <a:xfrm>
            <a:off x="7238880" y="3886200"/>
            <a:ext cx="60984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Oval 9"/>
          <p:cNvSpPr/>
          <p:nvPr/>
        </p:nvSpPr>
        <p:spPr>
          <a:xfrm>
            <a:off x="1752480" y="3886200"/>
            <a:ext cx="60984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Oval 10"/>
          <p:cNvSpPr/>
          <p:nvPr/>
        </p:nvSpPr>
        <p:spPr>
          <a:xfrm>
            <a:off x="3505320" y="3886200"/>
            <a:ext cx="60948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Oval 11"/>
          <p:cNvSpPr/>
          <p:nvPr/>
        </p:nvSpPr>
        <p:spPr>
          <a:xfrm>
            <a:off x="5410080" y="3886200"/>
            <a:ext cx="60984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12"/>
          <p:cNvSpPr/>
          <p:nvPr/>
        </p:nvSpPr>
        <p:spPr>
          <a:xfrm>
            <a:off x="1447920" y="2057400"/>
            <a:ext cx="0" cy="14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13"/>
          <p:cNvSpPr/>
          <p:nvPr/>
        </p:nvSpPr>
        <p:spPr>
          <a:xfrm>
            <a:off x="1447920" y="3505320"/>
            <a:ext cx="6781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14"/>
          <p:cNvSpPr/>
          <p:nvPr/>
        </p:nvSpPr>
        <p:spPr>
          <a:xfrm>
            <a:off x="2057400" y="27432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15"/>
          <p:cNvSpPr/>
          <p:nvPr/>
        </p:nvSpPr>
        <p:spPr>
          <a:xfrm>
            <a:off x="5715000" y="3429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16"/>
          <p:cNvSpPr/>
          <p:nvPr/>
        </p:nvSpPr>
        <p:spPr>
          <a:xfrm>
            <a:off x="7543800" y="3429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17"/>
          <p:cNvSpPr/>
          <p:nvPr/>
        </p:nvSpPr>
        <p:spPr>
          <a:xfrm>
            <a:off x="3809880" y="3505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8"/>
          <p:cNvSpPr/>
          <p:nvPr/>
        </p:nvSpPr>
        <p:spPr>
          <a:xfrm flipV="1">
            <a:off x="2286000" y="3276360"/>
            <a:ext cx="1143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19"/>
          <p:cNvSpPr/>
          <p:nvPr/>
        </p:nvSpPr>
        <p:spPr>
          <a:xfrm flipV="1">
            <a:off x="4038480" y="320004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20"/>
          <p:cNvSpPr/>
          <p:nvPr/>
        </p:nvSpPr>
        <p:spPr>
          <a:xfrm flipV="1">
            <a:off x="5943600" y="3200040"/>
            <a:ext cx="12952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21"/>
          <p:cNvSpPr/>
          <p:nvPr/>
        </p:nvSpPr>
        <p:spPr>
          <a:xfrm>
            <a:off x="1600200" y="3962520"/>
            <a:ext cx="0" cy="1143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22"/>
          <p:cNvSpPr/>
          <p:nvPr/>
        </p:nvSpPr>
        <p:spPr>
          <a:xfrm>
            <a:off x="6172200" y="3962520"/>
            <a:ext cx="0" cy="1143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1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2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3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4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5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6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6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f a polynomial 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(x)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s divided by x - k,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 remainder is  r =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(k)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93a5d7"/>
              </a:gs>
              <a:gs pos="50000">
                <a:srgbClr val="eeb5aa"/>
              </a:gs>
              <a:gs pos="100000">
                <a:srgbClr val="93a5d7"/>
              </a:gs>
            </a:gsLst>
            <a:lin ang="18900000"/>
          </a:gra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Remainder Theorem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63868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lynomial function of degree 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s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the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’s are real number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’s are nonnegative integer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4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Polynomial Functi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4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5"/>
              <p:cNvSpPr txBox="1"/>
              <p:nvPr/>
            </p:nvSpPr>
            <p:spPr>
              <a:xfrm>
                <a:off x="228600" y="2209680"/>
                <a:ext cx="8610480" cy="11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⋅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polynomial 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(x)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has a factor (x - k)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f and only if 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(k) = 0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93a5d7"/>
              </a:gs>
              <a:gs pos="50000">
                <a:srgbClr val="eeb5aa"/>
              </a:gs>
              <a:gs pos="100000">
                <a:srgbClr val="93a5d7"/>
              </a:gs>
            </a:gsLst>
            <a:lin ang="18900000"/>
          </a:gra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Factor Theorem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152280" y="2133720"/>
            <a:ext cx="8839440" cy="2819160"/>
          </a:xfrm>
          <a:prstGeom prst="rect">
            <a:avLst/>
          </a:prstGeom>
          <a:solidFill>
            <a:srgbClr val="ffcc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Real Zeros of Polynomial Function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1003320" y="5270400"/>
            <a:ext cx="7454880" cy="158760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4"/>
          <p:cNvSpPr/>
          <p:nvPr/>
        </p:nvSpPr>
        <p:spPr>
          <a:xfrm>
            <a:off x="1143000" y="5499000"/>
            <a:ext cx="7058160" cy="1282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50000">
                <a:srgbClr val="c29b4e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Dr. Claude S. Moore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Danville Community Colle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167652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00"/>
                </a:solidFill>
                <a:latin typeface="Times New Roman"/>
              </a:rPr>
              <a:t>PRECALCULUS I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0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0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’s are real numbers,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4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0,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0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Number of positive real zeros of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equals number of variations in sign of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f(x)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or less than that number by an even inte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Number of negative real zeros of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equals number of variations in sign of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f(-x)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or less than that number by an even inte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Descartes’s Rule of Sig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4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5"/>
              <p:cNvSpPr txBox="1"/>
              <p:nvPr/>
            </p:nvSpPr>
            <p:spPr>
              <a:xfrm>
                <a:off x="228600" y="1058760"/>
                <a:ext cx="8686800" cy="12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⋅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’s are real numbers,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4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0,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0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f(x) has two change-of-signs; thus, f(x) has two or zero positive real roo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f(-x) = -4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5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6 has one change-of-signs; thus, f(x) has one negative real roo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Example 1: Descartes’s Rule of 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4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5"/>
              <p:cNvSpPr txBox="1"/>
              <p:nvPr/>
            </p:nvSpPr>
            <p:spPr>
              <a:xfrm>
                <a:off x="1905120" y="1143000"/>
                <a:ext cx="56386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actor out x; f(x) = x(4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5x + 6) = xg(x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g(x) has two change-of-signs; thus, g(x) has two or zero positive real roo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g(-x) = 4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5x + 6 has zero change-of-signs; thus, g(x) has no negative real roo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Example 2: Descartes’s Rule of 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4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5"/>
              <p:cNvSpPr txBox="1"/>
              <p:nvPr/>
            </p:nvSpPr>
            <p:spPr>
              <a:xfrm>
                <a:off x="1523880" y="1422360"/>
                <a:ext cx="6102360" cy="116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76320" y="1066320"/>
            <a:ext cx="8991360" cy="579132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1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’s are integer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 every rational zero of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as the form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ational zero = 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p/q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reduced form, and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are factors of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 respectivel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Rational Zero Test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Object 4"/>
              <p:cNvSpPr txBox="1"/>
              <p:nvPr/>
            </p:nvSpPr>
            <p:spPr>
              <a:xfrm>
                <a:off x="228600" y="990720"/>
                <a:ext cx="8686800" cy="12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⋅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76320" y="1066320"/>
            <a:ext cx="8991360" cy="579132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(x) = 4x</a:t>
            </a:r>
            <a:r>
              <a:rPr b="0" lang="en-US" sz="4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5x</a:t>
            </a:r>
            <a:r>
              <a:rPr b="0" lang="en-US" sz="4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+ 6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800"/>
            </a:br>
            <a:br>
              <a:rPr sz="18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}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}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/q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,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/2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/4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/2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/4}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sents all possible rational roots of f(x) = 4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5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+ 6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Example 3:  Rational Zero 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76320" y="1142640"/>
            <a:ext cx="8991360" cy="571500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(x) is a polynomial with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real coefficient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(x)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(x - c), using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synthetic divisio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If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 &gt; 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each # in last row is either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positive or zero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c is an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upper boun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If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 &lt; 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the #’s in the last row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alternate positive and negativ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c is an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ower boun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0666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Upper and Lower Boun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0" lang="en-US" sz="5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3x</a:t>
            </a:r>
            <a:r>
              <a:rPr b="0" lang="en-US" sz="5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12x + 8 divided by x +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-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-12           8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6             27         -4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-9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15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-3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 = -3 &lt; 0 and #’s in last row alternate positive/negative.  Thus, x = -3 is a lower bound to real root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Group 3"/>
          <p:cNvGrpSpPr/>
          <p:nvPr/>
        </p:nvGrpSpPr>
        <p:grpSpPr>
          <a:xfrm>
            <a:off x="1447920" y="2057400"/>
            <a:ext cx="6781680" cy="1447920"/>
            <a:chOff x="1447920" y="2057400"/>
            <a:chExt cx="6781680" cy="1447920"/>
          </a:xfrm>
        </p:grpSpPr>
        <p:sp>
          <p:nvSpPr>
            <p:cNvPr id="227" name="Line 4"/>
            <p:cNvSpPr/>
            <p:nvPr/>
          </p:nvSpPr>
          <p:spPr>
            <a:xfrm>
              <a:off x="1447920" y="2057400"/>
              <a:ext cx="0" cy="144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5"/>
            <p:cNvSpPr/>
            <p:nvPr/>
          </p:nvSpPr>
          <p:spPr>
            <a:xfrm>
              <a:off x="1447920" y="3505320"/>
              <a:ext cx="6781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Line 6"/>
          <p:cNvSpPr/>
          <p:nvPr/>
        </p:nvSpPr>
        <p:spPr>
          <a:xfrm>
            <a:off x="2057400" y="25909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7"/>
          <p:cNvSpPr/>
          <p:nvPr/>
        </p:nvSpPr>
        <p:spPr>
          <a:xfrm>
            <a:off x="5715000" y="3276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8"/>
          <p:cNvSpPr/>
          <p:nvPr/>
        </p:nvSpPr>
        <p:spPr>
          <a:xfrm>
            <a:off x="7543800" y="3276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9"/>
          <p:cNvSpPr/>
          <p:nvPr/>
        </p:nvSpPr>
        <p:spPr>
          <a:xfrm>
            <a:off x="3733920" y="3352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10"/>
          <p:cNvSpPr/>
          <p:nvPr/>
        </p:nvSpPr>
        <p:spPr>
          <a:xfrm flipV="1">
            <a:off x="2209680" y="320040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11"/>
          <p:cNvSpPr/>
          <p:nvPr/>
        </p:nvSpPr>
        <p:spPr>
          <a:xfrm flipV="1">
            <a:off x="3962520" y="31237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12"/>
          <p:cNvSpPr/>
          <p:nvPr/>
        </p:nvSpPr>
        <p:spPr>
          <a:xfrm flipV="1">
            <a:off x="6095880" y="3200400"/>
            <a:ext cx="10670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76320" y="-360"/>
            <a:ext cx="8991360" cy="1143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Example 4: Upper and Lower B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0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1" nodeType="after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15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20" nodeType="after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24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9" nodeType="after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3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333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76320" y="1142640"/>
            <a:ext cx="8991360" cy="563868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polynomial function of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egree 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s called a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quadratic function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t is of the for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1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, b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are real numbers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0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Quadratic Functi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4"/>
              <p:cNvSpPr txBox="1"/>
              <p:nvPr/>
            </p:nvSpPr>
            <p:spPr>
              <a:xfrm>
                <a:off x="1523880" y="3276720"/>
                <a:ext cx="5861160" cy="12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76320" y="1142640"/>
            <a:ext cx="8991360" cy="563868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a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quadratic function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of the for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ives the axis of 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ymmetr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0666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Axis of Symmet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4"/>
              <p:cNvSpPr txBox="1"/>
              <p:nvPr/>
            </p:nvSpPr>
            <p:spPr>
              <a:xfrm>
                <a:off x="1530360" y="2209680"/>
                <a:ext cx="6013440" cy="132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5"/>
              <p:cNvSpPr txBox="1"/>
              <p:nvPr/>
            </p:nvSpPr>
            <p:spPr>
              <a:xfrm>
                <a:off x="1055520" y="3886200"/>
                <a:ext cx="1839960" cy="15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76320" y="1142640"/>
            <a:ext cx="8991360" cy="563868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quadratic function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of the for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s in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tandard for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xis of symmetry:  x = 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ertex:  (h, k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0666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Standard Form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4"/>
              <p:cNvSpPr txBox="1"/>
              <p:nvPr/>
            </p:nvSpPr>
            <p:spPr>
              <a:xfrm>
                <a:off x="457200" y="1905120"/>
                <a:ext cx="822960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h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k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066680"/>
          </a:xfrm>
          <a:prstGeom prst="rect">
            <a:avLst/>
          </a:prstGeom>
          <a:gradFill rotWithShape="0">
            <a:gsLst>
              <a:gs pos="0">
                <a:srgbClr val="c29b74"/>
              </a:gs>
              <a:gs pos="50000">
                <a:srgbClr val="ffcc99"/>
              </a:gs>
              <a:gs pos="100000">
                <a:srgbClr val="c29b74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Characteristics of Parabol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Group 3"/>
          <p:cNvGrpSpPr/>
          <p:nvPr/>
        </p:nvGrpSpPr>
        <p:grpSpPr>
          <a:xfrm>
            <a:off x="5638320" y="1523880"/>
            <a:ext cx="2667240" cy="4876920"/>
            <a:chOff x="5638320" y="1523880"/>
            <a:chExt cx="2667240" cy="4876920"/>
          </a:xfrm>
        </p:grpSpPr>
        <p:sp>
          <p:nvSpPr>
            <p:cNvPr id="75" name="Freeform 4"/>
            <p:cNvSpPr/>
            <p:nvPr/>
          </p:nvSpPr>
          <p:spPr>
            <a:xfrm rot="10800000">
              <a:off x="5638320" y="3352320"/>
              <a:ext cx="2667240" cy="2590920"/>
            </a:xfrm>
            <a:custGeom>
              <a:avLst/>
              <a:gdLst/>
              <a:ahLst/>
              <a:rect l="l" t="t" r="r" b="b"/>
              <a:pathLst>
                <a:path w="1680" h="1632">
                  <a:moveTo>
                    <a:pt x="0" y="0"/>
                  </a:moveTo>
                  <a:cubicBezTo>
                    <a:pt x="268" y="816"/>
                    <a:pt x="536" y="1632"/>
                    <a:pt x="816" y="1632"/>
                  </a:cubicBezTo>
                  <a:cubicBezTo>
                    <a:pt x="1096" y="1632"/>
                    <a:pt x="1388" y="816"/>
                    <a:pt x="1680" y="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Line 5"/>
            <p:cNvSpPr/>
            <p:nvPr/>
          </p:nvSpPr>
          <p:spPr>
            <a:xfrm>
              <a:off x="7010280" y="1523880"/>
              <a:ext cx="0" cy="4876920"/>
            </a:xfrm>
            <a:prstGeom prst="line">
              <a:avLst/>
            </a:prstGeom>
            <a:ln w="93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Group 6"/>
          <p:cNvGrpSpPr/>
          <p:nvPr/>
        </p:nvGrpSpPr>
        <p:grpSpPr>
          <a:xfrm>
            <a:off x="914400" y="1523880"/>
            <a:ext cx="2666880" cy="4876920"/>
            <a:chOff x="914400" y="1523880"/>
            <a:chExt cx="2666880" cy="4876920"/>
          </a:xfrm>
        </p:grpSpPr>
        <p:sp>
          <p:nvSpPr>
            <p:cNvPr id="78" name="Freeform 7"/>
            <p:cNvSpPr/>
            <p:nvPr/>
          </p:nvSpPr>
          <p:spPr>
            <a:xfrm>
              <a:off x="914400" y="1676520"/>
              <a:ext cx="2666880" cy="2590560"/>
            </a:xfrm>
            <a:custGeom>
              <a:avLst/>
              <a:gdLst/>
              <a:ahLst/>
              <a:rect l="l" t="t" r="r" b="b"/>
              <a:pathLst>
                <a:path w="1680" h="1632">
                  <a:moveTo>
                    <a:pt x="0" y="0"/>
                  </a:moveTo>
                  <a:cubicBezTo>
                    <a:pt x="268" y="816"/>
                    <a:pt x="536" y="1632"/>
                    <a:pt x="816" y="1632"/>
                  </a:cubicBezTo>
                  <a:cubicBezTo>
                    <a:pt x="1096" y="1632"/>
                    <a:pt x="1388" y="816"/>
                    <a:pt x="1680" y="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8"/>
            <p:cNvSpPr/>
            <p:nvPr/>
          </p:nvSpPr>
          <p:spPr>
            <a:xfrm>
              <a:off x="2209680" y="1523880"/>
              <a:ext cx="0" cy="4876920"/>
            </a:xfrm>
            <a:prstGeom prst="line">
              <a:avLst/>
            </a:prstGeom>
            <a:ln w="93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0" name="Object 9"/>
              <p:cNvSpPr txBox="1"/>
              <p:nvPr/>
            </p:nvSpPr>
            <p:spPr>
              <a:xfrm>
                <a:off x="685800" y="5800680"/>
                <a:ext cx="358128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xis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f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ymmetr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10"/>
              <p:cNvSpPr txBox="1"/>
              <p:nvPr/>
            </p:nvSpPr>
            <p:spPr>
              <a:xfrm>
                <a:off x="5486400" y="1447920"/>
                <a:ext cx="358128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xis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f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ymmetr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Text Box 11"/>
          <p:cNvSpPr/>
          <p:nvPr/>
        </p:nvSpPr>
        <p:spPr>
          <a:xfrm>
            <a:off x="1523880" y="12952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&gt; 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6324480" y="57592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&lt; 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838080" y="41590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ertex: minimu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4"/>
          <p:cNvSpPr/>
          <p:nvPr/>
        </p:nvSpPr>
        <p:spPr>
          <a:xfrm>
            <a:off x="5562720" y="27874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ertex: maximu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6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7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76320" y="2133720"/>
            <a:ext cx="8915400" cy="2819160"/>
          </a:xfrm>
          <a:prstGeom prst="rect">
            <a:avLst/>
          </a:prstGeom>
          <a:solidFill>
            <a:srgbClr val="ffcc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Higher Degree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Polynomial Function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1003320" y="5270400"/>
            <a:ext cx="7454880" cy="15876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4"/>
          <p:cNvSpPr/>
          <p:nvPr/>
        </p:nvSpPr>
        <p:spPr>
          <a:xfrm>
            <a:off x="1143000" y="5499000"/>
            <a:ext cx="7058160" cy="1282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50000">
                <a:srgbClr val="c29b4e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Dr. Claude S. Moore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Danville Community Colle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167652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00"/>
                </a:solidFill>
                <a:latin typeface="Times New Roman"/>
              </a:rPr>
              <a:t>PRECALCULUS I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638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raph of a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lynomial function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Is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tinuou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Has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mooth, rounded turn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For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 eve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both sides go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me w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For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 od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sides go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posite wa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For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&gt; 0, righ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ide goes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. For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&lt; 0, righ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ide goes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w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Characteristic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2209680"/>
            <a:ext cx="9144000" cy="4648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Group 3"/>
          <p:cNvGrpSpPr/>
          <p:nvPr/>
        </p:nvGrpSpPr>
        <p:grpSpPr>
          <a:xfrm>
            <a:off x="609480" y="3005280"/>
            <a:ext cx="2997360" cy="3471840"/>
            <a:chOff x="609480" y="3005280"/>
            <a:chExt cx="2997360" cy="3471840"/>
          </a:xfrm>
        </p:grpSpPr>
        <mc:AlternateContent>
          <mc:Choice xmlns:a14="http://schemas.microsoft.com/office/drawing/2010/main" Requires="a14">
            <p:sp>
              <p:nvSpPr>
                <p:cNvPr id="97" name="Object 4"/>
                <p:cNvSpPr txBox="1"/>
                <p:nvPr/>
              </p:nvSpPr>
              <p:spPr>
                <a:xfrm>
                  <a:off x="2209680" y="3005280"/>
                  <a:ext cx="1397160" cy="90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s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98" name="Group 5"/>
            <p:cNvGrpSpPr/>
            <p:nvPr/>
          </p:nvGrpSpPr>
          <p:grpSpPr>
            <a:xfrm>
              <a:off x="1599840" y="3915000"/>
              <a:ext cx="1371960" cy="1600200"/>
              <a:chOff x="1599840" y="3915000"/>
              <a:chExt cx="1371960" cy="1600200"/>
            </a:xfrm>
          </p:grpSpPr>
          <p:sp>
            <p:nvSpPr>
              <p:cNvPr id="99" name="Freeform 6"/>
              <p:cNvSpPr/>
              <p:nvPr/>
            </p:nvSpPr>
            <p:spPr>
              <a:xfrm>
                <a:off x="1676160" y="4143600"/>
                <a:ext cx="1219320" cy="1143000"/>
              </a:xfrm>
              <a:custGeom>
                <a:avLst/>
                <a:gdLst/>
                <a:ahLst/>
                <a:rect l="l" t="t" r="r" b="b"/>
                <a:pathLst>
                  <a:path w="768" h="720">
                    <a:moveTo>
                      <a:pt x="0" y="720"/>
                    </a:moveTo>
                    <a:cubicBezTo>
                      <a:pt x="72" y="424"/>
                      <a:pt x="144" y="128"/>
                      <a:pt x="240" y="96"/>
                    </a:cubicBezTo>
                    <a:cubicBezTo>
                      <a:pt x="336" y="64"/>
                      <a:pt x="488" y="544"/>
                      <a:pt x="576" y="528"/>
                    </a:cubicBezTo>
                    <a:cubicBezTo>
                      <a:pt x="664" y="512"/>
                      <a:pt x="716" y="256"/>
                      <a:pt x="768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Line 7"/>
              <p:cNvSpPr/>
              <p:nvPr/>
            </p:nvSpPr>
            <p:spPr>
              <a:xfrm flipV="1">
                <a:off x="2895480" y="3915000"/>
                <a:ext cx="7632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Line 8"/>
              <p:cNvSpPr/>
              <p:nvPr/>
            </p:nvSpPr>
            <p:spPr>
              <a:xfrm flipH="1">
                <a:off x="1599840" y="5210280"/>
                <a:ext cx="7596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02" name="Object 9"/>
                <p:cNvSpPr txBox="1"/>
                <p:nvPr/>
              </p:nvSpPr>
              <p:spPr>
                <a:xfrm>
                  <a:off x="609480" y="5515200"/>
                  <a:ext cx="1676520" cy="96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→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s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3" name="Text Box 10"/>
          <p:cNvSpPr/>
          <p:nvPr/>
        </p:nvSpPr>
        <p:spPr>
          <a:xfrm>
            <a:off x="7391520" y="2743200"/>
            <a:ext cx="1218960" cy="648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&lt;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Group 11"/>
          <p:cNvGrpSpPr/>
          <p:nvPr/>
        </p:nvGrpSpPr>
        <p:grpSpPr>
          <a:xfrm>
            <a:off x="5562720" y="2954160"/>
            <a:ext cx="2819160" cy="3435480"/>
            <a:chOff x="5562720" y="2954160"/>
            <a:chExt cx="2819160" cy="3435480"/>
          </a:xfrm>
        </p:grpSpPr>
        <p:grpSp>
          <p:nvGrpSpPr>
            <p:cNvPr id="105" name="Group 12"/>
            <p:cNvGrpSpPr/>
            <p:nvPr/>
          </p:nvGrpSpPr>
          <p:grpSpPr>
            <a:xfrm>
              <a:off x="6400800" y="3833640"/>
              <a:ext cx="1371960" cy="1600200"/>
              <a:chOff x="6400800" y="3833640"/>
              <a:chExt cx="1371960" cy="1600200"/>
            </a:xfrm>
          </p:grpSpPr>
          <p:sp>
            <p:nvSpPr>
              <p:cNvPr id="106" name="Freeform 13"/>
              <p:cNvSpPr/>
              <p:nvPr/>
            </p:nvSpPr>
            <p:spPr>
              <a:xfrm flipH="1">
                <a:off x="6476760" y="4062240"/>
                <a:ext cx="1219320" cy="1143000"/>
              </a:xfrm>
              <a:custGeom>
                <a:avLst/>
                <a:gdLst/>
                <a:ahLst/>
                <a:rect l="l" t="t" r="r" b="b"/>
                <a:pathLst>
                  <a:path w="768" h="720">
                    <a:moveTo>
                      <a:pt x="0" y="720"/>
                    </a:moveTo>
                    <a:cubicBezTo>
                      <a:pt x="72" y="424"/>
                      <a:pt x="144" y="128"/>
                      <a:pt x="240" y="96"/>
                    </a:cubicBezTo>
                    <a:cubicBezTo>
                      <a:pt x="336" y="64"/>
                      <a:pt x="488" y="544"/>
                      <a:pt x="576" y="528"/>
                    </a:cubicBezTo>
                    <a:cubicBezTo>
                      <a:pt x="664" y="512"/>
                      <a:pt x="716" y="256"/>
                      <a:pt x="768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Line 14"/>
              <p:cNvSpPr/>
              <p:nvPr/>
            </p:nvSpPr>
            <p:spPr>
              <a:xfrm flipH="1" flipV="1">
                <a:off x="6400800" y="3833640"/>
                <a:ext cx="7632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Line 15"/>
              <p:cNvSpPr/>
              <p:nvPr/>
            </p:nvSpPr>
            <p:spPr>
              <a:xfrm>
                <a:off x="7696800" y="5128920"/>
                <a:ext cx="7596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09" name="Object 16"/>
                <p:cNvSpPr txBox="1"/>
                <p:nvPr/>
              </p:nvSpPr>
              <p:spPr>
                <a:xfrm>
                  <a:off x="5562720" y="2954160"/>
                  <a:ext cx="1523880" cy="907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s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0" name="Object 17"/>
                <p:cNvSpPr txBox="1"/>
                <p:nvPr/>
              </p:nvSpPr>
              <p:spPr>
                <a:xfrm>
                  <a:off x="6858000" y="5514840"/>
                  <a:ext cx="1523880" cy="87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→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s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1" name="Rectangle 18"/>
          <p:cNvSpPr/>
          <p:nvPr/>
        </p:nvSpPr>
        <p:spPr>
          <a:xfrm>
            <a:off x="0" y="762120"/>
            <a:ext cx="9144000" cy="1676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raphs of a polynomial function for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n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 od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19"/>
              <p:cNvSpPr txBox="1"/>
              <p:nvPr/>
            </p:nvSpPr>
            <p:spPr>
              <a:xfrm>
                <a:off x="609480" y="685800"/>
                <a:ext cx="7772400" cy="10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⋅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76320" y="-360"/>
            <a:ext cx="8991360" cy="7621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Leading Coefficient Test: </a:t>
            </a:r>
            <a:r>
              <a:rPr b="1" i="1" lang="en-US" sz="4800" spc="-1" strike="noStrike" u="sng">
                <a:solidFill>
                  <a:srgbClr val="ff0000"/>
                </a:solidFill>
                <a:uFillTx/>
                <a:latin typeface="Times New Roman"/>
              </a:rPr>
              <a:t>n od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1"/>
          <p:cNvSpPr/>
          <p:nvPr/>
        </p:nvSpPr>
        <p:spPr>
          <a:xfrm>
            <a:off x="533520" y="2773440"/>
            <a:ext cx="1295280" cy="648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22"/>
          <p:cNvSpPr/>
          <p:nvPr/>
        </p:nvSpPr>
        <p:spPr>
          <a:xfrm>
            <a:off x="4495680" y="2666880"/>
            <a:ext cx="0" cy="3810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27T03:32:58Z</dcterms:created>
  <dc:creator>Dr. Claude S. Moore</dc:creator>
  <dc:description/>
  <dc:language>en-US</dc:language>
  <cp:lastModifiedBy>LEGION</cp:lastModifiedBy>
  <dcterms:modified xsi:type="dcterms:W3CDTF">2017-07-06T06:38:51Z</dcterms:modified>
  <cp:revision>8</cp:revision>
  <dc:subject/>
  <dc:title> </dc:title>
</cp:coreProperties>
</file>