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media/whoosh.wav" ContentType="audio/x-wav"/>
  <Override PartName="/ppt/media/image5.png" ContentType="image/png"/>
  <Override PartName="/ppt/media/image6.png" ContentType="image/png"/>
  <Override PartName="/ppt/media/delcious2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C87F-66E2-45A8-ABBC-1A9883F637B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Kinds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Two Kinds of 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are rational numbers because they can be written as fraction with 1 as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 are rational numbers because they can be written as fraction with 1 as the denominator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s opposed to fake number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(as opposed to fake numbers?)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Kinds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Two Kinds of 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tional number is a real number that can be written as a ratio of two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tional number written in decimal form is terminating or rep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 rational number is a real number that can be written as a ratio of two integer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 rational number written in decimal form is terminating or repeating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3333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/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/2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3.5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8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.3333…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 3/4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rrational number is a number that cannot be written as a ratio of two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written as decimals are non-terminating and non-rep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n irrational number is a number that cannot be written as a ratio of two integer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 written as decimals are non-terminating and non-repeating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roots of non-perfect “square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quare roots of non-perfect “squares” 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Pi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7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subset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One of the subsets of 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integ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are the whole numbers and their oppo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integer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9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What are integers?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 are the whole numbers and their opposite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integers are 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8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934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E2E2-C5E0-4A29-8535-D2A06C1E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5529-861D-46F1-B72D-B00249BE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78E1-A93D-49C9-945F-45B4BE46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5F6C-7CBA-4F9F-9494-8592D851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E9B6-27FF-40E6-BC42-DC26FBE3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302E-A794-4858-A33A-3C9B6350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FE8E-EBEF-4959-ADBC-283DCA3E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327D-B0A8-407F-8AB0-4D069C36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615C-11AB-432E-BD2F-3F46DA70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FF51-D2F0-4237-A727-18E5882D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6BC2-71A7-4441-8502-36ECF9B1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55B0-436B-4AD5-BB76-2389866D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192F-DBEB-48B0-A05F-3D69CF88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53EF-42C6-431E-BB6F-7678AFC6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E5B8-B62E-461B-A647-F6B98EC6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1CDF-AF0C-4859-A147-7E2980CD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5674-C04B-40F3-8031-D6AF54EC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590-7652-4893-816F-0AC68ACB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EB44-8124-46E8-ADF3-51BEC58C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A306-F9BA-45ED-A61F-963FB42B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12E6-11AA-4C17-9B82-E807D5B9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C4C6-B4F0-498F-9C03-0CCB02B7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21EE-8A18-4594-8C1D-B41175F1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7AA-BABD-4A1A-8CE3-E7888723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4D62-6F4F-4C16-B8C1-5A4BC65E43C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F557-6899-470F-A586-729DD871946F}" type="slidenum">
              <a:rPr b="0" lang="en-US" sz="1400" spc="-1" strike="noStrike">
                <a:solidFill>
                  <a:srgbClr val="6699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delcious2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Two Kinds of 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99" name="Picture 4" descr="numbers-cup"/>
          <p:cNvPicPr/>
          <p:nvPr/>
        </p:nvPicPr>
        <p:blipFill>
          <a:blip r:embed="rId1"/>
          <a:stretch/>
        </p:blipFill>
        <p:spPr>
          <a:xfrm>
            <a:off x="6477120" y="1981080"/>
            <a:ext cx="1985760" cy="35053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Integers are rational numbers because they can be written as fraction with 1 as the denominator.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62576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(as opposed to fake numbers?)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03" name="Picture 4" descr="8"/>
          <p:cNvPicPr/>
          <p:nvPr/>
        </p:nvPicPr>
        <p:blipFill>
          <a:blip r:embed="rId1"/>
          <a:stretch/>
        </p:blipFill>
        <p:spPr>
          <a:xfrm>
            <a:off x="3809880" y="2971800"/>
            <a:ext cx="2133720" cy="20019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Two Kinds of 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07" name="Picture 4" descr="numbers-cup"/>
          <p:cNvPicPr/>
          <p:nvPr/>
        </p:nvPicPr>
        <p:blipFill>
          <a:blip r:embed="rId1"/>
          <a:stretch/>
        </p:blipFill>
        <p:spPr>
          <a:xfrm>
            <a:off x="6477120" y="1981080"/>
            <a:ext cx="1985760" cy="35053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 rational number is a real number that can be written as a ratio of two integers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 rational number written in decimal form is terminating or repeating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Examples of 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/2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3.56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-8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.3333…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- 3/4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Ir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n irrational number is a number that cannot be written as a ratio of two integers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Irrational numbers written as decimals are non-terminating and non-repeating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2" dur="1" fill="hold"/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Examples of Ir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Square roots of non-perfect “squares” 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Pi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22" name="Picture 11" descr="sq-root"/>
          <p:cNvPicPr/>
          <p:nvPr/>
        </p:nvPicPr>
        <p:blipFill>
          <a:blip r:embed="rId1"/>
          <a:stretch/>
        </p:blipFill>
        <p:spPr>
          <a:xfrm>
            <a:off x="1905120" y="4038480"/>
            <a:ext cx="479160" cy="7081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3"/>
          <p:cNvSpPr/>
          <p:nvPr/>
        </p:nvSpPr>
        <p:spPr>
          <a:xfrm>
            <a:off x="2275200" y="4095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Comic Sans MS"/>
              </a:rPr>
              <a:t>17</a:t>
            </a: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24" name="Picture 24" descr="pieslice"/>
          <p:cNvPicPr/>
          <p:nvPr/>
        </p:nvPicPr>
        <p:blipFill>
          <a:blip r:embed="rId2"/>
          <a:stretch/>
        </p:blipFill>
        <p:spPr>
          <a:xfrm>
            <a:off x="6095880" y="259092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3" name="chimes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elciou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One of the subsets of rational numbers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What are integers?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Integers are the whole numbers and their opposites.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Examples of integers are 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-12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186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-934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14:58:46Z</dcterms:created>
  <dc:creator>Jefferson County Schools </dc:creator>
  <dc:description/>
  <dc:language>en-US</dc:language>
  <cp:lastModifiedBy>LEGION</cp:lastModifiedBy>
  <dcterms:modified xsi:type="dcterms:W3CDTF">2017-07-06T06:39:00Z</dcterms:modified>
  <cp:revision>4</cp:revision>
  <dc:subject/>
  <dc:title>PowerPoint Presentation</dc:title>
</cp:coreProperties>
</file>