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657A-7AC2-4CDA-AEA7-C177BE775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are terms with the same variables raised to the same p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+ 7x = x (5 +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(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Like Term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e 2x–3xy +4y  when x = 3 and y = 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(3) – 3(3)(-5) + 4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ic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gebraic expression is a collection of real numbers, variables, grouping symbols and operation symb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examp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of the expression are separated by addition. There are 3 terms in this example and they ar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a variable term is the real number factor. The first term has coefficient of 5. The second term has an unwritten coefficient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term , -7, is called a constant since there is no variable in th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  6(x +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(x + 2) =  x(6) + 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2:  -4(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 (x – 3) =  x(-4) –3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 ( x – 2 )  = x(-7) – 2(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with 1 and –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3:   (x –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( x –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(1) – 2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4: -(4x –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1(4x –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4x(-1) – 3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004-B198-4D21-900C-AD3160B4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8A9-9A8C-4323-894F-6AF1C57F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653-E7AA-4C4C-9AE2-311E07F2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197-BBBD-4323-9C64-C7495ED7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E22E-1B4A-4B7B-8C12-9F654CE6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7D49-89CB-40A3-98D2-0E6968F0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94E3-E2A8-4344-A205-3D3ABCEF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ABAB-547E-41E4-AC17-40C3EC8D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EE2C-6A31-4238-96DC-E646A24E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F50D-B9EF-44A4-9FA5-C6006D30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0493-8012-4BC4-800A-5076FBC8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C495-91CC-42AE-90B8-AAF582CC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07FE-1F92-4EDB-A361-72D6E7A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FCE9-82C0-4EEB-BC23-C28B5F62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5DDE-C73B-46BA-AB29-22093043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3421-7FDB-4AC3-A2B7-68F7DBE5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AB27-2A2D-4B8D-971B-5F43D0A5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7CC-F48A-4A4F-B308-649F4DC3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B95-48CC-4815-A330-B6E0C7E9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B5A-EC2F-44A8-823D-FA0D777E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1A1-ECEF-4703-8F56-71DCA5C0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A7C-243C-457C-9FBB-1827F5EB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FE8-02F2-4450-B8DA-57888F95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4F0-E63E-4CCD-8F82-97EF78AD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AC1B-50DE-4DC9-B366-B813F12A5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6307-9CA5-4C87-BC1D-F36F431A5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: Karen Ov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erms with the same variables raised to the same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: The idea is that the variable part of the terms must be identical for them to be like te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-14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6.7xy , 02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like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, 8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ble factor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dentica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5943600" y="3276720"/>
                <a:ext cx="190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bining Like Term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(b + c) = b(a) +c(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e how like terms are combined us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ve Property in reve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5 +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at work is not necessary every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y identify the like terms and add the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ffic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x + 7y – x + 5y   =   4x – x + 7y +5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 3x + 12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llecting Like Terms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905120"/>
                <a:ext cx="6629400" cy="39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ord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b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oth Skil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example requires both the Distribu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and combining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(x – 2) –3(2x – 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5 and the –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(5) - 2(5) + 2x(-3) - 7(-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x – 10 – 6x +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x+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esentation is designed to give a brief review of simplifying algebraic expressions and evaluating algebraic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c:\Program Files\Microsoft Office\Clipart\standard\stddir1\bd05053_.wmf"/>
          <p:cNvPicPr/>
          <p:nvPr/>
        </p:nvPicPr>
        <p:blipFill>
          <a:blip r:embed="rId1"/>
          <a:stretch/>
        </p:blipFill>
        <p:spPr>
          <a:xfrm>
            <a:off x="3429000" y="3962520"/>
            <a:ext cx="3083040" cy="211428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implify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200400" y="1752480"/>
                <a:ext cx="2514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2666880" y="2971800"/>
                <a:ext cx="40388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4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505320" y="51055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4952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o use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523880" y="1828800"/>
            <a:ext cx="6570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expression  2x – 3xy +4y 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3 and y = -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523880" y="3352680"/>
            <a:ext cx="7162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the numerical value of the expression, simply replace the variables in the expression with the appropriat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2x–3xy +4y  when x =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y =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4(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rrect order of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+ 45 –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1 –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143000" y="19810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28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066680" y="175248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aluating Exampl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3733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correct order of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295280" y="1828800"/>
                <a:ext cx="7086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aluat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2895480" y="3048120"/>
                <a:ext cx="3429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Text Box 7"/>
          <p:cNvSpPr/>
          <p:nvPr/>
        </p:nvSpPr>
        <p:spPr>
          <a:xfrm>
            <a:off x="1219320" y="2362320"/>
            <a:ext cx="389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e in th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3505320" y="4419720"/>
                <a:ext cx="2438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3733920" y="51814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0"/>
              <p:cNvSpPr txBox="1"/>
              <p:nvPr/>
            </p:nvSpPr>
            <p:spPr>
              <a:xfrm>
                <a:off x="4419720" y="5715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mmon Mistak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5029200" y="3962520"/>
          <a:ext cx="3429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962520"/>
                    <a:ext cx="3429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029200" y="2438280"/>
          <a:ext cx="34290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438280"/>
                    <a:ext cx="34290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1219320" y="3962520"/>
          <a:ext cx="3514680" cy="13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962520"/>
                    <a:ext cx="35146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1219320" y="2438280"/>
          <a:ext cx="3504960" cy="143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2438280"/>
                    <a:ext cx="350496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lgebraic Expression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gebraic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real numbers, variables, grouping symbols and operation symbo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are some examples of algebraic expr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1295280" y="4495680"/>
                <a:ext cx="70675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Consider the example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ms of the ex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parated by addition. There are 3 terms in this example and they a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e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variable term is the real number factor. The first term has coefficient of 5. The second term has an unwritten coefficient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term , -7, is call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re is no variable in th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4952880" y="685800"/>
                <a:ext cx="1486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1523880" y="2514600"/>
                <a:ext cx="1524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begin with a review of two important skills for simplifying expression, using the Distributive Property and combining like terms. Then we will use both skills in the same simplifying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istributive Proper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7040" y="4648320"/>
            <a:ext cx="4724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 b + c ) = ba +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143000" y="190512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implify some expressions we may need to use the 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295280" y="3048120"/>
            <a:ext cx="364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remember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664360" y="4267080"/>
            <a:ext cx="39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6(x +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+ 2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2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6x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-4(x –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 the –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x – 3) =  x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–3(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 -4x   +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actice Probl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he Distributive Property on -7 ( x – 2 )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sure to multiply each term by a –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 x – 2 )  = x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 -7x  + 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when a negative is distributed all the signs of the terms in the ( )’s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Examples with 1 and –1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(x –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x – 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x  -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multiplying by a 1 does nothing to the expression in the ( )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-(4x 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x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x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3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-4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ce that multiplying by a –1 changes the signs of each term in the ( )’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8:30:02Z</dcterms:created>
  <dc:creator>TCC</dc:creator>
  <dc:description/>
  <dc:language>en-US</dc:language>
  <cp:lastModifiedBy>LEGION</cp:lastModifiedBy>
  <dcterms:modified xsi:type="dcterms:W3CDTF">2017-07-06T06:39:42Z</dcterms:modified>
  <cp:revision>31</cp:revision>
  <dc:subject/>
  <dc:title>Simplifying Expressions</dc:title>
</cp:coreProperties>
</file>