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94.wmf" ContentType="image/x-wmf"/>
  <Override PartName="/ppt/media/image47.wmf" ContentType="image/x-wmf"/>
  <Override PartName="/ppt/media/image10.wmf" ContentType="image/x-wmf"/>
  <Override PartName="/ppt/media/image35.wmf" ContentType="image/x-wmf"/>
  <Override PartName="/ppt/media/image5.wmf" ContentType="image/x-wmf"/>
  <Override PartName="/ppt/media/image17.wmf" ContentType="image/x-wmf"/>
  <Override PartName="/ppt/media/image82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76.wmf" ContentType="image/x-wmf"/>
  <Override PartName="/ppt/media/image64.wmf" ContentType="image/x-wmf"/>
  <Override PartName="/ppt/media/image99.wmf" ContentType="image/x-wmf"/>
  <Override PartName="/ppt/media/image62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8.wmf" ContentType="image/x-wmf"/>
  <Override PartName="/ppt/media/image61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1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15.wmf" ContentType="image/x-wmf"/>
  <Override PartName="/ppt/media/image80.wmf" ContentType="image/x-wmf"/>
  <Override PartName="/ppt/media/image3.wmf" ContentType="image/x-wmf"/>
  <Override PartName="/ppt/media/image3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005D-51A8-4EAD-B11F-69254CBA764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mplifying Radical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implifying Radical Expression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st Radic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perfect nth power factors other tha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fractions in the radic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radicals in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implest Radical For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perfect nth power factors other than 1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fractions in the radicand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No radicals in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only combine terms with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have like rad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e of the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Adding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We can only combine terms with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if we have like radical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everse of the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ing radicals - 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Multiplying radicals - Distributive Property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plying radicals -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Multiplying radicals - FOIL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jug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Conjugat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Property of Radicals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Product Property of Radicals Examples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Property of Radic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Quotient Property of Radicals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implif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Rationalizing the denominator means to remove any radicals from the denominator.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Ex: Simplify 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9D2-39AE-46EC-B4F5-ADB5AE8E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7EC-AF55-4D32-BA67-44C700AD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174-14BF-4418-828A-CDD4D2B3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CD04-1C53-479D-BEB8-56198F02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99E9D-18D4-43A2-90E3-5A846504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7395-07C4-465C-AC7F-AA231C41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E821-12A4-453E-A31F-CC933FB0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8493-B920-4445-8F50-E702826E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A4A9-2275-481C-AF7C-C2A1BCB9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42A3-B3F8-4FC3-B566-E6BBA4E8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EC46-E0FA-4F9B-9DB0-E744FE69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B83-D197-4ABD-8332-A3176E8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1DC6-5097-4DB3-972C-0A49FC1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F31F-B1D9-4297-ADFD-04283BB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E502-D3FE-4D99-8A82-A7FC4D45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B5BE-BA65-4A2A-A708-69D3D633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AC90-33C2-4009-8D72-054A2E0F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0FBF-63D4-4D20-83CC-EFB45717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AA4-DC53-4E05-9A9F-1468F4A3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8238-A27D-417B-A59C-E3D8141B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4A5-4CDE-4F19-ACB6-13BE3EA1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B49D-38CF-4EEB-BDFF-E91DB72C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881-1BD0-4173-A603-A28A446B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D15-D021-4CDC-B39B-60233DBF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9DA0-2A30-45DF-90D9-176782E4B68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7B9-D510-42E0-9B7D-E326144AE67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9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205740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Arial"/>
              </a:rPr>
              <a:t>Simplifying Radical Expression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Simplest Radical Form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52280" y="1981080"/>
            <a:ext cx="8915400" cy="44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perfect nth power factors other than 1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fractions in the radicand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"/>
              </a:rPr>
              <a:t>No radicals in the denominator.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18" name="Object 3"/>
          <p:cNvGraphicFramePr/>
          <p:nvPr/>
        </p:nvGraphicFramePr>
        <p:xfrm>
          <a:off x="457200" y="1905120"/>
          <a:ext cx="2178000" cy="40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17800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4"/>
          <p:cNvGraphicFramePr/>
          <p:nvPr/>
        </p:nvGraphicFramePr>
        <p:xfrm>
          <a:off x="2133720" y="1905120"/>
          <a:ext cx="1307880" cy="152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905120"/>
                    <a:ext cx="1307880" cy="15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6"/>
          <p:cNvGraphicFramePr/>
          <p:nvPr/>
        </p:nvGraphicFramePr>
        <p:xfrm>
          <a:off x="3429000" y="1938240"/>
          <a:ext cx="1246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1938240"/>
                    <a:ext cx="1246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8"/>
          <p:cNvGraphicFramePr/>
          <p:nvPr/>
        </p:nvGraphicFramePr>
        <p:xfrm>
          <a:off x="2666880" y="4343400"/>
          <a:ext cx="1828800" cy="1517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5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4343400"/>
                    <a:ext cx="1828800" cy="15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9"/>
          <p:cNvSpPr/>
          <p:nvPr/>
        </p:nvSpPr>
        <p:spPr>
          <a:xfrm>
            <a:off x="3803760" y="1857240"/>
            <a:ext cx="920520" cy="1495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27" name="Object 10"/>
          <p:cNvGraphicFramePr/>
          <p:nvPr/>
        </p:nvGraphicFramePr>
        <p:xfrm>
          <a:off x="4419720" y="4648320"/>
          <a:ext cx="190476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19720" y="4648320"/>
                    <a:ext cx="19047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2"/>
          <p:cNvGraphicFramePr/>
          <p:nvPr/>
        </p:nvGraphicFramePr>
        <p:xfrm>
          <a:off x="6248520" y="4821120"/>
          <a:ext cx="1676160" cy="51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4821120"/>
                    <a:ext cx="167616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3"/>
          <p:cNvGraphicFramePr/>
          <p:nvPr/>
        </p:nvGraphicFramePr>
        <p:xfrm>
          <a:off x="6248520" y="5483160"/>
          <a:ext cx="1218960" cy="53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2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5483160"/>
                    <a:ext cx="121896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4"/>
          <p:cNvSpPr/>
          <p:nvPr/>
        </p:nvSpPr>
        <p:spPr>
          <a:xfrm>
            <a:off x="6705720" y="5410080"/>
            <a:ext cx="761760" cy="609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36" name="Object 1028"/>
          <p:cNvGraphicFramePr/>
          <p:nvPr/>
        </p:nvGraphicFramePr>
        <p:xfrm>
          <a:off x="112680" y="1143000"/>
          <a:ext cx="2097000" cy="165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1143000"/>
                    <a:ext cx="209700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1032"/>
          <p:cNvGraphicFramePr/>
          <p:nvPr/>
        </p:nvGraphicFramePr>
        <p:xfrm>
          <a:off x="2133720" y="1066680"/>
          <a:ext cx="107136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066680"/>
                    <a:ext cx="10713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1033"/>
          <p:cNvGraphicFramePr/>
          <p:nvPr/>
        </p:nvGraphicFramePr>
        <p:xfrm>
          <a:off x="5105520" y="1081080"/>
          <a:ext cx="1828800" cy="167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0810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1034"/>
          <p:cNvGraphicFramePr/>
          <p:nvPr/>
        </p:nvGraphicFramePr>
        <p:xfrm>
          <a:off x="5486400" y="3505320"/>
          <a:ext cx="2239920" cy="16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3505320"/>
                    <a:ext cx="223992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1035"/>
          <p:cNvGraphicFramePr/>
          <p:nvPr/>
        </p:nvGraphicFramePr>
        <p:xfrm>
          <a:off x="2438280" y="3519360"/>
          <a:ext cx="1629000" cy="1586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519360"/>
                    <a:ext cx="16290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1036"/>
          <p:cNvSpPr/>
          <p:nvPr/>
        </p:nvSpPr>
        <p:spPr>
          <a:xfrm>
            <a:off x="7408800" y="990720"/>
            <a:ext cx="1201680" cy="1778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47" name="Object 1037"/>
          <p:cNvGraphicFramePr/>
          <p:nvPr/>
        </p:nvGraphicFramePr>
        <p:xfrm>
          <a:off x="6858000" y="1066680"/>
          <a:ext cx="1828800" cy="167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8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1066680"/>
                    <a:ext cx="182880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1038"/>
          <p:cNvGraphicFramePr/>
          <p:nvPr/>
        </p:nvGraphicFramePr>
        <p:xfrm>
          <a:off x="3276720" y="1096920"/>
          <a:ext cx="1828800" cy="17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0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1096920"/>
                    <a:ext cx="182880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039"/>
          <p:cNvGraphicFramePr/>
          <p:nvPr/>
        </p:nvGraphicFramePr>
        <p:xfrm>
          <a:off x="4114800" y="3519360"/>
          <a:ext cx="1276200" cy="1586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2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14800" y="3519360"/>
                    <a:ext cx="1276200" cy="15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1040"/>
          <p:cNvGraphicFramePr/>
          <p:nvPr/>
        </p:nvGraphicFramePr>
        <p:xfrm>
          <a:off x="5486400" y="5257800"/>
          <a:ext cx="2239920" cy="1508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4" name="Object 10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86400" y="5257800"/>
                    <a:ext cx="223992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1041"/>
          <p:cNvGraphicFramePr/>
          <p:nvPr/>
        </p:nvGraphicFramePr>
        <p:xfrm>
          <a:off x="114480" y="3429000"/>
          <a:ext cx="3085920" cy="158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6" name="Object 10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4480" y="3429000"/>
                    <a:ext cx="30859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1042"/>
          <p:cNvSpPr/>
          <p:nvPr/>
        </p:nvSpPr>
        <p:spPr>
          <a:xfrm>
            <a:off x="6019920" y="5181480"/>
            <a:ext cx="1676160" cy="16002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Adding radical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60" name="Object 3"/>
          <p:cNvGraphicFramePr/>
          <p:nvPr/>
        </p:nvGraphicFramePr>
        <p:xfrm>
          <a:off x="1295280" y="2395440"/>
          <a:ext cx="6324840" cy="11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95440"/>
                    <a:ext cx="632484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4"/>
          <p:cNvGraphicFramePr/>
          <p:nvPr/>
        </p:nvGraphicFramePr>
        <p:xfrm>
          <a:off x="844560" y="3962520"/>
          <a:ext cx="5022720" cy="13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4560" y="3962520"/>
                    <a:ext cx="502272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Rectangle 5"/>
          <p:cNvSpPr/>
          <p:nvPr/>
        </p:nvSpPr>
        <p:spPr>
          <a:xfrm>
            <a:off x="76320" y="11430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We can only combine terms with radicals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if we have like radical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791320" y="3962520"/>
          <a:ext cx="2209680" cy="103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962520"/>
                    <a:ext cx="220968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Rectangle 7"/>
          <p:cNvSpPr/>
          <p:nvPr/>
        </p:nvSpPr>
        <p:spPr>
          <a:xfrm>
            <a:off x="76320" y="568332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everse of the Distributive Property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6400800" y="3886200"/>
            <a:ext cx="167652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304920" y="1523880"/>
          <a:ext cx="6414840" cy="9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23880"/>
                    <a:ext cx="641484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4"/>
          <p:cNvGraphicFramePr/>
          <p:nvPr/>
        </p:nvGraphicFramePr>
        <p:xfrm>
          <a:off x="1011240" y="2889360"/>
          <a:ext cx="6227640" cy="9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1240" y="2889360"/>
                    <a:ext cx="622764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6"/>
          <p:cNvGraphicFramePr/>
          <p:nvPr/>
        </p:nvGraphicFramePr>
        <p:xfrm>
          <a:off x="1042920" y="4191120"/>
          <a:ext cx="3300480" cy="99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4191120"/>
                    <a:ext cx="330048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Rectangle 7"/>
          <p:cNvSpPr/>
          <p:nvPr/>
        </p:nvSpPr>
        <p:spPr>
          <a:xfrm>
            <a:off x="1752480" y="4191120"/>
            <a:ext cx="251460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80" name="Object 1028"/>
          <p:cNvGraphicFramePr/>
          <p:nvPr/>
        </p:nvGraphicFramePr>
        <p:xfrm>
          <a:off x="152280" y="1447920"/>
          <a:ext cx="7696440" cy="106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76964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1029"/>
          <p:cNvGraphicFramePr/>
          <p:nvPr/>
        </p:nvGraphicFramePr>
        <p:xfrm>
          <a:off x="152280" y="2819520"/>
          <a:ext cx="8699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819520"/>
                    <a:ext cx="8699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1030"/>
          <p:cNvGraphicFramePr/>
          <p:nvPr/>
        </p:nvGraphicFramePr>
        <p:xfrm>
          <a:off x="228600" y="3960720"/>
          <a:ext cx="662472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5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960720"/>
                    <a:ext cx="662472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1031"/>
          <p:cNvGraphicFramePr/>
          <p:nvPr/>
        </p:nvGraphicFramePr>
        <p:xfrm>
          <a:off x="228600" y="5105520"/>
          <a:ext cx="2409840" cy="106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5105520"/>
                    <a:ext cx="240984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1032"/>
          <p:cNvSpPr/>
          <p:nvPr/>
        </p:nvSpPr>
        <p:spPr>
          <a:xfrm>
            <a:off x="990720" y="5029200"/>
            <a:ext cx="167616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Multiplying radicals - Distributive Property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291" name="Object 3"/>
          <p:cNvGraphicFramePr/>
          <p:nvPr/>
        </p:nvGraphicFramePr>
        <p:xfrm>
          <a:off x="1752480" y="2057400"/>
          <a:ext cx="397512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397512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4"/>
          <p:cNvGraphicFramePr/>
          <p:nvPr/>
        </p:nvGraphicFramePr>
        <p:xfrm>
          <a:off x="1771560" y="3505320"/>
          <a:ext cx="5772240" cy="88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3505320"/>
                    <a:ext cx="577224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5"/>
          <p:cNvGraphicFramePr/>
          <p:nvPr/>
        </p:nvGraphicFramePr>
        <p:xfrm>
          <a:off x="1752480" y="4800600"/>
          <a:ext cx="297180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800600"/>
                    <a:ext cx="29718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Rectangle 6"/>
          <p:cNvSpPr/>
          <p:nvPr/>
        </p:nvSpPr>
        <p:spPr>
          <a:xfrm>
            <a:off x="2362320" y="4724280"/>
            <a:ext cx="243828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4c2b"/>
                </a:solidFill>
                <a:latin typeface="Arial"/>
              </a:rPr>
              <a:t>Multiplying radicals - FOIL</a:t>
            </a:r>
            <a:endParaRPr b="0" lang="en-US" sz="5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523880" y="5638680"/>
            <a:ext cx="6629400" cy="10670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1" name="Object 7"/>
          <p:cNvGraphicFramePr/>
          <p:nvPr/>
        </p:nvGraphicFramePr>
        <p:xfrm>
          <a:off x="228600" y="1066680"/>
          <a:ext cx="655308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655308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9"/>
          <p:cNvGraphicFramePr/>
          <p:nvPr/>
        </p:nvGraphicFramePr>
        <p:xfrm>
          <a:off x="838080" y="5680080"/>
          <a:ext cx="7391520" cy="98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5680080"/>
                    <a:ext cx="73915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5" name="Group 15"/>
          <p:cNvGrpSpPr/>
          <p:nvPr/>
        </p:nvGrpSpPr>
        <p:grpSpPr>
          <a:xfrm>
            <a:off x="304920" y="2133720"/>
            <a:ext cx="8489880" cy="3276000"/>
            <a:chOff x="304920" y="2133720"/>
            <a:chExt cx="8489880" cy="3276000"/>
          </a:xfrm>
        </p:grpSpPr>
        <p:graphicFrame>
          <p:nvGraphicFramePr>
            <p:cNvPr id="306" name="Object 8"/>
            <p:cNvGraphicFramePr/>
            <p:nvPr/>
          </p:nvGraphicFramePr>
          <p:xfrm>
            <a:off x="304920" y="2971800"/>
            <a:ext cx="6170400" cy="948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4920" y="2971800"/>
                      <a:ext cx="6170400" cy="94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8" name="Object 10"/>
            <p:cNvGraphicFramePr/>
            <p:nvPr/>
          </p:nvGraphicFramePr>
          <p:xfrm>
            <a:off x="2895480" y="4476600"/>
            <a:ext cx="5899320" cy="933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9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95480" y="4476600"/>
                      <a:ext cx="5899320" cy="93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0" name="Text Box 11"/>
            <p:cNvSpPr/>
            <p:nvPr/>
          </p:nvSpPr>
          <p:spPr>
            <a:xfrm>
              <a:off x="1905120" y="220968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1" name="Text Box 12"/>
            <p:cNvSpPr/>
            <p:nvPr/>
          </p:nvSpPr>
          <p:spPr>
            <a:xfrm>
              <a:off x="4876920" y="213372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2" name="Text Box 13"/>
            <p:cNvSpPr/>
            <p:nvPr/>
          </p:nvSpPr>
          <p:spPr>
            <a:xfrm>
              <a:off x="4343400" y="382428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3" name="Text Box 14"/>
            <p:cNvSpPr/>
            <p:nvPr/>
          </p:nvSpPr>
          <p:spPr>
            <a:xfrm>
              <a:off x="7315200" y="3657600"/>
              <a:ext cx="762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228600" y="1066680"/>
          <a:ext cx="716292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716292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4"/>
          <p:cNvSpPr/>
          <p:nvPr/>
        </p:nvSpPr>
        <p:spPr>
          <a:xfrm>
            <a:off x="1523880" y="5715000"/>
            <a:ext cx="3581640" cy="10666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9" name="Object 5"/>
          <p:cNvGraphicFramePr/>
          <p:nvPr/>
        </p:nvGraphicFramePr>
        <p:xfrm>
          <a:off x="852480" y="4724280"/>
          <a:ext cx="745632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2480" y="4724280"/>
                    <a:ext cx="7456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1" name="Group 13"/>
          <p:cNvGrpSpPr/>
          <p:nvPr/>
        </p:nvGrpSpPr>
        <p:grpSpPr>
          <a:xfrm>
            <a:off x="339840" y="1828800"/>
            <a:ext cx="8118000" cy="2895120"/>
            <a:chOff x="339840" y="1828800"/>
            <a:chExt cx="8118000" cy="2895120"/>
          </a:xfrm>
        </p:grpSpPr>
        <p:graphicFrame>
          <p:nvGraphicFramePr>
            <p:cNvPr id="322" name="Object 7"/>
            <p:cNvGraphicFramePr/>
            <p:nvPr/>
          </p:nvGraphicFramePr>
          <p:xfrm>
            <a:off x="339840" y="2508120"/>
            <a:ext cx="6424560" cy="862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3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9840" y="2508120"/>
                      <a:ext cx="6424560" cy="86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Object 8"/>
            <p:cNvGraphicFramePr/>
            <p:nvPr/>
          </p:nvGraphicFramePr>
          <p:xfrm>
            <a:off x="2244240" y="3875760"/>
            <a:ext cx="6213600" cy="848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44240" y="3875760"/>
                      <a:ext cx="6213600" cy="84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2244240" y="1897560"/>
              <a:ext cx="717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7" name="Text Box 10"/>
            <p:cNvSpPr/>
            <p:nvPr/>
          </p:nvSpPr>
          <p:spPr>
            <a:xfrm>
              <a:off x="5185800" y="182880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8" name="Text Box 11"/>
            <p:cNvSpPr/>
            <p:nvPr/>
          </p:nvSpPr>
          <p:spPr>
            <a:xfrm>
              <a:off x="3894120" y="328284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6909120" y="3131280"/>
              <a:ext cx="71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30" name="Object 14"/>
          <p:cNvGraphicFramePr/>
          <p:nvPr/>
        </p:nvGraphicFramePr>
        <p:xfrm>
          <a:off x="863640" y="5775480"/>
          <a:ext cx="4192560" cy="93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63640" y="5775480"/>
                    <a:ext cx="41925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34" name="Object 4"/>
          <p:cNvGraphicFramePr/>
          <p:nvPr/>
        </p:nvGraphicFramePr>
        <p:xfrm>
          <a:off x="304920" y="1143000"/>
          <a:ext cx="65721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6572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12"/>
          <p:cNvGrpSpPr/>
          <p:nvPr/>
        </p:nvGrpSpPr>
        <p:grpSpPr>
          <a:xfrm>
            <a:off x="1143000" y="2819520"/>
            <a:ext cx="6552720" cy="2361600"/>
            <a:chOff x="1143000" y="2819520"/>
            <a:chExt cx="6552720" cy="2361600"/>
          </a:xfrm>
        </p:grpSpPr>
        <p:graphicFrame>
          <p:nvGraphicFramePr>
            <p:cNvPr id="337" name="Object 6"/>
            <p:cNvGraphicFramePr/>
            <p:nvPr/>
          </p:nvGraphicFramePr>
          <p:xfrm>
            <a:off x="1143000" y="3373560"/>
            <a:ext cx="4572720" cy="70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43000" y="3373560"/>
                      <a:ext cx="4572720" cy="70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9" name="Object 7"/>
            <p:cNvGraphicFramePr/>
            <p:nvPr/>
          </p:nvGraphicFramePr>
          <p:xfrm>
            <a:off x="2401200" y="4489560"/>
            <a:ext cx="5294520" cy="69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0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01200" y="4489560"/>
                      <a:ext cx="5294520" cy="69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1" name="Text Box 8"/>
            <p:cNvSpPr/>
            <p:nvPr/>
          </p:nvSpPr>
          <p:spPr>
            <a:xfrm>
              <a:off x="2252520" y="28756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F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4899240" y="281952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O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3" name="Text Box 10"/>
            <p:cNvSpPr/>
            <p:nvPr/>
          </p:nvSpPr>
          <p:spPr>
            <a:xfrm>
              <a:off x="3737520" y="400608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I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4" name="Text Box 11"/>
            <p:cNvSpPr/>
            <p:nvPr/>
          </p:nvSpPr>
          <p:spPr>
            <a:xfrm>
              <a:off x="6451200" y="3880440"/>
              <a:ext cx="645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80026e"/>
                  </a:solidFill>
                  <a:latin typeface="Times New Roman"/>
                </a:rPr>
                <a:t>L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45" name="Object 27"/>
          <p:cNvGraphicFramePr/>
          <p:nvPr/>
        </p:nvGraphicFramePr>
        <p:xfrm>
          <a:off x="1066680" y="2133720"/>
          <a:ext cx="6400800" cy="1112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2133720"/>
                    <a:ext cx="64008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28"/>
          <p:cNvGraphicFramePr/>
          <p:nvPr/>
        </p:nvGraphicFramePr>
        <p:xfrm>
          <a:off x="1219320" y="5257800"/>
          <a:ext cx="6527520" cy="716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19320" y="5257800"/>
                    <a:ext cx="652752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9" name="Group 31"/>
          <p:cNvGrpSpPr/>
          <p:nvPr/>
        </p:nvGrpSpPr>
        <p:grpSpPr>
          <a:xfrm>
            <a:off x="3200040" y="5181480"/>
            <a:ext cx="2743200" cy="838080"/>
            <a:chOff x="3200040" y="5181480"/>
            <a:chExt cx="2743200" cy="838080"/>
          </a:xfrm>
        </p:grpSpPr>
        <p:sp>
          <p:nvSpPr>
            <p:cNvPr id="350" name="Line 29"/>
            <p:cNvSpPr/>
            <p:nvPr/>
          </p:nvSpPr>
          <p:spPr>
            <a:xfrm flipH="1">
              <a:off x="320004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1" name="Line 30"/>
            <p:cNvSpPr/>
            <p:nvPr/>
          </p:nvSpPr>
          <p:spPr>
            <a:xfrm flipH="1">
              <a:off x="4876560" y="5181480"/>
              <a:ext cx="1066680" cy="83808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52" name="Object 32"/>
          <p:cNvGraphicFramePr/>
          <p:nvPr/>
        </p:nvGraphicFramePr>
        <p:xfrm>
          <a:off x="1330200" y="6172200"/>
          <a:ext cx="3845160" cy="492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3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30200" y="6172200"/>
                    <a:ext cx="38451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Rectangle 33"/>
          <p:cNvSpPr/>
          <p:nvPr/>
        </p:nvSpPr>
        <p:spPr>
          <a:xfrm>
            <a:off x="4419720" y="6172200"/>
            <a:ext cx="838080" cy="5335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93" name="Group 7"/>
          <p:cNvGrpSpPr/>
          <p:nvPr/>
        </p:nvGrpSpPr>
        <p:grpSpPr>
          <a:xfrm>
            <a:off x="304920" y="2514600"/>
            <a:ext cx="8381880" cy="3429000"/>
            <a:chOff x="304920" y="2514600"/>
            <a:chExt cx="8381880" cy="3429000"/>
          </a:xfrm>
        </p:grpSpPr>
        <p:sp>
          <p:nvSpPr>
            <p:cNvPr id="94" name="Text Box 3"/>
            <p:cNvSpPr/>
            <p:nvPr/>
          </p:nvSpPr>
          <p:spPr>
            <a:xfrm>
              <a:off x="304920" y="251460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95" name="Object 4"/>
            <p:cNvGraphicFramePr/>
            <p:nvPr/>
          </p:nvGraphicFramePr>
          <p:xfrm>
            <a:off x="3124080" y="353052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353052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" name="Object 5"/>
            <p:cNvGraphicFramePr/>
            <p:nvPr/>
          </p:nvGraphicFramePr>
          <p:xfrm>
            <a:off x="1676520" y="4791240"/>
            <a:ext cx="5257800" cy="1152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76520" y="4791240"/>
                      <a:ext cx="5257800" cy="11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" name="Object 6"/>
            <p:cNvGraphicFramePr/>
            <p:nvPr/>
          </p:nvGraphicFramePr>
          <p:xfrm>
            <a:off x="6248520" y="3567240"/>
            <a:ext cx="1904760" cy="776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8520" y="356724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  <a:ea typeface="Times New Roman"/>
              </a:rPr>
              <a:t>Conjugat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57" name="Group 6"/>
          <p:cNvGrpSpPr/>
          <p:nvPr/>
        </p:nvGrpSpPr>
        <p:grpSpPr>
          <a:xfrm>
            <a:off x="304920" y="1905120"/>
            <a:ext cx="8229600" cy="3628440"/>
            <a:chOff x="304920" y="1905120"/>
            <a:chExt cx="8229600" cy="3628440"/>
          </a:xfrm>
        </p:grpSpPr>
        <p:sp>
          <p:nvSpPr>
            <p:cNvPr id="358" name="Text Box 3"/>
            <p:cNvSpPr/>
            <p:nvPr/>
          </p:nvSpPr>
          <p:spPr>
            <a:xfrm>
              <a:off x="304920" y="1905120"/>
              <a:ext cx="8229600" cy="36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Binomials of the form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600" spc="-1" strike="noStrike">
                  <a:solidFill>
                    <a:srgbClr val="333333"/>
                  </a:solidFill>
                  <a:latin typeface="Times New Roman"/>
                </a:rPr>
                <a:t>where a, b, c, d are rational numbers.</a:t>
              </a:r>
              <a:endParaRPr b="0" lang="en-US" sz="5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359" name="Object 4"/>
            <p:cNvGraphicFramePr/>
            <p:nvPr/>
          </p:nvGraphicFramePr>
          <p:xfrm>
            <a:off x="533520" y="2895840"/>
            <a:ext cx="7620120" cy="923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2895840"/>
                      <a:ext cx="7620120" cy="92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2"/>
          <p:cNvSpPr/>
          <p:nvPr/>
        </p:nvSpPr>
        <p:spPr>
          <a:xfrm>
            <a:off x="152280" y="3781440"/>
            <a:ext cx="8763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product of conjugates is a rational number. Therefore, we can rationalize denominator of a fraction by multiplying by its conjugat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3"/>
          <p:cNvGraphicFramePr/>
          <p:nvPr/>
        </p:nvGraphicFramePr>
        <p:xfrm>
          <a:off x="304920" y="228600"/>
          <a:ext cx="8458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458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4"/>
          <p:cNvGraphicFramePr/>
          <p:nvPr/>
        </p:nvGraphicFramePr>
        <p:xfrm>
          <a:off x="914400" y="1981080"/>
          <a:ext cx="6667560" cy="69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81080"/>
                    <a:ext cx="666756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5"/>
          <p:cNvGraphicFramePr/>
          <p:nvPr/>
        </p:nvGraphicFramePr>
        <p:xfrm>
          <a:off x="2971800" y="2813040"/>
          <a:ext cx="3657600" cy="61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2813040"/>
                    <a:ext cx="36576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85840" y="1066680"/>
          <a:ext cx="283824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1066680"/>
                    <a:ext cx="283824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3" name="Object 4"/>
          <p:cNvGraphicFramePr/>
          <p:nvPr/>
        </p:nvGraphicFramePr>
        <p:xfrm>
          <a:off x="2971800" y="1066680"/>
          <a:ext cx="2143080" cy="192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1066680"/>
                    <a:ext cx="2143080" cy="19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5"/>
          <p:cNvGraphicFramePr/>
          <p:nvPr/>
        </p:nvGraphicFramePr>
        <p:xfrm>
          <a:off x="304920" y="2971800"/>
          <a:ext cx="8143920" cy="25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6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971800"/>
                    <a:ext cx="814392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7" name="Object 6"/>
          <p:cNvGraphicFramePr/>
          <p:nvPr/>
        </p:nvGraphicFramePr>
        <p:xfrm>
          <a:off x="380880" y="5029200"/>
          <a:ext cx="407196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5029200"/>
                    <a:ext cx="40719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7"/>
          <p:cNvGraphicFramePr/>
          <p:nvPr/>
        </p:nvGraphicFramePr>
        <p:xfrm>
          <a:off x="4572000" y="4952880"/>
          <a:ext cx="3106800" cy="1766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0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952880"/>
                    <a:ext cx="31068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1" name="Rectangle 8"/>
          <p:cNvSpPr/>
          <p:nvPr/>
        </p:nvSpPr>
        <p:spPr>
          <a:xfrm>
            <a:off x="5105520" y="4952880"/>
            <a:ext cx="2743200" cy="17528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384" name="Object 4"/>
          <p:cNvGraphicFramePr/>
          <p:nvPr/>
        </p:nvGraphicFramePr>
        <p:xfrm>
          <a:off x="3267000" y="1447920"/>
          <a:ext cx="2143080" cy="192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7000" y="1447920"/>
                    <a:ext cx="21430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5"/>
          <p:cNvGraphicFramePr/>
          <p:nvPr/>
        </p:nvGraphicFramePr>
        <p:xfrm>
          <a:off x="228600" y="1447920"/>
          <a:ext cx="3111480" cy="19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447920"/>
                    <a:ext cx="3111480" cy="19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8" name="Object 6"/>
          <p:cNvGraphicFramePr/>
          <p:nvPr/>
        </p:nvGraphicFramePr>
        <p:xfrm>
          <a:off x="533520" y="3581280"/>
          <a:ext cx="5732280" cy="2516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3581280"/>
                    <a:ext cx="5732280" cy="25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7"/>
          <p:cNvGraphicFramePr/>
          <p:nvPr/>
        </p:nvGraphicFramePr>
        <p:xfrm>
          <a:off x="5562720" y="4724280"/>
          <a:ext cx="3375000" cy="1766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62720" y="4724280"/>
                    <a:ext cx="337500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Rectangle 8"/>
          <p:cNvSpPr/>
          <p:nvPr/>
        </p:nvSpPr>
        <p:spPr>
          <a:xfrm>
            <a:off x="6172200" y="4648320"/>
            <a:ext cx="274320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7631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Produc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Examples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3" name="Object 1030"/>
          <p:cNvGraphicFramePr/>
          <p:nvPr/>
        </p:nvGraphicFramePr>
        <p:xfrm>
          <a:off x="76320" y="1981080"/>
          <a:ext cx="172872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17287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32"/>
          <p:cNvGraphicFramePr/>
          <p:nvPr/>
        </p:nvGraphicFramePr>
        <p:xfrm>
          <a:off x="1752480" y="1994040"/>
          <a:ext cx="3276720" cy="11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1994040"/>
                    <a:ext cx="3276720" cy="11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33"/>
          <p:cNvGraphicFramePr/>
          <p:nvPr/>
        </p:nvGraphicFramePr>
        <p:xfrm>
          <a:off x="4952880" y="1981080"/>
          <a:ext cx="3981600" cy="11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81080"/>
                    <a:ext cx="398160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34"/>
          <p:cNvGraphicFramePr/>
          <p:nvPr/>
        </p:nvGraphicFramePr>
        <p:xfrm>
          <a:off x="4956120" y="3124080"/>
          <a:ext cx="2435400" cy="1148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03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6120" y="3124080"/>
                    <a:ext cx="2435400" cy="11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035"/>
          <p:cNvGraphicFramePr/>
          <p:nvPr/>
        </p:nvGraphicFramePr>
        <p:xfrm>
          <a:off x="1787400" y="4530600"/>
          <a:ext cx="3205440" cy="114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03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7400" y="4530600"/>
                    <a:ext cx="3205440" cy="11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36"/>
          <p:cNvGraphicFramePr/>
          <p:nvPr/>
        </p:nvGraphicFramePr>
        <p:xfrm>
          <a:off x="4987800" y="4518000"/>
          <a:ext cx="3909960" cy="1157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4" name="Object 103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87800" y="4518000"/>
                    <a:ext cx="3909960" cy="11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038"/>
          <p:cNvGraphicFramePr/>
          <p:nvPr/>
        </p:nvGraphicFramePr>
        <p:xfrm>
          <a:off x="76320" y="4562640"/>
          <a:ext cx="1728720" cy="115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" name="Object 10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4562640"/>
                    <a:ext cx="172872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39"/>
          <p:cNvGraphicFramePr/>
          <p:nvPr/>
        </p:nvGraphicFramePr>
        <p:xfrm>
          <a:off x="4917960" y="5634000"/>
          <a:ext cx="2506680" cy="1147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8" name="Object 10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17960" y="5634000"/>
                    <a:ext cx="25066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040"/>
          <p:cNvSpPr/>
          <p:nvPr/>
        </p:nvSpPr>
        <p:spPr>
          <a:xfrm>
            <a:off x="5638680" y="31240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Rectangle 1041"/>
          <p:cNvSpPr/>
          <p:nvPr/>
        </p:nvSpPr>
        <p:spPr>
          <a:xfrm>
            <a:off x="5638680" y="5638680"/>
            <a:ext cx="1828800" cy="11430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168120" y="1447920"/>
          <a:ext cx="3184560" cy="102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" y="1447920"/>
                    <a:ext cx="31845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3197160" y="1457280"/>
          <a:ext cx="3660840" cy="97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7160" y="1457280"/>
                    <a:ext cx="366084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8"/>
          <p:cNvSpPr/>
          <p:nvPr/>
        </p:nvSpPr>
        <p:spPr>
          <a:xfrm>
            <a:off x="3809880" y="2438280"/>
            <a:ext cx="22860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8" name="Object 9"/>
          <p:cNvGraphicFramePr/>
          <p:nvPr/>
        </p:nvGraphicFramePr>
        <p:xfrm>
          <a:off x="3276720" y="2514600"/>
          <a:ext cx="280980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2514600"/>
                    <a:ext cx="28098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152280" y="4114800"/>
          <a:ext cx="4114800" cy="116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280" y="4114800"/>
                    <a:ext cx="41148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4191120" y="4114800"/>
          <a:ext cx="4647960" cy="101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91120" y="4114800"/>
                    <a:ext cx="464796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4367160" y="5283360"/>
          <a:ext cx="4143600" cy="111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367160" y="5283360"/>
                    <a:ext cx="4143600" cy="111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3"/>
          <p:cNvSpPr/>
          <p:nvPr/>
        </p:nvSpPr>
        <p:spPr>
          <a:xfrm>
            <a:off x="4876920" y="5181480"/>
            <a:ext cx="365760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39" name="Object 1028"/>
          <p:cNvGraphicFramePr/>
          <p:nvPr/>
        </p:nvGraphicFramePr>
        <p:xfrm>
          <a:off x="3843360" y="1541520"/>
          <a:ext cx="469116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3360" y="1541520"/>
                    <a:ext cx="469116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Rectangle 1029"/>
          <p:cNvSpPr/>
          <p:nvPr/>
        </p:nvSpPr>
        <p:spPr>
          <a:xfrm>
            <a:off x="4495680" y="2666880"/>
            <a:ext cx="3048120" cy="9907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2" name="Object 1032"/>
          <p:cNvGraphicFramePr/>
          <p:nvPr/>
        </p:nvGraphicFramePr>
        <p:xfrm>
          <a:off x="3429000" y="4170240"/>
          <a:ext cx="3889440" cy="101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10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170240"/>
                    <a:ext cx="388944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33"/>
          <p:cNvGraphicFramePr/>
          <p:nvPr/>
        </p:nvGraphicFramePr>
        <p:xfrm>
          <a:off x="3444840" y="5257800"/>
          <a:ext cx="303228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10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44840" y="5257800"/>
                    <a:ext cx="303228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1034"/>
          <p:cNvSpPr/>
          <p:nvPr/>
        </p:nvSpPr>
        <p:spPr>
          <a:xfrm>
            <a:off x="3886200" y="5181480"/>
            <a:ext cx="2666880" cy="12193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7" name="Object 1035"/>
          <p:cNvGraphicFramePr/>
          <p:nvPr/>
        </p:nvGraphicFramePr>
        <p:xfrm>
          <a:off x="228600" y="1523880"/>
          <a:ext cx="434988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10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1523880"/>
                    <a:ext cx="434988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36"/>
          <p:cNvGraphicFramePr/>
          <p:nvPr/>
        </p:nvGraphicFramePr>
        <p:xfrm>
          <a:off x="228600" y="4164120"/>
          <a:ext cx="3505320" cy="1147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164120"/>
                    <a:ext cx="35053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037"/>
          <p:cNvGraphicFramePr/>
          <p:nvPr/>
        </p:nvGraphicFramePr>
        <p:xfrm>
          <a:off x="3886200" y="2741760"/>
          <a:ext cx="3603600" cy="915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0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86200" y="2741760"/>
                    <a:ext cx="360360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84582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Quotient Property of Radical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55" name="Group 10"/>
          <p:cNvGrpSpPr/>
          <p:nvPr/>
        </p:nvGrpSpPr>
        <p:grpSpPr>
          <a:xfrm>
            <a:off x="304920" y="1981080"/>
            <a:ext cx="8381880" cy="4419720"/>
            <a:chOff x="304920" y="1981080"/>
            <a:chExt cx="8381880" cy="4419720"/>
          </a:xfrm>
        </p:grpSpPr>
        <p:sp>
          <p:nvSpPr>
            <p:cNvPr id="156" name="Text Box 4"/>
            <p:cNvSpPr/>
            <p:nvPr/>
          </p:nvSpPr>
          <p:spPr>
            <a:xfrm>
              <a:off x="304920" y="1981080"/>
              <a:ext cx="8381880" cy="33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For any numbers a and b where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and 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	</a:t>
              </a:r>
              <a:r>
                <a:rPr b="0" lang="en-US" sz="6000" spc="-1" strike="noStrike">
                  <a:solidFill>
                    <a:srgbClr val="333333"/>
                  </a:solidFill>
                  <a:latin typeface="Arial"/>
                </a:rPr>
                <a:t>  , </a:t>
              </a: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57" name="Object 5"/>
            <p:cNvGraphicFramePr/>
            <p:nvPr/>
          </p:nvGraphicFramePr>
          <p:xfrm>
            <a:off x="3124080" y="2997360"/>
            <a:ext cx="1828800" cy="74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24080" y="2997360"/>
                      <a:ext cx="182880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Object 7"/>
            <p:cNvGraphicFramePr/>
            <p:nvPr/>
          </p:nvGraphicFramePr>
          <p:xfrm>
            <a:off x="6248520" y="3033720"/>
            <a:ext cx="1904760" cy="77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0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48520" y="3033720"/>
                      <a:ext cx="190476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1" name="Object 8"/>
            <p:cNvGraphicFramePr/>
            <p:nvPr/>
          </p:nvGraphicFramePr>
          <p:xfrm>
            <a:off x="2590920" y="3986280"/>
            <a:ext cx="3352680" cy="241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6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90920" y="3986280"/>
                      <a:ext cx="3352680" cy="24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01520" y="1523880"/>
          <a:ext cx="267012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1523880"/>
                    <a:ext cx="26701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2362320" y="1523880"/>
          <a:ext cx="2023920" cy="208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1523880"/>
                    <a:ext cx="202392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7"/>
          <p:cNvGraphicFramePr/>
          <p:nvPr/>
        </p:nvGraphicFramePr>
        <p:xfrm>
          <a:off x="4413240" y="1523880"/>
          <a:ext cx="1820880" cy="200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3240" y="1523880"/>
                    <a:ext cx="182088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13"/>
          <p:cNvSpPr/>
          <p:nvPr/>
        </p:nvSpPr>
        <p:spPr>
          <a:xfrm>
            <a:off x="4952880" y="1447920"/>
            <a:ext cx="1219320" cy="20574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858000" y="4572000"/>
            <a:ext cx="1523880" cy="198108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3" name="Object 15"/>
          <p:cNvGraphicFramePr/>
          <p:nvPr/>
        </p:nvGraphicFramePr>
        <p:xfrm>
          <a:off x="2333520" y="4624560"/>
          <a:ext cx="2081160" cy="208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33520" y="462456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6"/>
          <p:cNvGraphicFramePr/>
          <p:nvPr/>
        </p:nvGraphicFramePr>
        <p:xfrm>
          <a:off x="4319640" y="4648320"/>
          <a:ext cx="208116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19640" y="464832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17"/>
          <p:cNvGraphicFramePr/>
          <p:nvPr/>
        </p:nvGraphicFramePr>
        <p:xfrm>
          <a:off x="6272280" y="4648320"/>
          <a:ext cx="2139840" cy="1908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72280" y="4648320"/>
                    <a:ext cx="213984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amples</a:t>
            </a:r>
            <a:r>
              <a:rPr b="0" lang="en-US" sz="6000" spc="-1" strike="noStrike">
                <a:solidFill>
                  <a:srgbClr val="333333"/>
                </a:solidFill>
                <a:latin typeface="Arial"/>
                <a:ea typeface="Times New Roman"/>
              </a:rPr>
              <a:t>: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2443320" y="1581120"/>
          <a:ext cx="20826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43320" y="1581120"/>
                    <a:ext cx="20826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5"/>
          <p:cNvGraphicFramePr/>
          <p:nvPr/>
        </p:nvGraphicFramePr>
        <p:xfrm>
          <a:off x="4549680" y="2038320"/>
          <a:ext cx="20034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2038320"/>
                    <a:ext cx="20034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6"/>
          <p:cNvSpPr/>
          <p:nvPr/>
        </p:nvSpPr>
        <p:spPr>
          <a:xfrm>
            <a:off x="7162920" y="2209680"/>
            <a:ext cx="685800" cy="76212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7238880" y="4495680"/>
            <a:ext cx="1447920" cy="198144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7" name="Object 8"/>
          <p:cNvGraphicFramePr/>
          <p:nvPr/>
        </p:nvGraphicFramePr>
        <p:xfrm>
          <a:off x="2490840" y="4572000"/>
          <a:ext cx="2081160" cy="2081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90840" y="4572000"/>
                    <a:ext cx="208116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4471920" y="4572000"/>
          <a:ext cx="2081160" cy="190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71920" y="4572000"/>
                    <a:ext cx="20811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651720" y="4572000"/>
          <a:ext cx="2082600" cy="1908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51720" y="4572000"/>
                    <a:ext cx="208260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11"/>
          <p:cNvGraphicFramePr/>
          <p:nvPr/>
        </p:nvGraphicFramePr>
        <p:xfrm>
          <a:off x="50760" y="1523880"/>
          <a:ext cx="3327480" cy="4991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4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760" y="1523880"/>
                    <a:ext cx="3327480" cy="49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12"/>
          <p:cNvGraphicFramePr/>
          <p:nvPr/>
        </p:nvGraphicFramePr>
        <p:xfrm>
          <a:off x="6620040" y="2208240"/>
          <a:ext cx="1214280" cy="668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20040" y="2208240"/>
                    <a:ext cx="12142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4c2b"/>
                </a:solidFill>
                <a:latin typeface="Arial"/>
              </a:rPr>
              <a:t>Rationalizing the denominator</a:t>
            </a:r>
            <a:endParaRPr b="0" lang="en-US" sz="60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99" name="Object 3"/>
          <p:cNvGraphicFramePr/>
          <p:nvPr/>
        </p:nvGraphicFramePr>
        <p:xfrm>
          <a:off x="304920" y="4800600"/>
          <a:ext cx="98568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4800600"/>
                    <a:ext cx="98568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"/>
          <p:cNvSpPr/>
          <p:nvPr/>
        </p:nvSpPr>
        <p:spPr>
          <a:xfrm>
            <a:off x="609480" y="1981080"/>
            <a:ext cx="8001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Rationalizing the denominator means to remove any radicals from the denominator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33"/>
                </a:solidFill>
                <a:uFillTx/>
                <a:latin typeface="Arial"/>
                <a:ea typeface="Times New Roman"/>
              </a:rPr>
              <a:t>Ex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  <a:ea typeface="Times New Roman"/>
              </a:rPr>
              <a:t>: Simplify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Object 5"/>
          <p:cNvGraphicFramePr/>
          <p:nvPr/>
        </p:nvGraphicFramePr>
        <p:xfrm>
          <a:off x="1143000" y="4876920"/>
          <a:ext cx="139716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876920"/>
                    <a:ext cx="139716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6"/>
          <p:cNvGraphicFramePr/>
          <p:nvPr/>
        </p:nvGraphicFramePr>
        <p:xfrm>
          <a:off x="2438280" y="4876920"/>
          <a:ext cx="1071720" cy="16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4876920"/>
                    <a:ext cx="107172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7"/>
          <p:cNvGraphicFramePr/>
          <p:nvPr/>
        </p:nvGraphicFramePr>
        <p:xfrm>
          <a:off x="3505320" y="4906800"/>
          <a:ext cx="2057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4906800"/>
                    <a:ext cx="2057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8"/>
          <p:cNvGraphicFramePr/>
          <p:nvPr/>
        </p:nvGraphicFramePr>
        <p:xfrm>
          <a:off x="7391520" y="4892760"/>
          <a:ext cx="1600200" cy="150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892760"/>
                    <a:ext cx="16002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9"/>
          <p:cNvGraphicFramePr/>
          <p:nvPr/>
        </p:nvGraphicFramePr>
        <p:xfrm>
          <a:off x="5486400" y="4948200"/>
          <a:ext cx="1981080" cy="1452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4948200"/>
                    <a:ext cx="1981080" cy="14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Rectangle 10"/>
          <p:cNvSpPr/>
          <p:nvPr/>
        </p:nvSpPr>
        <p:spPr>
          <a:xfrm>
            <a:off x="7848720" y="4800600"/>
            <a:ext cx="1143000" cy="182880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01:58:41Z</dcterms:created>
  <dc:creator>HCPS</dc:creator>
  <dc:description/>
  <dc:language>en-US</dc:language>
  <cp:lastModifiedBy>LEGION</cp:lastModifiedBy>
  <cp:lastPrinted>2003-01-07T17:02:41Z</cp:lastPrinted>
  <dcterms:modified xsi:type="dcterms:W3CDTF">2017-07-06T06:39:52Z</dcterms:modified>
  <cp:revision>40</cp:revision>
  <dc:subject/>
  <dc:title>Roots of Real Numbers and Radical Expressions Part 2</dc:title>
</cp:coreProperties>
</file>