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C6F2-7DFE-4961-B634-F9EAF8BBBF8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Ō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  Simplify:  -2(x + 3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 Simplify:  3[(5 + 72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-2x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[(5 + 49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[(54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[3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Ō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.  Simplify:  3[(5 + 72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-2x -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3[(5 + 49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3[(54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3[34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10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Equations by Adding and Subtra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ving Equations by Adding and Subtrac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+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+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-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4 + 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0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6 +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6 + 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ry a more challenging problem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E08E-87BE-45A0-AF1C-0D860B9B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132A-13AE-42F5-9349-AB7E1887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0161-FBCB-4E8B-953F-1AF8B624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CBB0-DC81-436D-9DBC-554605FA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F45EB-8A05-471D-B61A-7B828CB3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D1D93-921A-4F33-B445-FEFE3835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F6C3B-5C5F-4327-8EAA-C6587DB0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A2D18-3862-4B65-8685-F24A6F7C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E3973-E107-4924-AEA3-F3D09EDF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52054-C02B-49B7-B026-8FB47DCA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C8EE2-49A3-4188-A35C-A11CAEEB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0BAB-0C97-4388-9E01-96F39184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48A26-B3E0-4317-9AE2-F6C08FE3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D5EA6-766B-41A4-B235-50D2801D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E9E44-7C04-4C2B-8572-E23CA025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EA901-7176-4CE0-B590-4008A011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E9FFB-476A-4A80-AFCC-25DE4644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4BF68-5407-4530-84E6-F90F9BBA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2D95E-027C-4EA2-AE70-C2C6370F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6750A-A2EE-4820-960F-1B5CBF87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006C4-82AD-4C5F-A3C1-6A0B8E48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FFD38-FD86-4FA9-8035-589069A3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7D94-BA23-4256-9D03-596C3CE3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63BB2-D2C0-48B8-A04E-EEBE9BBE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DC88B-793B-4713-A7F1-FF7949C8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CFA62-A6F1-48BC-AA87-AB69BF62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7F8B6-EBDC-41B6-ACF2-7E32720C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1C46B-45C8-442D-A57E-49083E21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3A273-5960-4951-8950-DC03C803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BED68-DD93-47F0-BA3E-F85DD721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64D7B-4894-478E-98A4-05581F47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7EFFB-3251-40A6-9157-FF705608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4DF86-7559-42D3-B0B7-07F9B9F0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07F3-31B6-4395-B3A7-CAF420D7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4F62C-7989-4DA2-9093-762F5137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D65B0-500A-44FF-9D0B-23FC2530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C5159-FB88-4450-A753-E25F3E1F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9F196-CA17-4D8B-BE5A-2446A0C3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5356C-96DC-4CCB-8E5A-F60759CB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87824-9E10-4DF7-B193-6D2AA2CC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F7F71-CF4C-4DC3-BF9B-D17DED63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12988-754C-45C8-8C83-B72A646AB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3AE08-F3F4-42EF-BFCD-D9550CF5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6D9FD-931F-467E-8131-E6E64022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5D19-2C98-41FD-ADD6-974B6D69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5E2A9-757A-4DD4-BF7F-3A0C39BD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A623E-BDAD-4036-A833-B051FBB0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AF4BC-57A2-41C7-8552-6AAC70B2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CB806-2DE2-48A4-831C-F60EFD59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29A34-0573-4DAC-BAEA-6F7AA1F6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1558F-933A-4168-8DBC-CB560D3A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0350C-2056-470E-A94D-8C98D319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84374-9E63-407E-93C8-E610DD4F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6B241-0F85-4A04-B970-17CD6CD3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35C62-4D9E-428E-B518-A975F21E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04DC-EB9A-4040-9034-B23F760A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359D9-1C1F-4801-8E9B-B79880A8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F9D8-D346-467B-92F6-6851FC91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730F-717B-455F-B007-A3152A29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8B9-3443-4EBF-B4E7-F8D7C733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5B52-A584-4705-91F1-8AED473D2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278F-F884-4615-8B0E-7A0FC3DBB48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740C-BD7C-4AC3-9A72-A7337267FA7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BCEA-2C00-414F-A008-75AF0A30A32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192C-9CB5-46FE-9AF1-D8A631C85AF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11803"/>
                </a:solidFill>
                <a:latin typeface="Garamond"/>
              </a:rPr>
              <a:t>SŌP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 Simplify:  3[(5 + 7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20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3124080" y="365760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276720" y="3809880"/>
            <a:ext cx="3886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3429000" y="3962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4419720" y="16002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-2x - 6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257800" y="2743200"/>
            <a:ext cx="3352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 + 49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5257800" y="342900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4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5257800" y="41911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34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5257800" y="48769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10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289548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2895480" y="15238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3124080" y="1523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365760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ahoma"/>
              </a:rPr>
              <a:t>3.1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447920" y="19810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olving Equations by Adding and Subtractin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7" name="Picture 8" descr="AG00293_"/>
          <p:cNvPicPr/>
          <p:nvPr/>
        </p:nvPicPr>
        <p:blipFill>
          <a:blip r:embed="rId1"/>
          <a:stretch/>
        </p:blipFill>
        <p:spPr>
          <a:xfrm>
            <a:off x="3886200" y="4724280"/>
            <a:ext cx="1657440" cy="181944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9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3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362320" y="2514240"/>
            <a:ext cx="2133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5410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103" dur="2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153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WordArt 14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29002E-006 L -0.09479 0.00231 E">
                                      <p:cBhvr>
                                        <p:cTn id="180" dur="2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3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285640" y="251424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6781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5410080" y="38098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244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94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93d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6324480" y="2514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6 0 E">
                                      <p:cBhvr>
                                        <p:cTn id="321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371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1904760" y="251424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3352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67057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3733920" y="373392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434340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4952880" y="3733920"/>
            <a:ext cx="1752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25146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13343E-006 L -0.10834 -2.13343E-006 E">
                                      <p:cBhvr>
                                        <p:cTn id="385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3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3520" y="2361960"/>
            <a:ext cx="3505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.6 + m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4876920" y="251460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563868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429000" y="2514600"/>
            <a:ext cx="182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6248520" y="2438280"/>
            <a:ext cx="1904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 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3276720" y="373392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4267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4876920" y="38098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190512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 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 E">
                                      <p:cBhvr>
                                        <p:cTn id="458" dur="2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Oval 75"/>
          <p:cNvSpPr/>
          <p:nvPr/>
        </p:nvSpPr>
        <p:spPr>
          <a:xfrm>
            <a:off x="2133720" y="3200400"/>
            <a:ext cx="396216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9"/>
          <p:cNvSpPr/>
          <p:nvPr/>
        </p:nvSpPr>
        <p:spPr>
          <a:xfrm>
            <a:off x="6248520" y="1447920"/>
            <a:ext cx="12189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8"/>
          <p:cNvSpPr/>
          <p:nvPr/>
        </p:nvSpPr>
        <p:spPr>
          <a:xfrm>
            <a:off x="1600200" y="1371600"/>
            <a:ext cx="152388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029200" y="1904760"/>
            <a:ext cx="1371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3733920" y="1752480"/>
            <a:ext cx="761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6705720" y="2895480"/>
            <a:ext cx="1066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5"/>
              <p:cNvSpPr txBox="1"/>
              <p:nvPr/>
            </p:nvSpPr>
            <p:spPr>
              <a:xfrm>
                <a:off x="3200400" y="1828800"/>
                <a:ext cx="417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28"/>
              <p:cNvSpPr txBox="1"/>
              <p:nvPr/>
            </p:nvSpPr>
            <p:spPr>
              <a:xfrm>
                <a:off x="2133720" y="1863720"/>
                <a:ext cx="4032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2" name="Rectangle 29"/>
          <p:cNvSpPr/>
          <p:nvPr/>
        </p:nvSpPr>
        <p:spPr>
          <a:xfrm>
            <a:off x="624852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30"/>
              <p:cNvSpPr txBox="1"/>
              <p:nvPr/>
            </p:nvSpPr>
            <p:spPr>
              <a:xfrm>
                <a:off x="6705720" y="1711440"/>
                <a:ext cx="45720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52"/>
              <p:cNvSpPr txBox="1"/>
              <p:nvPr/>
            </p:nvSpPr>
            <p:spPr>
              <a:xfrm>
                <a:off x="4433760" y="1590840"/>
                <a:ext cx="595440" cy="15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" name="WordArt 55"/>
          <p:cNvSpPr txBox="1"/>
          <p:nvPr/>
        </p:nvSpPr>
        <p:spPr>
          <a:xfrm rot="5400000">
            <a:off x="-1981080" y="35049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66" name="Rectangle 56"/>
          <p:cNvSpPr/>
          <p:nvPr/>
        </p:nvSpPr>
        <p:spPr>
          <a:xfrm>
            <a:off x="30492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7"/>
          <p:cNvSpPr/>
          <p:nvPr/>
        </p:nvSpPr>
        <p:spPr>
          <a:xfrm>
            <a:off x="160020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4"/>
          <p:cNvSpPr/>
          <p:nvPr/>
        </p:nvSpPr>
        <p:spPr>
          <a:xfrm>
            <a:off x="4343400" y="345744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5"/>
          <p:cNvSpPr/>
          <p:nvPr/>
        </p:nvSpPr>
        <p:spPr>
          <a:xfrm>
            <a:off x="5638680" y="3381480"/>
            <a:ext cx="533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66"/>
              <p:cNvSpPr txBox="1"/>
              <p:nvPr/>
            </p:nvSpPr>
            <p:spPr>
              <a:xfrm>
                <a:off x="3016080" y="3276720"/>
                <a:ext cx="48924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1" name="Rectangle 67"/>
          <p:cNvSpPr/>
          <p:nvPr/>
        </p:nvSpPr>
        <p:spPr>
          <a:xfrm>
            <a:off x="3657600" y="338148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1"/>
          <p:cNvSpPr/>
          <p:nvPr/>
        </p:nvSpPr>
        <p:spPr>
          <a:xfrm>
            <a:off x="2971800" y="3429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8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2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4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6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834 0 E">
                                      <p:cBhvr>
                                        <p:cTn id="618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5 0 E">
                                      <p:cBhvr>
                                        <p:cTn id="669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01:03:01Z</dcterms:created>
  <dc:creator>User</dc:creator>
  <dc:description/>
  <dc:language>en-US</dc:language>
  <cp:lastModifiedBy>LEGION</cp:lastModifiedBy>
  <dcterms:modified xsi:type="dcterms:W3CDTF">2017-07-06T06:40:12Z</dcterms:modified>
  <cp:revision>25</cp:revision>
  <dc:subject/>
  <dc:title>3.1-Solving Equations by Adding and Subtracting</dc:title>
</cp:coreProperties>
</file>