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F544-7FEA-4416-8BB3-178CE37679C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Ō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 Simplify:  -2(x + 3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 Simplify:  3[(5 + 72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-2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(5 + 49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(54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3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Ō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  Simplify:  3[(5 + 72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-2x -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(5 + 49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(54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34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10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Adding and Subtr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ing Equations by Adding and Subtrac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+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4 +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0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6 +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6 + 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ry a more challenging proble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6C4-54FE-496B-ACEA-50D0DA96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CC7-E197-472D-9FFC-3E85D4CD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973-F1ED-4B69-8153-0D340F3A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51B-3A8A-4C52-9726-F4153F44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C3322-A3B8-45C4-BA4F-7EC11099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5FD78-A652-47FA-A0C4-05C1FB65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3EB25-18C0-4FDF-AE0E-0F217882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ECC4D-939E-4B92-8355-227CCA55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F895B-2DD3-45A1-B21C-9CF0D816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62EC5-534F-42CC-BED8-42514708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5D834-C277-4D58-B1C9-4E80BB21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9A1-B7A7-431E-B063-6F0E903C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DF7CF-B945-4435-A5A1-78986E36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B525D-D849-460D-915B-5A59E616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7A0AD-C7ED-49EC-A1E2-7331702B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40690-A38D-421D-A3DB-3F466DAE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38EA6-C388-4B2B-8DED-25F3D643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1A5C7-E11A-4498-BDE4-55F07E34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28710-BB56-4E00-96D6-E02DEBE0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85A22-3580-4469-9CC5-2CBC4D26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5DD67-812C-4EEB-8CB3-ECE9C319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945AB-F045-4F12-9336-2250AB27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6603-4975-448F-A19F-FE8DDBEB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46372-667D-49D9-BFAD-14373289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464A7-4401-48B5-89C7-5EF0E107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EEFA0-48F8-4ED5-9CFB-8E2F98B8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A50F9-C3FE-4F5B-BB8B-D95EFBFF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C4665-A3BA-4C2C-A4BD-D45AE28F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D7833-A603-445B-8DCF-BA9B0956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EB1CD-7473-4BBD-9F50-042FDAAB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CBE46-4E43-4BC3-BBCD-F3736F1C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3E6D5-1D83-4A0F-9842-F96EF846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4AD1B-3A74-44AC-92FB-37E9DC69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053-AA22-41DF-8680-9D2A0A4B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81078-6801-48B2-BD42-BA351E8D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76A55-73D7-4B11-9BD2-DEE341FE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01178-3F8B-4661-B52E-2D5867D6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9A153-CD9C-428F-B20E-983B8F84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C4291-6F86-4682-9CB2-E142CFA9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9123D-3891-4468-AFB3-3AE898D5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F7B58-96C1-41B8-A764-FEB0CA72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77B98-5F19-4838-AF4E-B7945B10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646D9-2B99-4DFE-801F-B61659E0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30FB0-C579-4375-823C-89F552A6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B2E-F543-4233-AB93-3BC4955F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B4124-17BE-4463-8DBF-74128A4C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98241-1319-449D-BE85-F2807227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715DC-50D2-4B73-9CEE-0504E9A7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963DA-B483-44E4-B36B-E1AE4954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5DB63-7A9F-47E6-9269-498B0B40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750C6-F578-42DA-B5D1-1E9AB8BB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4A3B2-8278-46D1-8B30-659216AE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12E30-0AFE-4355-A527-18E3A2F8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96280-9813-4C81-9DE0-2955DB49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B8305-D850-4D95-B448-DBB5A003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277C-4187-40BF-B159-DD782430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A7C05-A478-4499-899F-D807E5A9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8C4-5184-410B-993B-54AFE42D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83F-0D5F-420A-BFE2-9FB8C303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B198-BDFD-4351-BCE1-7FA2CE5D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311C-D8E2-4CF6-B919-88DB8F62B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01E4-0068-496A-8470-BFB46E78720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E405-24D8-44F1-8E81-3C8358213F2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36FA-F9C1-4EA6-8B4D-F6AFD6F3A67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7EC2-8FD6-4D6C-9AED-10667C458E4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11803"/>
                </a:solidFill>
                <a:latin typeface="Garamond"/>
              </a:rPr>
              <a:t>SŌP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Simplify:  3[(5 + 7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20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124080" y="36576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76720" y="3809880"/>
            <a:ext cx="388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429000" y="3962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419720" y="1600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-2x - 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257800" y="274320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 + 49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257800" y="34290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4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5257800" y="41911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34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5257800" y="48769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10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289548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289548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3124080" y="1523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365760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3.1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olving Equations by Adding and Subtract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Picture 8" descr="AG00293_"/>
          <p:cNvPicPr/>
          <p:nvPr/>
        </p:nvPicPr>
        <p:blipFill>
          <a:blip r:embed="rId1"/>
          <a:stretch/>
        </p:blipFill>
        <p:spPr>
          <a:xfrm>
            <a:off x="3886200" y="4724280"/>
            <a:ext cx="1657440" cy="1819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362320" y="2514240"/>
            <a:ext cx="2133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5410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03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153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14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29002E-006 L -0.09479 0.00231 E">
                                      <p:cBhvr>
                                        <p:cTn id="180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3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285640" y="251424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6781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5410080" y="38098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244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94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93d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6324480" y="2514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6 0 E">
                                      <p:cBhvr>
                                        <p:cTn id="321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371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1904760" y="251424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3352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67057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3733920" y="37339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34340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4952880" y="3733920"/>
            <a:ext cx="1752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25146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13343E-006 L -0.10834 -2.13343E-006 E">
                                      <p:cBhvr>
                                        <p:cTn id="385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520" y="236196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.6 + 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4876920" y="251460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563868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429000" y="25146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6248520" y="2438280"/>
            <a:ext cx="1904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 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3276720" y="37339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267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4876920" y="38098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190512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 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458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Oval 75"/>
          <p:cNvSpPr/>
          <p:nvPr/>
        </p:nvSpPr>
        <p:spPr>
          <a:xfrm>
            <a:off x="2133720" y="3200400"/>
            <a:ext cx="39621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9"/>
          <p:cNvSpPr/>
          <p:nvPr/>
        </p:nvSpPr>
        <p:spPr>
          <a:xfrm>
            <a:off x="6248520" y="1447920"/>
            <a:ext cx="12189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8"/>
          <p:cNvSpPr/>
          <p:nvPr/>
        </p:nvSpPr>
        <p:spPr>
          <a:xfrm>
            <a:off x="1600200" y="1371600"/>
            <a:ext cx="1523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29200" y="190476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3733920" y="1752480"/>
            <a:ext cx="761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705720" y="28954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5"/>
              <p:cNvSpPr txBox="1"/>
              <p:nvPr/>
            </p:nvSpPr>
            <p:spPr>
              <a:xfrm>
                <a:off x="3200400" y="1828800"/>
                <a:ext cx="41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28"/>
              <p:cNvSpPr txBox="1"/>
              <p:nvPr/>
            </p:nvSpPr>
            <p:spPr>
              <a:xfrm>
                <a:off x="2133720" y="1863720"/>
                <a:ext cx="4032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Rectangle 29"/>
          <p:cNvSpPr/>
          <p:nvPr/>
        </p:nvSpPr>
        <p:spPr>
          <a:xfrm>
            <a:off x="624852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30"/>
              <p:cNvSpPr txBox="1"/>
              <p:nvPr/>
            </p:nvSpPr>
            <p:spPr>
              <a:xfrm>
                <a:off x="6705720" y="1711440"/>
                <a:ext cx="4572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52"/>
              <p:cNvSpPr txBox="1"/>
              <p:nvPr/>
            </p:nvSpPr>
            <p:spPr>
              <a:xfrm>
                <a:off x="4433760" y="1590840"/>
                <a:ext cx="59544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WordArt 55"/>
          <p:cNvSpPr txBox="1"/>
          <p:nvPr/>
        </p:nvSpPr>
        <p:spPr>
          <a:xfrm rot="5400000">
            <a:off x="-1981080" y="35049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3049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7"/>
          <p:cNvSpPr/>
          <p:nvPr/>
        </p:nvSpPr>
        <p:spPr>
          <a:xfrm>
            <a:off x="160020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4"/>
          <p:cNvSpPr/>
          <p:nvPr/>
        </p:nvSpPr>
        <p:spPr>
          <a:xfrm>
            <a:off x="4343400" y="345744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5"/>
          <p:cNvSpPr/>
          <p:nvPr/>
        </p:nvSpPr>
        <p:spPr>
          <a:xfrm>
            <a:off x="5638680" y="3381480"/>
            <a:ext cx="533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66"/>
              <p:cNvSpPr txBox="1"/>
              <p:nvPr/>
            </p:nvSpPr>
            <p:spPr>
              <a:xfrm>
                <a:off x="3016080" y="3276720"/>
                <a:ext cx="48924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Rectangle 67"/>
          <p:cNvSpPr/>
          <p:nvPr/>
        </p:nvSpPr>
        <p:spPr>
          <a:xfrm>
            <a:off x="3657600" y="338148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1"/>
          <p:cNvSpPr/>
          <p:nvPr/>
        </p:nvSpPr>
        <p:spPr>
          <a:xfrm>
            <a:off x="297180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2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4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6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834 0 E">
                                      <p:cBhvr>
                                        <p:cTn id="618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5 0 E">
                                      <p:cBhvr>
                                        <p:cTn id="669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1:03:01Z</dcterms:created>
  <dc:creator>User</dc:creator>
  <dc:description/>
  <dc:language>en-US</dc:language>
  <cp:lastModifiedBy>LEGION</cp:lastModifiedBy>
  <dcterms:modified xsi:type="dcterms:W3CDTF">2017-07-06T06:40:12Z</dcterms:modified>
  <cp:revision>25</cp:revision>
  <dc:subject/>
  <dc:title>3.1-Solving Equations by Adding and Subtracting</dc:title>
</cp:coreProperties>
</file>