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EFC5-845E-45F2-8FA6-124193F498D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Ō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.  Simplify:  -2(x + 3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.  Simplify:  3[(5 + 72) – 2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-2x -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3[(5 + 49) – 2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3[(54) – 2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3[34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1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Ō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1.  Simplify:  -2(x + 3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2.  Simplify:  3[(5 + 72) – 20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 -2x - 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 3[(5 + 49) – 20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 3[(54) – 20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 3[34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 10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Equations by Adding and Subtrac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ving Equations by Adding and Subtract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 + 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 + 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t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+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+ 3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 - 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 - 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t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-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 - 6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4 + 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-4 + 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-2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0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t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6 + 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6 + m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4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4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4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 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ry a more challenging problem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try a more challenging problem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  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 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6B9E-D081-4951-8E97-3588B67C2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172B-2B93-4D53-B2CF-4D048772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1765-FB7F-4104-B464-FFCEB349B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7676-DEDF-4132-B4C3-4DBB6D100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3D944-BE65-4257-8120-5A499D2F0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6381C-6B08-4E93-B7B0-74910D79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EBF273-7FE0-48B2-A27E-17AF7EB1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3AAC5B-6EA9-41E5-816C-B360B64B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A47E3-E7DC-46CD-AC98-6D339170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39553-6CCC-417D-ADA6-C66DE060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ABFC03-5CFF-4F47-B565-B19ED5D0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38A5-0F39-4455-9673-4D131FCA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22FE3-ECEE-481B-9307-502028E0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243CF0-FB64-46CF-8DA7-481768E3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B0B13-7698-4147-BFDC-EA3FC84A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B2CDF-ED71-440C-8ABC-BC2436B61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EB5FE-4081-4F52-BFC2-590BC4202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9B4EF-EFF0-4580-8512-3454A1E44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0223E-3182-48E0-8C37-92E34E4C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64B4A-3B30-4234-9094-4BC236E9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1DF84-E7E5-46F1-A941-762BC272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1FFDD-C751-47F6-8E07-DA3494B0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625D-3CD5-4709-980D-C8702821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EA689-F051-4E58-8EA7-F1F23B71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B44F5-B681-496B-9187-D575258D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0A322-655D-41FE-BE5A-F57FCDB2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F0F60-B822-4A0F-93AC-A0D988C1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6DF26-C2C1-4F19-BE8C-D7EDD78D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D91AB-A486-47AF-9C77-AFAEAC92B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A092D-FB9B-4465-A1D2-CEED3A300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6C848-F6C7-4365-B1B8-55EA409D1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542C2-6F10-47FC-8BEB-B8C51373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11AF9-D835-407F-93C0-41439C34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F798-D2EA-4273-A6B8-3DE6D433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B228C-230B-40AD-A73D-45BD0EFC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2A261-6237-40D1-A784-41A35163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A685C-A2D2-4BC7-8516-F7AD0F8F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26006-88F7-4729-B069-28028C5D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8ACD5-D288-41B7-992A-B68B9259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FCACD-BE42-48B9-B509-FEC6270A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CB4B7-E429-420A-A046-B6BB5029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87C09-E04A-45BD-A1BF-9EAD53BB6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DC693-917E-4E87-BCB2-471434882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CBED9-F5DA-4AA6-9DF7-9CCCB4ED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D464-C6BB-4E6D-92B8-46373A48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8AEC3-65E9-4F81-8434-F07E40ED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4799B-ABC9-48D1-90B9-28FDFF37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8C326-AEDC-49DF-B10C-12E57298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7EBBB-0926-47ED-AA11-B6C718F7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96D29-B70D-4089-B4D3-DD16F61B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0E318-82B4-4E26-A336-907BE91A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0679D-7A4B-498C-959F-262B7E1F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F15BE-2EAE-4D5C-BBCA-50CE5675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CCBFE-14DF-4A8F-A84E-F163291E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0196A-893A-4EA3-AC1E-3D34B406B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ECCF-98BC-4A8B-B5CB-D9AB602A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CEB48-CABF-4E79-AE92-63A00BF37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015F-2160-44AC-B11E-FAA06418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E084-65F9-40C7-8755-969E2421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7146-C8B6-44F5-BFA2-94E68DBE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5DA3-7506-4D28-AA8F-D291439B4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A5A5-510C-487D-BC8B-B582C752BB0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F235-78D3-4599-AECD-85E25A1A154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DEA9-CB32-4AF3-A3A3-B5B41C65D39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4D1C-9415-4CB6-BCD0-FE3EEE82ACE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11803"/>
                </a:solidFill>
                <a:latin typeface="Garamond"/>
              </a:rPr>
              <a:t>SŌP</a:t>
            </a:r>
            <a:endParaRPr b="0" lang="en-US" sz="8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 Simplify:  -2(x + 3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 Simplify:  3[(5 + 7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– 20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3124080" y="365760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3276720" y="3809880"/>
            <a:ext cx="3886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3429000" y="3962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4419720" y="1600200"/>
            <a:ext cx="198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-2x - 6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257800" y="2743200"/>
            <a:ext cx="3352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3[(5 + 49) – 20]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5257800" y="342900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3[(54) – 20]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5257800" y="419112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3[34]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5257800" y="487692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102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3"/>
          <p:cNvSpPr/>
          <p:nvPr/>
        </p:nvSpPr>
        <p:spPr>
          <a:xfrm flipV="1">
            <a:off x="2895480" y="1523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4"/>
          <p:cNvSpPr/>
          <p:nvPr/>
        </p:nvSpPr>
        <p:spPr>
          <a:xfrm flipV="1">
            <a:off x="2895480" y="15238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5"/>
          <p:cNvSpPr/>
          <p:nvPr/>
        </p:nvSpPr>
        <p:spPr>
          <a:xfrm>
            <a:off x="3124080" y="15238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6"/>
          <p:cNvSpPr/>
          <p:nvPr/>
        </p:nvSpPr>
        <p:spPr>
          <a:xfrm>
            <a:off x="3657600" y="1523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cc"/>
                </a:solidFill>
                <a:latin typeface="Tahoma"/>
              </a:rPr>
              <a:t>3.1</a:t>
            </a:r>
            <a:endParaRPr b="0" lang="en-US" sz="9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447920" y="198108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Solving Equations by Adding and Subtracting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7" name="Picture 8" descr="AG00293_"/>
          <p:cNvPicPr/>
          <p:nvPr/>
        </p:nvPicPr>
        <p:blipFill>
          <a:blip r:embed="rId1"/>
          <a:stretch/>
        </p:blipFill>
        <p:spPr>
          <a:xfrm>
            <a:off x="3886200" y="4724280"/>
            <a:ext cx="1657440" cy="181944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9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3" dur="2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6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2362320" y="2514240"/>
            <a:ext cx="2133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 + 5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3505320" y="251460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5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6324480" y="2514600"/>
            <a:ext cx="1067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5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9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54100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WordArt 12"/>
          <p:cNvSpPr txBox="1"/>
          <p:nvPr/>
        </p:nvSpPr>
        <p:spPr>
          <a:xfrm>
            <a:off x="2438280" y="152280"/>
            <a:ext cx="457200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man Old Style"/>
              </a:rPr>
              <a:t>Example 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7 0 E">
                                      <p:cBhvr>
                                        <p:cTn id="103" dur="2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3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153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09320" y="2514240"/>
            <a:ext cx="2210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y + 3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505320" y="251460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3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6324480" y="2514600"/>
            <a:ext cx="1067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3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9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0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5410080" y="38098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2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WordArt 14"/>
          <p:cNvSpPr txBox="1"/>
          <p:nvPr/>
        </p:nvSpPr>
        <p:spPr>
          <a:xfrm rot="5400000">
            <a:off x="-1981080" y="25905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  <p:sp>
        <p:nvSpPr>
          <p:cNvPr id="3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29002E-006 L -0.09479 0.00231 E">
                                      <p:cBhvr>
                                        <p:cTn id="180" dur="2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3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230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2285640" y="251424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 - 4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3505320" y="251460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6781680" y="2514600"/>
            <a:ext cx="129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8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9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0"/>
          <p:cNvSpPr/>
          <p:nvPr/>
        </p:nvSpPr>
        <p:spPr>
          <a:xfrm>
            <a:off x="5410080" y="3809880"/>
            <a:ext cx="10670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1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WordArt 12"/>
          <p:cNvSpPr txBox="1"/>
          <p:nvPr/>
        </p:nvSpPr>
        <p:spPr>
          <a:xfrm>
            <a:off x="2438280" y="152280"/>
            <a:ext cx="457200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man Old Style"/>
              </a:rPr>
              <a:t>Example 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7 0 E">
                                      <p:cBhvr>
                                        <p:cTn id="244" dur="2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3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294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93d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209320" y="2514240"/>
            <a:ext cx="2210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x - 6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3505320" y="251460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8"/>
          <p:cNvSpPr/>
          <p:nvPr/>
        </p:nvSpPr>
        <p:spPr>
          <a:xfrm>
            <a:off x="6324480" y="2514600"/>
            <a:ext cx="1371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0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1"/>
          <p:cNvSpPr/>
          <p:nvPr/>
        </p:nvSpPr>
        <p:spPr>
          <a:xfrm>
            <a:off x="5410080" y="38098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2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WordArt 13"/>
          <p:cNvSpPr txBox="1"/>
          <p:nvPr/>
        </p:nvSpPr>
        <p:spPr>
          <a:xfrm rot="5400000">
            <a:off x="-1981080" y="25905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6 0 E">
                                      <p:cBhvr>
                                        <p:cTn id="321" dur="2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3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3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5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371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1904760" y="2514240"/>
            <a:ext cx="2514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4 + x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3352680" y="2514600"/>
            <a:ext cx="129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6705720" y="251460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8"/>
          <p:cNvSpPr/>
          <p:nvPr/>
        </p:nvSpPr>
        <p:spPr>
          <a:xfrm>
            <a:off x="3733920" y="373392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9"/>
          <p:cNvSpPr/>
          <p:nvPr/>
        </p:nvSpPr>
        <p:spPr>
          <a:xfrm>
            <a:off x="434340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0"/>
          <p:cNvSpPr/>
          <p:nvPr/>
        </p:nvSpPr>
        <p:spPr>
          <a:xfrm>
            <a:off x="4952880" y="3733920"/>
            <a:ext cx="1752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2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1"/>
          <p:cNvSpPr/>
          <p:nvPr/>
        </p:nvSpPr>
        <p:spPr>
          <a:xfrm>
            <a:off x="25146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0+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WordArt 12"/>
          <p:cNvSpPr txBox="1"/>
          <p:nvPr/>
        </p:nvSpPr>
        <p:spPr>
          <a:xfrm>
            <a:off x="2438280" y="152280"/>
            <a:ext cx="457200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man Old Style"/>
              </a:rPr>
              <a:t>Example 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13343E-006 L -0.10834 -2.13343E-006 E">
                                      <p:cBhvr>
                                        <p:cTn id="385" dur="2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3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3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3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1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23520" y="2361960"/>
            <a:ext cx="35053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4.6 + m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4876920" y="2514600"/>
            <a:ext cx="761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563868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3429000" y="2514600"/>
            <a:ext cx="1828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Arial"/>
              </a:rPr>
              <a:t>-4.6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6248520" y="2438280"/>
            <a:ext cx="19047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Arial"/>
              </a:rPr>
              <a:t>- 4.6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9"/>
          <p:cNvSpPr/>
          <p:nvPr/>
        </p:nvSpPr>
        <p:spPr>
          <a:xfrm>
            <a:off x="3276720" y="3733920"/>
            <a:ext cx="761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0"/>
          <p:cNvSpPr/>
          <p:nvPr/>
        </p:nvSpPr>
        <p:spPr>
          <a:xfrm>
            <a:off x="42670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1"/>
          <p:cNvSpPr/>
          <p:nvPr/>
        </p:nvSpPr>
        <p:spPr>
          <a:xfrm>
            <a:off x="4876920" y="3809880"/>
            <a:ext cx="1981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4.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2"/>
          <p:cNvSpPr/>
          <p:nvPr/>
        </p:nvSpPr>
        <p:spPr>
          <a:xfrm>
            <a:off x="190512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0 +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13"/>
          <p:cNvSpPr txBox="1"/>
          <p:nvPr/>
        </p:nvSpPr>
        <p:spPr>
          <a:xfrm rot="5400000">
            <a:off x="-1981080" y="25905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5 0 E">
                                      <p:cBhvr>
                                        <p:cTn id="458" dur="2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3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3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3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3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3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Oval 75"/>
          <p:cNvSpPr/>
          <p:nvPr/>
        </p:nvSpPr>
        <p:spPr>
          <a:xfrm>
            <a:off x="2133720" y="3200400"/>
            <a:ext cx="396216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59"/>
          <p:cNvSpPr/>
          <p:nvPr/>
        </p:nvSpPr>
        <p:spPr>
          <a:xfrm>
            <a:off x="6248520" y="1447920"/>
            <a:ext cx="121896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58"/>
          <p:cNvSpPr/>
          <p:nvPr/>
        </p:nvSpPr>
        <p:spPr>
          <a:xfrm>
            <a:off x="1600200" y="1371600"/>
            <a:ext cx="152388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029200" y="1904760"/>
            <a:ext cx="1371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+ 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3733920" y="1752480"/>
            <a:ext cx="7617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6705720" y="2895480"/>
            <a:ext cx="1066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25"/>
              <p:cNvSpPr txBox="1"/>
              <p:nvPr/>
            </p:nvSpPr>
            <p:spPr>
              <a:xfrm>
                <a:off x="3200400" y="1828800"/>
                <a:ext cx="4176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28"/>
              <p:cNvSpPr txBox="1"/>
              <p:nvPr/>
            </p:nvSpPr>
            <p:spPr>
              <a:xfrm>
                <a:off x="2133720" y="1863720"/>
                <a:ext cx="40320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2" name="Rectangle 29"/>
          <p:cNvSpPr/>
          <p:nvPr/>
        </p:nvSpPr>
        <p:spPr>
          <a:xfrm>
            <a:off x="6248520" y="18288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  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30"/>
              <p:cNvSpPr txBox="1"/>
              <p:nvPr/>
            </p:nvSpPr>
            <p:spPr>
              <a:xfrm>
                <a:off x="6705720" y="1711440"/>
                <a:ext cx="45720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52"/>
              <p:cNvSpPr txBox="1"/>
              <p:nvPr/>
            </p:nvSpPr>
            <p:spPr>
              <a:xfrm>
                <a:off x="4433760" y="1590840"/>
                <a:ext cx="595440" cy="15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5" name="WordArt 55"/>
          <p:cNvSpPr txBox="1"/>
          <p:nvPr/>
        </p:nvSpPr>
        <p:spPr>
          <a:xfrm rot="5400000">
            <a:off x="-1981080" y="35049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  <p:sp>
        <p:nvSpPr>
          <p:cNvPr id="366" name="Rectangle 56"/>
          <p:cNvSpPr/>
          <p:nvPr/>
        </p:nvSpPr>
        <p:spPr>
          <a:xfrm>
            <a:off x="304920" y="3049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 try a more challenging problem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7"/>
          <p:cNvSpPr/>
          <p:nvPr/>
        </p:nvSpPr>
        <p:spPr>
          <a:xfrm>
            <a:off x="1600200" y="18288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   +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4"/>
          <p:cNvSpPr/>
          <p:nvPr/>
        </p:nvSpPr>
        <p:spPr>
          <a:xfrm>
            <a:off x="4343400" y="345744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 +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65"/>
          <p:cNvSpPr/>
          <p:nvPr/>
        </p:nvSpPr>
        <p:spPr>
          <a:xfrm>
            <a:off x="5638680" y="3381480"/>
            <a:ext cx="533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66"/>
              <p:cNvSpPr txBox="1"/>
              <p:nvPr/>
            </p:nvSpPr>
            <p:spPr>
              <a:xfrm>
                <a:off x="3016080" y="3276720"/>
                <a:ext cx="489240" cy="13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1" name="Rectangle 67"/>
          <p:cNvSpPr/>
          <p:nvPr/>
        </p:nvSpPr>
        <p:spPr>
          <a:xfrm>
            <a:off x="3657600" y="338148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1"/>
          <p:cNvSpPr/>
          <p:nvPr/>
        </p:nvSpPr>
        <p:spPr>
          <a:xfrm>
            <a:off x="2971800" y="34290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8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8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8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8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8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8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8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834 0 E">
                                      <p:cBhvr>
                                        <p:cTn id="612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834 0 E">
                                      <p:cBhvr>
                                        <p:cTn id="614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834 0 E">
                                      <p:cBhvr>
                                        <p:cTn id="616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834 0 E">
                                      <p:cBhvr>
                                        <p:cTn id="618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0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4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25 0 E">
                                      <p:cBhvr>
                                        <p:cTn id="669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01:03:01Z</dcterms:created>
  <dc:creator>User</dc:creator>
  <dc:description/>
  <dc:language>en-US</dc:language>
  <cp:lastModifiedBy>LEGION</cp:lastModifiedBy>
  <dcterms:modified xsi:type="dcterms:W3CDTF">2017-07-06T06:40:12Z</dcterms:modified>
  <cp:revision>25</cp:revision>
  <dc:subject/>
  <dc:title>3.1-Solving Equations by Adding and Subtracting</dc:title>
</cp:coreProperties>
</file>