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4BEC-B950-4802-B46B-8C462BA12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A6B-BF1F-4D7C-AEAB-8E1A26B0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EB6-E246-432C-BBA8-74F76D4B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3CA-770C-4A58-9DE7-0D9406EC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14B-E088-41EF-BE15-3381DE62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7B9E-E0EF-42BB-867C-0939CB72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D07C-8252-4AD4-A6A5-71B91EB9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1061-E88F-4AB2-87E6-A00D2842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4871-A631-4B19-B33E-7F63EFA0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134F-85AA-4441-A6D2-0847BD33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47FF-FABD-4F0D-BD5A-F6113CCE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E520-773F-4E0D-A0B4-B9368096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B79-F376-4506-953F-D7C5AD50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D3FA-50AF-4089-8B8F-42ADC4F2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EA1B-564D-41CB-9000-13ABFD48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0C46-42E1-4EB4-82C1-350DFCF7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5431-8D7C-4668-8B3F-4BEEABF4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06ED-1099-468E-9930-FDAD9DB3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954-FD2E-49AF-A653-735AA819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8A6-CF60-493F-805F-93C7E23E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B4E-0360-4B3B-9045-1FAE8C95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111-1BC8-4F38-86BE-ADAC376A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F00-4989-4213-87A8-86111982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72C-96C1-44B5-AADE-46A086A8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703-71CB-42AC-B1FF-211C3894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56A3-DFD2-405F-A0CA-455F3A202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7F5E-F36C-46F3-9CED-64B726DB7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733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d35"/>
                </a:solidFill>
                <a:latin typeface="Arial"/>
              </a:rPr>
              <a:t>The Remainder and Factor Theor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57200" y="4876920"/>
            <a:ext cx="801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564480" y="1447920"/>
            <a:ext cx="677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24080" y="1371600"/>
            <a:ext cx="8530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5105520" y="3124080"/>
            <a:ext cx="3733560" cy="1099440"/>
          </a:xfrm>
          <a:prstGeom prst="rect">
            <a:avLst/>
          </a:prstGeom>
          <a:noFill/>
          <a:ln w="2844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472320" y="5127480"/>
            <a:ext cx="807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1304640" y="4800600"/>
            <a:ext cx="207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+ 7x +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5496840" y="1905120"/>
            <a:ext cx="2881080" cy="277524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871240" y="1905120"/>
            <a:ext cx="3029040" cy="396468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127080" y="388620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3581280" y="4191120"/>
            <a:ext cx="2140200" cy="1447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115920" y="129528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5"/>
          <a:stretch/>
        </p:blipFill>
        <p:spPr>
          <a:xfrm>
            <a:off x="3581280" y="1600200"/>
            <a:ext cx="2140200" cy="14479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245160" y="1219320"/>
            <a:ext cx="858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234000" y="2666880"/>
            <a:ext cx="413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1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14x +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7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33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4583160" y="2819520"/>
            <a:ext cx="29649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– 8)(x – 5)(x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+ 6)(2x + 1)(x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59080" y="1447920"/>
            <a:ext cx="8111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97160" y="1371600"/>
            <a:ext cx="83476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493200" y="1371600"/>
            <a:ext cx="79243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4"/>
          <p:cNvSpPr/>
          <p:nvPr/>
        </p:nvSpPr>
        <p:spPr>
          <a:xfrm flipH="1">
            <a:off x="912960" y="3201840"/>
            <a:ext cx="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"/>
          <p:cNvSpPr/>
          <p:nvPr/>
        </p:nvSpPr>
        <p:spPr>
          <a:xfrm flipH="1" flipV="1">
            <a:off x="457200" y="37339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 flipH="1">
            <a:off x="2362320" y="4191120"/>
            <a:ext cx="144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069920" y="419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5185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16653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2518560" y="36831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680480" y="36576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739400" y="1066680"/>
            <a:ext cx="2923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5    3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4"/>
          <p:cNvSpPr/>
          <p:nvPr/>
        </p:nvSpPr>
        <p:spPr>
          <a:xfrm flipH="1">
            <a:off x="5027760" y="2211480"/>
            <a:ext cx="2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57200" y="1266840"/>
            <a:ext cx="4572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"/>
          <p:cNvSpPr/>
          <p:nvPr/>
        </p:nvSpPr>
        <p:spPr>
          <a:xfrm flipH="1" flipV="1">
            <a:off x="4648320" y="2590920"/>
            <a:ext cx="380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428040" y="4495680"/>
            <a:ext cx="83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5"/>
          <p:cNvSpPr/>
          <p:nvPr/>
        </p:nvSpPr>
        <p:spPr>
          <a:xfrm flipH="1">
            <a:off x="3960360" y="1297080"/>
            <a:ext cx="324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73040" y="5459400"/>
            <a:ext cx="62812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 = (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11x) ∙ (x – 3) +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7"/>
          <p:cNvSpPr/>
          <p:nvPr/>
        </p:nvSpPr>
        <p:spPr>
          <a:xfrm flipH="1">
            <a:off x="6246360" y="2895480"/>
            <a:ext cx="1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93560" y="1371600"/>
            <a:ext cx="8218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     28      5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3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3"/>
          <p:cNvSpPr/>
          <p:nvPr/>
        </p:nvSpPr>
        <p:spPr>
          <a:xfrm flipH="1">
            <a:off x="91440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4"/>
          <p:cNvSpPr/>
          <p:nvPr/>
        </p:nvSpPr>
        <p:spPr>
          <a:xfrm flipH="1" flipV="1">
            <a:off x="45720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7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95720" y="1371600"/>
            <a:ext cx="823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51520" y="1371600"/>
            <a:ext cx="84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–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46     –64    22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"/>
          <p:cNvSpPr/>
          <p:nvPr/>
        </p:nvSpPr>
        <p:spPr>
          <a:xfrm flipH="1">
            <a:off x="533412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93200" y="1371600"/>
            <a:ext cx="8196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     16     36    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0:08:45Z</dcterms:created>
  <dc:creator>Teresa</dc:creator>
  <dc:description/>
  <dc:language>en-US</dc:language>
  <cp:lastModifiedBy>LEGION</cp:lastModifiedBy>
  <dcterms:modified xsi:type="dcterms:W3CDTF">2017-07-06T06:40:51Z</dcterms:modified>
  <cp:revision>16</cp:revision>
  <dc:subject/>
  <dc:title>The Remainder and Factor Theorems</dc:title>
</cp:coreProperties>
</file>