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5F28-EF61-4065-A1DD-47F023FAC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and Factor Theor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and Factor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nomial (x – a) is a factor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(x) if and only if f(a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binomial (x – a) is a factor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ynomial f(x) if and only if f(a) =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olynomial is divided by one of 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 factors, the quotient is called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ressed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remainder (last number in a de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) is zero, that means f(#) = 0. 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means that the divisor resulting in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of zero is a factor of th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n a polynomial is divided by one of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nomial factors, the quotient is calle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pressed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the remainder (last number in a de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ynomial) is zero, that means f(#) = 0. 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so means that the divisor resulting i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mainder of zero is a factor of the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remainder is zero, (x – 3) is a facto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lso allows us to find the remaining factor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by factoring the depressed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the remainder is zero, (x – 3) is a facto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also allows us to find the remaining factor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polynomial by factoring the depressed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6)(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2 + 7x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+ 6)(x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e the fac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he zeros as s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graph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are the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th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the zeros as s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the grap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a polynomial and one of its factors, find the rem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 of the polynomial.  Some factors may not be bi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– 11x2 + 14x + 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2x3 + 7x2 – 33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8)(x – 5)(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6)(2x + 1)(x –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iven a polynomial and one of its factors, find the rem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s of the polynomial.  Some factors may not be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– 11x2 + 14x +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2x3 + 7x2 – 33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8)(x – 5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+ 6)(2x + 1)(x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f(x) is divided by (x – a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the constant f(a)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q(x) ∙ (x – a) + f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q(x) is a polynomial with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less than the degree of f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a polynomial f(x) is divided by (x – a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is the constant f(a)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q(x) ∙ (x – a) + f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re q(x) is a polynomial with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e less than the degree of f(x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f(3) for the following polynomial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d f(3) for the following polynomial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divide the same polynomial by (x –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w divide the same polynomial by (x –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   3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11    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the value obtained when evaluating the function at f(3) and the val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remainder when dividing the polynomial by x – 3 are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 = (5x2 + 11x) ∙ (x – 3) +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    3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11    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ce that the value obtained when evaluating the function at f(3) and the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the remainder when dividing the polynomial by x – 3 ar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 = (5x2 + 11x) ∙ (x – 3) +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g(4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    5    –13   –14    –47 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    28      5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   7      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9      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4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     5    –13   –14    –47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     28      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   7      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9      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thetic Substitution – using synth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 to evaluate a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especially helpful for polynomials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greater than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nthetic Substitution – using 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sion to evaluate a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especially helpful for polynomial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gree greater tha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g(–2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  5    –13   –14    –47  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6     –64    22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 –23    3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111    2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–2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    5    –13   –14    –47 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46     –64    22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 –23    3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–111   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c(4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(x) = 2x4 – 4x3 – 7x2 – 13x –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     2   –4     –7   –13   –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    16     36     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  4      9      23     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c(4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(x) = 2x4 – 4x3 – 7x2 – 13x –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      2   –4     –7   –13  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     16     36     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    4      9      23     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4E5B-139F-44EE-8B5F-B91C5E4C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EAB-A978-4B5B-87C1-2A188615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453-3DFE-4185-94E0-5D84DFE8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08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08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8DDD-6395-4ACC-9DF6-E7F629CC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F66B-9BFD-4CA0-8069-E2D1B369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EEF3-F47C-4F02-9CA0-61C9B642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EE72-230A-4684-8233-FDC0565D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FA9A-75B9-430C-A25E-B3564BBC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65C2-1EFB-4E8E-82D5-4607172D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9B67-A3AE-4421-92E4-83517B1D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E5AC-4AEA-4A0E-8742-F6FB7773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3149-874E-400B-8756-9150006D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A854-8812-4CE8-8735-74F5A4FA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EBB6-D744-4DE1-AA79-35A9674D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345C-2C3C-4755-BDDE-702B97F2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FEC2-0011-4276-B5AE-7E56F7B0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08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08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B269-CBE1-408E-BA39-248B0BF9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7234-B7B3-402E-87E8-7E96FBC3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B99-43E4-4C07-8F38-8B705DEB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2CC-33B9-43F2-9FC3-3F6D2B9D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6FAA-A83A-4C22-95E7-6E220754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7131-3287-4258-AC7C-C0D0DBF6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0C3-D72C-481A-AE21-57CA53BD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CB0-2F35-4FBF-A24F-76F88583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34A4-D50A-4BCF-8D98-F7AD51C6D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79E3-1144-411C-B85C-BAA2AF02E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733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d35"/>
                </a:solidFill>
                <a:latin typeface="Arial"/>
              </a:rPr>
              <a:t>The Remainder and Factor Theore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57200" y="4876920"/>
            <a:ext cx="801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564480" y="1447920"/>
            <a:ext cx="677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inomial (x – a) is a factor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ynomial f(x) if and only if f(a) =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24080" y="1371600"/>
            <a:ext cx="8530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a polynomial is divided by one of 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nomial factors, the quotient is called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pressed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the remainder (last number in a de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ynomial) is zero, that means f(#) = 0. 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so means that the divisor resulting in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ainder of zero is a factor of the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244440" y="1220760"/>
            <a:ext cx="4478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4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5x –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      21 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3"/>
          <p:cNvSpPr/>
          <p:nvPr/>
        </p:nvSpPr>
        <p:spPr>
          <a:xfrm flipH="1">
            <a:off x="837720" y="26668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4"/>
          <p:cNvSpPr/>
          <p:nvPr/>
        </p:nvSpPr>
        <p:spPr>
          <a:xfrm flipH="1" flipV="1">
            <a:off x="380880" y="3200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5"/>
          <p:cNvSpPr/>
          <p:nvPr/>
        </p:nvSpPr>
        <p:spPr>
          <a:xfrm flipH="1">
            <a:off x="3962520" y="3657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5105520" y="3124080"/>
            <a:ext cx="3733560" cy="1099440"/>
          </a:xfrm>
          <a:prstGeom prst="rect">
            <a:avLst/>
          </a:prstGeom>
          <a:noFill/>
          <a:ln w="2844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nce the remainder is zero, (x – 3) is a factor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– 15x – 1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472320" y="5127480"/>
            <a:ext cx="807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is also allows us to find the remaining factors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polynomial by factoring the depressed polynom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4440" y="1220760"/>
            <a:ext cx="4478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4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5x –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      21 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3"/>
          <p:cNvSpPr/>
          <p:nvPr/>
        </p:nvSpPr>
        <p:spPr>
          <a:xfrm flipH="1">
            <a:off x="837720" y="26668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4"/>
          <p:cNvSpPr/>
          <p:nvPr/>
        </p:nvSpPr>
        <p:spPr>
          <a:xfrm flipH="1" flipV="1">
            <a:off x="380880" y="3200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5"/>
          <p:cNvSpPr/>
          <p:nvPr/>
        </p:nvSpPr>
        <p:spPr>
          <a:xfrm flipH="1">
            <a:off x="3962520" y="3657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1304640" y="4800600"/>
            <a:ext cx="2073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+ 7x +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x + 6)(x +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5496840" y="1905120"/>
            <a:ext cx="2881080" cy="2775240"/>
          </a:xfrm>
          <a:prstGeom prst="rect">
            <a:avLst/>
          </a:prstGeom>
          <a:noFill/>
          <a:ln w="7632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ctor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15x –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5871240" y="1905120"/>
            <a:ext cx="3029040" cy="3964680"/>
          </a:xfrm>
          <a:prstGeom prst="rect">
            <a:avLst/>
          </a:prstGeom>
          <a:noFill/>
          <a:ln w="7632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re the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he polynom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the zeros as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the graph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15x – 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127080" y="3886200"/>
            <a:ext cx="337824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3581280" y="4191120"/>
            <a:ext cx="2140200" cy="1447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4"/>
          <a:stretch/>
        </p:blipFill>
        <p:spPr>
          <a:xfrm>
            <a:off x="115920" y="1295280"/>
            <a:ext cx="337824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5"/>
          <a:stretch/>
        </p:blipFill>
        <p:spPr>
          <a:xfrm>
            <a:off x="3581280" y="1600200"/>
            <a:ext cx="2140200" cy="14479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245160" y="1219320"/>
            <a:ext cx="858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a polynomial and one of its factors, find the rem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s of the polynomial.  Some factors may not be binom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234000" y="2666880"/>
            <a:ext cx="413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1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14x +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–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7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33x –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4583160" y="2819520"/>
            <a:ext cx="29649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x – 8)(x – 5)(x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x + 6)(2x + 1)(x –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59080" y="1447920"/>
            <a:ext cx="8111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a polynomial f(x) is divided by (x – a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remainder is the constant f(a)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q(x) ∙ (x – a) + f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q(x) is a polynomial with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e less than the degree of f(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97160" y="1371600"/>
            <a:ext cx="83476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d f(3) for the following polynomial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5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(3)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493200" y="1371600"/>
            <a:ext cx="792432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divide the same polynomial by (x –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4"/>
          <p:cNvSpPr/>
          <p:nvPr/>
        </p:nvSpPr>
        <p:spPr>
          <a:xfrm flipH="1">
            <a:off x="912960" y="3201840"/>
            <a:ext cx="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"/>
          <p:cNvSpPr/>
          <p:nvPr/>
        </p:nvSpPr>
        <p:spPr>
          <a:xfrm flipH="1" flipV="1">
            <a:off x="457200" y="37339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 flipH="1">
            <a:off x="2362320" y="4191120"/>
            <a:ext cx="144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069920" y="4191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2518560" y="4191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1665360" y="4191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2518560" y="36831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1680480" y="36576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739400" y="1066680"/>
            <a:ext cx="29239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5    3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   11    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4"/>
          <p:cNvSpPr/>
          <p:nvPr/>
        </p:nvSpPr>
        <p:spPr>
          <a:xfrm flipH="1">
            <a:off x="5027760" y="2211480"/>
            <a:ext cx="2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57200" y="1266840"/>
            <a:ext cx="457200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5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(3)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"/>
          <p:cNvSpPr/>
          <p:nvPr/>
        </p:nvSpPr>
        <p:spPr>
          <a:xfrm flipH="1" flipV="1">
            <a:off x="4648320" y="2590920"/>
            <a:ext cx="380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428040" y="4495680"/>
            <a:ext cx="83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ice that the value obtained when evaluating the function at f(3) and the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remainder when dividing the polynomial by x – 3 are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15"/>
          <p:cNvSpPr/>
          <p:nvPr/>
        </p:nvSpPr>
        <p:spPr>
          <a:xfrm flipH="1">
            <a:off x="3960360" y="1297080"/>
            <a:ext cx="324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73040" y="5459400"/>
            <a:ext cx="62812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 = (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11x) ∙ (x – 3) +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7"/>
          <p:cNvSpPr/>
          <p:nvPr/>
        </p:nvSpPr>
        <p:spPr>
          <a:xfrm flipH="1">
            <a:off x="6246360" y="2895480"/>
            <a:ext cx="18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493560" y="1371600"/>
            <a:ext cx="8218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4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7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    5    –13   –14    –47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0     28      56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36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     7      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9      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3"/>
          <p:cNvSpPr/>
          <p:nvPr/>
        </p:nvSpPr>
        <p:spPr>
          <a:xfrm flipH="1">
            <a:off x="91440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4"/>
          <p:cNvSpPr/>
          <p:nvPr/>
        </p:nvSpPr>
        <p:spPr>
          <a:xfrm flipH="1" flipV="1">
            <a:off x="45720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7"/>
          <p:cNvSpPr/>
          <p:nvPr/>
        </p:nvSpPr>
        <p:spPr>
          <a:xfrm flipH="1">
            <a:off x="502920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95720" y="1371600"/>
            <a:ext cx="823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nthetic Substitution – using syn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vision to evaluate a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especially helpful for polynomial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gree greater than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551520" y="1371600"/>
            <a:ext cx="844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–2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7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    5    –13   –14    –47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–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46     –64    22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   –23    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111    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 flipH="1">
            <a:off x="106524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4"/>
          <p:cNvSpPr/>
          <p:nvPr/>
        </p:nvSpPr>
        <p:spPr>
          <a:xfrm flipH="1" flipV="1">
            <a:off x="60948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5"/>
          <p:cNvSpPr/>
          <p:nvPr/>
        </p:nvSpPr>
        <p:spPr>
          <a:xfrm flipH="1">
            <a:off x="533412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493200" y="1371600"/>
            <a:ext cx="8196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c(4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     2   –4     –7   –13   –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     16     36     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    4      9      23     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3"/>
          <p:cNvSpPr/>
          <p:nvPr/>
        </p:nvSpPr>
        <p:spPr>
          <a:xfrm flipH="1">
            <a:off x="106524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4"/>
          <p:cNvSpPr/>
          <p:nvPr/>
        </p:nvSpPr>
        <p:spPr>
          <a:xfrm flipH="1" flipV="1">
            <a:off x="60948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5"/>
          <p:cNvSpPr/>
          <p:nvPr/>
        </p:nvSpPr>
        <p:spPr>
          <a:xfrm flipH="1">
            <a:off x="502920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00:08:45Z</dcterms:created>
  <dc:creator>Teresa</dc:creator>
  <dc:description/>
  <dc:language>en-US</dc:language>
  <cp:lastModifiedBy>LEGION</cp:lastModifiedBy>
  <dcterms:modified xsi:type="dcterms:W3CDTF">2017-07-06T06:40:51Z</dcterms:modified>
  <cp:revision>16</cp:revision>
  <dc:subject/>
  <dc:title>The Remainder and Factor Theorems</dc:title>
</cp:coreProperties>
</file>