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F128-D55E-43DB-B881-FFB0452D3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29376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0304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8920" indent="-34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37160" indent="-27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91880" indent="-27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3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Over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00" y="1189080"/>
            <a:ext cx="85345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heterotrophic eukary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t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develop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from embryoni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exceptions to nearly every criterion for distinguishing animals from other life-for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 million living species of animals have been ident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aleozoic Era (542–251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5400" y="1190160"/>
            <a:ext cx="853452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ambrian explos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535 to 525 million years ago) marks the earliest fossil appearance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any major groups of living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several hypotheses regarding the cause of the Cambrian explo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New predator-pre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rise in atmospheric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32_05CambrianSeascape-U"/>
          <p:cNvPicPr/>
          <p:nvPr/>
        </p:nvPicPr>
        <p:blipFill>
          <a:blip r:embed="rId1"/>
          <a:stretch/>
        </p:blipFill>
        <p:spPr>
          <a:xfrm>
            <a:off x="1133640" y="457200"/>
            <a:ext cx="6876720" cy="6289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52280" y="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 Cambrian sea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sozoic Era (251–65.5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4320" y="990720"/>
            <a:ext cx="85341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diversity continued to increase through the Paleozoic, but was punctuated by mass exti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Ani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gan to make an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impact on 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60 million years a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brates made the transition to land around 360 million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Coral ree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, becoming important marine ecological niches for other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Mesozoic er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inosa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were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omina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errestrial verteb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first mam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enozoic Era (65.5 Million Years Ago to the Present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ginning of the Cenozoic era followed mass extinctions of both terrestrial and marine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extinctions included the large, nonflying dinosaurs and the marine repti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odern mammal orders and insects diversified during the Cenozo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can be characterized by “body plans”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4760" y="1188720"/>
            <a:ext cx="85345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ologists sometimes categorize animals according to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ody pl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set of morphological and developmental tra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rad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a group whose members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share key biological featur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ade is not necessarily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la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monophyletic gr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Symmet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can be categorized according to the symmetry of their bodies, or lack of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animals have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radi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-sided symmetry is called bilater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with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bilateral symmet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v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p) side an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ttom)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ight and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ead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il)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1715"/>
                </a:solidFill>
                <a:latin typeface="Arial"/>
              </a:rPr>
              <a:t>Ceph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development of a head. (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B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32_07BodySymmetry-U"/>
          <p:cNvPicPr/>
          <p:nvPr/>
        </p:nvPicPr>
        <p:blipFill>
          <a:blip r:embed="rId1"/>
          <a:stretch/>
        </p:blipFill>
        <p:spPr>
          <a:xfrm>
            <a:off x="1471680" y="380880"/>
            <a:ext cx="6200640" cy="6381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152280" y="0"/>
            <a:ext cx="5410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Body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509840" y="2798640"/>
            <a:ext cx="2205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Rad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09840" y="6278400"/>
            <a:ext cx="240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Bilate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Tissu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4320" y="118548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 body plans also vary according to the organization of the animal’s tiss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s are collections of specialized cells isolated from other tissues by membranous lay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uring development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hree germ layer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give rise to the tissues and organs of the animal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84320" y="10663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t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germ layer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ve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embryo’s surf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nd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ner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rm layer and line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eveloping digestive t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alled 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rchenter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have ectoderm and  endode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lso hav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iddl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mes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yer; these include all bilateria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202680"/>
            <a:ext cx="48769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d61715"/>
                </a:solidFill>
                <a:latin typeface="Arial"/>
              </a:rPr>
              <a:t>Embryonic Germ Layer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3080" y="0"/>
            <a:ext cx="853452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Helvetica CE"/>
              </a:rPr>
              <a:t>Body Cavities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Most triploblastic animals possess a body cavit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true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called 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oel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d is derived fr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mes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animals that possess a true coel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seudocoelom i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rived from th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esoderm and end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Triploblastic animals that possess a pseudocoelom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pseudo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iploblastic animals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a body cav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32_01CoralReefDivers-U"/>
          <p:cNvPicPr/>
          <p:nvPr/>
        </p:nvPicPr>
        <p:blipFill>
          <a:blip r:embed="rId1"/>
          <a:stretch/>
        </p:blipFill>
        <p:spPr>
          <a:xfrm>
            <a:off x="306360" y="457200"/>
            <a:ext cx="8529840" cy="620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152280" y="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Which of these organisms are anim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32_08-BodyCavities-U"/>
          <p:cNvPicPr/>
          <p:nvPr/>
        </p:nvPicPr>
        <p:blipFill>
          <a:blip r:embed="rId1"/>
          <a:stretch/>
        </p:blipFill>
        <p:spPr>
          <a:xfrm>
            <a:off x="2486160" y="171360"/>
            <a:ext cx="4170240" cy="65912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8"/>
          <p:cNvSpPr/>
          <p:nvPr/>
        </p:nvSpPr>
        <p:spPr>
          <a:xfrm>
            <a:off x="152280" y="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ploblastic Animals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Bod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038480" y="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Coe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19720" y="31608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516480" y="134460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5338800" y="1001880"/>
            <a:ext cx="25858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4495680" y="304920"/>
            <a:ext cx="1368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V="1">
            <a:off x="5105520" y="604800"/>
            <a:ext cx="195120" cy="10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 flipH="1">
            <a:off x="4579920" y="1041480"/>
            <a:ext cx="169920" cy="4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4970520" y="934920"/>
            <a:ext cx="33804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5097600" y="1135080"/>
            <a:ext cx="21564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540160" y="1752480"/>
            <a:ext cx="1019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oelomate - true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5467320" y="2579760"/>
            <a:ext cx="1166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359160" y="3132000"/>
            <a:ext cx="1106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3611520" y="3672000"/>
            <a:ext cx="12146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5680080" y="3143160"/>
            <a:ext cx="928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 flipV="1">
            <a:off x="4457880" y="3207960"/>
            <a:ext cx="4140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 flipH="1">
            <a:off x="5207040" y="2814480"/>
            <a:ext cx="2491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5262480" y="323856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 flipH="1">
            <a:off x="4668840" y="3449520"/>
            <a:ext cx="254160" cy="26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2533680" y="4116240"/>
            <a:ext cx="1539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seudocoelo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4260960" y="4681440"/>
            <a:ext cx="1158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9"/>
          <p:cNvSpPr/>
          <p:nvPr/>
        </p:nvSpPr>
        <p:spPr>
          <a:xfrm>
            <a:off x="5683320" y="4795920"/>
            <a:ext cx="8478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4172040" y="5875200"/>
            <a:ext cx="1679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4616280" y="5067360"/>
            <a:ext cx="0" cy="39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2"/>
          <p:cNvSpPr/>
          <p:nvPr/>
        </p:nvSpPr>
        <p:spPr>
          <a:xfrm flipV="1">
            <a:off x="5187960" y="5283000"/>
            <a:ext cx="450720" cy="28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4629240" y="5651640"/>
            <a:ext cx="29196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4"/>
          <p:cNvSpPr/>
          <p:nvPr/>
        </p:nvSpPr>
        <p:spPr>
          <a:xfrm>
            <a:off x="2540160" y="6248520"/>
            <a:ext cx="1101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coelomate - lack a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4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Cleavage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protostome </a:t>
            </a:r>
            <a:r>
              <a:rPr b="1" i="1" lang="en-US" sz="3200" spc="-1" strike="noStrike">
                <a:solidFill>
                  <a:srgbClr val="034694"/>
                </a:solidFill>
                <a:latin typeface="Times New Roman"/>
              </a:rPr>
              <a:t>or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 deuterostome development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84320" y="1195560"/>
            <a:ext cx="85341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rot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r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uter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i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indeterminate cleavage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ach cell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in the early stages of cleavag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retains the capacity to develop into a complete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terminate cleavage makes possible identical twins, and embryonic stem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32_09-ProtoDeuteroDevel-U"/>
          <p:cNvPicPr/>
          <p:nvPr/>
        </p:nvPicPr>
        <p:blipFill>
          <a:blip r:embed="rId1"/>
          <a:stretch/>
        </p:blipFill>
        <p:spPr>
          <a:xfrm>
            <a:off x="304920" y="279360"/>
            <a:ext cx="8486640" cy="6578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827360" y="0"/>
            <a:ext cx="2173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rotostom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lluscs, annel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227480" y="0"/>
            <a:ext cx="228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Deuterost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hinoderm, chor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2284560" y="932040"/>
            <a:ext cx="133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792680" y="932040"/>
            <a:ext cx="133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1676520" y="2133720"/>
            <a:ext cx="20653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Spiral and 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4648320" y="2125800"/>
            <a:ext cx="19047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Radial and in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4240080" y="2614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618000" y="3103560"/>
            <a:ext cx="10810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6699240" y="800280"/>
            <a:ext cx="109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6553080" y="281952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Coelom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3452760" y="3622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71520" y="2481120"/>
            <a:ext cx="3585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735120" y="2727360"/>
            <a:ext cx="833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744480" y="29559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743040" y="320184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1852560" y="389880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5668920" y="38973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6"/>
          <p:cNvSpPr/>
          <p:nvPr/>
        </p:nvSpPr>
        <p:spPr>
          <a:xfrm>
            <a:off x="3130560" y="390204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7"/>
          <p:cNvSpPr/>
          <p:nvPr/>
        </p:nvSpPr>
        <p:spPr>
          <a:xfrm>
            <a:off x="4316400" y="389736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>
            <a:off x="2927520" y="3213000"/>
            <a:ext cx="67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9"/>
          <p:cNvSpPr/>
          <p:nvPr/>
        </p:nvSpPr>
        <p:spPr>
          <a:xfrm>
            <a:off x="4692600" y="32194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0"/>
          <p:cNvSpPr/>
          <p:nvPr/>
        </p:nvSpPr>
        <p:spPr>
          <a:xfrm>
            <a:off x="2914560" y="3701880"/>
            <a:ext cx="19044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1"/>
          <p:cNvSpPr/>
          <p:nvPr/>
        </p:nvSpPr>
        <p:spPr>
          <a:xfrm flipH="1">
            <a:off x="5206680" y="3664080"/>
            <a:ext cx="158760" cy="26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2"/>
          <p:cNvSpPr/>
          <p:nvPr/>
        </p:nvSpPr>
        <p:spPr>
          <a:xfrm>
            <a:off x="4915080" y="2762280"/>
            <a:ext cx="28548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3"/>
          <p:cNvSpPr/>
          <p:nvPr/>
        </p:nvSpPr>
        <p:spPr>
          <a:xfrm>
            <a:off x="5442120" y="2959200"/>
            <a:ext cx="603000" cy="9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4"/>
          <p:cNvSpPr/>
          <p:nvPr/>
        </p:nvSpPr>
        <p:spPr>
          <a:xfrm flipV="1">
            <a:off x="2184480" y="3498480"/>
            <a:ext cx="45720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5"/>
          <p:cNvSpPr/>
          <p:nvPr/>
        </p:nvSpPr>
        <p:spPr>
          <a:xfrm>
            <a:off x="3149640" y="3460680"/>
            <a:ext cx="266760" cy="27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6"/>
          <p:cNvSpPr/>
          <p:nvPr/>
        </p:nvSpPr>
        <p:spPr>
          <a:xfrm>
            <a:off x="2095560" y="4175280"/>
            <a:ext cx="23065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id masses of 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lit and form coel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7"/>
          <p:cNvSpPr/>
          <p:nvPr/>
        </p:nvSpPr>
        <p:spPr>
          <a:xfrm>
            <a:off x="4730760" y="4114800"/>
            <a:ext cx="1811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lds of archen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rm coel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8"/>
          <p:cNvSpPr/>
          <p:nvPr/>
        </p:nvSpPr>
        <p:spPr>
          <a:xfrm>
            <a:off x="3147840" y="4778280"/>
            <a:ext cx="4654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9"/>
          <p:cNvSpPr/>
          <p:nvPr/>
        </p:nvSpPr>
        <p:spPr>
          <a:xfrm>
            <a:off x="5567400" y="4778280"/>
            <a:ext cx="541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2908440" y="4895640"/>
            <a:ext cx="196560" cy="18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1"/>
          <p:cNvSpPr/>
          <p:nvPr/>
        </p:nvSpPr>
        <p:spPr>
          <a:xfrm flipV="1">
            <a:off x="5340240" y="4889160"/>
            <a:ext cx="203400" cy="19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3503520" y="5489640"/>
            <a:ext cx="12081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estive tu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3"/>
          <p:cNvSpPr/>
          <p:nvPr/>
        </p:nvSpPr>
        <p:spPr>
          <a:xfrm>
            <a:off x="2921040" y="5594400"/>
            <a:ext cx="55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4743360" y="5594400"/>
            <a:ext cx="57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3151080" y="6156360"/>
            <a:ext cx="5414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6"/>
          <p:cNvSpPr/>
          <p:nvPr/>
        </p:nvSpPr>
        <p:spPr>
          <a:xfrm>
            <a:off x="5567400" y="6156360"/>
            <a:ext cx="465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2895480" y="6159600"/>
            <a:ext cx="20952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>
            <a:off x="5327640" y="6159600"/>
            <a:ext cx="2160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1295280" y="6351480"/>
            <a:ext cx="281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Mou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0"/>
          <p:cNvSpPr/>
          <p:nvPr/>
        </p:nvSpPr>
        <p:spPr>
          <a:xfrm>
            <a:off x="5105520" y="6400800"/>
            <a:ext cx="2133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An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1"/>
          <p:cNvSpPr/>
          <p:nvPr/>
        </p:nvSpPr>
        <p:spPr>
          <a:xfrm>
            <a:off x="6553080" y="4800600"/>
            <a:ext cx="229104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Fate of the blastop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ew views of animal phylogeny are emerging from molecular data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84320" y="1188720"/>
            <a:ext cx="853416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logists recognize about three dozen animal phy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debate in animal systematics has led to the development of two phylogenetic hypotheses, but others exist as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hypothesis of animal phylogeny is based mainly on morphological and developmental comparis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hypothesis is based mainly on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32_10MorphDevAnimalPhylo-U"/>
          <p:cNvPicPr/>
          <p:nvPr/>
        </p:nvPicPr>
        <p:blipFill>
          <a:blip r:embed="rId1"/>
          <a:stretch/>
        </p:blipFill>
        <p:spPr>
          <a:xfrm>
            <a:off x="1065240" y="177840"/>
            <a:ext cx="7012080" cy="6578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8"/>
          <p:cNvSpPr/>
          <p:nvPr/>
        </p:nvSpPr>
        <p:spPr>
          <a:xfrm>
            <a:off x="152280" y="4800600"/>
            <a:ext cx="4114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rphological and developmental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117440" y="887400"/>
            <a:ext cx="129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 rot="5400000">
            <a:off x="2239920" y="892080"/>
            <a:ext cx="776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 rot="5400000">
            <a:off x="2643120" y="1535040"/>
            <a:ext cx="10047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638760" y="162000"/>
            <a:ext cx="9129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 rot="5400000">
            <a:off x="3790440" y="3516480"/>
            <a:ext cx="776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 rot="5400000">
            <a:off x="4020480" y="2415240"/>
            <a:ext cx="13348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 rot="5400000">
            <a:off x="4103640" y="4616640"/>
            <a:ext cx="1123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t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6637320" y="685800"/>
            <a:ext cx="7938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6635880" y="1201680"/>
            <a:ext cx="1065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6638760" y="1728720"/>
            <a:ext cx="1022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6638760" y="2235240"/>
            <a:ext cx="1167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629400" y="2762280"/>
            <a:ext cx="13795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6638760" y="3276720"/>
            <a:ext cx="8524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6637320" y="3792600"/>
            <a:ext cx="1463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6634080" y="4300560"/>
            <a:ext cx="735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6640560" y="4816440"/>
            <a:ext cx="844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6642000" y="5334120"/>
            <a:ext cx="80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6643800" y="5859360"/>
            <a:ext cx="103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635880" y="637236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32_11MolecAnimalPhylo-U"/>
          <p:cNvPicPr/>
          <p:nvPr/>
        </p:nvPicPr>
        <p:blipFill>
          <a:blip r:embed="rId1"/>
          <a:stretch/>
        </p:blipFill>
        <p:spPr>
          <a:xfrm>
            <a:off x="1581120" y="177840"/>
            <a:ext cx="5969160" cy="65786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8"/>
          <p:cNvSpPr/>
          <p:nvPr/>
        </p:nvSpPr>
        <p:spPr>
          <a:xfrm>
            <a:off x="380880" y="4648320"/>
            <a:ext cx="3124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lecular data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6224760" y="287280"/>
            <a:ext cx="606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lic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1646280" y="789120"/>
            <a:ext cx="1181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 rot="5400000">
            <a:off x="2632680" y="792720"/>
            <a:ext cx="7081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 rot="5400000">
            <a:off x="3248280" y="1701000"/>
            <a:ext cx="94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 rot="5400000">
            <a:off x="4367520" y="532440"/>
            <a:ext cx="8683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 rot="5400000">
            <a:off x="4063680" y="2962440"/>
            <a:ext cx="74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 rot="5400000">
            <a:off x="4539960" y="2752560"/>
            <a:ext cx="1257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 rot="5400000">
            <a:off x="4850640" y="4291920"/>
            <a:ext cx="14018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 rot="5400000">
            <a:off x="5089680" y="5979240"/>
            <a:ext cx="944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6224760" y="696960"/>
            <a:ext cx="741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6224760" y="1117440"/>
            <a:ext cx="1012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6222960" y="1539720"/>
            <a:ext cx="725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6230880" y="1954080"/>
            <a:ext cx="631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6219720" y="2370240"/>
            <a:ext cx="12844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6224760" y="278460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6222960" y="3200400"/>
            <a:ext cx="1359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6222960" y="3630600"/>
            <a:ext cx="70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6219720" y="4037040"/>
            <a:ext cx="1013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6215040" y="4456080"/>
            <a:ext cx="110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6219720" y="487512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6227640" y="528156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6215040" y="5700600"/>
            <a:ext cx="885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6232680" y="6132600"/>
            <a:ext cx="974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ints of Agree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84320" y="1190520"/>
            <a:ext cx="853416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animals shar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ges are basal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metazoa is a clade of animals -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umetazoa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with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rue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 phyla belong to the clade Bilateria, and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ilateria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tes and some other phyla belong to the clade Deuterostom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rogress in Resolving Bilaterian Relationship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4320" y="11869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rphology-based tree divides bilaterians into two clades: deuterostomes and protostom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ontrast, recent molecular studies indicate three bilaterian clades: Deuterostomia, Ecdysozoa, and Lophotrochozo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dysozoans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h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exoskeleto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rough a process called</a:t>
            </a:r>
            <a:r>
              <a:rPr b="0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cdysi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7" descr="32_12Ecdysis-U"/>
          <p:cNvPicPr/>
          <p:nvPr/>
        </p:nvPicPr>
        <p:blipFill>
          <a:blip r:embed="rId1"/>
          <a:stretch/>
        </p:blipFill>
        <p:spPr>
          <a:xfrm>
            <a:off x="1217520" y="533520"/>
            <a:ext cx="6707160" cy="61722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152280" y="0"/>
            <a:ext cx="601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Ecdysis - Shedding of Ex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84320" y="119700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trochozoa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 feeding structure called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ph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phyla go through a distinct developmental stage call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ochophore lar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 Structure and Specializ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6920" y="1190520"/>
            <a:ext cx="853416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utritional M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heterotroph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ge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ir f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ukaryo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cel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cell wal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bodies are held together b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tructural protei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lla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ervous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scle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nique to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7" descr="32_13Lophotrochozoan-U"/>
          <p:cNvPicPr/>
          <p:nvPr/>
        </p:nvPicPr>
        <p:blipFill>
          <a:blip r:embed="rId1"/>
          <a:stretch/>
        </p:blipFill>
        <p:spPr>
          <a:xfrm>
            <a:off x="290520" y="399960"/>
            <a:ext cx="8561520" cy="6134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1981080" y="0"/>
            <a:ext cx="678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Lophotrochozoans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363600" y="433440"/>
            <a:ext cx="1660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4751280" y="871560"/>
            <a:ext cx="1393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ical tu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ci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4827600" y="391320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44520" y="5748480"/>
            <a:ext cx="2244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An ectopro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4840200" y="5761080"/>
            <a:ext cx="4022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Structure of a troc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 rot="16200000">
            <a:off x="63360" y="4825440"/>
            <a:ext cx="9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0 µ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817560" y="4668840"/>
            <a:ext cx="0" cy="63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763560" y="4660920"/>
            <a:ext cx="117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762120" y="5303880"/>
            <a:ext cx="12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8097840" y="4986360"/>
            <a:ext cx="7081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6134040" y="1041480"/>
            <a:ext cx="95256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7296120" y="4921200"/>
            <a:ext cx="73656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V="1">
            <a:off x="5308560" y="3385800"/>
            <a:ext cx="546120" cy="60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32_UN01Summary-U"/>
          <p:cNvPicPr/>
          <p:nvPr/>
        </p:nvPicPr>
        <p:blipFill>
          <a:blip r:embed="rId1"/>
          <a:stretch/>
        </p:blipFill>
        <p:spPr>
          <a:xfrm>
            <a:off x="290520" y="351000"/>
            <a:ext cx="8561520" cy="62308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7"/>
          <p:cNvSpPr/>
          <p:nvPr/>
        </p:nvSpPr>
        <p:spPr>
          <a:xfrm>
            <a:off x="3429000" y="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Phylo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65040" y="352440"/>
            <a:ext cx="2482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on ances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all anim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431640" y="3452760"/>
            <a:ext cx="9842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5173560" y="1130400"/>
            <a:ext cx="20512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asal anim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5189400" y="1943280"/>
            <a:ext cx="1594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5181480" y="2746440"/>
            <a:ext cx="1162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181480" y="3578400"/>
            <a:ext cx="18320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oela (ba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ia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5172120" y="4406760"/>
            <a:ext cx="1965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677880" y="977760"/>
            <a:ext cx="322200" cy="97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 flipV="1">
            <a:off x="1176480" y="3135240"/>
            <a:ext cx="26820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 flipV="1">
            <a:off x="2354400" y="4689000"/>
            <a:ext cx="326880" cy="3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862360" y="4691160"/>
            <a:ext cx="109440" cy="10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5121360" y="5207040"/>
            <a:ext cx="216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5184720" y="6045120"/>
            <a:ext cx="1495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1"/>
          <p:cNvSpPr/>
          <p:nvPr/>
        </p:nvSpPr>
        <p:spPr>
          <a:xfrm rot="5400000">
            <a:off x="8105760" y="1441440"/>
            <a:ext cx="936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 rot="5400000">
            <a:off x="7435440" y="2536560"/>
            <a:ext cx="12096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3"/>
          <p:cNvSpPr/>
          <p:nvPr/>
        </p:nvSpPr>
        <p:spPr>
          <a:xfrm rot="5400000">
            <a:off x="6216480" y="4784400"/>
            <a:ext cx="26002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ateria (most anim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1422360" y="5002200"/>
            <a:ext cx="1314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e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1994040" y="5713560"/>
            <a:ext cx="1555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g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the characteristics that combine to define anim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arize key events of the Paleozoic, Mesozoic, and Cenozoic e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between the following pairs or sets of term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al and bilateral symmetry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ploblastic and triploblastic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ral and radial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te and indeterminate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oelomate, pseudocoelomate, and coel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he developmental differences between protostomes and deuterostom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Reproduction and Develop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5400" y="1186920"/>
            <a:ext cx="85345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produce sexual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ith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iploid s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suall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ominat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life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fter fertiliz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zygo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dergoes rapid cell division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leavag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vage lead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mation of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last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lastula undergoes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forming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differen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y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mbryonic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32_02AnimalEmbryoDev_3-U"/>
          <p:cNvPicPr/>
          <p:nvPr/>
        </p:nvPicPr>
        <p:blipFill>
          <a:blip r:embed="rId1"/>
          <a:stretch/>
        </p:blipFill>
        <p:spPr>
          <a:xfrm>
            <a:off x="297000" y="1857240"/>
            <a:ext cx="8548560" cy="3219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28600" y="30492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nimal Early Embryonic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8200" y="3922560"/>
            <a:ext cx="604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219320" y="2438280"/>
            <a:ext cx="2209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795320" y="3921120"/>
            <a:ext cx="1354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789360" y="2949480"/>
            <a:ext cx="714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Blast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568680" y="4530600"/>
            <a:ext cx="1197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blast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646520" y="4343400"/>
            <a:ext cx="91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191120" y="3873600"/>
            <a:ext cx="428400" cy="4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105520" y="3962520"/>
            <a:ext cx="1252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170760" y="4343400"/>
            <a:ext cx="9302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6705720" y="3809880"/>
            <a:ext cx="6667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7085160" y="4041720"/>
            <a:ext cx="745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Gastr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7821720" y="3800520"/>
            <a:ext cx="1057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8024760" y="3362400"/>
            <a:ext cx="83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7391520" y="3486240"/>
            <a:ext cx="39996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829640" y="346068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7923240" y="2778120"/>
            <a:ext cx="8794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7866000" y="2422440"/>
            <a:ext cx="911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7493040" y="2565360"/>
            <a:ext cx="342720" cy="4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 flipV="1">
            <a:off x="7569360" y="2901600"/>
            <a:ext cx="3236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93320" y="990720"/>
            <a:ext cx="853452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animals have at least one larval s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rv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sexually immature and morphologically distinct from the adult; it eventually undergoe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etamorphosi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ll anima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only animals, hav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ge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gul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development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body fo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hough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o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mily of genes has been highly conserved, it can produce a wide diversity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nimal morpholo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istory of animals spans more than half a billion yea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4320" y="1185840"/>
            <a:ext cx="85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nimal kingdom includes a great diversity of living species and an even greater diversity of extinct 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living animals may have lived between 675 and 875 million years a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ancestor may have resembled moder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oanoflagellates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are the closest living relatives of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32_03ChoanoAnimalPhylo-U"/>
          <p:cNvPicPr/>
          <p:nvPr/>
        </p:nvPicPr>
        <p:blipFill>
          <a:blip r:embed="rId1"/>
          <a:stretch/>
        </p:blipFill>
        <p:spPr>
          <a:xfrm>
            <a:off x="306360" y="1314360"/>
            <a:ext cx="8529840" cy="4303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152280" y="152280"/>
            <a:ext cx="822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Three lines of evidence that choanoflagellates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osely related to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22200" y="348444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135240" y="2538360"/>
            <a:ext cx="156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3135240" y="3776760"/>
            <a:ext cx="782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116160" y="5046840"/>
            <a:ext cx="1208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 rot="5400000">
            <a:off x="1592640" y="4435920"/>
            <a:ext cx="706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637240" y="1839960"/>
            <a:ext cx="1423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381720" y="2228760"/>
            <a:ext cx="12060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7364520" y="4589640"/>
            <a:ext cx="1112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hoanocy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7035840" y="4381560"/>
            <a:ext cx="29844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32_04-EdiacaranFossils-U"/>
          <p:cNvPicPr/>
          <p:nvPr/>
        </p:nvPicPr>
        <p:blipFill>
          <a:blip r:embed="rId1"/>
          <a:stretch/>
        </p:blipFill>
        <p:spPr>
          <a:xfrm>
            <a:off x="304920" y="838080"/>
            <a:ext cx="8529480" cy="5372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228600" y="1522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694"/>
                </a:solidFill>
                <a:latin typeface="Arial"/>
              </a:rPr>
              <a:t>Early members of the animal fossil record include the Ediacaran biota, which dates from 565 to 550 million years ago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388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awsonites sprig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54184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riggina flounder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075200" y="914400"/>
            <a:ext cx="87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5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592600" y="849240"/>
            <a:ext cx="878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.4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886200" y="1219320"/>
            <a:ext cx="120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917880" y="107964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5124600" y="108576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5645160" y="1276200"/>
            <a:ext cx="673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5645160" y="1200240"/>
            <a:ext cx="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318360" y="1206360"/>
            <a:ext cx="0" cy="165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2-01T12:05:25Z</cp:lastPrinted>
  <dcterms:modified xsi:type="dcterms:W3CDTF">2018-03-12T07:35:12Z</dcterms:modified>
  <cp:revision>1739</cp:revision>
  <dc:subject/>
  <dc:title>video slide</dc:title>
</cp:coreProperties>
</file>