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81FB-9B90-4EF1-A399-50A6595E3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805-E778-466C-8BBB-7580D1F8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F46-8761-46B6-A441-A79B9A65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9B8-FC0B-439B-9DDB-A490B52F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DA3-D90D-4663-BBB3-AA4B4F61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12A-8DDE-42B6-B144-8E07EE27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52A-DADE-4F08-A616-FA19BC8A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65F-99EB-45A5-9E0C-A629C027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180-54D6-433E-A775-7AAB065C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C4D-B0E5-450B-A5E4-BD8E8208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4BA-E1A7-4FB5-88D4-CE076732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186-FEB4-4E6E-9F18-74C8ED36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10F-466E-4B40-963B-480A97C9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55BF-99CB-4598-AE9E-F0463F4425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3B32-5C29-4F1E-8B3A-4291B2983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HABIT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22600" y="555480"/>
            <a:ext cx="167472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858000" y="571680"/>
            <a:ext cx="191448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52280" y="2722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773360" y="28954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y area ,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53560" y="2895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d areas, P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7456680" y="2766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692520" y="684360"/>
            <a:ext cx="1486080" cy="200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5105520" y="86184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-30240" y="555480"/>
            <a:ext cx="1752840" cy="214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624840" y="2906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st, on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8880" y="3962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qu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212920" y="3962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030560" y="3962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rre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83200" y="3962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818480" y="39736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bor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366920" y="5391000"/>
            <a:ext cx="6080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Habita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natural home or environment of an animal  or a  pl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-30240" y="22320"/>
            <a:ext cx="909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Arial"/>
              </a:rPr>
              <a:t>What is a Habit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W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ADAPTA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ptations ar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dy fea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and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abi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that enable a living thing to liv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fort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in 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atural surroundin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habit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1080" y="1000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2828880" cy="3619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22880" y="34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yelas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178320" y="1819440"/>
            <a:ext cx="19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storing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6576840" y="4343400"/>
            <a:ext cx="2559240" cy="2370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562560" y="552780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dded Fe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op Sinking into the s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d protect from ground-h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>
            <a:off x="2133360" y="2743200"/>
            <a:ext cx="1291320" cy="2404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 flipV="1">
            <a:off x="1275840" y="3006360"/>
            <a:ext cx="1080" cy="488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 flipV="1">
            <a:off x="5409360" y="1726560"/>
            <a:ext cx="762840" cy="369000"/>
          </a:xfrm>
          <a:prstGeom prst="straightConnector1">
            <a:avLst/>
          </a:prstGeom>
          <a:ln w="4140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17"/>
          <p:cNvCxnSpPr/>
          <p:nvPr/>
        </p:nvCxnSpPr>
        <p:spPr>
          <a:xfrm flipV="1">
            <a:off x="4856040" y="4952160"/>
            <a:ext cx="210240" cy="5756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Straight Arrow Connector 20"/>
          <p:cNvCxnSpPr/>
          <p:nvPr/>
        </p:nvCxnSpPr>
        <p:spPr>
          <a:xfrm>
            <a:off x="5218200" y="4952520"/>
            <a:ext cx="1488240" cy="756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24"/>
          <p:cNvSpPr/>
          <p:nvPr/>
        </p:nvSpPr>
        <p:spPr>
          <a:xfrm>
            <a:off x="539640" y="40384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top the s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ering the 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1920" y="7632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Camel –Lives in Dese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419360" cy="48034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4"/>
          <p:cNvCxnSpPr/>
          <p:nvPr/>
        </p:nvCxnSpPr>
        <p:spPr>
          <a:xfrm flipV="1">
            <a:off x="1447920" y="5355360"/>
            <a:ext cx="1087920" cy="740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9" name="Straight Arrow Connector 5"/>
          <p:cNvCxnSpPr/>
          <p:nvPr/>
        </p:nvCxnSpPr>
        <p:spPr>
          <a:xfrm flipV="1">
            <a:off x="1676520" y="5344560"/>
            <a:ext cx="2015280" cy="9039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0" name="TextBox 6"/>
          <p:cNvSpPr/>
          <p:nvPr/>
        </p:nvSpPr>
        <p:spPr>
          <a:xfrm>
            <a:off x="626760" y="624852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ng arms and le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help them s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111720" y="2514600"/>
            <a:ext cx="273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sw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lance their bodies. It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pic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 flipH="1">
            <a:off x="4571280" y="2742840"/>
            <a:ext cx="1586520" cy="972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Straight Arrow Connector 12"/>
          <p:cNvCxnSpPr/>
          <p:nvPr/>
        </p:nvCxnSpPr>
        <p:spPr>
          <a:xfrm>
            <a:off x="1066320" y="3962160"/>
            <a:ext cx="2194920" cy="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4" name="TextBox 13"/>
          <p:cNvSpPr/>
          <p:nvPr/>
        </p:nvSpPr>
        <p:spPr>
          <a:xfrm>
            <a:off x="0" y="31226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make diffe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s to locat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ee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440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Mon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23880" y="1657440"/>
            <a:ext cx="4996080" cy="354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19280" y="1295280"/>
            <a:ext cx="20354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xygen is absor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>
            <a:off x="3335040" y="1581120"/>
            <a:ext cx="856440" cy="15436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9"/>
          <p:cNvSpPr/>
          <p:nvPr/>
        </p:nvSpPr>
        <p:spPr>
          <a:xfrm>
            <a:off x="6424560" y="4822920"/>
            <a:ext cx="2655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arbon dioxide comes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H="1" flipV="1">
            <a:off x="4876560" y="3885840"/>
            <a:ext cx="1542240" cy="12960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F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910160" y="544680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ave special gills to take oxygen from water for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8839440" cy="5666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exploringnature.org/graphics/adaptation_jpgs/polar%20bear.jpg"/>
          <p:cNvPicPr/>
          <p:nvPr/>
        </p:nvPicPr>
        <p:blipFill>
          <a:blip r:embed="rId1"/>
          <a:stretch/>
        </p:blipFill>
        <p:spPr>
          <a:xfrm>
            <a:off x="0" y="1143000"/>
            <a:ext cx="90676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0:47:27Z</dcterms:created>
  <dc:creator>makemegenius</dc:creator>
  <dc:description/>
  <dc:language>en-US</dc:language>
  <cp:lastModifiedBy>LEGION</cp:lastModifiedBy>
  <dcterms:modified xsi:type="dcterms:W3CDTF">2018-03-12T07:40:07Z</dcterms:modified>
  <cp:revision>30</cp:revision>
  <dc:subject/>
  <dc:title>PowerPoint Presentation</dc:title>
</cp:coreProperties>
</file>