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A42D-E2BE-463F-B0B6-AA31503486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Compoun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s and an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valent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onic formul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l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2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hl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 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ments and symbols that you should kno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1 – Th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ryll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more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) 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) 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ss obvious 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) 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) 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) Merc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)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1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H3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e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an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manga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po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chl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2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2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a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f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hro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yatomic ions (-3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i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 1– If two identical elements combine then the name doesn’t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th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lcium + hydrogen +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g(OH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724-489C-44AD-B38A-14DCB1F3A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B57-3AB7-4A89-90E0-EA16FC54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255-4CAA-44DB-BE52-BC5FDB4D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BA4-9674-472F-BDF5-DD62752AE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DA0-B89B-4A9F-8518-FA611FBA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F2C-A46C-4D59-ABCF-75ED6888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E5F-A48F-400C-8555-7AB7CF5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61E-A5AE-4860-B48A-3DFE5AE1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042-8816-4562-90F9-A33106F3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047-A5B2-4538-891B-E9F77053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B79-E54C-457D-ABE9-A412B90C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A266-7806-4ED2-904F-CEB61C4B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51DE-5DBB-421C-AC47-2728C094C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ing Compounds,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ions and a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9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4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one of them is oxygen the ending is _____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Copper + sulphur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Copper sulph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5"/>
            <p:cNvSpPr/>
            <p:nvPr/>
          </p:nvSpPr>
          <p:spPr>
            <a:xfrm>
              <a:off x="541008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96" name="Text Box 7"/>
            <p:cNvSpPr/>
            <p:nvPr/>
          </p:nvSpPr>
          <p:spPr>
            <a:xfrm>
              <a:off x="380880" y="3962520"/>
              <a:ext cx="5334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otassium + carbon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sulphur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chlorine + oxy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lcium + oxygen + nitro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8"/>
            <p:cNvSpPr/>
            <p:nvPr/>
          </p:nvSpPr>
          <p:spPr>
            <a:xfrm>
              <a:off x="6095880" y="3962520"/>
              <a:ext cx="2514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AgN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533520" y="990720"/>
            <a:ext cx="3276360" cy="459720"/>
          </a:xfrm>
          <a:prstGeom prst="rect">
            <a:avLst/>
          </a:prstGeom>
          <a:noFill/>
          <a:ln w="255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valent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105520" y="990720"/>
            <a:ext cx="3352680" cy="459720"/>
          </a:xfrm>
          <a:prstGeom prst="rect">
            <a:avLst/>
          </a:prstGeom>
          <a:noFill/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onic formul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1600200"/>
            <a:ext cx="11430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NH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O</a:t>
            </a:r>
            <a:r>
              <a:rPr b="0" lang="en-GB" sz="2400" spc="-1" strike="noStrike" baseline="-25000">
                <a:solidFill>
                  <a:srgbClr val="99ff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676520" y="1600200"/>
            <a:ext cx="28191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Am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cc"/>
                </a:solidFill>
                <a:latin typeface="Comic Sans MS"/>
              </a:rPr>
              <a:t>Sulphur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952880" y="1600200"/>
            <a:ext cx="18288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N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(OH)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Fe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O</a:t>
            </a:r>
            <a:r>
              <a:rPr b="0" lang="en-GB" sz="2000" spc="-1" strike="noStrike" baseline="-25000">
                <a:solidFill>
                  <a:srgbClr val="ffcc66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553080" y="1600200"/>
            <a:ext cx="25909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chlor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Magnes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chlo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ulphu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itr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Sod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hydr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Calcium carbo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luminium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66"/>
                </a:solidFill>
                <a:latin typeface="Comic Sans MS"/>
              </a:rPr>
              <a:t>Iron 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Elements and symbols that you should know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838080" y="198108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Part 1 – Th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eryl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Bo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57800" y="2895480"/>
            <a:ext cx="27432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Flu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lumi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hospho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74320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924680" y="2895480"/>
            <a:ext cx="685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838080" y="2286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Some more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04920" y="1143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91440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5257800" y="9144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8) Calc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19) Z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38080" y="3276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99"/>
                </a:solidFill>
                <a:latin typeface="Comic Sans MS"/>
              </a:rPr>
              <a:t>The less obvious 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04920" y="3886200"/>
            <a:ext cx="2743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Si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34120" y="3886200"/>
            <a:ext cx="2743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6) 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7) 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8) Merc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9) L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743200" y="914400"/>
            <a:ext cx="685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7467480" y="914400"/>
            <a:ext cx="68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Z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743200" y="3886200"/>
            <a:ext cx="685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7467480" y="3886200"/>
            <a:ext cx="68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6600"/>
                </a:solidFill>
                <a:latin typeface="Comic Sans MS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1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2P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Hydrogen phosph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2H3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S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Sulf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C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gen Carbo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yan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n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anga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chl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2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2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a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l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b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2O7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hro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atomic 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-3 char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i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533520" y="1066680"/>
            <a:ext cx="8153280" cy="825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Rule 1–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f two identical elements combine then the name doesn’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533520" y="2201760"/>
            <a:ext cx="8229600" cy="3442320"/>
            <a:chOff x="533520" y="2201760"/>
            <a:chExt cx="8229600" cy="3442320"/>
          </a:xfrm>
        </p:grpSpPr>
        <p:sp>
          <p:nvSpPr>
            <p:cNvPr id="74" name="Text Box 5"/>
            <p:cNvSpPr/>
            <p:nvPr/>
          </p:nvSpPr>
          <p:spPr>
            <a:xfrm>
              <a:off x="533520" y="2201760"/>
              <a:ext cx="8229600" cy="34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is happens with the following elemen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H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N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6"/>
            <p:cNvSpPr/>
            <p:nvPr/>
          </p:nvSpPr>
          <p:spPr>
            <a:xfrm>
              <a:off x="5105520" y="3276720"/>
              <a:ext cx="3657600" cy="17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l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Br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533520" y="5029200"/>
            <a:ext cx="7619760" cy="1557000"/>
            <a:chOff x="533520" y="5029200"/>
            <a:chExt cx="7619760" cy="1557000"/>
          </a:xfrm>
        </p:grpSpPr>
        <p:sp>
          <p:nvSpPr>
            <p:cNvPr id="77" name="Text Box 8"/>
            <p:cNvSpPr/>
            <p:nvPr/>
          </p:nvSpPr>
          <p:spPr>
            <a:xfrm>
              <a:off x="533520" y="5029200"/>
              <a:ext cx="4647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These elements always go around in pairs (diatomic molecules).  For example, hydrogen looks like thi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9"/>
            <p:cNvGrpSpPr/>
            <p:nvPr/>
          </p:nvGrpSpPr>
          <p:grpSpPr>
            <a:xfrm>
              <a:off x="5791320" y="5257800"/>
              <a:ext cx="2361960" cy="762120"/>
              <a:chOff x="5791320" y="5257800"/>
              <a:chExt cx="2361960" cy="762120"/>
            </a:xfrm>
          </p:grpSpPr>
          <p:sp>
            <p:nvSpPr>
              <p:cNvPr id="79" name="Line 10"/>
              <p:cNvSpPr/>
              <p:nvPr/>
            </p:nvSpPr>
            <p:spPr>
              <a:xfrm>
                <a:off x="6172200" y="5638680"/>
                <a:ext cx="1523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Oval 11"/>
              <p:cNvSpPr/>
              <p:nvPr/>
            </p:nvSpPr>
            <p:spPr>
              <a:xfrm>
                <a:off x="57913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12"/>
              <p:cNvSpPr/>
              <p:nvPr/>
            </p:nvSpPr>
            <p:spPr>
              <a:xfrm>
                <a:off x="7391520" y="5257800"/>
                <a:ext cx="761760" cy="762120"/>
              </a:xfrm>
              <a:prstGeom prst="ellipse">
                <a:avLst/>
              </a:prstGeom>
              <a:gradFill rotWithShape="0">
                <a:gsLst>
                  <a:gs pos="0">
                    <a:srgbClr val="6666ff"/>
                  </a:gs>
                  <a:gs pos="100000">
                    <a:srgbClr val="2f2f7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3"/>
          <p:cNvGrpSpPr/>
          <p:nvPr/>
        </p:nvGrpSpPr>
        <p:grpSpPr>
          <a:xfrm>
            <a:off x="533520" y="1066680"/>
            <a:ext cx="8153280" cy="2303640"/>
            <a:chOff x="533520" y="1066680"/>
            <a:chExt cx="8153280" cy="2303640"/>
          </a:xfrm>
        </p:grpSpPr>
        <p:sp>
          <p:nvSpPr>
            <p:cNvPr id="83" name="Text Box 4"/>
            <p:cNvSpPr/>
            <p:nvPr/>
          </p:nvSpPr>
          <p:spPr>
            <a:xfrm>
              <a:off x="533520" y="1066680"/>
              <a:ext cx="815328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2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wo elements join and one is a halogen, oxygen or sulphur the name ends with ____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Magnesium + oxygen 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magnesium 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5"/>
            <p:cNvSpPr/>
            <p:nvPr/>
          </p:nvSpPr>
          <p:spPr>
            <a:xfrm>
              <a:off x="5029200" y="2666880"/>
              <a:ext cx="533520" cy="152640"/>
            </a:xfrm>
            <a:prstGeom prst="rightArrow">
              <a:avLst>
                <a:gd name="adj1" fmla="val 50000"/>
                <a:gd name="adj2" fmla="val 873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6"/>
          <p:cNvGrpSpPr/>
          <p:nvPr/>
        </p:nvGrpSpPr>
        <p:grpSpPr>
          <a:xfrm>
            <a:off x="380880" y="3962520"/>
            <a:ext cx="8229600" cy="2684520"/>
            <a:chOff x="380880" y="3962520"/>
            <a:chExt cx="8229600" cy="2684520"/>
          </a:xfrm>
        </p:grpSpPr>
        <p:sp>
          <p:nvSpPr>
            <p:cNvPr id="86" name="Text Box 7"/>
            <p:cNvSpPr/>
            <p:nvPr/>
          </p:nvSpPr>
          <p:spPr>
            <a:xfrm>
              <a:off x="380880" y="3962520"/>
              <a:ext cx="419112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odium + chl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gnesium + fluor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thium + iod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hlorine + copp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xygen + i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8"/>
            <p:cNvSpPr/>
            <p:nvPr/>
          </p:nvSpPr>
          <p:spPr>
            <a:xfrm>
              <a:off x="6095880" y="3962520"/>
              <a:ext cx="251460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B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Ca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g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ffffff"/>
                </a:buClr>
                <a:buFont typeface="Comic Sans MS"/>
                <a:buAutoNum type="arabicParenR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K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228600" y="1066680"/>
            <a:ext cx="8686800" cy="2303640"/>
            <a:chOff x="228600" y="1066680"/>
            <a:chExt cx="8686800" cy="2303640"/>
          </a:xfrm>
        </p:grpSpPr>
        <p:sp>
          <p:nvSpPr>
            <p:cNvPr id="89" name="Text Box 4"/>
            <p:cNvSpPr/>
            <p:nvPr/>
          </p:nvSpPr>
          <p:spPr>
            <a:xfrm>
              <a:off x="228600" y="1066680"/>
              <a:ext cx="8686800" cy="2303640"/>
            </a:xfrm>
            <a:prstGeom prst="rect">
              <a:avLst/>
            </a:prstGeom>
            <a:noFill/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Rule 3 –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When three or more elements combine and two of them are hydrogen and oxygen the name ends with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e.g. Sodium + hydrogen + oxygen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Comic Sans MS"/>
                </a:rPr>
                <a:t>  Sodium hydroxi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5"/>
            <p:cNvSpPr/>
            <p:nvPr/>
          </p:nvSpPr>
          <p:spPr>
            <a:xfrm>
              <a:off x="5486400" y="3048120"/>
              <a:ext cx="568440" cy="152280"/>
            </a:xfrm>
            <a:prstGeom prst="rightArrow">
              <a:avLst>
                <a:gd name="adj1" fmla="val 50000"/>
                <a:gd name="adj2" fmla="val 9332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 Box 6"/>
          <p:cNvSpPr/>
          <p:nvPr/>
        </p:nvSpPr>
        <p:spPr>
          <a:xfrm>
            <a:off x="1981080" y="4114800"/>
            <a:ext cx="533412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tass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ith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lcium + hydrogen +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g(OH)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7T21:29:18Z</dcterms:created>
  <dc:creator>CIC1</dc:creator>
  <dc:description/>
  <dc:language>en-US</dc:language>
  <cp:lastModifiedBy>RomaK</cp:lastModifiedBy>
  <dcterms:modified xsi:type="dcterms:W3CDTF">2015-09-02T05:58:16Z</dcterms:modified>
  <cp:revision>9</cp:revision>
  <dc:subject/>
  <dc:title>Naming Compounds cations and anions</dc:title>
</cp:coreProperties>
</file>