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172-D999-48B5-B015-10A66F3CD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s ,feet &amp;claws of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beak:-  A  Parrot  hav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curved   beak 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ck  fruit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s  and 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. such beak  i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  curved 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’s  toes :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rot   have  two  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ward   and 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wards  for  climb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beak:-    A  Sparrow  have  a  short  and  hard   beak 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shing   seeds   and  grains before  swallowing  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k  is  called   crushing  bea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 fl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ck’s   feet :-  A  Duck  have  webbed  feet  for  swimming  in 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399-B2AF-4439-8D0D-ADA79D71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35B-C445-4C79-9A4B-279A6C4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E3E-95F9-468F-9350-DFF2C27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773-4880-4BB4-BC99-F816C7B7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123-83C7-4C4A-9467-3D32BF24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700-D92B-447F-83BE-04BBDDC6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CBE-6D6A-4188-A0AD-E68BBC1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172-D56F-43FA-BA60-01D0F04B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53C-BCA5-4633-8F98-EA5DAF76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648-1791-479C-8373-2E4555C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01C-564E-4CF1-B316-0BE76B23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07B-6BC3-4445-AEA7-824F895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F35D-913D-4B1A-B6C1-BD8DE0007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CA5-339A-46B0-B078-2CD9A33A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aks ,feet &amp;claws of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beak:-  A  Parrot  hav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 curved   beak  t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ack  fruits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uts  and 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ods . such beak  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alled   curved 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’s  toes :-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arrot   have  two  t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orward   and 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ackwards  for  climb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HP\Local Settings\Temporary Internet Files\Content.IE5\KFCR29GV\MP900442406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534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beak:-    A  Sparrow  have  a  short  and  hard   beak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rushing   seeds   and  grains before  swallowing  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uch  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eak  is  called   crushing  be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parrow’s   toes &amp; claws:-  A  Sparrow   have  long  and   slender  claws  with   three  toes  in  the  front  and  one  at  the  back  to   firmly  hold  a  branch  or  a  wire.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Documents and Settings\HP\Local Settings\Temporary Internet Files\Content.IE5\MH2TGD0N\MP900448388[1].jpg"/>
          <p:cNvPicPr/>
          <p:nvPr/>
        </p:nvPicPr>
        <p:blipFill>
          <a:blip r:embed="rId1"/>
          <a:stretch/>
        </p:blipFill>
        <p:spPr>
          <a:xfrm>
            <a:off x="2819520" y="274320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beak:-  A  vulture  have  a  strong , hard and   curved  beak  for  tearing  the  flesh . Such  beak  is  called  tearing  and  pierc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ulture’s  claws:-  A  Vulture  have   harp  claws to  firmly  hold  the prey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ile  fly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HP\Local Settings\Temporary Internet Files\Content.IE5\KFCR29GV\MP900441095[1].jpg"/>
          <p:cNvPicPr/>
          <p:nvPr/>
        </p:nvPicPr>
        <p:blipFill>
          <a:blip r:embed="rId1"/>
          <a:stretch/>
        </p:blipFill>
        <p:spPr>
          <a:xfrm>
            <a:off x="0" y="1219320"/>
            <a:ext cx="3124080" cy="380988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beak:- A Duck  has  a  flat  and   broad  beak  which  has  small  holes  on  both  sides . It  digs  up  the  food  along  with  mud  from  the  base  of  the  pond  or  lake . Its  beak  pushes  out  mud  and  water  from  the  holes  leaving  the  food  behind. This  process  is  called  sifting.  Such  beak  is  called  sifting  b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uck’s   feet :-  A  Duck  have  webbed  feet  for  swimming  in 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C:\Documents and Settings\HP\Local Settings\Temporary Internet Files\Content.IE5\YBI1W3MN\MP900431832[1].jpg"/>
          <p:cNvPicPr/>
          <p:nvPr/>
        </p:nvPicPr>
        <p:blipFill>
          <a:blip r:embed="rId1"/>
          <a:stretch/>
        </p:blipFill>
        <p:spPr>
          <a:xfrm>
            <a:off x="0" y="228600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itomo</dc:creator>
  <dc:description/>
  <dc:language>en-US</dc:language>
  <cp:lastModifiedBy>LEGION</cp:lastModifiedBy>
  <dcterms:modified xsi:type="dcterms:W3CDTF">2018-03-12T07:46:40Z</dcterms:modified>
  <cp:revision>16</cp:revision>
  <dc:subject/>
  <dc:title>Beaks and claws of Birds</dc:title>
</cp:coreProperties>
</file>