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58AFE-1D85-4E39-9631-791A2AA278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aks ,feet &amp;claws of Bir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rot’s  beak:-  A  Parrot  have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 curved   beak  to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ack  fruits a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ts  and  oth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ods . such beak  is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lled   curved   beak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rot’s  toes :-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rot   have  two  to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ward   and  tw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ckwards  for  climb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aks ,feet &amp;claws of Bir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rot’s  beak:-  A  Parrot  have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 curved   beak  to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ack  fruits a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ts  and  oth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ods . such beak  is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lled   curved   beak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rot’s  toes :-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rot   have  two  to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ward   and  tw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ckwards  for  climb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arrow’s   beak:-    A  Sparrow  have  a  short  and  hard   beak  f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ushing   seeds   and  grains before  swallowing   i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ch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ak  is  called   crushing  beak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arrow’s   toes &amp; claws:-  A  Sparrow   have  long  and   slender  claws  with   three  toes  in  the  front  and  one  at  the  back  to   firmly  hold  a  branch  or  a  wire.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arrow’s   beak:-    A  Sparrow  have  a  short  and  hard   beak  f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ushing   seeds   and  grains before  swallowing   i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ch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ak  is  called   crushing  beak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arrow’s   toes &amp; claws:-  A  Sparrow   have  long  and   slender  claws  with   three  toes  in  the  front  and  one  at  the  back  to   firmly  hold  a  branch  or  a  wire.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ulture’s  beak:-  A  vulture  have  a  strong , hard and   curved  beak  for  tearing  the  flesh . Such  beak  is  called  tearing  and  piercing  bea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ulture’s  claws:-  A  Vulture  have   harp  claws to  firmly  hold  the prey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le  fly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ulture’s  beak:-  A  vulture  have  a  strong , hard and   curved  beak  for  tearing  the  flesh . Such  beak  is  called  tearing  and  piercing  bea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ulture’s  claws:-  A  Vulture  have   harp  claws to  firmly  hold  the prey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le  fly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uck’s  beak:- A Duck  has  a  flat  and   broad  beak  which  has  small  holes  on  both  sides . It  digs  up  the  food  along  with  mud  from  the  base  of  the  pond  or  lake . Its  beak  pushes  out  mud  and  water  from  the  holes  leaving  the  food  behind. This  process  is  called  sifting.  Such  beak  is  called  sifting  bea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uck’s   feet :-  A  Duck  have  webbed  feet  for  swimming  in  wa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uck’s  beak:- A Duck  has  a  flat  and   broad  beak  which  has  small  holes  on  both  sides . It  digs  up  the  food  along  with  mud  from  the  base  of  the  pond  or  lake . Its  beak  pushes  out  mud  and  water  from  the  holes  leaving  the  food  behind. This  process  is  called  sifting.  Such  beak  is  called  sifting  bea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uck’s   feet :-  A  Duck  have  webbed  feet  for  swimming  in  wa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0A4F9-B3D4-42A5-8417-2FCA838AB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F731D-1042-46FA-909F-B30E3C914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85C98-45E8-41FB-852E-3961B4237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08540-9A3A-4941-ABC7-BFD670B49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CCEBE-589D-47B0-B6C1-CBBDB6864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AECC4-BEF7-46D3-A7D0-FE310DA56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34181-883B-41C7-AE76-C84EDCF22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3D4C2-F03E-4898-8220-55E956065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40741-3076-42A5-9134-AD830CD9C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9BBD1-1FD9-49A5-89F5-4BCF7C7A8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5C3EC-746D-497E-8747-67C5B8AF9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3FA21-AAF1-44A1-8159-E7396AA79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4CD2E-87A0-43CD-ACDD-1569BF2CFCB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D41A6-CBC7-4E67-B616-1EDA239038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eaks ,feet &amp;claws of Bir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Parrot’s  beak:-  A  Parrot  have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a  curved   beak  to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Crack  fruits a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nuts  and  oth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Foods . such beak  is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Called   curved   beak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Parrot’s  toes :-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Parrot   have  two  to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forward   and  tw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Backwards  for  climbing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4" descr="C:\Documents and Settings\HP\Local Settings\Temporary Internet Files\Content.IE5\KFCR29GV\MP900442406[1].jpg"/>
          <p:cNvPicPr/>
          <p:nvPr/>
        </p:nvPicPr>
        <p:blipFill>
          <a:blip r:embed="rId1"/>
          <a:stretch/>
        </p:blipFill>
        <p:spPr>
          <a:xfrm>
            <a:off x="685800" y="1676520"/>
            <a:ext cx="2286000" cy="2514600"/>
          </a:xfrm>
          <a:prstGeom prst="rect">
            <a:avLst/>
          </a:prstGeom>
          <a:ln w="0">
            <a:noFill/>
          </a:ln>
        </p:spPr>
      </p:pic>
      <p:sp>
        <p:nvSpPr>
          <p:cNvPr id="51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6840" y="-360"/>
            <a:ext cx="853452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Sparrow’s   beak:-    A  Sparrow  have  a  short  and  hard   beak  f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Crushing   seeds   and  grains before  swallowing   i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Such   </a:t>
            </a: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beak  is  called   crushing  beak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Sparrow’s   toes &amp; claws:-  A  Sparrow   have  long  and   slender  claws  with   three  toes  in  the  front  and  one  at  the  back  to   firmly  hold  a  branch  or  a  wire.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3" descr="C:\Documents and Settings\HP\Local Settings\Temporary Internet Files\Content.IE5\MH2TGD0N\MP900448388[1].jpg"/>
          <p:cNvPicPr/>
          <p:nvPr/>
        </p:nvPicPr>
        <p:blipFill>
          <a:blip r:embed="rId1"/>
          <a:stretch/>
        </p:blipFill>
        <p:spPr>
          <a:xfrm>
            <a:off x="2819520" y="2743200"/>
            <a:ext cx="3733560" cy="3124080"/>
          </a:xfrm>
          <a:prstGeom prst="rect">
            <a:avLst/>
          </a:prstGeom>
          <a:ln w="0">
            <a:noFill/>
          </a:ln>
        </p:spPr>
      </p:pic>
      <p:sp>
        <p:nvSpPr>
          <p:cNvPr id="54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70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Vulture’s  beak:-  A  vulture  have  a  strong , hard and   curved  beak  for  tearing  the  flesh . Such  beak  is  called  tearing  and  piercing  beak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Vulture’s  claws:-  A  Vulture  have   harp  claws to  firmly  hold  the prey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while  flying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3" descr="C:\Documents and Settings\HP\Local Settings\Temporary Internet Files\Content.IE5\KFCR29GV\MP900441095[1].jpg"/>
          <p:cNvPicPr/>
          <p:nvPr/>
        </p:nvPicPr>
        <p:blipFill>
          <a:blip r:embed="rId1"/>
          <a:stretch/>
        </p:blipFill>
        <p:spPr>
          <a:xfrm>
            <a:off x="0" y="1219320"/>
            <a:ext cx="3124080" cy="3809880"/>
          </a:xfrm>
          <a:prstGeom prst="rect">
            <a:avLst/>
          </a:prstGeom>
          <a:ln w="0">
            <a:noFill/>
          </a:ln>
        </p:spPr>
      </p:pic>
      <p:sp>
        <p:nvSpPr>
          <p:cNvPr id="57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Duck’s  beak:- A Duck  has  a  flat  and   broad  beak  which  has  small  holes  on  both  sides . It  digs  up  the  food  along  with  mud  from  the  base  of  the  pond  or  lake . Its  beak  pushes  out  mud  and  water  from  the  holes  leaving  the  food  behind. This  process  is  called  sifting.  Such  beak  is  called  sifting  beak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Duck’s   feet :-  A  Duck  have  webbed  feet  for  swimming  in  wate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6" descr="C:\Documents and Settings\HP\Local Settings\Temporary Internet Files\Content.IE5\YBI1W3MN\MP900431832[1].jpg"/>
          <p:cNvPicPr/>
          <p:nvPr/>
        </p:nvPicPr>
        <p:blipFill>
          <a:blip r:embed="rId1"/>
          <a:stretch/>
        </p:blipFill>
        <p:spPr>
          <a:xfrm>
            <a:off x="0" y="2286000"/>
            <a:ext cx="3276720" cy="3124080"/>
          </a:xfrm>
          <a:prstGeom prst="rect">
            <a:avLst/>
          </a:prstGeom>
          <a:ln w="0">
            <a:noFill/>
          </a:ln>
        </p:spPr>
      </p:pic>
      <p:sp>
        <p:nvSpPr>
          <p:cNvPr id="60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Sumitomo</dc:creator>
  <dc:description/>
  <dc:language>en-US</dc:language>
  <cp:lastModifiedBy>LEGION</cp:lastModifiedBy>
  <dcterms:modified xsi:type="dcterms:W3CDTF">2018-03-12T07:46:40Z</dcterms:modified>
  <cp:revision>16</cp:revision>
  <dc:subject/>
  <dc:title>Beaks and claws of Birds</dc:title>
</cp:coreProperties>
</file>