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1DE6-F2B4-4815-B4B7-07AAF7F3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43A-3562-47B3-9990-4F875405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260-BC83-46C0-9759-C8964871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697-6879-46A0-967C-0751FB1E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BDB-92B9-437E-B4FC-B29AA28F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1780-65A6-42EC-9087-B5E50D0F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D16A-E83F-43E8-9E54-D68CE88F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7E07-AABB-4DB1-BC47-206F9511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1A1D-0F06-4E0F-AA00-8A6FFAF6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26E7-B511-49F5-84E2-FE7C9D4A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721A-00A9-4209-9878-4DE1665E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A41E-3703-42B6-9E8C-6B3B1E7F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2C0-9206-4752-AEC6-0B777D01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665F-ED4B-4FCF-8CDF-14579EE7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D0F1-2691-4B56-ABA8-FB02A2C9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E40A-EA7E-447F-88DB-097D47F8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CDDB-E9CD-4E95-A125-3E394D88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6C67-F587-4F45-8F16-C223F8F8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070F-2F66-4BF2-8CE5-25E5EA10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72FF0-794E-4756-852A-E10AB65A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D76C-FEC7-4BD7-B12A-BF88BD28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830D-7C4D-492A-9227-E903A497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D1D4-8A2E-4178-8354-89371D5A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1F3-B4D9-40E3-9D37-D3843D17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2430-EC9B-4F2A-8AC4-DAFB0164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B3D4-CEE1-4644-8008-6AD7A30B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68408-4A77-4A8A-B680-BEF7CC0E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2AE5-FF79-4A34-ADFD-248174A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8A8C-54D5-45D0-9CB1-6A27AB50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E080-593E-413B-80E0-49421999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DD2C0-ED87-4C0A-A5DC-33C29E68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B6843-5C45-4B26-96CC-BACCA444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036F-D68A-4E1C-8792-D03176FE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809D-5CEA-4BCF-A880-A5C2B5B2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03E-1F82-42D4-A885-8603B165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3C37-4D8C-42A8-90D8-A46E4F3F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9E4C4-3F6A-4775-A303-EEE29D17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3A759-8918-4C70-A5C7-2FFDA016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3D90-EEBA-4105-AE70-8A196C96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CDE9-43BF-427B-9221-FE9744EF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CB7E4-F7AD-446C-B53E-EB87B5D9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3E0C-E057-43B1-B886-DAC14884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80DF-627A-4DFD-AB79-BC1A5141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6DEBF-21C6-4706-802E-42072EB0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71369-616C-447D-A5B6-FD5225B1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A8E-9F36-4D17-B404-AE217649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C47A6-086E-41E8-9BDD-AFC265CE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C463F-4061-4063-A0B6-CBA17065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14971-DA64-4227-950A-38832E06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CFFD5-AA78-4748-8D5F-176EE476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1F26C-7D3F-4FF3-98C9-C9D1F36C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EB39-7501-4A15-8D6E-1A3616E9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3C697-D04C-47E1-B9B2-C23C9260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D091C-6885-457D-8789-940F3E1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078B-A4FF-47A0-9933-A7E7C1E9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D11B-1B38-4580-9DE3-0ABC3F69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269-10AB-4890-B156-4E639D74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881C-2258-4AA8-8613-4A6D624B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B7A-AB0F-42BC-9CB4-CECF4824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E42-C56F-4F51-A8D5-7A96EA04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BA4-DDDD-4518-AD5A-A1908F2B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1A3D-D5D4-4E89-BC4E-2EC0163ABA6D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B0B4-91D2-4E30-A71E-95D6FC468278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E8A1-D386-4D92-B24E-E8A41CF63FE9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64FC-57EF-498B-BA5D-B64C4B03F5A6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B2CC-82F7-43A0-ABC0-88BDFCC127D1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sthope.org/Twins1.JPG&amp;imgrefurl=http://www.lasthope.org/&amp;usg=__3ZE7DJjsuvzM1Qgly9ats1yIXic=&amp;h=480&amp;w=530&amp;sz=67&amp;hl=en&amp;start=8&amp;tbnid=BGWlEMCWGNB4MM:&amp;tbnh=120&amp;tbnw=132&amp;prev=/images%3Fq%3Danimal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animals.nationalgeographic.com/staticfiles/NGS/Shared/StaticFiles/animals/images/primary/black-spider-monkey.jpg&amp;imgrefurl=http://animals.nationalgeographic.com/animals/mammals/spider-monkey.html&amp;usg=__n6Yv8Za-hjIpAuxwh8lPCkdHcOY=&amp;h=324&amp;w=470&amp;sz=29&amp;hl=en&amp;start=3&amp;tbnid=b61MH5BWNmOEhM:&amp;tbnh=89&amp;tbnw=129&amp;prev=/images%3Fq%3DMonkey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ore.got3d.com/images/animated-3d-people-models-casual-revolution-series.jpg&amp;imgrefurl=http://store.got3d.com/products/animated-3d-models-people-casual-rs1/index.html&amp;usg=__9hSGmND_h2AP7XoIu-NjPgY-JMQ=&amp;h=314&amp;w=400&amp;sz=66&amp;hl=en&amp;start=5&amp;tbnid=P8Lnu9FI5B7sLM:&amp;tbnh=97&amp;tbnw=124&amp;prev=/images%3Fq%3Danimated%2Bpeople%26gbv%3D2%26hl%3Den%26safe%3Dactive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hozoo.org/students/raymur/eagle52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ayrolston.com/prints/dec07/pink_flamingo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images.digitalmedianet.com/2007/Week_14/xjzmgakv/story/sb7.jpg&amp;imgrefurl=http://photoshop.digitalmedianet.com/articles/viewarticle.jsp%3Fid%3D124958-1&amp;usg=__pYUVBOi2I_3OHlodZq87HdqsTU0=&amp;h=405&amp;w=543&amp;sz=160&amp;hl=en&amp;start=48&amp;tbnid=AlPJ7So6Zi-GqM:&amp;tbnh=98&amp;tbnw=132&amp;prev=/images%3Fq%3Dsong%2Bbirds%26start%3D40%26ndsp%3D20%26hl%3Den%26safe%3Dactive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olunteersforwildlife.org/i/VW-snakes11.jpg&amp;imgrefurl=http://www.volunteersforwildlife.org/about/permanent_animals/&amp;usg=__l5fXPnfZG_7v15Agxl4DwHsBVHc=&amp;h=1818&amp;w=2728&amp;sz=349&amp;hl=en&amp;start=5&amp;tbnid=5TEf0MBlTjt1vM:&amp;tbnh=100&amp;tbnw=150&amp;prev=/images%3Fq%3Dsnakes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science.smith.edu/stopoverbirds/birdpixs/images/American%2520Goldfinch.jpg&amp;imgrefurl=http://www.science.smith.edu/stopoverbirds/birdpixs/pages/American%2520Goldfinch.html&amp;usg=__ERdw-t1sKjpPmWClEupnI4OZ_iA=&amp;h=405&amp;w=600&amp;sz=19&amp;hl=en&amp;start=5&amp;tbnid=HJMoe5o8aF_HiM:&amp;tbnh=91&amp;tbnw=135&amp;prev=/images%3Fq%3DGoldfinch%26gbv%3D2%26hl%3Den%26safe%3D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pond.dnr.cornell.edu/nyfish/centrarchidae/smallmouth_bass.jpg&amp;imgrefurl=http://pond.dnr.cornell.edu/nyfish/centrarchidae/smallmouth_bass.html&amp;usg=__m3AUHxEVwIbI_elfRBN2STXC6yA=&amp;h=455&amp;w=1020&amp;sz=110&amp;hl=en&amp;start=1&amp;tbnid=svY_lwOgNuK5IM:&amp;tbnh=67&amp;tbnw=150&amp;prev=/images%3Fq%3DBass%26gbv%3D2%26hl%3Den%26safe%3Dactiv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FINITION OF VERTEBRAT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rganisms with many ce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terotroph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dothermic or ectotherm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m blooded (end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bies that are born al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ur or hai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duce milk to feed their you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 (CONTINUED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7" descr="Twins1">
            <a:hlinkClick r:id="rId1"/>
          </p:cNvPr>
          <p:cNvPicPr/>
          <p:nvPr/>
        </p:nvPicPr>
        <p:blipFill>
          <a:blip r:embed="rId2"/>
          <a:stretch/>
        </p:blipFill>
        <p:spPr>
          <a:xfrm rot="20115600">
            <a:off x="906480" y="1790280"/>
            <a:ext cx="1523880" cy="138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black-spider-monkey">
            <a:hlinkClick r:id="rId3"/>
          </p:cNvPr>
          <p:cNvPicPr/>
          <p:nvPr/>
        </p:nvPicPr>
        <p:blipFill>
          <a:blip r:embed="rId4"/>
          <a:stretch/>
        </p:blipFill>
        <p:spPr>
          <a:xfrm rot="894000">
            <a:off x="6629040" y="2209680"/>
            <a:ext cx="1981080" cy="136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animated-3d-people-models-casual-revolution-series">
            <a:hlinkClick r:id="rId5"/>
          </p:cNvPr>
          <p:cNvPicPr/>
          <p:nvPr/>
        </p:nvPicPr>
        <p:blipFill>
          <a:blip r:embed="rId6"/>
          <a:stretch/>
        </p:blipFill>
        <p:spPr>
          <a:xfrm rot="20985600">
            <a:off x="3412800" y="1901880"/>
            <a:ext cx="2209680" cy="17287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warm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ea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eak, two wings and two fe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MPj04387650000[1]"/>
          <p:cNvPicPr/>
          <p:nvPr/>
        </p:nvPicPr>
        <p:blipFill>
          <a:blip r:embed="rId1"/>
          <a:stretch/>
        </p:blipFill>
        <p:spPr>
          <a:xfrm>
            <a:off x="5867280" y="2819520"/>
            <a:ext cx="3081600" cy="229068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 are classified into three grou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ng birds           Flightless         Bird of Pre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657520"/>
            <a:ext cx="2362320" cy="205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259092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b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744640"/>
            <a:ext cx="2666880" cy="197964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Which?  Classify the Vertebrat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5" descr="VW-snakes11">
            <a:hlinkClick r:id="rId1"/>
          </p:cNvPr>
          <p:cNvPicPr/>
          <p:nvPr/>
        </p:nvPicPr>
        <p:blipFill>
          <a:blip r:embed="rId2"/>
          <a:stretch/>
        </p:blipFill>
        <p:spPr>
          <a:xfrm rot="475200">
            <a:off x="610920" y="157284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merican%2520Goldfinch">
            <a:hlinkClick r:id="rId3"/>
          </p:cNvPr>
          <p:cNvPicPr/>
          <p:nvPr/>
        </p:nvPicPr>
        <p:blipFill>
          <a:blip r:embed="rId4"/>
          <a:stretch/>
        </p:blipFill>
        <p:spPr>
          <a:xfrm rot="20929200">
            <a:off x="5037120" y="1571400"/>
            <a:ext cx="160020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smallmouth_bass">
            <a:hlinkClick r:id="rId5"/>
          </p:cNvPr>
          <p:cNvPicPr/>
          <p:nvPr/>
        </p:nvPicPr>
        <p:blipFill>
          <a:blip r:embed="rId6"/>
          <a:stretch/>
        </p:blipFill>
        <p:spPr>
          <a:xfrm rot="514200">
            <a:off x="6167160" y="2925360"/>
            <a:ext cx="1828800" cy="81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Eastern_Mud_Salamander_Pseudotriton_mlr"/>
          <p:cNvPicPr/>
          <p:nvPr/>
        </p:nvPicPr>
        <p:blipFill>
          <a:blip r:embed="rId7"/>
          <a:stretch/>
        </p:blipFill>
        <p:spPr>
          <a:xfrm rot="21196200">
            <a:off x="3438360" y="325440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274" name="Нижний колонтитул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RACTERISTICS OF VERTEBRA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tective skin cove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side or outside skele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usc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ood that circulates  through blood vessels or lungs for breat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have legs or fins for mo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nervou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brain that processes informat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ense organs ( ears or tong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pecialized organ system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2193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VERTEBRATES ARE CLASSIFIED INTO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VE GROUP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mphibia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pti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mm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ld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btain water through gi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i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ve in wa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ny fish =are fish with 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awless Fish=are fish without jaw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rtilaginous Fish=are fish without bones, but have cartilag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ANATOM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4" descr="Fish-Anatomy"/>
          <p:cNvPicPr/>
          <p:nvPr/>
        </p:nvPicPr>
        <p:blipFill>
          <a:blip r:embed="rId1"/>
          <a:stretch/>
        </p:blipFill>
        <p:spPr>
          <a:xfrm>
            <a:off x="1851120" y="1100160"/>
            <a:ext cx="5464080" cy="357984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MPHIBIA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cold blood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n breathe with gills in early life:breathe with lungs as adul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u Metamorphosi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jelly like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a backbo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Are cold blooded (ectothermic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Breathe with lun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Lay eg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Some have fangs that inject venom into pre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one lu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No fee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no ea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4" descr="MPj03142820000[1]"/>
          <p:cNvPicPr/>
          <p:nvPr/>
        </p:nvPicPr>
        <p:blipFill>
          <a:blip r:embed="rId1"/>
          <a:stretch/>
        </p:blipFill>
        <p:spPr>
          <a:xfrm>
            <a:off x="5410080" y="497196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7:58Z</dcterms:created>
  <dc:creator>WEHS</dc:creator>
  <dc:description/>
  <dc:language>en-US</dc:language>
  <cp:lastModifiedBy>LEGION</cp:lastModifiedBy>
  <dcterms:modified xsi:type="dcterms:W3CDTF">2018-03-12T07:56:07Z</dcterms:modified>
  <cp:revision>12</cp:revision>
  <dc:subject/>
  <dc:title>Invertebrates and vertebrates</dc:title>
</cp:coreProperties>
</file>