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3581A-A277-4C46-81BA-8E753A6B13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of Vertebr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with many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thermic or ectother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 blooded (end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babies that are born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ur or h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 milk to feed their yo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mmal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warm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ea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eak, two wings and tw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 are classified into thre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ng birds           Flightless         Bird of Pre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s Which?  Classify the Vertebr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of Vertebrat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ive skin cove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or outside skelet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that circulates  through blood vessels or lungs for brea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ave legs or fins for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rain that processes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ense organs ( ears or tong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pecialized organ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brates are Classified into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v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water through g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f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y fish =are fish with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wless Fish=are fish without jaw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tilaginous Fish=are fish without bones, but have carti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ish Anat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hib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reathe with gills in early life:breathe with lungs as ad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hru Metamorph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jelly like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a backb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cold blooded (ectother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the with lu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y eg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fangs that inject venom into pr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one l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no 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B0C-C579-4544-B91D-38CF45E25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B9D4-3430-448D-9374-4DC49116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AA41-54DA-4DF0-8940-0E3EF2F1F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8089-7EEE-420F-A5DF-CF38CC73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1927-D5F0-405B-8469-C7AE21C10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ED15-6697-4EF3-9155-6E30C36E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70E1-D1DC-428B-98BE-AF370734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6403-8504-46EE-B614-78A2F243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7F461-129B-44E8-B2EB-6136B2904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EFC4E-4B38-4BE2-BAA9-1A7595DF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A24C-3EB7-4A8B-AA9E-DDF70B6E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90A-5FDE-4A52-BA82-A6139277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9E7E0-873C-4840-A938-79BC2117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E6F3C-BEF3-4D2B-82CA-02971E78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AF31-F925-4C8D-A81B-637D7E089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7984-71C0-492D-9C1F-000B5791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F4520-6913-4DF5-8877-786A626F7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7697A-A045-4974-B478-054F2CC1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4DD47-140C-4D94-8209-72493278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71908-0426-4057-AE3F-61B09F53B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D06C9-A294-4B84-B3CC-0BDF294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71A27-089D-488E-BDD5-8A4CBC87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7CC-9494-4193-8EF5-422BB314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A812-8FC4-44AE-8669-8014BD50C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4B07C-86D4-4257-9CB1-EFD4FB34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3065C-0A15-4297-BDEB-B2E9CA62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BC1D4-D3E8-4C46-B477-757E351A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6718-214C-436F-8C30-BE880C45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3336D-93E9-4DD5-BFF2-383A067E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0D097-369B-493A-ACCC-CB717829E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9C73F-1E6E-4D2E-9195-4BB10543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3C39B-E295-4F68-861A-49B78438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4F4DAC-65CE-4BBD-BCDF-6734D0EE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7E8F-641C-43D5-9CD0-69C23308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0B7E3-6058-42EE-93D6-40C36186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10BA0-3AD3-46DB-8ED8-66B06D9D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8871B-DC02-43DD-8CEC-26580BF33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1676C-BB46-4B8B-BA6A-17EB0BF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143F-ADD7-416F-9FBD-C049BD3D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0FB0C-1587-4BAA-AD90-1A53EC52D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0E799-DCB7-4565-955A-5C7FE4D8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E1FB5-C757-4349-BA81-ACB35D24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84DE-79BB-4F71-AA51-3355951C0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F4F7C-A318-4629-B66B-BF31E1AF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3A91-5150-46FB-955C-C08C15FA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52B77-7E4C-4625-B86E-FDCF1F79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6BF45-C994-43A3-A092-48799E08A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68927-8023-4940-AFDE-F502B142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3A3EE-D7F5-4093-BCEE-5802EC7FA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B8EB2-19D1-4A60-B012-CFF5808D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9ACE0-0183-4FD0-A038-B9115F8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8351-7E8C-4F89-87ED-2D3B0339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7D2D0-59E1-46E6-8663-210748A2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44CB28-20B3-44D2-AA92-8EC568D2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EFB6F-E7B9-4209-B18D-868787484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8D4C-46DD-4F60-9E52-F3BE3B3E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4C8D4F-6AF2-4242-B32B-F5D85B265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0EED-EE77-429A-BDF5-4C5073B5B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A6C8-7045-4BF7-8679-C197FEB4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622C-CC99-4DB4-BD1C-183CDE3C4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2462-C1A2-4CE8-9459-16FE260FCDF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14ED-C094-41DC-A8B5-CB388163E36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C348-1D7A-4D2F-ACE6-6BB2E5BD84D5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34342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0D19-0BCC-4C5D-8319-4BACF270A224}" type="slidenum">
              <a:rPr b="0" lang="en-US" sz="1600" spc="-1" strike="noStrike">
                <a:solidFill>
                  <a:srgbClr val="434342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AA99-8094-4CCC-A1CD-1F714EE7EEE8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lasthope.org/Twins1.JPG&amp;imgrefurl=http://www.lasthope.org/&amp;usg=__3ZE7DJjsuvzM1Qgly9ats1yIXic=&amp;h=480&amp;w=530&amp;sz=67&amp;hl=en&amp;start=8&amp;tbnid=BGWlEMCWGNB4MM:&amp;tbnh=120&amp;tbnw=132&amp;prev=/images%3Fq%3Danimals%26gbv%3D2%26hl%3Den%26safe%3Dactiv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animals.nationalgeographic.com/staticfiles/NGS/Shared/StaticFiles/animals/images/primary/black-spider-monkey.jpg&amp;imgrefurl=http://animals.nationalgeographic.com/animals/mammals/spider-monkey.html&amp;usg=__n6Yv8Za-hjIpAuxwh8lPCkdHcOY=&amp;h=324&amp;w=470&amp;sz=29&amp;hl=en&amp;start=3&amp;tbnid=b61MH5BWNmOEhM:&amp;tbnh=89&amp;tbnw=129&amp;prev=/images%3Fq%3DMonkey%26gbv%3D2%26hl%3Den%26safe%3Dactive" TargetMode="External"/><Relationship Id="rId4" Type="http://schemas.openxmlformats.org/officeDocument/2006/relationships/image" Target="../media/image4.jpeg"/><Relationship Id="rId5" Type="http://schemas.openxmlformats.org/officeDocument/2006/relationships/hyperlink" Target="http://images.google.com/imgres?imgurl=http://store.got3d.com/images/animated-3d-people-models-casual-revolution-series.jpg&amp;imgrefurl=http://store.got3d.com/products/animated-3d-models-people-casual-rs1/index.html&amp;usg=__9hSGmND_h2AP7XoIu-NjPgY-JMQ=&amp;h=314&amp;w=400&amp;sz=66&amp;hl=en&amp;start=5&amp;tbnid=P8Lnu9FI5B7sLM:&amp;tbnh=97&amp;tbnw=124&amp;prev=/images%3Fq%3Danimated%2Bpeople%26gbv%3D2%26hl%3Den%26safe%3Dactive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hozoo.org/students/raymur/eagle52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rayrolston.com/prints/dec07/pink_flamingo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images.digitalmedianet.com/2007/Week_14/xjzmgakv/story/sb7.jpg&amp;imgrefurl=http://photoshop.digitalmedianet.com/articles/viewarticle.jsp%3Fid%3D124958-1&amp;usg=__pYUVBOi2I_3OHlodZq87HdqsTU0=&amp;h=405&amp;w=543&amp;sz=160&amp;hl=en&amp;start=48&amp;tbnid=AlPJ7So6Zi-GqM:&amp;tbnh=98&amp;tbnw=132&amp;prev=/images%3Fq%3Dsong%2Bbirds%26start%3D40%26ndsp%3D20%26hl%3Den%26safe%3Dactive%26sa%3DN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volunteersforwildlife.org/i/VW-snakes11.jpg&amp;imgrefurl=http://www.volunteersforwildlife.org/about/permanent_animals/&amp;usg=__l5fXPnfZG_7v15Agxl4DwHsBVHc=&amp;h=1818&amp;w=2728&amp;sz=349&amp;hl=en&amp;start=5&amp;tbnid=5TEf0MBlTjt1vM:&amp;tbnh=100&amp;tbnw=150&amp;prev=/images%3Fq%3Dsnakes%26gbv%3D2%26hl%3Den%26safe%3Dactive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science.smith.edu/stopoverbirds/birdpixs/images/American%2520Goldfinch.jpg&amp;imgrefurl=http://www.science.smith.edu/stopoverbirds/birdpixs/pages/American%2520Goldfinch.html&amp;usg=__ERdw-t1sKjpPmWClEupnI4OZ_iA=&amp;h=405&amp;w=600&amp;sz=19&amp;hl=en&amp;start=5&amp;tbnid=HJMoe5o8aF_HiM:&amp;tbnh=91&amp;tbnw=135&amp;prev=/images%3Fq%3DGoldfinch%26gbv%3D2%26hl%3Den%26safe%3Dactive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s.google.com/imgres?imgurl=http://pond.dnr.cornell.edu/nyfish/centrarchidae/smallmouth_bass.jpg&amp;imgrefurl=http://pond.dnr.cornell.edu/nyfish/centrarchidae/smallmouth_bass.html&amp;usg=__m3AUHxEVwIbI_elfRBN2STXC6yA=&amp;h=455&amp;w=1020&amp;sz=110&amp;hl=en&amp;start=1&amp;tbnid=svY_lwOgNuK5IM:&amp;tbnh=67&amp;tbnw=150&amp;prev=/images%3Fq%3DBass%26gbv%3D2%26hl%3Den%26safe%3Dactive" TargetMode="External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DEFINITION OF VERTEBRATES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rganisms with many ce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eterotroph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endothermic or ectothermic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arm blooded (end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babies that are born aliv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ur or hai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duce milk to feed their you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768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8" dur="768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0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6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2" dur="768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AMMALS (CONTINUED)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7" descr="Twins1">
            <a:hlinkClick r:id="rId1"/>
          </p:cNvPr>
          <p:cNvPicPr/>
          <p:nvPr/>
        </p:nvPicPr>
        <p:blipFill>
          <a:blip r:embed="rId2"/>
          <a:stretch/>
        </p:blipFill>
        <p:spPr>
          <a:xfrm rot="20115600">
            <a:off x="906480" y="1790280"/>
            <a:ext cx="1523880" cy="13860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3" descr="black-spider-monkey">
            <a:hlinkClick r:id="rId3"/>
          </p:cNvPr>
          <p:cNvPicPr/>
          <p:nvPr/>
        </p:nvPicPr>
        <p:blipFill>
          <a:blip r:embed="rId4"/>
          <a:stretch/>
        </p:blipFill>
        <p:spPr>
          <a:xfrm rot="894000">
            <a:off x="6629040" y="2209680"/>
            <a:ext cx="1981080" cy="13687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5" descr="animated-3d-people-models-casual-revolution-series">
            <a:hlinkClick r:id="rId5"/>
          </p:cNvPr>
          <p:cNvPicPr/>
          <p:nvPr/>
        </p:nvPicPr>
        <p:blipFill>
          <a:blip r:embed="rId6"/>
          <a:stretch/>
        </p:blipFill>
        <p:spPr>
          <a:xfrm rot="20985600">
            <a:off x="3412800" y="1901880"/>
            <a:ext cx="2209680" cy="1728720"/>
          </a:xfrm>
          <a:prstGeom prst="rect">
            <a:avLst/>
          </a:prstGeom>
          <a:ln w="0">
            <a:noFill/>
          </a:ln>
        </p:spPr>
      </p:pic>
      <p:sp>
        <p:nvSpPr>
          <p:cNvPr id="257" name="Нижний колонтитул 5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11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warm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reathe with lun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eat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eak, two wings and two fee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0" name="Picture 4" descr="MPj04387650000[1]"/>
          <p:cNvPicPr/>
          <p:nvPr/>
        </p:nvPicPr>
        <p:blipFill>
          <a:blip r:embed="rId1"/>
          <a:stretch/>
        </p:blipFill>
        <p:spPr>
          <a:xfrm>
            <a:off x="5867280" y="2819520"/>
            <a:ext cx="3081600" cy="2290680"/>
          </a:xfrm>
          <a:prstGeom prst="rect">
            <a:avLst/>
          </a:prstGeom>
          <a:ln w="0">
            <a:noFill/>
          </a:ln>
        </p:spPr>
      </p:pic>
      <p:sp>
        <p:nvSpPr>
          <p:cNvPr id="261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BIRD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 are classified into three grou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ong birds           Flightless         Bird of Prey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64" name="Picture 5" descr="See full 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2657520"/>
            <a:ext cx="2362320" cy="2054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See full 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86200" y="259092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9" descr="sb7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57200" y="2744640"/>
            <a:ext cx="2666880" cy="1979640"/>
          </a:xfrm>
          <a:prstGeom prst="rect">
            <a:avLst/>
          </a:prstGeom>
          <a:ln w="0">
            <a:noFill/>
          </a:ln>
        </p:spPr>
      </p:pic>
      <p:sp>
        <p:nvSpPr>
          <p:cNvPr id="267" name="Нижний колонтитул 6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nodeType="clickEffect" fill="hold">
                      <p:stCondLst>
                        <p:cond delay="0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ich is Which?  Classify the Vertebrates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0" name="Picture 5" descr="VW-snakes11">
            <a:hlinkClick r:id="rId1"/>
          </p:cNvPr>
          <p:cNvPicPr/>
          <p:nvPr/>
        </p:nvPicPr>
        <p:blipFill>
          <a:blip r:embed="rId2"/>
          <a:stretch/>
        </p:blipFill>
        <p:spPr>
          <a:xfrm rot="475200">
            <a:off x="610920" y="157284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9" descr="American%2520Goldfinch">
            <a:hlinkClick r:id="rId3"/>
          </p:cNvPr>
          <p:cNvPicPr/>
          <p:nvPr/>
        </p:nvPicPr>
        <p:blipFill>
          <a:blip r:embed="rId4"/>
          <a:stretch/>
        </p:blipFill>
        <p:spPr>
          <a:xfrm rot="20929200">
            <a:off x="5037120" y="1571400"/>
            <a:ext cx="1600200" cy="107784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1" descr="smallmouth_bass">
            <a:hlinkClick r:id="rId5"/>
          </p:cNvPr>
          <p:cNvPicPr/>
          <p:nvPr/>
        </p:nvPicPr>
        <p:blipFill>
          <a:blip r:embed="rId6"/>
          <a:stretch/>
        </p:blipFill>
        <p:spPr>
          <a:xfrm rot="514200">
            <a:off x="6167160" y="2925360"/>
            <a:ext cx="1828800" cy="8175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5" descr="Eastern_Mud_Salamander_Pseudotriton_mlr"/>
          <p:cNvPicPr/>
          <p:nvPr/>
        </p:nvPicPr>
        <p:blipFill>
          <a:blip r:embed="rId7"/>
          <a:stretch/>
        </p:blipFill>
        <p:spPr>
          <a:xfrm rot="21196200">
            <a:off x="3438360" y="3254400"/>
            <a:ext cx="1676520" cy="1243080"/>
          </a:xfrm>
          <a:prstGeom prst="rect">
            <a:avLst/>
          </a:prstGeom>
          <a:ln w="0">
            <a:noFill/>
          </a:ln>
        </p:spPr>
      </p:pic>
      <p:sp>
        <p:nvSpPr>
          <p:cNvPr id="274" name="Нижний колонтитул 7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CHARACTERISTICS OF VERTEBRAT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ack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Protective skin cover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Inside or outside skeleton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usc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lood that circulates  through blood vessels or lungs for breathing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have legs or fins for movemen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nervous system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 brain that processes information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ense organs ( ears or tong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specialized organ system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 Box 8"/>
          <p:cNvSpPr/>
          <p:nvPr/>
        </p:nvSpPr>
        <p:spPr>
          <a:xfrm>
            <a:off x="1219320" y="45720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VERTEBRATES ARE CLASSIFIED INTO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Franklin Gothic Medium"/>
              </a:rPr>
              <a:t>FIVE GROUPS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sh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mphibia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Reptil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amma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ird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old Blooded (ectothermic)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Obtain water through gill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Most lay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fin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ive in water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CLASSIFICA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Bony fish =are fish with bon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Jawless Fish=are fish without jaws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rtilaginous Fish=are fish without bones, but have cartilag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FISH ANATOM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1" name="Picture 4" descr="Fish-Anatomy"/>
          <p:cNvPicPr/>
          <p:nvPr/>
        </p:nvPicPr>
        <p:blipFill>
          <a:blip r:embed="rId1"/>
          <a:stretch/>
        </p:blipFill>
        <p:spPr>
          <a:xfrm>
            <a:off x="1851120" y="1100160"/>
            <a:ext cx="5464080" cy="3579840"/>
          </a:xfrm>
          <a:prstGeom prst="rect">
            <a:avLst/>
          </a:prstGeom>
          <a:ln w="0">
            <a:noFill/>
          </a:ln>
        </p:spPr>
      </p:pic>
      <p:sp>
        <p:nvSpPr>
          <p:cNvPr id="242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8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MPHIBIA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Have a backbon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Are cold blooded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an breathe with gills in early life:breathe with lungs as adul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Go thru Metamorphosi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ay jelly like egg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Нижний колонтитул 3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8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REPTILE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a backbo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Are cold blooded (ectothermic)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Breathe with lun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Lay egg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Some have fangs that inject venom into prey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one lung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No feet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Franklin Gothic Book"/>
              </a:rPr>
              <a:t>Have no ears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48" name="Picture 4" descr="MPj03142820000[1]"/>
          <p:cNvPicPr/>
          <p:nvPr/>
        </p:nvPicPr>
        <p:blipFill>
          <a:blip r:embed="rId1"/>
          <a:stretch/>
        </p:blipFill>
        <p:spPr>
          <a:xfrm>
            <a:off x="5410080" y="4971960"/>
            <a:ext cx="3733920" cy="1886040"/>
          </a:xfrm>
          <a:prstGeom prst="rect">
            <a:avLst/>
          </a:prstGeom>
          <a:ln w="0">
            <a:noFill/>
          </a:ln>
        </p:spPr>
      </p:pic>
      <p:sp>
        <p:nvSpPr>
          <p:cNvPr id="249" name="Нижний колонтитул 4"/>
          <p:cNvSpPr/>
          <p:nvPr/>
        </p:nvSpPr>
        <p:spPr>
          <a:xfrm>
            <a:off x="3517920" y="6284880"/>
            <a:ext cx="4724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8:47:58Z</dcterms:created>
  <dc:creator>WEHS</dc:creator>
  <dc:description/>
  <dc:language>en-US</dc:language>
  <cp:lastModifiedBy>LEGION</cp:lastModifiedBy>
  <dcterms:modified xsi:type="dcterms:W3CDTF">2018-03-12T07:56:07Z</dcterms:modified>
  <cp:revision>12</cp:revision>
  <dc:subject/>
  <dc:title>Invertebrates and vertebrates</dc:title>
</cp:coreProperties>
</file>