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712B-8F78-417D-A055-01FDD1FC1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313-A492-4E06-AE88-4B9B0521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E9A-F389-4B9C-A33E-3450174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389-BA72-48A2-9341-FB578A6C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853-5B66-4AB0-B15D-A50AD294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7A88-C843-4D31-AA21-B2C5B044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FDED-64C1-4038-83E0-9D4D42BB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C6E9-8FAF-4ECF-B426-EB590861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2379-668C-4694-B370-3059B3EA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CD56-3104-43A5-B9CF-3591302E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3EC7-48DF-436C-B00F-4EEB5A5E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0F50-35FA-4290-B5F1-43DE2D50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784-99DA-4EB9-A45C-6B320B4E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7383-AF55-40A0-A354-398227EF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F9D0-D407-4E36-A325-27531E0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7613-7FEB-448C-9488-10B0D442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2F56-482A-4176-85DD-62909824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6EF0-A85D-4146-B82F-33BCF0AF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8E1A6-B64E-467B-B627-07AD8EE5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32B79-D7E7-49BC-819E-A6CD7AA7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C68D2-938C-4E23-BB78-FDA3C66B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BD68-7151-434B-AF65-D90F1F36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7144-A4F3-467D-8358-0C670BDE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10D-676D-4FFE-85FE-BE1C95A1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19A5-1FA3-48DE-BE3A-22FE91E8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CF60-3C76-4035-89BB-925D403E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45764-2771-4080-8398-4E1ACD52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6E4F-8FA0-4F26-8051-59DE1820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FEEC-9370-431F-9BC2-A402C02E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6CA95-8A4F-4EDA-B0EC-FAD2FC56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4EB7D-3C0D-4857-AAA8-804E4766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6624A-54BE-4856-B106-934E1919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42DAC-BE19-4C48-AC96-1FC38DE2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37A1A-461B-45EE-89A9-66014466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9B5-0FAE-4945-B315-DDCEB70D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AFAAA-729C-4235-A110-0D1E4829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E16C-D566-4B47-8834-4FBFEB0B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B697F-26E5-49BF-8B24-133C3619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EB1D2-4517-43EF-8E05-5287CE4B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C844F-29B4-4F7B-A96C-7A5C25C2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8DBD0-8882-40F7-9BD7-256CF015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BB154-78C0-4DAC-870A-EEAE6177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42B3-D914-4E0F-818F-73F484C6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4B131-B15A-4462-84BA-3F4B0A20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0CF9A-1A82-42BC-8BC2-57F91F22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CDA-1488-4584-AA20-0469B13D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11B74-8F32-4B77-9968-7289F228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28F79-829D-4316-9297-3B32E5DB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30068-E777-4BE6-A9A3-C64A6ACB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5A6E-8B5F-4CFC-A737-CE35CCEB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79365-EE80-46AB-B131-B06DCF56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1044D-7544-40EA-9F95-73C0B0D4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118E3-7AC3-4403-BCE5-2AB1C355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8626F-9652-4547-A4C7-906C1EF2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DF59F-DF90-4C45-9B45-89111046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320CB-CC83-4810-BBE3-FA696F3C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7F1-81AB-49E4-9088-0285B4AD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627C7-2D96-4D8B-A191-970DCFBE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A9C-EA44-4431-AC34-5330027C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A97-7226-4230-B4B1-7DCFA9E2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085-E27A-45E4-838B-87704805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5E32-4A43-4B40-AC64-878DAF58F28E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80F9-2430-45E0-B6C9-C71F165E024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ED24-7FEE-4DB8-AE50-254C1FE67F3C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9870-EF53-45A4-8FD7-4B6BB3F4AC54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AE68-4188-4BFA-B96E-B1108D08D9D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sthope.org/Twins1.JPG&amp;imgrefurl=http://www.lasthope.org/&amp;usg=__3ZE7DJjsuvzM1Qgly9ats1yIXic=&amp;h=480&amp;w=530&amp;sz=67&amp;hl=en&amp;start=8&amp;tbnid=BGWlEMCWGNB4MM:&amp;tbnh=120&amp;tbnw=132&amp;prev=/images%3Fq%3Danimal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animals.nationalgeographic.com/staticfiles/NGS/Shared/StaticFiles/animals/images/primary/black-spider-monkey.jpg&amp;imgrefurl=http://animals.nationalgeographic.com/animals/mammals/spider-monkey.html&amp;usg=__n6Yv8Za-hjIpAuxwh8lPCkdHcOY=&amp;h=324&amp;w=470&amp;sz=29&amp;hl=en&amp;start=3&amp;tbnid=b61MH5BWNmOEhM:&amp;tbnh=89&amp;tbnw=129&amp;prev=/images%3Fq%3DMonkey%26gbv%3D2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store.got3d.com/images/animated-3d-people-models-casual-revolution-series.jpg&amp;imgrefurl=http://store.got3d.com/products/animated-3d-models-people-casual-rs1/index.html&amp;usg=__9hSGmND_h2AP7XoIu-NjPgY-JMQ=&amp;h=314&amp;w=400&amp;sz=66&amp;hl=en&amp;start=5&amp;tbnid=P8Lnu9FI5B7sLM:&amp;tbnh=97&amp;tbnw=124&amp;prev=/images%3Fq%3Danimated%2Bpeople%26gbv%3D2%26hl%3Den%26safe%3Dactive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hozoo.org/students/raymur/eagle52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rayrolston.com/prints/dec07/pink_flamingo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images.digitalmedianet.com/2007/Week_14/xjzmgakv/story/sb7.jpg&amp;imgrefurl=http://photoshop.digitalmedianet.com/articles/viewarticle.jsp%3Fid%3D124958-1&amp;usg=__pYUVBOi2I_3OHlodZq87HdqsTU0=&amp;h=405&amp;w=543&amp;sz=160&amp;hl=en&amp;start=48&amp;tbnid=AlPJ7So6Zi-GqM:&amp;tbnh=98&amp;tbnw=132&amp;prev=/images%3Fq%3Dsong%2Bbirds%26start%3D40%26ndsp%3D20%26hl%3Den%26safe%3Dactive%26sa%3D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olunteersforwildlife.org/i/VW-snakes11.jpg&amp;imgrefurl=http://www.volunteersforwildlife.org/about/permanent_animals/&amp;usg=__l5fXPnfZG_7v15Agxl4DwHsBVHc=&amp;h=1818&amp;w=2728&amp;sz=349&amp;hl=en&amp;start=5&amp;tbnid=5TEf0MBlTjt1vM:&amp;tbnh=100&amp;tbnw=150&amp;prev=/images%3Fq%3Dsnakes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science.smith.edu/stopoverbirds/birdpixs/images/American%2520Goldfinch.jpg&amp;imgrefurl=http://www.science.smith.edu/stopoverbirds/birdpixs/pages/American%2520Goldfinch.html&amp;usg=__ERdw-t1sKjpPmWClEupnI4OZ_iA=&amp;h=405&amp;w=600&amp;sz=19&amp;hl=en&amp;start=5&amp;tbnid=HJMoe5o8aF_HiM:&amp;tbnh=91&amp;tbnw=135&amp;prev=/images%3Fq%3DGoldfinch%26gbv%3D2%26hl%3Den%26safe%3Dactiv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pond.dnr.cornell.edu/nyfish/centrarchidae/smallmouth_bass.jpg&amp;imgrefurl=http://pond.dnr.cornell.edu/nyfish/centrarchidae/smallmouth_bass.html&amp;usg=__m3AUHxEVwIbI_elfRBN2STXC6yA=&amp;h=455&amp;w=1020&amp;sz=110&amp;hl=en&amp;start=1&amp;tbnid=svY_lwOgNuK5IM:&amp;tbnh=67&amp;tbnw=150&amp;prev=/images%3Fq%3DBass%26gbv%3D2%26hl%3Den%26safe%3Dactive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EFINITION OF VERTEBRATE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rganisms with many ce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eterotroph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dothermic or ectotherm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rm blooded (end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bies that are born al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ur or hai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duce milk to feed their you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 (CONTINUED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7" descr="Twins1">
            <a:hlinkClick r:id="rId1"/>
          </p:cNvPr>
          <p:cNvPicPr/>
          <p:nvPr/>
        </p:nvPicPr>
        <p:blipFill>
          <a:blip r:embed="rId2"/>
          <a:stretch/>
        </p:blipFill>
        <p:spPr>
          <a:xfrm rot="20115600">
            <a:off x="906480" y="1790280"/>
            <a:ext cx="1523880" cy="138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black-spider-monkey">
            <a:hlinkClick r:id="rId3"/>
          </p:cNvPr>
          <p:cNvPicPr/>
          <p:nvPr/>
        </p:nvPicPr>
        <p:blipFill>
          <a:blip r:embed="rId4"/>
          <a:stretch/>
        </p:blipFill>
        <p:spPr>
          <a:xfrm rot="894000">
            <a:off x="6629040" y="2209680"/>
            <a:ext cx="1981080" cy="1368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animated-3d-people-models-casual-revolution-series">
            <a:hlinkClick r:id="rId5"/>
          </p:cNvPr>
          <p:cNvPicPr/>
          <p:nvPr/>
        </p:nvPicPr>
        <p:blipFill>
          <a:blip r:embed="rId6"/>
          <a:stretch/>
        </p:blipFill>
        <p:spPr>
          <a:xfrm rot="20985600">
            <a:off x="3412800" y="1901880"/>
            <a:ext cx="2209680" cy="17287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warm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eat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eak, two wings and two fee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MPj04387650000[1]"/>
          <p:cNvPicPr/>
          <p:nvPr/>
        </p:nvPicPr>
        <p:blipFill>
          <a:blip r:embed="rId1"/>
          <a:stretch/>
        </p:blipFill>
        <p:spPr>
          <a:xfrm>
            <a:off x="5867280" y="2819520"/>
            <a:ext cx="3081600" cy="229068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 are classified into three grou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ong birds           Flightless         Bird of Prey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657520"/>
            <a:ext cx="2362320" cy="2054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2590920"/>
            <a:ext cx="159876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b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744640"/>
            <a:ext cx="2666880" cy="197964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ich is Which?  Classify the Vertebrat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5" descr="VW-snakes11">
            <a:hlinkClick r:id="rId1"/>
          </p:cNvPr>
          <p:cNvPicPr/>
          <p:nvPr/>
        </p:nvPicPr>
        <p:blipFill>
          <a:blip r:embed="rId2"/>
          <a:stretch/>
        </p:blipFill>
        <p:spPr>
          <a:xfrm rot="475200">
            <a:off x="610920" y="157284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American%2520Goldfinch">
            <a:hlinkClick r:id="rId3"/>
          </p:cNvPr>
          <p:cNvPicPr/>
          <p:nvPr/>
        </p:nvPicPr>
        <p:blipFill>
          <a:blip r:embed="rId4"/>
          <a:stretch/>
        </p:blipFill>
        <p:spPr>
          <a:xfrm rot="20929200">
            <a:off x="5037120" y="1571400"/>
            <a:ext cx="1600200" cy="107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smallmouth_bass">
            <a:hlinkClick r:id="rId5"/>
          </p:cNvPr>
          <p:cNvPicPr/>
          <p:nvPr/>
        </p:nvPicPr>
        <p:blipFill>
          <a:blip r:embed="rId6"/>
          <a:stretch/>
        </p:blipFill>
        <p:spPr>
          <a:xfrm rot="514200">
            <a:off x="6167160" y="2925360"/>
            <a:ext cx="1828800" cy="817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Eastern_Mud_Salamander_Pseudotriton_mlr"/>
          <p:cNvPicPr/>
          <p:nvPr/>
        </p:nvPicPr>
        <p:blipFill>
          <a:blip r:embed="rId7"/>
          <a:stretch/>
        </p:blipFill>
        <p:spPr>
          <a:xfrm rot="21196200">
            <a:off x="3438360" y="3254400"/>
            <a:ext cx="1676520" cy="1243080"/>
          </a:xfrm>
          <a:prstGeom prst="rect">
            <a:avLst/>
          </a:prstGeom>
          <a:ln w="0">
            <a:noFill/>
          </a:ln>
        </p:spPr>
      </p:pic>
      <p:sp>
        <p:nvSpPr>
          <p:cNvPr id="274" name="Нижний колонтитул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RACTERISTICS OF VERTEBRA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tective skin cover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side or outside skele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usc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ood that circulates  through blood vessels or lungs for breat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have legs or fins for mov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nervous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brain that processes informati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ense organs ( ears or tong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pecialized organ system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2193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VERTEBRATES ARE CLASSIFIED INTO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FIVE GROUP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mphibia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pti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mm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ld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btain water through gi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i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ve in wa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ony fish =are fish with 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Jawless Fish=are fish without jaw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rtilaginous Fish=are fish without bones, but have cartilag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ANATOM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Picture 4" descr="Fish-Anatomy"/>
          <p:cNvPicPr/>
          <p:nvPr/>
        </p:nvPicPr>
        <p:blipFill>
          <a:blip r:embed="rId1"/>
          <a:stretch/>
        </p:blipFill>
        <p:spPr>
          <a:xfrm>
            <a:off x="1851120" y="1100160"/>
            <a:ext cx="5464080" cy="3579840"/>
          </a:xfrm>
          <a:prstGeom prst="rect">
            <a:avLst/>
          </a:prstGeom>
          <a:ln w="0">
            <a:noFill/>
          </a:ln>
        </p:spPr>
      </p:pic>
      <p:sp>
        <p:nvSpPr>
          <p:cNvPr id="24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MPHIBIA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cold blood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n breathe with gills in early life:breathe with lungs as adul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 thru Metamorphosi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jelly like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PTI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a backbo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Are cold blooded (ectothermic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Breathe with lun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Lay eg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Some have fangs that inject venom into pre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one lu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No fee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no ear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Picture 4" descr="MPj03142820000[1]"/>
          <p:cNvPicPr/>
          <p:nvPr/>
        </p:nvPicPr>
        <p:blipFill>
          <a:blip r:embed="rId1"/>
          <a:stretch/>
        </p:blipFill>
        <p:spPr>
          <a:xfrm>
            <a:off x="5410080" y="4971960"/>
            <a:ext cx="3733920" cy="18860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7:58Z</dcterms:created>
  <dc:creator>WEHS</dc:creator>
  <dc:description/>
  <dc:language>en-US</dc:language>
  <cp:lastModifiedBy>LEGION</cp:lastModifiedBy>
  <dcterms:modified xsi:type="dcterms:W3CDTF">2018-03-12T07:56:07Z</dcterms:modified>
  <cp:revision>12</cp:revision>
  <dc:subject/>
  <dc:title>Invertebrates and vertebrates</dc:title>
</cp:coreProperties>
</file>