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22.png" ContentType="image/png"/>
  <Override PartName="/ppt/media/cashreg.wav" ContentType="audio/x-wav"/>
  <Override PartName="/ppt/media/image4.jpeg" ContentType="image/jpeg"/>
  <Override PartName="/ppt/media/image21.png" ContentType="image/png"/>
  <Override PartName="/ppt/media/image19.png" ContentType="image/png"/>
  <Override PartName="/ppt/media/image18.png" ContentType="image/png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4918-B73E-4B8B-A29B-71EEA58DE2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ph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lu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at , they must come up to sea -surface for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 !! You are correc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out for BREA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lu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hat , they must come up to sea -surface for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 !! You are correct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come out for BREATH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ind their way with s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keep in touch by clicks, barks and sc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y  Dolphins talk also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ind their way with soun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keep in touch by clicks, barks and sc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breathe through the holes on top of their heads called blowh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Dolphins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live in saltwater oceans and seas all over the wor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ives in oc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 in big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of Dolphin is called School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o Dolphins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live in saltwater oceans and seas all over the wor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lives in oce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live in big grou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p of Dolphin is called School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intelligent animal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Dolphins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eat all kinds of sea crea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lions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Dolphins 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eat all kinds of sea crea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b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 lions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Dolphin a Fis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 Dolphin a Fish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ps…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 and try second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ps…try ag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 and try second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you are CORRECT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not Fish , they are.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s, you are CORRECT!!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have live yo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feed their young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lphins are warm-bloo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………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mam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have live you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feed their young mil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lphins are warm-bloo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…………………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brea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feed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related to their Ga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your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Dolphins come up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breath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feed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related to their Gam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ck on your ans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ops!!! Wrong  answer, try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oops!!! Wrong  answer, try again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19B-AA38-49BD-8F5E-E82B9BBD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88E-EF08-40E8-9EDB-F6D997E2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90C-807D-4D3F-8B7C-F9C7F1CB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774A-B18E-43D3-958E-BC173133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E0D5-A1C8-4A97-8247-B373BA43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0895-A54A-4F82-8FB9-E494FFE2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91BA-0CFF-4EA1-8BED-928CBE76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52A7-82B7-4C44-B857-47D3866C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0199-5869-4905-A6CE-F96455BA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A46B-B87F-4D3F-BCE1-A96C07BD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8268-76BA-4C40-9889-8BB7EEEB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505-6F3C-4A81-B34A-F7424053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77E4-2F01-499D-A0C0-09A6CAFC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6C4B-DEAA-4D98-82AA-A0CC21D0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8D74-82DF-425E-AE12-AEF4679F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04F6-F37A-4D2C-A954-CBB5DAEF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2C91-88E2-4AA0-B9B4-A1C190BD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4E68-073B-4019-8524-3583A3E4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95520-B44D-4A34-8490-F33C9642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0C47-C314-4EC1-BCFE-B868E9CB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6330-415A-4842-A7B7-7930ADCD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A73D6-19F1-4E62-8BC8-51530904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109-096F-4A2D-AA31-11DA748E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B4718-C3D3-475B-9B26-B66B42A9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C822-11E5-4EFD-8B96-C8C17360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78347-27E1-48D5-BEC8-A5701EDC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8DB7F-F785-4D4D-9D16-F7E72925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416CA-9BD0-41BF-83DA-C4D43F11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D049-631C-41A8-A08F-2A50EE09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5A6BA-F4FD-4497-92A9-D904C52E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50AE2-BDAC-4418-BF84-1AA61390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2E83C-A9F3-4220-9FC2-605B0807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CD1A7-E486-4C40-B2F3-57232A53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204-4008-4D9C-828E-6DB00930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B3D0C-0708-4FC5-A85A-A014C7A4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508D-C3BD-4CCA-A95E-93277894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0BCD6-ECA7-438C-97A2-71865FE9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DC71-DAB9-435F-AE8F-B9BF6332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A258E-5EE3-4BA7-AF1B-33F4369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4F436-9C98-493D-8CE9-7C809D15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8816E-3D78-4E77-AD7E-107CBBFA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292BB-455E-4AB2-9329-DAD52339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8316-A672-4E99-81FC-5C4A22EA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3E15B-EF61-4916-B790-83DEBAE3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EB7-F5D4-4CC1-B463-5269B4AB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40C9E-68BC-4AFB-B548-271074EF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21414-F497-4B5A-9176-9273BC69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13FC5-8F77-4FA4-B6FF-B5F44AAD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C8423-CB8D-486C-A8A8-139C1ED5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A399F-EFBA-4072-AC3C-816264CC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EBCFB-2D62-416A-89AF-FFAE3194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F7E71-D7EF-42DC-9835-6751400F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5099E-9AE7-4F39-9A99-CF55A1A6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BD062-7770-412F-A904-31603443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3EEE4-6DB6-44ED-97EA-79EBE1B0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77D-55F8-4DE5-9B28-80DC8E1C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A5F5C-1191-423D-A1F9-DAE1C7A3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90C7D-2875-49E8-BB91-5AC197B5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30981-57BC-4D39-8257-AF770BF0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31B27-B044-4166-99A3-C528FE98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489D5-6CDE-4AE7-994C-DC92F363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C5F0-4C19-438C-953E-E3DF49D0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C470B-B3DF-4B11-8D82-CC4F77AE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E7377-EC23-4D9D-97FC-5001659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7680A-D7AC-49D8-A2D4-DE51DC67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D9EF2-C84E-41C1-84C2-62F7E1B8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90D-A41F-4E2B-8FF2-FD6A15DD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33840-3CF0-45AD-B6B2-E073C891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8EC9B-9C3A-409C-B21D-C4936C0B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14D2D-6349-47A2-841B-06095442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1CF73-82A7-4318-904B-700D591E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EEFB0-B66F-4448-A0DB-D5CF822D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A2323-0055-4607-B2BB-4E273D98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E201B-30A9-4C9A-854B-7068332F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4B755-CDE3-4687-B04D-79C982AD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188D1-34C8-4A13-95C5-94DE5D92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5314C-F9CA-4BDA-865A-EE80D6FC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524-8AE4-425B-8997-00252649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ED9CD-F52B-4432-A58B-FA6076C3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C417A-0075-4430-95AD-E3B64126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0FB0C-37CC-4725-85F0-2A782D09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E134E-A6F0-47D2-A82A-B708C9B8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D16C5-DD25-4AAF-9EE2-D187693A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A6D-440E-4F9C-A61C-519B6320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FADE-B4EA-4F7E-8935-B3B8E84A550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Равнобедренный треугольник 12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98A0-3EE2-4E50-AB00-BCA348585D2C}" type="slidenum">
              <a:rPr b="0" lang="zh-CN" sz="13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B77C-76A7-46D9-880E-8F0867AF1BD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ый треугольник 12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Равнобедренный треугольник 15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Прямая соединительная линия 16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ая соединительная линия 17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5AB8-F361-4E0A-9229-15893E2FBF3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B937-7934-4AD9-8E78-CF3FE7C4CCD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4BA6-572B-4501-8C3D-054417DDF4AC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  <a:ea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5279-2547-4D5B-B452-5495F5520CAC}" type="slidenum">
              <a:rPr b="0" lang="zh-CN" sz="900" spc="-1" strike="noStrike">
                <a:solidFill>
                  <a:srgbClr val="ffffff"/>
                </a:solidFill>
                <a:latin typeface="Times New Roman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aua.am/web/group15/pic/Dolphins.jpg&amp;imgrefurl=http://www.aua.am/web/group15/&amp;h=291&amp;w=400&amp;sz=75&amp;tbnid=KN1-1IP5O2IJ:&amp;tbnh=87&amp;tbnw=120&amp;start=20&amp;prev=/images%3Fq%3DDolphins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google.com/imgres?imgurl=http://www.marcellas-montages.com/montage_site/images/non_tv/dolphin.jpg&amp;imgrefurl=http://www.promotega.org/msc30037/dolp.%2520eat.htm&amp;h=600&amp;w=821&amp;sz=125&amp;tbnid=TiS_miP9nCwJ:&amp;tbnh=104&amp;tbnw=142&amp;start=12&amp;prev=/images%3Fq%3DDolphins%2Beating%26hl%3Den%26lr%3D%26sa%3DG" TargetMode="External"/><Relationship Id="rId3" Type="http://schemas.openxmlformats.org/officeDocument/2006/relationships/hyperlink" Target="http://www.spiralandcircle.com/fish%20bag.jpg" TargetMode="External"/><Relationship Id="rId4" Type="http://schemas.openxmlformats.org/officeDocument/2006/relationships/hyperlink" Target="http://www.spiralandcircle.com/fish%20bag.jpg" TargetMode="External"/><Relationship Id="rId5" Type="http://schemas.openxmlformats.org/officeDocument/2006/relationships/hyperlink" Target="http://images.google.com/imgres?imgurl=http://www.yoto98.noaa.gov/sc1j.jpg&amp;imgrefurl=http://www.yoto98.noaa.gov/links01.htm&amp;h=400&amp;w=400&amp;sz=106&amp;tbnid=rPUkrkhkATAJ:&amp;tbnh=120&amp;tbnw=120&amp;start=1&amp;prev=/images%3Fq%3DOcean%2BFish%26hl%3Den%26lr%3D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m/imgres?imgurl=http://www.rossanthony.com/D/images/dolphins.jpg&amp;imgrefurl=http://www.rossanthony.com/D/dolphins.shtml&amp;h=236&amp;w=400&amp;sz=25&amp;tbnid=8Hy7eB9rD0IJ:&amp;tbnh=70&amp;tbnw=119&amp;start=2&amp;prev=/images%3Fq%3DDolphins%26hl%3Den%26lr%3D%26sa%3DG" TargetMode="External"/><Relationship Id="rId3" Type="http://schemas.openxmlformats.org/officeDocument/2006/relationships/image" Target="../media/image8.jpeg"/><Relationship Id="rId4" Type="http://schemas.openxmlformats.org/officeDocument/2006/relationships/slide" Target="slide5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6.xm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hyperlink" Target="http://images.google.com/imgres?imgurl=http://www.wildaboutdolphins.com/jumpdolp2.jpg&amp;imgrefurl=http://www.wildaboutdolphins.com/&amp;h=212&amp;w=201&amp;sz=15&amp;tbnid=1j1OfhwTPOsJ:&amp;tbnh=100&amp;tbnw=95&amp;start=18&amp;prev=/images%3Fq%3DDolphins%26hl%3Den%26lr%3D" TargetMode="External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uang.ca/home/photos/home-dolphin-large.jpg&amp;imgrefurl=http://chuang.ca/&amp;h=349&amp;w=524&amp;sz=25&amp;tbnid=tXr627NzwZIJ:&amp;tbnh=85&amp;tbnw=128&amp;start=49&amp;prev=/images%3Fq%3DLarge%2BDolphin%2B%26start%3D40%26hl%3Den%26lr%3D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" Target="slide7.xml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3"/>
          <p:cNvSpPr txBox="1"/>
          <p:nvPr/>
        </p:nvSpPr>
        <p:spPr>
          <a:xfrm>
            <a:off x="3809880" y="152280"/>
            <a:ext cx="3200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0000"/>
                </a:solidFill>
                <a:latin typeface="Arial Black"/>
              </a:rPr>
              <a:t>Dolphins</a:t>
            </a:r>
            <a:endParaRPr b="1" lang="en-US" sz="1800" spc="1" strike="noStrike">
              <a:ln w="0">
                <a:noFill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3276720" y="28195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6" descr="C:\Documents and Settings\shmustic\Application Data\Microsoft\Media Catalog\Downloaded Clips\cl47\j0178773.jpg"/>
          <p:cNvPicPr/>
          <p:nvPr/>
        </p:nvPicPr>
        <p:blipFill>
          <a:blip r:embed="rId1"/>
          <a:stretch/>
        </p:blipFill>
        <p:spPr>
          <a:xfrm>
            <a:off x="2971800" y="2057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228600" y="1905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For that , they must come up to sea -surface for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3908880" y="38088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Yes !! You are correct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2980800" y="1219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They come out for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9" descr="lordrings1"/>
          <p:cNvPicPr/>
          <p:nvPr/>
        </p:nvPicPr>
        <p:blipFill>
          <a:blip r:embed="rId1"/>
          <a:stretch/>
        </p:blipFill>
        <p:spPr>
          <a:xfrm>
            <a:off x="3581280" y="3581280"/>
            <a:ext cx="3276720" cy="266724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applause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371600" y="20160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find their way with sound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keep in touch by clicks, barks and screa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breathe through the holes on top of their heads called blowho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C:\WINDOWS\Desktop\Dolphin_color.gif"/>
          <p:cNvPicPr/>
          <p:nvPr/>
        </p:nvPicPr>
        <p:blipFill>
          <a:blip r:embed="rId1"/>
          <a:stretch/>
        </p:blipFill>
        <p:spPr>
          <a:xfrm>
            <a:off x="990720" y="990720"/>
            <a:ext cx="7781760" cy="462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9" name="Нижний колонтитул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Dolphins live in saltwater oceans and seas all over the world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It lives in oce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They live in big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Group of Dolphin is called School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Mos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幼圆"/>
              </a:rPr>
              <a:t>intelligen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animal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5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3657600"/>
            <a:ext cx="2819160" cy="228924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7"/>
          <p:cNvSpPr/>
          <p:nvPr/>
        </p:nvSpPr>
        <p:spPr>
          <a:xfrm>
            <a:off x="0" y="3298680"/>
            <a:ext cx="9144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16765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Dolphins eat all kinds of sea cr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Fis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Crab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 lions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2"/>
              </a:rPr>
              <a:t>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3"/>
              </a:rPr>
              <a:t>  </a:t>
            </a: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      </a:t>
            </a:r>
            <a:r>
              <a:rPr b="0" lang="en-US" sz="3000" spc="-1" strike="noStrike" u="sng">
                <a:solidFill>
                  <a:srgbClr val="e2d700"/>
                </a:solidFill>
                <a:uFillTx/>
                <a:latin typeface="Times New Roman"/>
                <a:ea typeface="幼圆"/>
                <a:hlinkClick r:id="rId4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Times New Roman"/>
                <a:ea typeface="幼圆"/>
              </a:rPr>
              <a:t>Seal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5" descr="sc1j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91120" y="289548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329" name="Нижний колонтитул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dolphi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981080"/>
            <a:ext cx="3189240" cy="2552760"/>
          </a:xfrm>
          <a:prstGeom prst="rect">
            <a:avLst/>
          </a:prstGeom>
          <a:ln w="0">
            <a:noFill/>
          </a:ln>
        </p:spPr>
      </p:pic>
      <p:grpSp>
        <p:nvGrpSpPr>
          <p:cNvPr id="332" name="Rectangle 3"/>
          <p:cNvGrpSpPr/>
          <p:nvPr/>
        </p:nvGrpSpPr>
        <p:grpSpPr>
          <a:xfrm>
            <a:off x="762120" y="2494080"/>
            <a:ext cx="1042920" cy="798480"/>
            <a:chOff x="762120" y="2494080"/>
            <a:chExt cx="1042920" cy="798480"/>
          </a:xfrm>
        </p:grpSpPr>
        <p:pic>
          <p:nvPicPr>
            <p:cNvPr id="333" name="Rectangle 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62120" y="2494080"/>
              <a:ext cx="1042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38080" y="259092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6" action="ppaction://hlinksldjump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Rectangle 4"/>
          <p:cNvGrpSpPr/>
          <p:nvPr/>
        </p:nvGrpSpPr>
        <p:grpSpPr>
          <a:xfrm>
            <a:off x="7162920" y="2571840"/>
            <a:ext cx="1042920" cy="799920"/>
            <a:chOff x="7162920" y="2571840"/>
            <a:chExt cx="1042920" cy="799920"/>
          </a:xfrm>
        </p:grpSpPr>
        <p:pic>
          <p:nvPicPr>
            <p:cNvPr id="336" name="Rectangle 4" descr=""/>
            <p:cNvPicPr/>
            <p:nvPr/>
          </p:nvPicPr>
          <p:blipFill>
            <a:blip r:embed="rId7"/>
            <a:stretch/>
          </p:blipFill>
          <p:spPr>
            <a:xfrm>
              <a:off x="7162920" y="2571840"/>
              <a:ext cx="104292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238880" y="2666880"/>
              <a:ext cx="914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2d700"/>
                  </a:solidFill>
                  <a:uFillTx/>
                  <a:latin typeface="Century Gothic"/>
                  <a:hlinkClick r:id="rId8" action="ppaction://hlinksldjump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TextBox 5"/>
          <p:cNvSpPr/>
          <p:nvPr/>
        </p:nvSpPr>
        <p:spPr>
          <a:xfrm>
            <a:off x="2908440" y="1295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Нижний колонтитул 6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Go back and try second answ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5559480" y="3943440"/>
            <a:ext cx="1427040" cy="811080"/>
            <a:chOff x="5559480" y="3943440"/>
            <a:chExt cx="1427040" cy="811080"/>
          </a:xfrm>
        </p:grpSpPr>
        <p:pic>
          <p:nvPicPr>
            <p:cNvPr id="343" name="AutoShape 4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5559480" y="3943440"/>
              <a:ext cx="14270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638680" y="4038480"/>
              <a:ext cx="1295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2d700"/>
                  </a:solidFill>
                  <a:uFillTx/>
                  <a:latin typeface="Century Gothic"/>
                  <a:ea typeface="幼圆"/>
                  <a:hlinkClick r:id="rId3" action="ppaction://hlinksldjump"/>
                </a:rPr>
                <a:t>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5" name="Picture 7" descr="jumpdolp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342900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346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幼圆"/>
              </a:rPr>
              <a:t>Dolphins are not Fish , they are..</a:t>
            </a:r>
            <a:br>
              <a:rPr sz="3600"/>
            </a:br>
            <a:r>
              <a:rPr b="1" lang="en-US" sz="3600" spc="-1" strike="noStrike">
                <a:solidFill>
                  <a:srgbClr val="00b0f0"/>
                </a:solidFill>
                <a:latin typeface="Century Gothic"/>
                <a:ea typeface="幼圆"/>
              </a:rPr>
              <a:t>Mam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5" descr="home-dolphin-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124080"/>
            <a:ext cx="3657600" cy="2698920"/>
          </a:xfrm>
          <a:prstGeom prst="rect">
            <a:avLst/>
          </a:prstGeom>
          <a:ln w="0">
            <a:noFill/>
          </a:ln>
        </p:spPr>
      </p:pic>
      <p:sp>
        <p:nvSpPr>
          <p:cNvPr id="349" name="TextBox 5"/>
          <p:cNvSpPr/>
          <p:nvPr/>
        </p:nvSpPr>
        <p:spPr>
          <a:xfrm>
            <a:off x="3482640" y="152280"/>
            <a:ext cx="49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 Black"/>
                <a:ea typeface="幼圆"/>
              </a:rPr>
              <a:t>Yes, you are CORRECT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Rectangle 6"/>
          <p:cNvGrpSpPr/>
          <p:nvPr/>
        </p:nvGrpSpPr>
        <p:grpSpPr>
          <a:xfrm>
            <a:off x="2882880" y="4627440"/>
            <a:ext cx="1060560" cy="1041480"/>
            <a:chOff x="2882880" y="4627440"/>
            <a:chExt cx="1060560" cy="1041480"/>
          </a:xfrm>
        </p:grpSpPr>
        <p:pic>
          <p:nvPicPr>
            <p:cNvPr id="351" name="Rectangle 6" descr=""/>
            <p:cNvPicPr/>
            <p:nvPr/>
          </p:nvPicPr>
          <p:blipFill>
            <a:blip r:embed="rId3"/>
            <a:stretch/>
          </p:blipFill>
          <p:spPr>
            <a:xfrm>
              <a:off x="2882880" y="4627440"/>
              <a:ext cx="106056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971800" y="47242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e2d700"/>
                  </a:solidFill>
                  <a:uFillTx/>
                  <a:latin typeface="Century Gothic"/>
                  <a:hlinkClick r:id="rId4" action="ppaction://hlinksldjump"/>
                </a:rPr>
                <a:t>HOW</a:t>
              </a:r>
              <a:r>
                <a:rPr b="1" lang="en-US" sz="2000" spc="-1" strike="noStrike">
                  <a:solidFill>
                    <a:srgbClr val="ffffff"/>
                  </a:solidFill>
                  <a:latin typeface="Century Gothic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5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have live you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feed their young mil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85dfd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Gothic"/>
                <a:ea typeface="幼圆"/>
              </a:rPr>
              <a:t>Dolphins are warm-blood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5" descr="dolphin_and_baby"/>
          <p:cNvPicPr/>
          <p:nvPr/>
        </p:nvPicPr>
        <p:blipFill>
          <a:blip r:embed="rId2"/>
          <a:stretch/>
        </p:blipFill>
        <p:spPr>
          <a:xfrm>
            <a:off x="1600200" y="396252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3175560" y="990720"/>
            <a:ext cx="45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orte"/>
              </a:rPr>
              <a:t>Because………………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Нижний колонтитул 5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371600" y="-42840"/>
            <a:ext cx="8229600" cy="1579680"/>
          </a:xfrm>
          <a:prstGeom prst="rect">
            <a:avLst/>
          </a:prstGeom>
          <a:ln w="0">
            <a:noFill/>
          </a:ln>
        </p:spPr>
      </p:pic>
      <p:sp>
        <p:nvSpPr>
          <p:cNvPr id="360" name="Cloud 4"/>
          <p:cNvSpPr/>
          <p:nvPr/>
        </p:nvSpPr>
        <p:spPr>
          <a:xfrm>
            <a:off x="152280" y="1905120"/>
            <a:ext cx="312444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breath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Cloud 5"/>
          <p:cNvSpPr/>
          <p:nvPr/>
        </p:nvSpPr>
        <p:spPr>
          <a:xfrm>
            <a:off x="5029200" y="18288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feed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Cloud 6"/>
          <p:cNvSpPr/>
          <p:nvPr/>
        </p:nvSpPr>
        <p:spPr>
          <a:xfrm>
            <a:off x="3429000" y="4343400"/>
            <a:ext cx="3124080" cy="91440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幼圆"/>
              </a:rPr>
              <a:t>It’s related to thei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3289320" y="30481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on your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Нижний колонтитул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3"/>
          <p:cNvSpPr/>
          <p:nvPr/>
        </p:nvSpPr>
        <p:spPr>
          <a:xfrm>
            <a:off x="3398400" y="30492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Ooops!!! Wrong  answer, try agai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Rectangle 4"/>
          <p:cNvGrpSpPr/>
          <p:nvPr/>
        </p:nvGrpSpPr>
        <p:grpSpPr>
          <a:xfrm>
            <a:off x="3352680" y="2724120"/>
            <a:ext cx="2567160" cy="1042920"/>
            <a:chOff x="3352680" y="2724120"/>
            <a:chExt cx="2567160" cy="1042920"/>
          </a:xfrm>
        </p:grpSpPr>
        <p:pic>
          <p:nvPicPr>
            <p:cNvPr id="367" name="Rectangle 4" descr=""/>
            <p:cNvPicPr/>
            <p:nvPr/>
          </p:nvPicPr>
          <p:blipFill>
            <a:blip r:embed="rId1"/>
            <a:stretch/>
          </p:blipFill>
          <p:spPr>
            <a:xfrm>
              <a:off x="3352680" y="2724120"/>
              <a:ext cx="2567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429000" y="2819520"/>
              <a:ext cx="243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entury Gothic"/>
                </a:rPr>
                <a:t>Go bac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Нижний колонтитул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幼圆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1:19:11Z</dcterms:created>
  <dc:creator>Erin</dc:creator>
  <dc:description/>
  <dc:language>en-US</dc:language>
  <cp:lastModifiedBy>LEGION</cp:lastModifiedBy>
  <dcterms:modified xsi:type="dcterms:W3CDTF">2018-03-12T08:00:00Z</dcterms:modified>
  <cp:revision>21</cp:revision>
  <dc:subject/>
  <dc:title>PowerPoint Presentation</dc:title>
</cp:coreProperties>
</file>