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22.png" ContentType="image/png"/>
  <Override PartName="/ppt/media/cashreg.wav" ContentType="audio/x-wav"/>
  <Override PartName="/ppt/media/image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12A0-933B-4FD6-BE1B-F7A72622CD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at , they must come up to sea -surface for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 !! You are correc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out for BREA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hat , they must come up to sea -surface for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 !! You are correct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come out for BREATH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ind their way with s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keep in touch by clicks, barks and sc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ind their way with soun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keep in touch by clicks, barks and sc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Dolphins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live in saltwater oceans and seas all over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ives in 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 in bi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of Dolphin is called Schoo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o Dolphins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live in saltwater oceans and seas all over the wor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lives in oce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live in big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p of Dolphin is called School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Dolphins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eat all kinds of sea cr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lions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Dolphins 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eat all kinds of sea cr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 lions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Dolphin a Fis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Dolphin a Fis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ps…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 and try second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ps…try ag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 and try second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are CORRECT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, you are CORRECT!!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have live yo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eed their young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warm-bloo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…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have live yo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eed their young mi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warm-bloo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…………………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brea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feed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G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breath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feed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Gam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ops!!! Wrong  answer, try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ops!!! Wrong  answer, try agai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333-CB70-4DAE-BFDF-8A24F421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33B-879C-4D2D-AEA2-36FB20E7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7B6-90D6-4718-9D67-534D8FE1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A00-1EBA-4047-971B-C562EAD9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38AB-64BE-41AC-8A5B-2CE46C25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456E-2D52-489C-A5F5-96324473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CB00-5F5F-4BE5-A7FC-36A76E9E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7E75-9437-4723-B001-B2CEA65A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511D-5FC8-41CE-91A8-A512D706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BC6C-FD1B-454F-8449-B7AE46C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1F4F-DA09-4D26-A683-4D3F96E3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CA7-2A59-4AAC-8E60-ECAD70E1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7823-D147-43A6-AB17-78CF448C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C39D-C3E8-4328-B259-F49849DE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1A77-FFEA-410C-AB22-EF00A14F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9BBB-C1C4-4767-8BCD-DAF02061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DBE6-FDD6-4418-8936-2DC357C5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18583-221C-4D26-85A9-2C72D456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A4BB-809C-4732-97A2-AE47F671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0C4D-FC8D-40B3-9E56-DEE566C3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D47B2-034B-42E8-9D84-920A1030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9E0C-2843-496A-B3FD-B0A584E3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E1C-4C60-4542-A8B5-1C92957A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7FA1-EC76-45FA-A560-4DD2A3E3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CB51-5280-4096-BE92-FE2F47A5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839D-1F77-4F21-8343-EDCFF606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5054-4939-4E19-B6D7-EE570B6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2AB0-7F4F-4BA8-BCDA-D422A99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5C99-A130-4D08-9B9C-45BE4A15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94F1-60CD-4136-82AF-F777D245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3BDC-4638-4217-8866-6C7DDAB0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6FC2-F28F-4899-BC22-AC58609B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9D37F-C33F-40CF-9C02-C1A9EEB9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EB6-8473-4D0A-81B9-3E9552AA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40886-0D15-4CE5-94D6-62BD52C7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15FA8-6508-465E-8D0A-00F43A89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A3958-93FE-451A-AEA0-AA7FA3B5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E72F-0EEC-4354-9B28-77F5B961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E36E-83C0-4F23-A35F-59022951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B9F7D-01EA-4C39-9224-306801A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91BC4-32DF-4F26-8543-088D0046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C1653-5E85-4A0B-9793-721AEDCD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503F8-9EE3-4F2B-84F6-60BAD152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2AD89-6867-4305-81CC-01A74C6C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E33-F1BC-44B4-B7B3-D9EB1291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D75C9-7B94-4895-94B0-9EDA4AD2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6B3C-724C-4EB2-8D26-DA26CEF2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6CD6F-12B0-40A2-AF5B-FA4AB975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8BCB1-6D27-421B-A423-E651EC37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4A5E5-57B1-4A3C-94B0-B6E09F7F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EF1C2-1456-486B-BA17-E31B3CD4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63AD1-16E6-44D6-897D-F1336E53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5A685-3926-465F-A8E9-69B729CF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192F0-9648-4F0E-8C37-594BC5D7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9DBD4-FCD1-40C5-8E57-0FA00D75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460-466D-4D51-A444-46ABA69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4B39-6A11-4EFE-99A6-D5A0B7C9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9194F-9318-4E55-8962-96AC40F1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CDCEF-D102-41EF-B104-C6C37FCE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1F7F-0241-4180-BB81-1057F2F2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A499F-07D8-48EF-B1F4-7D2170CF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A263E-B3E8-414F-B868-B7EB8EB1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033E0-8C6A-4E66-B4F3-F6079900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A5DAB-A15C-4514-A8FA-18B77426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AF6A4-BB56-4AD0-9063-DEADD94C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F7004-164F-4AE7-99A7-4651155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389-EBDC-4DE8-AB57-13E3BFA9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144C1-0054-4FFF-8BE3-412E868A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D98D1-0144-43A4-88B3-C3E138BD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12FA1-0902-4369-8C11-5C373B40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7F40D-30F1-452B-921E-9F2FED1E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59C14-32A4-49E6-B65C-0E30BC2A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99141-3B06-4DE9-8C41-72304CAC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ECDE4-E5BD-4A75-AC17-92DCD13E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45EDC-F323-45EC-87FA-A21D63E1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15DED-528B-4182-B72E-44F941A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6C61B-95C5-437A-BB1F-9DD93DB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CF3-4C42-4C5E-8E9B-9555FE64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C4EB2-DB4E-4AFE-9700-C0E17034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BDD00-4F3B-436F-BFEE-F9A85A24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B3B2-17DF-4F1F-A844-5F258BD2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EDD3A-442F-4E9A-98C5-A522DBE3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28714-2A08-4AFC-AFE7-D9B8834D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AFD-0C55-4341-B1CC-53BC3E8B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1279-A947-4C67-831F-7DEF7794E83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2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3029-19BD-4127-B4E3-E1C37741C35D}" type="slidenum">
              <a: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1500-E1E8-4662-A869-F2EBDA37852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ый треугольник 12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5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6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7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D948-3F26-47C6-849F-D6C715899E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0818-34A7-497C-AB3D-A90A8C7B2A7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E884-8C71-4169-8EB7-E3A2E8DF3EB2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1435-43B6-45B5-8ED9-64BA4B3BFCFC}" type="slidenum">
              <a:rPr b="0" lang="zh-CN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aua.am/web/group15/pic/Dolphins.jpg&amp;imgrefurl=http://www.aua.am/web/group15/&amp;h=291&amp;w=400&amp;sz=75&amp;tbnid=KN1-1IP5O2IJ:&amp;tbnh=87&amp;tbnw=120&amp;start=20&amp;prev=/images%3Fq%3DDolphins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marcellas-montages.com/montage_site/images/non_tv/dolphin.jpg&amp;imgrefurl=http://www.promotega.org/msc30037/dolp.%2520eat.htm&amp;h=600&amp;w=821&amp;sz=125&amp;tbnid=TiS_miP9nCwJ:&amp;tbnh=104&amp;tbnw=142&amp;start=12&amp;prev=/images%3Fq%3DDolphins%2Beating%26hl%3Den%26lr%3D%26sa%3DG" TargetMode="External"/><Relationship Id="rId3" Type="http://schemas.openxmlformats.org/officeDocument/2006/relationships/hyperlink" Target="http://www.spiralandcircle.com/fish%20bag.jpg" TargetMode="External"/><Relationship Id="rId4" Type="http://schemas.openxmlformats.org/officeDocument/2006/relationships/hyperlink" Target="http://www.spiralandcircle.com/fish%20bag.jpg" TargetMode="External"/><Relationship Id="rId5" Type="http://schemas.openxmlformats.org/officeDocument/2006/relationships/hyperlink" Target="http://images.google.com/imgres?imgurl=http://www.yoto98.noaa.gov/sc1j.jpg&amp;imgrefurl=http://www.yoto98.noaa.gov/links01.htm&amp;h=400&amp;w=400&amp;sz=106&amp;tbnid=rPUkrkhkATAJ:&amp;tbnh=120&amp;tbnw=120&amp;start=1&amp;prev=/images%3Fq%3DOcean%2BFish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rossanthony.com/D/images/dolphins.jpg&amp;imgrefurl=http://www.rossanthony.com/D/dolphins.shtml&amp;h=236&amp;w=400&amp;sz=25&amp;tbnid=8Hy7eB9rD0IJ:&amp;tbnh=70&amp;tbnw=119&amp;start=2&amp;prev=/images%3Fq%3DDolphins%26hl%3Den%26lr%3D%26sa%3DG" TargetMode="Externa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6.xm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hyperlink" Target="http://images.google.com/imgres?imgurl=http://www.wildaboutdolphins.com/jumpdolp2.jpg&amp;imgrefurl=http://www.wildaboutdolphins.com/&amp;h=212&amp;w=201&amp;sz=15&amp;tbnid=1j1OfhwTPOsJ:&amp;tbnh=100&amp;tbnw=95&amp;start=18&amp;prev=/images%3Fq%3DDolphins%26hl%3Den%26lr%3D" TargetMode="External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ang.ca/home/photos/home-dolphin-large.jpg&amp;imgrefurl=http://chuang.ca/&amp;h=349&amp;w=524&amp;sz=25&amp;tbnid=tXr627NzwZIJ:&amp;tbnh=85&amp;tbnw=128&amp;start=49&amp;prev=/images%3Fq%3DLarge%2BDolphin%2B%26start%3D4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3809880" y="1522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latin typeface="Arial Black"/>
              </a:rPr>
              <a:t>Dolphins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27672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C:\Documents and Settings\shmustic\Application Data\Microsoft\Media Catalog\Downloaded Clips\cl47\j0178773.jpg"/>
          <p:cNvPicPr/>
          <p:nvPr/>
        </p:nvPicPr>
        <p:blipFill>
          <a:blip r:embed="rId1"/>
          <a:stretch/>
        </p:blipFill>
        <p:spPr>
          <a:xfrm>
            <a:off x="2971800" y="2057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For that , they must come up to sea -surface for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908880" y="3808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Yes !! You are correct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2980800" y="1219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They come out for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9" descr="lordrings1"/>
          <p:cNvPicPr/>
          <p:nvPr/>
        </p:nvPicPr>
        <p:blipFill>
          <a:blip r:embed="rId1"/>
          <a:stretch/>
        </p:blipFill>
        <p:spPr>
          <a:xfrm>
            <a:off x="3581280" y="35812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applaus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371600" y="201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find their way with sound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keep in touch by clicks, barks and screa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WINDOWS\Desktop\Dolphin_color.gif"/>
          <p:cNvPicPr/>
          <p:nvPr/>
        </p:nvPicPr>
        <p:blipFill>
          <a:blip r:embed="rId1"/>
          <a:stretch/>
        </p:blipFill>
        <p:spPr>
          <a:xfrm>
            <a:off x="990720" y="990720"/>
            <a:ext cx="7781760" cy="462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Нижний колонтитул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live in saltwater oceans and seas all over the worl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It lives in oce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They live in big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Group of Dolphin is called School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Mo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幼圆"/>
              </a:rPr>
              <a:t>intellig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anim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6576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3298680"/>
            <a:ext cx="9144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Dolphins eat all kinds of sea cr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Fis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Crab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 lions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3"/>
              </a:rPr>
              <a:t>  </a:t>
            </a: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     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4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l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sc1j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895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329" name="Нижний колонтитул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981080"/>
            <a:ext cx="318924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762120" y="2494080"/>
            <a:ext cx="1042920" cy="798480"/>
            <a:chOff x="762120" y="2494080"/>
            <a:chExt cx="1042920" cy="798480"/>
          </a:xfrm>
        </p:grpSpPr>
        <p:pic>
          <p:nvPicPr>
            <p:cNvPr id="333" name="Rectangl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62120" y="2494080"/>
              <a:ext cx="1042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8080" y="25909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6" action="ppaction://hlinksldjump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Rectangle 4"/>
          <p:cNvGrpSpPr/>
          <p:nvPr/>
        </p:nvGrpSpPr>
        <p:grpSpPr>
          <a:xfrm>
            <a:off x="7162920" y="2571840"/>
            <a:ext cx="1042920" cy="799920"/>
            <a:chOff x="7162920" y="2571840"/>
            <a:chExt cx="1042920" cy="799920"/>
          </a:xfrm>
        </p:grpSpPr>
        <p:pic>
          <p:nvPicPr>
            <p:cNvPr id="336" name="Rectangle 4" descr=""/>
            <p:cNvPicPr/>
            <p:nvPr/>
          </p:nvPicPr>
          <p:blipFill>
            <a:blip r:embed="rId7"/>
            <a:stretch/>
          </p:blipFill>
          <p:spPr>
            <a:xfrm>
              <a:off x="7162920" y="2571840"/>
              <a:ext cx="10429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238880" y="266688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8" action="ppaction://hlinksldjump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Box 5"/>
          <p:cNvSpPr/>
          <p:nvPr/>
        </p:nvSpPr>
        <p:spPr>
          <a:xfrm>
            <a:off x="2908440" y="1295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Нижний колонтитул 6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Go back and try second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5559480" y="3943440"/>
            <a:ext cx="1427040" cy="811080"/>
            <a:chOff x="5559480" y="3943440"/>
            <a:chExt cx="1427040" cy="811080"/>
          </a:xfrm>
        </p:grpSpPr>
        <p:pic>
          <p:nvPicPr>
            <p:cNvPr id="343" name="AutoShape 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5559480" y="3943440"/>
              <a:ext cx="1427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638680" y="4038480"/>
              <a:ext cx="129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entury Gothic"/>
                  <a:ea typeface="幼圆"/>
                  <a:hlinkClick r:id="rId3" action="ppaction://hlinksldjump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5" name="Picture 7" descr="jumpdolp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342900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幼圆"/>
              </a:rPr>
              <a:t>Dolphins are not Fish , they are..</a:t>
            </a:r>
            <a:br>
              <a:rPr sz="3600"/>
            </a:br>
            <a:r>
              <a:rPr b="1" lang="en-US" sz="3600" spc="-1" strike="noStrike">
                <a:solidFill>
                  <a:srgbClr val="00b0f0"/>
                </a:solidFill>
                <a:latin typeface="Century Gothic"/>
                <a:ea typeface="幼圆"/>
              </a:rPr>
              <a:t>Mam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5" descr="home-dolphin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124080"/>
            <a:ext cx="3657600" cy="26989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482640" y="152280"/>
            <a:ext cx="49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  <a:ea typeface="幼圆"/>
              </a:rPr>
              <a:t>Yes, you are CORRECT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Rectangle 6"/>
          <p:cNvGrpSpPr/>
          <p:nvPr/>
        </p:nvGrpSpPr>
        <p:grpSpPr>
          <a:xfrm>
            <a:off x="2882880" y="4627440"/>
            <a:ext cx="1060560" cy="1041480"/>
            <a:chOff x="2882880" y="4627440"/>
            <a:chExt cx="1060560" cy="1041480"/>
          </a:xfrm>
        </p:grpSpPr>
        <p:pic>
          <p:nvPicPr>
            <p:cNvPr id="351" name="Rectangle 6" descr=""/>
            <p:cNvPicPr/>
            <p:nvPr/>
          </p:nvPicPr>
          <p:blipFill>
            <a:blip r:embed="rId3"/>
            <a:stretch/>
          </p:blipFill>
          <p:spPr>
            <a:xfrm>
              <a:off x="2882880" y="4627440"/>
              <a:ext cx="1060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71800" y="4724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d700"/>
                  </a:solidFill>
                  <a:uFillTx/>
                  <a:latin typeface="Century Gothic"/>
                  <a:hlinkClick r:id="rId4" action="ppaction://hlinksldjump"/>
                </a:rPr>
                <a:t>HOW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have live yo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feed their young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are warm-blood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5" descr="dolphin_and_baby"/>
          <p:cNvPicPr/>
          <p:nvPr/>
        </p:nvPicPr>
        <p:blipFill>
          <a:blip r:embed="rId2"/>
          <a:stretch/>
        </p:blipFill>
        <p:spPr>
          <a:xfrm>
            <a:off x="1600200" y="39625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175560" y="9907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Because…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371600" y="-42840"/>
            <a:ext cx="8229600" cy="1579680"/>
          </a:xfrm>
          <a:prstGeom prst="rect">
            <a:avLst/>
          </a:prstGeom>
          <a:ln w="0">
            <a:noFill/>
          </a:ln>
        </p:spPr>
      </p:pic>
      <p:sp>
        <p:nvSpPr>
          <p:cNvPr id="360" name="Cloud 4"/>
          <p:cNvSpPr/>
          <p:nvPr/>
        </p:nvSpPr>
        <p:spPr>
          <a:xfrm>
            <a:off x="152280" y="1905120"/>
            <a:ext cx="312444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breath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Cloud 5"/>
          <p:cNvSpPr/>
          <p:nvPr/>
        </p:nvSpPr>
        <p:spPr>
          <a:xfrm>
            <a:off x="5029200" y="18288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feed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Cloud 6"/>
          <p:cNvSpPr/>
          <p:nvPr/>
        </p:nvSpPr>
        <p:spPr>
          <a:xfrm>
            <a:off x="3429000" y="43434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3289320" y="30481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Нижний колонтитул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3398400" y="3049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oops!!! Wrong  answer, try agai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Rectangle 4"/>
          <p:cNvGrpSpPr/>
          <p:nvPr/>
        </p:nvGrpSpPr>
        <p:grpSpPr>
          <a:xfrm>
            <a:off x="3352680" y="2724120"/>
            <a:ext cx="2567160" cy="1042920"/>
            <a:chOff x="3352680" y="2724120"/>
            <a:chExt cx="2567160" cy="1042920"/>
          </a:xfrm>
        </p:grpSpPr>
        <p:pic>
          <p:nvPicPr>
            <p:cNvPr id="367" name="Rectangle 4" descr=""/>
            <p:cNvPicPr/>
            <p:nvPr/>
          </p:nvPicPr>
          <p:blipFill>
            <a:blip r:embed="rId1"/>
            <a:stretch/>
          </p:blipFill>
          <p:spPr>
            <a:xfrm>
              <a:off x="3352680" y="2724120"/>
              <a:ext cx="2567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29000" y="281952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entury Gothic"/>
                </a:rPr>
                <a:t>Go bac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19:11Z</dcterms:created>
  <dc:creator>Erin</dc:creator>
  <dc:description/>
  <dc:language>en-US</dc:language>
  <cp:lastModifiedBy>LEGION</cp:lastModifiedBy>
  <dcterms:modified xsi:type="dcterms:W3CDTF">2018-03-12T08:00:00Z</dcterms:modified>
  <cp:revision>21</cp:revision>
  <dc:subject/>
  <dc:title>PowerPoint Presentation</dc:title>
</cp:coreProperties>
</file>