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200C-8485-4A35-A7EE-84206E364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Eleph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n Endangered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help it them eat or take a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p tusks help it scare away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 can be used to fan itself to bring it’s temperatur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t’s ears help  it hear any danger co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ay hi by hitting their tusks together which helps them live in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ning itself with it’s big ears keeps the elephant cool on the hot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ing food up with it’s trunk and putting it in it’s mouth helps it reach food in difficult to ge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 their trunks to spray water on themselves to keep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warm blooded and that helps because they can adjust their body temperature so they are not to hot or to c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have massive bones, this allows them to have a maximum amount of support for their big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vessels in their ears are used as cooling systems because the weather is so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phants heartbeat goes 28 beats a minute while the Elephant is resting to help it survive it’s big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love water and are great swim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big feet help them from sinking into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walk on their tippy toes and they have a sack that supports their f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very 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unks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0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u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Toe N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n Elephants can live to be 8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Elephants can live to be 60 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endang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ian and African Elephants Habitat are Forests, Woodlands, Grassy Plains, Swamps, and Des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frican Elephants Climate is in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ot and dry and it rarely 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ian Elephants climate is also hot and d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forms near Elephants are Rivers, Grasslands, and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re hebav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ood is mostly leaves and bu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o Elephants eat 660 pounds of veggies a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nd Asian Elephants eat roots, grass, fruit, and ba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feed themselves by sucking up food in there trunks and putting it in ther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also love pea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phants stay in groups called “Herds” that helps them defend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cial behavior is that a male and female are very diffe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male spend there lives in a family of Daughters, Sisters, Mothers, A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group gets too big the older daughters will break off and form a new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es fight each other to determine who is the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cool they suck up water in their trunk and spray it on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territorial…they travel a lot to fin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bies are called “Calv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after the baby is born it st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birth the Elephant weighs about 200 pounds and stands 3 feet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3EF-E45B-4AD5-9900-228FD5BB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F11-4F1F-4096-BEBB-4FBBCC69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4E4-A1D0-4687-AAFF-858E2E37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567-3D30-4317-8BD2-1A0BE1BE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E5D8-FC46-4FDD-BCFF-058AC135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7AEF-8ECB-4B3E-A587-144B7D13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ECA9-0ACE-498F-B97F-68BBC06E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E940-8070-4E1C-86B2-4F2D4C09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472E-0446-4BDE-9BF6-FECECD8B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563D-2F86-4237-862D-8306B637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501D-4F13-49C5-B564-DAD1C2EB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369-62CB-4D06-B414-F4E58016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7024-61DB-4C4D-9680-E976BBED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AF10-E673-4479-BB94-88854E04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FEB4-E8B1-41CE-9077-C90FC636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C502-CB39-4717-8707-E109E8D6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3D69-A861-42E9-86D0-DA9F6CFB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1F83D-5B8A-4CC2-A471-70DCC012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A08C9-CC36-4FBD-A80D-34C257FA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69B94-E888-493E-9383-D451AE19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918F2-2CA1-448A-B1A8-28B19806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C8A5F-DC00-46AD-9871-8A3BC117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BC0-9C66-4F42-84B5-04E4F98A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ABCDA-899D-4408-ABDE-33E54F11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A8B83-D06E-4739-91BB-CAFA12D8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CAF78-3729-40C3-9D01-3B591598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1619-9283-43C6-AE01-993ABC05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EDDF4-D103-40DC-B20F-36F0627C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26C13-7363-42B1-8CBE-81A676C6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3FE09-288E-4DA5-8C86-3DB38EE4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62566-EE33-432F-88D5-F5C72D62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668E3-805F-4A27-8727-398E6AC3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2A07F-F06B-453F-B6E6-DC5B4215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63B-DBDD-4270-9EB7-14BCD024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C0258-93E6-4233-AA0B-7AA2AE14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7BC44-274F-4933-B960-55585245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8417A-2EAD-4516-B802-8F392EED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7E84D-BE43-46F0-96CD-5D5FC01E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1F276-B32B-4F75-88F3-094B41D6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A1FD4-B4F8-4D40-9885-C70BA7F0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F209B-9000-4134-8A78-D2A6A2AB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0F0CA-C3DB-4C7E-8635-AA84BF15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F28E2-0561-4676-9335-8F1C2382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C41-CE9F-44DD-8495-FD47D950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926-6D5B-4B94-BD24-2A70AA2E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A27-D135-4C6C-AAD8-5545C27A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598-94DE-4023-8B92-83617C19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EF1-D8FC-4BCF-B7AA-C17F07A1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5FB7-F4AF-4202-B048-98B8E8F2FD09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61EF-B9F5-41CD-8C16-EFDBB1D46A9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22EC-CA05-4641-8D51-12EB4CA4F300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AF11-94A1-446F-9DA7-9205C5BF4FE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AAD4-8C34-4387-A93A-CD83CD63E3C1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0D3B-A3C9-4439-B5DE-1F1D3DFB900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1388-BD70-4DA4-8B91-2C6051F080BF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E7A4-4781-4C3F-A58C-DED24C27F78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    </a:t>
            </a:r>
            <a:r>
              <a:rPr b="0" lang="en-US" sz="4400" spc="-1" strike="noStrike">
                <a:solidFill>
                  <a:srgbClr val="00ff00"/>
                </a:solidFill>
                <a:latin typeface="Gill Sans Ultra Bold"/>
              </a:rPr>
              <a:t>Introduction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04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Name Eleph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Constantia"/>
              </a:rPr>
              <a:t>It is an Endangered speci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00"/>
                </a:solidFill>
                <a:latin typeface="Calibri"/>
              </a:rPr>
              <a:t>       </a:t>
            </a:r>
            <a:r>
              <a:rPr b="0" lang="en-US" sz="5000" spc="-1" strike="noStrike">
                <a:solidFill>
                  <a:srgbClr val="00ff00"/>
                </a:solidFill>
                <a:latin typeface="Tekton Pro Ext"/>
              </a:rPr>
              <a:t>Physical Adapt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295280"/>
            <a:ext cx="5638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Long trunks help it them eat or take a ba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Sharp tusks help it scare away preda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Big ears can be used to fan itself to bring it’s temperature d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d9e8"/>
                </a:solidFill>
                <a:latin typeface="Constantia"/>
              </a:rPr>
              <a:t>Also it’s ears help  it hear any danger co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http://t1.gstatic.com/images?q=tbn:ANd9GcSnCvpAnYC8ANTUNdgk1y1O5AMfUSFaqgt2rwXHHP4cBKahtcfH0g&amp;t=1"/>
          <p:cNvPicPr/>
          <p:nvPr/>
        </p:nvPicPr>
        <p:blipFill>
          <a:blip r:embed="rId1"/>
          <a:stretch/>
        </p:blipFill>
        <p:spPr>
          <a:xfrm>
            <a:off x="2362320" y="3733920"/>
            <a:ext cx="3809880" cy="287964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en-US" sz="4500" spc="-1" strike="noStrike">
                <a:solidFill>
                  <a:srgbClr val="ffff00"/>
                </a:solidFill>
                <a:latin typeface="Calibri"/>
              </a:rPr>
              <a:t>Behavioral Adapta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0663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Elephants say hi by hitting their tusks together which helps them live in grou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Fanning itself with it’s big ears keeps the elephant cool on the hot day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Picking food up with it’s trunk and putting it in it’s mouth helps it reach food in difficult to get pla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fceff"/>
                </a:solidFill>
                <a:latin typeface="Constantia"/>
              </a:rPr>
              <a:t>They use their trunks to spray water on themselves to keep coo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ts2.mm.bing.net/images/thumbnail.aspx?q=966427084773&amp;id=a7f73abd01bcf63bde5ff66ea6a04992&amp;url=http%3a%2f%2fwww.flixya.com%2ffiles-photo%2fj%2fi%2fb%2fjibsanthony1954216.jpg"/>
          <p:cNvPicPr/>
          <p:nvPr/>
        </p:nvPicPr>
        <p:blipFill>
          <a:blip r:embed="rId1"/>
          <a:stretch/>
        </p:blipFill>
        <p:spPr>
          <a:xfrm>
            <a:off x="685800" y="3429000"/>
            <a:ext cx="2554200" cy="3225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www.elephants.com/tarra/photos/tarrabio2.jpg"/>
          <p:cNvPicPr/>
          <p:nvPr/>
        </p:nvPicPr>
        <p:blipFill>
          <a:blip r:embed="rId2"/>
          <a:stretch/>
        </p:blipFill>
        <p:spPr>
          <a:xfrm>
            <a:off x="4038480" y="3276720"/>
            <a:ext cx="4267440" cy="3328920"/>
          </a:xfrm>
          <a:prstGeom prst="rect">
            <a:avLst/>
          </a:prstGeom>
          <a:ln w="0">
            <a:noFill/>
          </a:ln>
        </p:spPr>
      </p:pic>
      <p:sp>
        <p:nvSpPr>
          <p:cNvPr id="244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0000ff"/>
                </a:solidFill>
                <a:latin typeface="Magneto"/>
              </a:rPr>
              <a:t>Physiological Adapt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are warm blooded and that helps because they can adjust their body temperature so they are not to hot or to cold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Elephants have massive bones, this allows them to have a maximum amount of support for their big weigh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The blood vessels in their ears are used as cooling systems because the weather is so ho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7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Constantia"/>
              </a:rPr>
              <a:t>An Elephants heartbeat goes 28 beats a minute while the Elephant is resting to help it survive it’s big body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http://afflictor.com/wp-content/uploads/2010/10/800px-Elephant_skeleton.jpg"/>
          <p:cNvPicPr/>
          <p:nvPr/>
        </p:nvPicPr>
        <p:blipFill>
          <a:blip r:embed="rId1"/>
          <a:stretch/>
        </p:blipFill>
        <p:spPr>
          <a:xfrm>
            <a:off x="5538960" y="4267080"/>
            <a:ext cx="3605040" cy="259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www.africansafarilady.com/Movies/movieimages/_MG_4275.jpg"/>
          <p:cNvPicPr/>
          <p:nvPr/>
        </p:nvPicPr>
        <p:blipFill>
          <a:blip r:embed="rId2"/>
          <a:stretch/>
        </p:blipFill>
        <p:spPr>
          <a:xfrm>
            <a:off x="762120" y="4440240"/>
            <a:ext cx="3619440" cy="241776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0" lang="en-US" sz="4500" spc="-1" strike="noStrike">
                <a:solidFill>
                  <a:srgbClr val="00b0f0"/>
                </a:solidFill>
                <a:latin typeface="Showcard Gothic"/>
              </a:rPr>
              <a:t>FUN Fact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love water and are great swimm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big feet help them from sinking into the grou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walk on their tippy toes and they have a sack that supports their foo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ephants are very sm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omic"/>
              </a:rPr>
              <a:t>        </a:t>
            </a:r>
            <a:r>
              <a:rPr b="0" lang="en-US" sz="4000" spc="-1" strike="noStrike">
                <a:solidFill>
                  <a:srgbClr val="00ff00"/>
                </a:solidFill>
                <a:latin typeface="comic"/>
              </a:rPr>
              <a:t>What They Look Lik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560" y="1142640"/>
            <a:ext cx="2514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ong Trunk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Ey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10,000 Pou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us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Little H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10d2"/>
                </a:solidFill>
                <a:latin typeface="Constantia"/>
              </a:rPr>
              <a:t>Big Toe Nai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Нижний колонтитул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5400" spc="-1" strike="noStrike">
                <a:solidFill>
                  <a:srgbClr val="00ff00"/>
                </a:solidFill>
                <a:latin typeface="Bauhaus 93"/>
              </a:rPr>
              <a:t>Lifespan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sian Elephants can live to be 8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African Elephants can live to be 60 years o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47dd"/>
                </a:solidFill>
                <a:latin typeface="Constantia"/>
              </a:rPr>
              <a:t>Elephants are endange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http://photography.nationalgeographic.com/staticfiles/NGS/Shared/StaticFiles/Photography/Images/POD/b/baby-elephant-504777-lw.jpg"/>
          <p:cNvPicPr/>
          <p:nvPr/>
        </p:nvPicPr>
        <p:blipFill>
          <a:blip r:embed="rId1"/>
          <a:stretch/>
        </p:blipFill>
        <p:spPr>
          <a:xfrm>
            <a:off x="457200" y="3429000"/>
            <a:ext cx="3759120" cy="2819520"/>
          </a:xfrm>
          <a:prstGeom prst="rect">
            <a:avLst/>
          </a:prstGeom>
          <a:ln w="0">
            <a:noFill/>
          </a:ln>
        </p:spPr>
      </p:pic>
      <p:sp>
        <p:nvSpPr>
          <p:cNvPr id="21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lang="en-US" sz="2900" spc="-1" strike="noStrike">
                <a:solidFill>
                  <a:srgbClr val="04617b"/>
                </a:solidFill>
                <a:latin typeface="Wide Latin"/>
              </a:rPr>
              <a:t> </a:t>
            </a:r>
            <a:r>
              <a:rPr b="0" lang="en-US" sz="5400" spc="-1" strike="noStrike">
                <a:solidFill>
                  <a:srgbClr val="00ff00"/>
                </a:solidFill>
                <a:latin typeface="Wide Latin"/>
              </a:rPr>
              <a:t>Habitat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Asian and African Elephants Habitat are Forests, Woodlands, Grassy Plains, Swamps, and Deser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http://upload.wikimedia.org/wikipedia/commons/4/4b/Mudumalai_forest_elephant.jpg"/>
          <p:cNvPicPr/>
          <p:nvPr/>
        </p:nvPicPr>
        <p:blipFill>
          <a:blip r:embed="rId1"/>
          <a:stretch/>
        </p:blipFill>
        <p:spPr>
          <a:xfrm>
            <a:off x="1752480" y="2209680"/>
            <a:ext cx="5740560" cy="4305600"/>
          </a:xfrm>
          <a:prstGeom prst="rect">
            <a:avLst/>
          </a:prstGeom>
          <a:ln w="0">
            <a:noFill/>
          </a:ln>
        </p:spPr>
      </p:pic>
      <p:sp>
        <p:nvSpPr>
          <p:cNvPr id="21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00ff00"/>
                </a:solidFill>
                <a:latin typeface="Goudy Stout"/>
              </a:rPr>
              <a:t>Clima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frican Elephants Climate is in the Desert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it is hot and dry and it rarely ra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c10d2"/>
                </a:solidFill>
                <a:latin typeface="Constantia"/>
              </a:rPr>
              <a:t>An Asian Elephants climate is also hot and dr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http://elephantivoryproject.org/wp-content/uploads/2010/10/RangeMap_elephant_550x400.jpg"/>
          <p:cNvPicPr/>
          <p:nvPr/>
        </p:nvPicPr>
        <p:blipFill>
          <a:blip r:embed="rId1"/>
          <a:stretch/>
        </p:blipFill>
        <p:spPr>
          <a:xfrm>
            <a:off x="4876920" y="3581280"/>
            <a:ext cx="4111560" cy="2990880"/>
          </a:xfrm>
          <a:prstGeom prst="rect">
            <a:avLst/>
          </a:prstGeom>
          <a:ln w="0">
            <a:noFill/>
          </a:ln>
        </p:spPr>
      </p:pic>
      <p:sp>
        <p:nvSpPr>
          <p:cNvPr id="219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en-US" sz="6600" spc="-1" strike="noStrike">
                <a:solidFill>
                  <a:srgbClr val="ff0000"/>
                </a:solidFill>
                <a:latin typeface="Mesquite Std"/>
              </a:rPr>
              <a:t>Landform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Constantia"/>
              </a:rPr>
              <a:t>The landforms near Elephants are Rivers, Grasslands, and Dese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http://www.thehoneymoonproject.com/wp-content/uploads/2010/01/elephant-2.jpg"/>
          <p:cNvPicPr/>
          <p:nvPr/>
        </p:nvPicPr>
        <p:blipFill>
          <a:blip r:embed="rId1"/>
          <a:stretch/>
        </p:blipFill>
        <p:spPr>
          <a:xfrm>
            <a:off x="2666880" y="25146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23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9aaf2"/>
                </a:solidFill>
                <a:latin typeface="Calibri"/>
              </a:rPr>
              <a:t>          </a:t>
            </a:r>
            <a:r>
              <a:rPr b="0" lang="en-US" sz="4800" spc="-1" strike="noStrike">
                <a:solidFill>
                  <a:srgbClr val="ff0000"/>
                </a:solidFill>
                <a:latin typeface="MV Boli"/>
                <a:ea typeface="MV Boli"/>
              </a:rPr>
              <a:t>What They Eat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990720"/>
            <a:ext cx="8686800" cy="27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re hebavo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ood is mostly leaves and bush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Zoo Elephants eat 660 pounds of veggies a d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African and Asian Elephants eat roots, grass, fruit, and bark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feed themselves by sucking up food in there trunks and putting it in there mou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nstantia"/>
              </a:rPr>
              <a:t>Elephants also love peanu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http://4.bp.blogspot.com/_TUmrEJJqV_Q/SdVjVZdnu8I/AAAAAAAALOA/a5cBgdzwl28/s400/Mother+Elephant+Eating+Grass.jpg"/>
          <p:cNvPicPr/>
          <p:nvPr/>
        </p:nvPicPr>
        <p:blipFill>
          <a:blip r:embed="rId1"/>
          <a:stretch/>
        </p:blipFill>
        <p:spPr>
          <a:xfrm>
            <a:off x="4876920" y="2895480"/>
            <a:ext cx="3581280" cy="32148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0" lang="en-US" sz="5000" spc="-1" strike="noStrike">
                <a:solidFill>
                  <a:srgbClr val="00b0f0"/>
                </a:solidFill>
                <a:latin typeface="Snap ITC"/>
              </a:rPr>
              <a:t>Behavi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160" y="1218960"/>
            <a:ext cx="7467480" cy="28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Elephants stay in groups called “Herds” that helps them defend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social behavior is that a male and female are very differen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female spend there lives in a family of Daughters, Sisters, Mothers, Aunt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When the group gets too big the older daughters will break off and form a new grou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 males fight each other to determine who is the lead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o keep cool they suck up water in their trunk and spray it on themselv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nstantia"/>
              </a:rPr>
              <a:t>They are not territorial…they travel a lot to find foo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http://www.africaguide.com/photolibrary/images/uploads/30/stand_1222870036.jpg"/>
          <p:cNvPicPr/>
          <p:nvPr/>
        </p:nvPicPr>
        <p:blipFill>
          <a:blip r:embed="rId1"/>
          <a:stretch/>
        </p:blipFill>
        <p:spPr>
          <a:xfrm>
            <a:off x="4800600" y="4038480"/>
            <a:ext cx="3451320" cy="24386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19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         </a:t>
            </a:r>
            <a:r>
              <a:rPr b="0" lang="en-US" sz="6000" spc="-1" strike="noStrike">
                <a:solidFill>
                  <a:srgbClr val="0000ff"/>
                </a:solidFill>
                <a:latin typeface="Matura MT Script Capitals"/>
              </a:rPr>
              <a:t>Babie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The babies are called “Calve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15 minutes after the baby is born it st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At birth the Elephant weighs about 200 pounds and stands 3 feet t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http://bilia.files.wordpress.com/2009/08/baby-elephant-2.jpg"/>
          <p:cNvPicPr/>
          <p:nvPr/>
        </p:nvPicPr>
        <p:blipFill>
          <a:blip r:embed="rId1"/>
          <a:stretch/>
        </p:blipFill>
        <p:spPr>
          <a:xfrm>
            <a:off x="0" y="3733920"/>
            <a:ext cx="3619440" cy="2412720"/>
          </a:xfrm>
          <a:prstGeom prst="rect">
            <a:avLst/>
          </a:prstGeom>
          <a:ln w="0">
            <a:noFill/>
          </a:ln>
        </p:spPr>
      </p:pic>
      <p:sp>
        <p:nvSpPr>
          <p:cNvPr id="235" name="Нижний колонтитул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15:56:08Z</dcterms:created>
  <dc:creator>coupe</dc:creator>
  <dc:description/>
  <dc:language>en-US</dc:language>
  <cp:lastModifiedBy>LEGION</cp:lastModifiedBy>
  <dcterms:modified xsi:type="dcterms:W3CDTF">2018-03-12T08:00:55Z</dcterms:modified>
  <cp:revision>109</cp:revision>
  <dc:subject/>
  <dc:title>Neil Armstrong</dc:title>
</cp:coreProperties>
</file>