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5FC1-FE11-47BC-B532-44B9D5246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Eleph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n Endangered spec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Eleph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n Endangered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cal Adapt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trunks help it them eat or take a b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rp tusks help it scare away pred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ears can be used to fan itself to bring it’s temperature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it’s ears help  it hear any danger com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Adapt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trunks help it them eat or take a b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p tusks help it scare away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ears can be used to fan itself to bring it’s temperature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it’s ears help  it hear any danger co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avioral Adap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say hi by hitting their tusks together which helps them live in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nning itself with it’s big ears keeps the elephant cool on the hot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king food up with it’s trunk and putting it in it’s mouth helps it reach food in difficult to get pl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use their trunks to spray water on themselves to keep c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al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say hi by hitting their tusks together which helps them live in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nning itself with it’s big ears keeps the elephant cool on the hot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king food up with it’s trunk and putting it in it’s mouth helps it reach food in difficult to get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use their trunks to spray water on themselves to keep c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ological Adap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are warm blooded and that helps because they can adjust their body temperature so they are not to hot or to c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have massive bones, this allows them to have a maximum amount of support for their big we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lood vessels in their ears are used as cooling systems because the weather is so h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lephants heartbeat goes 28 beats a minute while the Elephant is resting to help it survive it’s big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ological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are warm blooded and that helps because they can adjust their body temperature so they are not to hot or to c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have massive bones, this allows them to have a maximum amount of support for their big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od vessels in their ears are used as cooling systems because the weather is so h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phants heartbeat goes 28 beats a minute while the Elephant is resting to help it survive it’s big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love water and are great swim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big feet help them from sinking into the 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walk on their tippy toes and they have a sack that supports their foo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are very sm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love water and are great swim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big feet help them from sinking into the 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walk on their tippy toes and they have a sack that supports their fo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are very s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Look 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Trunks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E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,000 P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Tus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ttle 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Toe Na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y Look 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Trunks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E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,000 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Tu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Toe N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esp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ian Elephants can live to be 80 years 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rican Elephants can live to be 60 years 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are endanger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s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ian Elephants can live to be 80 years 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Elephants can live to be 60 years 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are endang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sian and African Elephants Habitat are Forests, Woodlands, Grassy Plains, Swamps, and Dese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sian and African Elephants Habitat are Forests, Woodlands, Grassy Plains, Swamps, and Dese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frican Elephants Climate is in the Desert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hot and dry and it rarely 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sian Elephants climate is also hot and d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frican Elephants Climate is in the Deser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hot and dry and it rarely 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sian Elephants climate is also hot and d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ndf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ndforms near Elephants are Rivers, Grasslands, and Dese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forms near Elephants are Rivers, Grasslands, and 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are hebavo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food is mostly leaves and bus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oo Elephants eat 660 pounds of veggies a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rican and Asian Elephants eat roots, grass, fruit, and bar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feed themselves by sucking up food in there trunks and putting it in there mou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also love peanu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y 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are hebav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food is mostly leaves and bus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oo Elephants eat 660 pounds of veggies a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and Asian Elephants eat roots, grass, fruit, and ba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feed themselves by sucking up food in there trunks and putting it in there 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also love pean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av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stay in groups called “Herds” that helps them defend themsel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cial behavior is that a male and female are very differ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emale spend there lives in a family of Daughters, Sisters, Mothers, Au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group gets too big the older daughters will break off and form a new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les fight each other to determine who is the l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keep cool they suck up water in their trunk and spray it on themsel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not territorial…they travel a lot to find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stay in groups called “Herds” that helps them defend themse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cial behavior is that a male and female are very diffe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male spend there lives in a family of Daughters, Sisters, Mothers, A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group gets too big the older daughters will break off and form a new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les fight each other to determine who is the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cool they suck up water in their trunk and spray it on themse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not territorial…they travel a lot to find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b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bies are called “Calve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minutes after the baby is born it st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birth the Elephant weighs about 200 pounds and stands 3 feet t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bies are called “Calv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minutes after the baby is born it st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birth the Elephant weighs about 200 pounds and stands 3 feet 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CEBE-11C6-434F-9E0D-F819B6736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2C14-B629-4ADA-B98B-2AF5E4D6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C5D0-113C-4C45-8F53-48E333E9D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BA7B-7C30-499B-A2A3-BC5633488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5234-27C9-4F09-B817-232CA0B4D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608E-6270-42BA-ADE1-50AB6A23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89BE6-393D-419A-9F54-4CC9E065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8369-D229-4981-9383-29CE77B2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3C31-E699-44FC-A871-26B4E5EC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8350-2B79-48A1-A132-B39912AA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F4F1-312F-4A06-8F79-F700E6CE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E3BB-5CB5-4454-82F3-6E90767F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E950-903B-4176-9292-934F94FD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2C51-D247-49B5-89D2-4E30C392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6789-E94A-4E85-BF5B-2328F66F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4EEDF-3C53-4FCE-9429-334500284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F537-3671-469A-BAF4-CC4176643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44F67-8C01-48FC-B04F-A8AD4B441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739EE-1417-42D4-875F-30739F7C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3CFE0-43E6-4B98-82F6-859A97EB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313D7-FA1C-4333-85C7-D7B77A23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A8005-8FCE-4F14-85C3-DCB8D203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7CB2-3030-4F98-B92F-829F327A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1FCDD-35DF-4F1B-AF7D-CCBEA841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F616F-1CE0-480C-8CC9-EB41CBC0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3FE31-E73B-44D6-8D5C-3FF196A2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1584E-C8A7-4914-B7AD-0C9C37EA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4901D-FE63-4B19-8ECF-879B25A4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D4E0F-30A5-4757-A485-C22F1B530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5127C-D86B-42A7-8A2E-C51AD8475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E30CD-6E19-4F32-9D2B-9E67A7BB0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3AD3B-F2BC-4334-86C4-A4F9169B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B04BA-BC68-4583-90C4-F9D8BC2D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C83E-7D60-4645-B888-2744161D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2BBA9-BE14-47FB-B1B5-AC04D34B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6998B-37C2-433A-B16E-9DB688E6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737A5-04E7-44BD-8F79-593C17AC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C4165-6EBD-4F2F-B267-275FAE09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2BA82-996D-4C07-8D01-546A522C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4824B-9B05-4CD4-B81A-5BA7C9ED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CA3A8-D1E3-4E75-809C-81C185C7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03DF9-87B0-4ED4-A0FA-A25A81112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13E4E-0082-4F7F-9ADC-E2EC24645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1796-4016-4FFD-94C7-143A0088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5E0D-38BB-4C55-9CEB-9934ED16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C462-2A99-459B-AD5C-EF0E1DCC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A4C6-D510-4891-9348-8F0223B4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53BC-3C97-4388-BAF6-54100F48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7B9C-1A06-4743-B230-EC37F0EAD00B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B45D-B557-4381-BF77-18589318FDE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AB5D-EBAC-443A-B8D1-95ACD6196765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1B00-C914-4BDB-8F11-1172083EA00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B415-ED61-4F56-AB56-5C8DB7635A53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7748-4A2A-4D66-B9B8-46BA4AEAFB5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2F4C7-8E6C-42E2-8D92-0E56BFD03491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EF79-D5A2-48F9-B7B5-D3873620AC3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ff00"/>
                </a:solidFill>
                <a:latin typeface="Calibri"/>
              </a:rPr>
              <a:t>           </a:t>
            </a:r>
            <a:r>
              <a:rPr b="0" lang="en-US" sz="4400" spc="-1" strike="noStrike">
                <a:solidFill>
                  <a:srgbClr val="00ff00"/>
                </a:solidFill>
                <a:latin typeface="Gill Sans Ultra Bold"/>
              </a:rPr>
              <a:t>Introduction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047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92d050"/>
                </a:solidFill>
                <a:latin typeface="Constantia"/>
              </a:rPr>
              <a:t>Name Elepha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onstantia"/>
              </a:rPr>
              <a:t>It is an Endangered specie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9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ff00"/>
                </a:solidFill>
                <a:latin typeface="Calibri"/>
              </a:rPr>
              <a:t>       </a:t>
            </a:r>
            <a:r>
              <a:rPr b="0" lang="en-US" sz="5000" spc="-1" strike="noStrike">
                <a:solidFill>
                  <a:srgbClr val="00ff00"/>
                </a:solidFill>
                <a:latin typeface="Tekton Pro Ext"/>
              </a:rPr>
              <a:t>Physical Adaptation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6840" y="1295280"/>
            <a:ext cx="56386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d9e8"/>
                </a:solidFill>
                <a:latin typeface="Constantia"/>
              </a:rPr>
              <a:t>Long trunks help it them eat or take a bat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d9e8"/>
                </a:solidFill>
                <a:latin typeface="Constantia"/>
              </a:rPr>
              <a:t>Sharp tusks help it scare away predato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d9e8"/>
                </a:solidFill>
                <a:latin typeface="Constantia"/>
              </a:rPr>
              <a:t>Big ears can be used to fan itself to bring it’s temperature dow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d9e8"/>
                </a:solidFill>
                <a:latin typeface="Constantia"/>
              </a:rPr>
              <a:t>Also it’s ears help  it hear any danger com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Picture 2" descr="http://t1.gstatic.com/images?q=tbn:ANd9GcSnCvpAnYC8ANTUNdgk1y1O5AMfUSFaqgt2rwXHHP4cBKahtcfH0g&amp;t=1"/>
          <p:cNvPicPr/>
          <p:nvPr/>
        </p:nvPicPr>
        <p:blipFill>
          <a:blip r:embed="rId1"/>
          <a:stretch/>
        </p:blipFill>
        <p:spPr>
          <a:xfrm>
            <a:off x="2362320" y="3733920"/>
            <a:ext cx="3809880" cy="2879640"/>
          </a:xfrm>
          <a:prstGeom prst="rect">
            <a:avLst/>
          </a:prstGeom>
          <a:ln w="0">
            <a:noFill/>
          </a:ln>
        </p:spPr>
      </p:pic>
      <p:sp>
        <p:nvSpPr>
          <p:cNvPr id="239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19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0" lang="en-US" sz="4500" spc="-1" strike="noStrike">
                <a:solidFill>
                  <a:srgbClr val="ffff00"/>
                </a:solidFill>
                <a:latin typeface="Calibri"/>
              </a:rPr>
              <a:t>Behavioral Adaptation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33520" y="1066320"/>
            <a:ext cx="81532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fceff"/>
                </a:solidFill>
                <a:latin typeface="Constantia"/>
              </a:rPr>
              <a:t>Elephants say hi by hitting their tusks together which helps them live in group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fceff"/>
                </a:solidFill>
                <a:latin typeface="Constantia"/>
              </a:rPr>
              <a:t>Fanning itself with it’s big ears keeps the elephant cool on the hot day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fceff"/>
                </a:solidFill>
                <a:latin typeface="Constantia"/>
              </a:rPr>
              <a:t>Picking food up with it’s trunk and putting it in it’s mouth helps it reach food in difficult to get plac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fceff"/>
                </a:solidFill>
                <a:latin typeface="Constantia"/>
              </a:rPr>
              <a:t>They use their trunks to spray water on themselves to keep coo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2" name="Picture 2" descr="http://ts2.mm.bing.net/images/thumbnail.aspx?q=966427084773&amp;id=a7f73abd01bcf63bde5ff66ea6a04992&amp;url=http%3a%2f%2fwww.flixya.com%2ffiles-photo%2fj%2fi%2fb%2fjibsanthony1954216.jpg"/>
          <p:cNvPicPr/>
          <p:nvPr/>
        </p:nvPicPr>
        <p:blipFill>
          <a:blip r:embed="rId1"/>
          <a:stretch/>
        </p:blipFill>
        <p:spPr>
          <a:xfrm>
            <a:off x="685800" y="3429000"/>
            <a:ext cx="2554200" cy="3225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http://www.elephants.com/tarra/photos/tarrabio2.jpg"/>
          <p:cNvPicPr/>
          <p:nvPr/>
        </p:nvPicPr>
        <p:blipFill>
          <a:blip r:embed="rId2"/>
          <a:stretch/>
        </p:blipFill>
        <p:spPr>
          <a:xfrm>
            <a:off x="4038480" y="3276720"/>
            <a:ext cx="4267440" cy="3328920"/>
          </a:xfrm>
          <a:prstGeom prst="rect">
            <a:avLst/>
          </a:prstGeom>
          <a:ln w="0">
            <a:noFill/>
          </a:ln>
        </p:spPr>
      </p:pic>
      <p:sp>
        <p:nvSpPr>
          <p:cNvPr id="244" name="Нижний колонтитул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19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     </a:t>
            </a:r>
            <a:r>
              <a:rPr b="0" lang="en-US" sz="4000" spc="-1" strike="noStrike">
                <a:solidFill>
                  <a:srgbClr val="0000ff"/>
                </a:solidFill>
                <a:latin typeface="Magneto"/>
              </a:rPr>
              <a:t>Physiological Adaptation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1143000"/>
            <a:ext cx="8686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Constantia"/>
              </a:rPr>
              <a:t>Elephants are warm blooded and that helps because they can adjust their body temperature so they are not to hot or to cold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7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Constantia"/>
              </a:rPr>
              <a:t>Elephants have massive bones, this allows them to have a maximum amount of support for their big weight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7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Constantia"/>
              </a:rPr>
              <a:t>The blood vessels in their ears are used as cooling systems because the weather is so hot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7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Constantia"/>
              </a:rPr>
              <a:t>An Elephants heartbeat goes 28 beats a minute while the Elephant is resting to help it survive it’s big body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2" descr="http://afflictor.com/wp-content/uploads/2010/10/800px-Elephant_skeleton.jpg"/>
          <p:cNvPicPr/>
          <p:nvPr/>
        </p:nvPicPr>
        <p:blipFill>
          <a:blip r:embed="rId1"/>
          <a:stretch/>
        </p:blipFill>
        <p:spPr>
          <a:xfrm>
            <a:off x="5538960" y="4267080"/>
            <a:ext cx="3605040" cy="25909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http://www.africansafarilady.com/Movies/movieimages/_MG_4275.jpg"/>
          <p:cNvPicPr/>
          <p:nvPr/>
        </p:nvPicPr>
        <p:blipFill>
          <a:blip r:embed="rId2"/>
          <a:stretch/>
        </p:blipFill>
        <p:spPr>
          <a:xfrm>
            <a:off x="762120" y="4440240"/>
            <a:ext cx="3619440" cy="2417760"/>
          </a:xfrm>
          <a:prstGeom prst="rect">
            <a:avLst/>
          </a:prstGeom>
          <a:ln w="0">
            <a:noFill/>
          </a:ln>
        </p:spPr>
      </p:pic>
      <p:sp>
        <p:nvSpPr>
          <p:cNvPr id="249" name="Нижний колонтитул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19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b0f0"/>
                </a:solidFill>
                <a:latin typeface="Calibri"/>
              </a:rPr>
              <a:t>     </a:t>
            </a:r>
            <a:r>
              <a:rPr b="0" lang="en-US" sz="4500" spc="-1" strike="noStrike">
                <a:solidFill>
                  <a:srgbClr val="00b0f0"/>
                </a:solidFill>
                <a:latin typeface="Showcard Gothic"/>
              </a:rPr>
              <a:t>FUN Fact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29492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lephants love water and are great swimm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re big feet help them from sinking into the groun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lephants walk on their tippy toes and they have a sack that supports their foot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lephants are very sma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omic"/>
              </a:rPr>
              <a:t>        </a:t>
            </a:r>
            <a:r>
              <a:rPr b="0" lang="en-US" sz="4000" spc="-1" strike="noStrike">
                <a:solidFill>
                  <a:srgbClr val="00ff00"/>
                </a:solidFill>
                <a:latin typeface="comic"/>
              </a:rPr>
              <a:t>What They Look Lik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560" y="1142640"/>
            <a:ext cx="2514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Long Trunk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Big Ea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Fat Bod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Big Ey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10,000 Poun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Big Tusk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Little Hai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Big Toe Nai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              </a:t>
            </a:r>
            <a:r>
              <a:rPr b="0" lang="en-US" sz="5400" spc="-1" strike="noStrike">
                <a:solidFill>
                  <a:srgbClr val="00ff00"/>
                </a:solidFill>
                <a:latin typeface="Bauhaus 93"/>
              </a:rPr>
              <a:t>Lifespan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6840" y="16002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47dd"/>
                </a:solidFill>
                <a:latin typeface="Constantia"/>
              </a:rPr>
              <a:t>Asian Elephants can live to be 80 years ol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47dd"/>
                </a:solidFill>
                <a:latin typeface="Constantia"/>
              </a:rPr>
              <a:t>African Elephants can live to be 60 years ol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47dd"/>
                </a:solidFill>
                <a:latin typeface="Constantia"/>
              </a:rPr>
              <a:t>Elephants are endanger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http://photography.nationalgeographic.com/staticfiles/NGS/Shared/StaticFiles/Photography/Images/POD/b/baby-elephant-504777-lw.jpg"/>
          <p:cNvPicPr/>
          <p:nvPr/>
        </p:nvPicPr>
        <p:blipFill>
          <a:blip r:embed="rId1"/>
          <a:stretch/>
        </p:blipFill>
        <p:spPr>
          <a:xfrm>
            <a:off x="457200" y="3429000"/>
            <a:ext cx="3759120" cy="2819520"/>
          </a:xfrm>
          <a:prstGeom prst="rect">
            <a:avLst/>
          </a:prstGeom>
          <a:ln w="0">
            <a:noFill/>
          </a:ln>
        </p:spPr>
      </p:pic>
      <p:sp>
        <p:nvSpPr>
          <p:cNvPr id="211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f7f7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        </a:t>
            </a:r>
            <a:r>
              <a:rPr b="0" lang="en-US" sz="2900" spc="-1" strike="noStrike">
                <a:solidFill>
                  <a:srgbClr val="04617b"/>
                </a:solidFill>
                <a:latin typeface="Wide Latin"/>
              </a:rPr>
              <a:t> </a:t>
            </a:r>
            <a:r>
              <a:rPr b="0" lang="en-US" sz="5400" spc="-1" strike="noStrike">
                <a:solidFill>
                  <a:srgbClr val="00ff00"/>
                </a:solidFill>
                <a:latin typeface="Wide Latin"/>
              </a:rPr>
              <a:t>Habitat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371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Asian and African Elephants Habitat are Forests, Woodlands, Grassy Plains, Swamps, and Deser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2" descr="http://upload.wikimedia.org/wikipedia/commons/4/4b/Mudumalai_forest_elephant.jpg"/>
          <p:cNvPicPr/>
          <p:nvPr/>
        </p:nvPicPr>
        <p:blipFill>
          <a:blip r:embed="rId1"/>
          <a:stretch/>
        </p:blipFill>
        <p:spPr>
          <a:xfrm>
            <a:off x="1752480" y="2209680"/>
            <a:ext cx="5740560" cy="4305600"/>
          </a:xfrm>
          <a:prstGeom prst="rect">
            <a:avLst/>
          </a:prstGeom>
          <a:ln w="0">
            <a:noFill/>
          </a:ln>
        </p:spPr>
      </p:pic>
      <p:sp>
        <p:nvSpPr>
          <p:cNvPr id="215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       </a:t>
            </a:r>
            <a:r>
              <a:rPr b="0" lang="en-US" sz="5000" spc="-1" strike="noStrike">
                <a:solidFill>
                  <a:srgbClr val="00ff00"/>
                </a:solidFill>
                <a:latin typeface="Goudy Stout"/>
              </a:rPr>
              <a:t>Climat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c10d2"/>
                </a:solidFill>
                <a:latin typeface="Constantia"/>
              </a:rPr>
              <a:t>An African Elephants Climate is in the Desert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c10d2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dc10d2"/>
                </a:solidFill>
                <a:latin typeface="Constantia"/>
              </a:rPr>
              <a:t>it is hot and dry and it rarely ra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c10d2"/>
                </a:solidFill>
                <a:latin typeface="Constantia"/>
              </a:rPr>
              <a:t>An Asian Elephants climate is also hot and dr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2" descr="http://elephantivoryproject.org/wp-content/uploads/2010/10/RangeMap_elephant_550x400.jpg"/>
          <p:cNvPicPr/>
          <p:nvPr/>
        </p:nvPicPr>
        <p:blipFill>
          <a:blip r:embed="rId1"/>
          <a:stretch/>
        </p:blipFill>
        <p:spPr>
          <a:xfrm>
            <a:off x="4876920" y="3581280"/>
            <a:ext cx="4111560" cy="2990880"/>
          </a:xfrm>
          <a:prstGeom prst="rect">
            <a:avLst/>
          </a:prstGeom>
          <a:ln w="0">
            <a:noFill/>
          </a:ln>
        </p:spPr>
      </p:pic>
      <p:sp>
        <p:nvSpPr>
          <p:cNvPr id="219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            </a:t>
            </a:r>
            <a:r>
              <a:rPr b="0" lang="en-US" sz="6600" spc="-1" strike="noStrike">
                <a:solidFill>
                  <a:srgbClr val="ff0000"/>
                </a:solidFill>
                <a:latin typeface="Mesquite Std"/>
              </a:rPr>
              <a:t>Landforms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Constantia"/>
              </a:rPr>
              <a:t>The landforms near Elephants are Rivers, Grasslands, and Deser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2" descr="http://www.thehoneymoonproject.com/wp-content/uploads/2010/01/elephant-2.jpg"/>
          <p:cNvPicPr/>
          <p:nvPr/>
        </p:nvPicPr>
        <p:blipFill>
          <a:blip r:embed="rId1"/>
          <a:stretch/>
        </p:blipFill>
        <p:spPr>
          <a:xfrm>
            <a:off x="2666880" y="2514600"/>
            <a:ext cx="6096240" cy="4067280"/>
          </a:xfrm>
          <a:prstGeom prst="rect">
            <a:avLst/>
          </a:prstGeom>
          <a:ln w="0">
            <a:noFill/>
          </a:ln>
        </p:spPr>
      </p:pic>
      <p:sp>
        <p:nvSpPr>
          <p:cNvPr id="223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9aaf2"/>
                </a:solidFill>
                <a:latin typeface="Calibri"/>
              </a:rPr>
              <a:t>          </a:t>
            </a:r>
            <a:r>
              <a:rPr b="0" lang="en-US" sz="4800" spc="-1" strike="noStrike">
                <a:solidFill>
                  <a:srgbClr val="ff0000"/>
                </a:solidFill>
                <a:latin typeface="MV Boli"/>
                <a:ea typeface="MV Boli"/>
              </a:rPr>
              <a:t>What They Eat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990720"/>
            <a:ext cx="8686800" cy="27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Elephants are hebavo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Elephants food is mostly leaves and bush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Zoo Elephants eat 660 pounds of veggies a da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African and Asian Elephants eat roots, grass, fruit, and bark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Elephants feed themselves by sucking up food in there trunks and putting it in there mout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Elephants also love peanu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2" descr="http://4.bp.blogspot.com/_TUmrEJJqV_Q/SdVjVZdnu8I/AAAAAAAALOA/a5cBgdzwl28/s400/Mother+Elephant+Eating+Grass.jpg"/>
          <p:cNvPicPr/>
          <p:nvPr/>
        </p:nvPicPr>
        <p:blipFill>
          <a:blip r:embed="rId1"/>
          <a:stretch/>
        </p:blipFill>
        <p:spPr>
          <a:xfrm>
            <a:off x="4876920" y="2895480"/>
            <a:ext cx="3581280" cy="3214800"/>
          </a:xfrm>
          <a:prstGeom prst="rect">
            <a:avLst/>
          </a:prstGeom>
          <a:ln w="0">
            <a:noFill/>
          </a:ln>
        </p:spPr>
      </p:pic>
      <p:sp>
        <p:nvSpPr>
          <p:cNvPr id="227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          </a:t>
            </a:r>
            <a:r>
              <a:rPr b="0" lang="en-US" sz="5000" spc="-1" strike="noStrike">
                <a:solidFill>
                  <a:srgbClr val="00b0f0"/>
                </a:solidFill>
                <a:latin typeface="Snap ITC"/>
              </a:rPr>
              <a:t>Behavi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160" y="1218960"/>
            <a:ext cx="7467480" cy="28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Elephants stay in groups called “Herds” that helps them defend themselv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The social behavior is that a male and female are very different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The female spend there lives in a family of Daughters, Sisters, Mothers, Aunt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When the group gets too big the older daughters will break off and form a new grou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The males fight each other to determine who is the lead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To keep cool they suck up water in their trunk and spray it on themselv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They are not territorial…they travel a lot to find foo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2" descr="http://www.africaguide.com/photolibrary/images/uploads/30/stand_1222870036.jpg"/>
          <p:cNvPicPr/>
          <p:nvPr/>
        </p:nvPicPr>
        <p:blipFill>
          <a:blip r:embed="rId1"/>
          <a:stretch/>
        </p:blipFill>
        <p:spPr>
          <a:xfrm>
            <a:off x="4800600" y="4038480"/>
            <a:ext cx="3451320" cy="2438640"/>
          </a:xfrm>
          <a:prstGeom prst="rect">
            <a:avLst/>
          </a:prstGeom>
          <a:ln w="0">
            <a:noFill/>
          </a:ln>
        </p:spPr>
      </p:pic>
      <p:sp>
        <p:nvSpPr>
          <p:cNvPr id="231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19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Matura MT Script Capitals"/>
              </a:rPr>
              <a:t>         </a:t>
            </a:r>
            <a:r>
              <a:rPr b="0" lang="en-US" sz="6000" spc="-1" strike="noStrike">
                <a:solidFill>
                  <a:srgbClr val="0000ff"/>
                </a:solidFill>
                <a:latin typeface="Matura MT Script Capitals"/>
              </a:rPr>
              <a:t>Babie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294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ff"/>
                </a:solidFill>
                <a:latin typeface="Constantia"/>
              </a:rPr>
              <a:t>The babies are called “Calves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ff"/>
                </a:solidFill>
                <a:latin typeface="Constantia"/>
              </a:rPr>
              <a:t>15 minutes after the baby is born it stan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ff"/>
                </a:solidFill>
                <a:latin typeface="Constantia"/>
              </a:rPr>
              <a:t>At birth the Elephant weighs about 200 pounds and stands 3 feet ta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4" name="Picture 2" descr="http://bilia.files.wordpress.com/2009/08/baby-elephant-2.jpg"/>
          <p:cNvPicPr/>
          <p:nvPr/>
        </p:nvPicPr>
        <p:blipFill>
          <a:blip r:embed="rId1"/>
          <a:stretch/>
        </p:blipFill>
        <p:spPr>
          <a:xfrm>
            <a:off x="0" y="3733920"/>
            <a:ext cx="3619440" cy="2412720"/>
          </a:xfrm>
          <a:prstGeom prst="rect">
            <a:avLst/>
          </a:prstGeom>
          <a:ln w="0">
            <a:noFill/>
          </a:ln>
        </p:spPr>
      </p:pic>
      <p:sp>
        <p:nvSpPr>
          <p:cNvPr id="235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15:56:08Z</dcterms:created>
  <dc:creator>coupe</dc:creator>
  <dc:description/>
  <dc:language>en-US</dc:language>
  <cp:lastModifiedBy>LEGION</cp:lastModifiedBy>
  <dcterms:modified xsi:type="dcterms:W3CDTF">2018-03-12T08:00:55Z</dcterms:modified>
  <cp:revision>109</cp:revision>
  <dc:subject/>
  <dc:title>Neil Armstrong</dc:title>
</cp:coreProperties>
</file>