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FC18-5B5D-4D7B-883A-5D9676A8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ADA-E2D5-40CB-A2F7-2CFD6A4F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670-B47B-453E-965A-230E7932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E1B-7FFF-4D6F-8C9E-59FDB1D0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232-339B-490E-98B9-7F83C3E9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12C1-1564-4AAF-8D0B-578FEB1F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CF82-733F-4F77-9567-6F8932DE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7A1B-192D-4F1D-B4E9-F4BB71D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9CAA-D3E4-446D-BA7D-3A9F04CD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02FA-5C9C-41C7-91A2-39EB7767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4A37-1FBB-44F9-B81E-DD034E43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AF02-5F47-49A7-A689-433E4201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200-178D-44A3-BE4A-21F574B4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4CDA-85D3-430D-9B13-047A67F2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76C3-AF89-4A7E-B72D-90EB0E9B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A5BC-D5E8-45BE-BB46-2C6AEBCC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1B93-3DC2-4037-9EC0-BA057427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D8E9-65B1-40C7-841D-2945D330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3007-E473-456E-8406-620D9856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0FF8-0E6B-440F-8BDC-44AE3070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886D-8C3A-4D1E-86F3-EBAE62F5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3B00-4A9C-4160-BCB0-516494D5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A2F3-6013-4F3D-8C51-386A57B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126-58EB-4C69-B754-7372E425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B25D5-3398-4EF5-B65A-F4C8FDE6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493D-390D-4456-B7F5-46EBEE2C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3D5C-AF1F-4282-A003-B8AC9CE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1047-76E1-4297-B5B1-979916AC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F5C2-4884-4FE9-8F8A-E20D8973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0736-CEC7-4043-8F97-A116A160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2E40-184A-4801-A10C-CD43F090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1AB58-063F-4947-9A94-B9841A9F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B4FA-B443-4E99-8402-1517E9DC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2FE83-C740-4330-A323-0EE47E12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695-F89F-4CF6-8B45-10D3B292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B2550-9939-414B-8B4F-A9310E9E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70F1-6C59-4B68-A994-A826D6EF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C958-9BAD-422B-BFDE-F6B71C1F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0A7AA-BE0D-4936-9364-2F74F9E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42992-D751-4616-9020-B95FE278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A9E9-B255-4971-944D-F945CBC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32A1-A1B0-4237-8682-0E81055B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953D4-88C6-4823-8BCB-3CFAA78B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12FE-E549-4246-8087-CFA744DC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AFA-5254-442D-8453-CEB8FCFE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A66-2D0B-4F6A-923B-E7413AA2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D7D-8567-4A86-8522-C05CC4F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C4B-EF5F-4046-B1EB-AF79FD8D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C52-8657-4405-B4EC-93C5BC0D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139A-4BE2-4D38-9AE8-36B665BEDD39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91FF-F32F-4AAB-A75C-ADC5A5D6C2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37C7-5122-4D46-856D-6B910DF7A07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CF12-503F-4BCA-BD8C-B381F3CF537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A69E-7CFB-48AC-A13F-1EB9A04F7B4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54E1-4A6E-4897-9A11-F3EEA3EB89D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517D-2772-4DD8-99A0-116ABBDFA84E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119F-C377-4A1B-8697-EABCD4222BC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ff00"/>
                </a:solidFill>
                <a:latin typeface="Gill Sans Ultra Bold"/>
              </a:rPr>
              <a:t>Introduc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Name Eleph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It is an Endangered spec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</a:t>
            </a:r>
            <a:r>
              <a:rPr b="0" lang="en-US" sz="5000" spc="-1" strike="noStrike">
                <a:solidFill>
                  <a:srgbClr val="00ff00"/>
                </a:solidFill>
                <a:latin typeface="Tekton Pro Ext"/>
              </a:rPr>
              <a:t>Physical Adap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2952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Long trunks help it them eat or take a b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Sharp tusks help it scare away pred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Big ears can be used to fan itself to bring it’s temperature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Also it’s ears help  it hear any danger co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t1.gstatic.com/images?q=tbn:ANd9GcSnCvpAnYC8ANTUNdgk1y1O5AMfUSFaqgt2rwXHHP4cBKahtcfH0g&amp;t=1"/>
          <p:cNvPicPr/>
          <p:nvPr/>
        </p:nvPicPr>
        <p:blipFill>
          <a:blip r:embed="rId1"/>
          <a:stretch/>
        </p:blipFill>
        <p:spPr>
          <a:xfrm>
            <a:off x="2362320" y="3733920"/>
            <a:ext cx="38098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Behavioral Adap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0663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Elephants say hi by hitting their tusks together which helps them live in gro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Fanning itself with it’s big ears keeps the elephant cool on the hot day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Picking food up with it’s trunk and putting it in it’s mouth helps it reach food in difficult to get pla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They use their trunks to spray water on themselves to keep c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ts2.mm.bing.net/images/thumbnail.aspx?q=966427084773&amp;id=a7f73abd01bcf63bde5ff66ea6a04992&amp;url=http%3a%2f%2fwww.flixya.com%2ffiles-photo%2fj%2fi%2fb%2fjibsanthony1954216.jpg"/>
          <p:cNvPicPr/>
          <p:nvPr/>
        </p:nvPicPr>
        <p:blipFill>
          <a:blip r:embed="rId1"/>
          <a:stretch/>
        </p:blipFill>
        <p:spPr>
          <a:xfrm>
            <a:off x="685800" y="3429000"/>
            <a:ext cx="2554200" cy="32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www.elephants.com/tarra/photos/tarrabio2.jpg"/>
          <p:cNvPicPr/>
          <p:nvPr/>
        </p:nvPicPr>
        <p:blipFill>
          <a:blip r:embed="rId2"/>
          <a:stretch/>
        </p:blipFill>
        <p:spPr>
          <a:xfrm>
            <a:off x="4038480" y="3276720"/>
            <a:ext cx="4267440" cy="3328920"/>
          </a:xfrm>
          <a:prstGeom prst="rect">
            <a:avLst/>
          </a:prstGeom>
          <a:ln w="0">
            <a:noFill/>
          </a:ln>
        </p:spPr>
      </p:pic>
      <p:sp>
        <p:nvSpPr>
          <p:cNvPr id="244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Physiological Adapt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are warm blooded and that helps because they can adjust their body temperature so they are not to hot or to col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have massive bones, this allows them to have a maximum amount of support for their big weigh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The blood vessels in their ears are used as cooling systems because the weather is so ho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An Elephants heartbeat goes 28 beats a minute while the Elephant is resting to help it survive it’s big body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afflictor.com/wp-content/uploads/2010/10/800px-Elephant_skeleton.jpg"/>
          <p:cNvPicPr/>
          <p:nvPr/>
        </p:nvPicPr>
        <p:blipFill>
          <a:blip r:embed="rId1"/>
          <a:stretch/>
        </p:blipFill>
        <p:spPr>
          <a:xfrm>
            <a:off x="5538960" y="4267080"/>
            <a:ext cx="3605040" cy="259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africansafarilady.com/Movies/movieimages/_MG_4275.jpg"/>
          <p:cNvPicPr/>
          <p:nvPr/>
        </p:nvPicPr>
        <p:blipFill>
          <a:blip r:embed="rId2"/>
          <a:stretch/>
        </p:blipFill>
        <p:spPr>
          <a:xfrm>
            <a:off x="762120" y="4440240"/>
            <a:ext cx="3619440" cy="241776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en-US" sz="4500" spc="-1" strike="noStrike">
                <a:solidFill>
                  <a:srgbClr val="00b0f0"/>
                </a:solidFill>
                <a:latin typeface="Showcard Gothic"/>
              </a:rPr>
              <a:t>FUN Fa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love water and are great swi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big feet help them from sinking into the gr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walk on their tippy toes and they have a sack that supports their foo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are very sm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omic"/>
              </a:rPr>
              <a:t>        </a:t>
            </a:r>
            <a:r>
              <a:rPr b="0" lang="en-US" sz="4000" spc="-1" strike="noStrike">
                <a:solidFill>
                  <a:srgbClr val="00ff00"/>
                </a:solidFill>
                <a:latin typeface="comic"/>
              </a:rPr>
              <a:t>What They Look Lik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42640"/>
            <a:ext cx="2514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ong Trunk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y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10,000 Pou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u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ittle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oe 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5400" spc="-1" strike="noStrike">
                <a:solidFill>
                  <a:srgbClr val="00ff00"/>
                </a:solidFill>
                <a:latin typeface="Bauhaus 93"/>
              </a:rPr>
              <a:t>Lifespa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sian Elephants can live to be 8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frican Elephants can live to be 6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Elephants are endang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photography.nationalgeographic.com/staticfiles/NGS/Shared/StaticFiles/Photography/Images/POD/b/baby-elephant-504777-lw.jpg"/>
          <p:cNvPicPr/>
          <p:nvPr/>
        </p:nvPicPr>
        <p:blipFill>
          <a:blip r:embed="rId1"/>
          <a:stretch/>
        </p:blipFill>
        <p:spPr>
          <a:xfrm>
            <a:off x="457200" y="3429000"/>
            <a:ext cx="375912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2900" spc="-1" strike="noStrike">
                <a:solidFill>
                  <a:srgbClr val="04617b"/>
                </a:solidFill>
                <a:latin typeface="Wide Latin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Wide Latin"/>
              </a:rPr>
              <a:t>Habita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sian and African Elephants Habitat are Forests, Woodlands, Grassy Plains, Swamps, and Dese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upload.wikimedia.org/wikipedia/commons/4/4b/Mudumalai_forest_elephant.jpg"/>
          <p:cNvPicPr/>
          <p:nvPr/>
        </p:nvPicPr>
        <p:blipFill>
          <a:blip r:embed="rId1"/>
          <a:stretch/>
        </p:blipFill>
        <p:spPr>
          <a:xfrm>
            <a:off x="1752480" y="2209680"/>
            <a:ext cx="5740560" cy="430560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0ff00"/>
                </a:solidFill>
                <a:latin typeface="Goudy Stout"/>
              </a:rPr>
              <a:t>Clim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frican Elephants Climate is in the Dese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it is hot and dry and it rarely 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sian Elephants climate is also hot and d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elephantivoryproject.org/wp-content/uploads/2010/10/RangeMap_elephant_550x400.jpg"/>
          <p:cNvPicPr/>
          <p:nvPr/>
        </p:nvPicPr>
        <p:blipFill>
          <a:blip r:embed="rId1"/>
          <a:stretch/>
        </p:blipFill>
        <p:spPr>
          <a:xfrm>
            <a:off x="4876920" y="3581280"/>
            <a:ext cx="4111560" cy="29908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Mesquite Std"/>
              </a:rPr>
              <a:t>Landform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The landforms near Elephants are Rivers, Grasslands, and Dese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www.thehoneymoonproject.com/wp-content/uploads/2010/01/elephant-2.jpg"/>
          <p:cNvPicPr/>
          <p:nvPr/>
        </p:nvPicPr>
        <p:blipFill>
          <a:blip r:embed="rId1"/>
          <a:stretch/>
        </p:blipFill>
        <p:spPr>
          <a:xfrm>
            <a:off x="2666880" y="25146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2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MV Boli"/>
                <a:ea typeface="MV Boli"/>
              </a:rPr>
              <a:t>What They Ea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990720"/>
            <a:ext cx="86868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re hebav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ood is mostly leaves and bu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Zoo Elephants eat 660 pounds of veggies a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African and Asian Elephants eat roots, grass, fruit, and ba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eed themselves by sucking up food in there trunks and putting it in ther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lso love peanu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http://4.bp.blogspot.com/_TUmrEJJqV_Q/SdVjVZdnu8I/AAAAAAAALOA/a5cBgdzwl28/s400/Mother+Elephant+Eating+Grass.jpg"/>
          <p:cNvPicPr/>
          <p:nvPr/>
        </p:nvPicPr>
        <p:blipFill>
          <a:blip r:embed="rId1"/>
          <a:stretch/>
        </p:blipFill>
        <p:spPr>
          <a:xfrm>
            <a:off x="4876920" y="2895480"/>
            <a:ext cx="358128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00b0f0"/>
                </a:solidFill>
                <a:latin typeface="Snap ITC"/>
              </a:rPr>
              <a:t>Behavi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218960"/>
            <a:ext cx="746748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Elephants stay in groups called “Herds” that helps them defend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social behavior is that a male and female are very differ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female spend there lives in a family of Daughters, Sisters, Mothers, Au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When the group gets too big the older daughters will break off and form a new gro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males fight each other to determine who is the lea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o keep cool they suck up water in their trunk and spray it on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y are not territorial…they travel a lot to find foo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://www.africaguide.com/photolibrary/images/uploads/30/stand_1222870036.jpg"/>
          <p:cNvPicPr/>
          <p:nvPr/>
        </p:nvPicPr>
        <p:blipFill>
          <a:blip r:embed="rId1"/>
          <a:stretch/>
        </p:blipFill>
        <p:spPr>
          <a:xfrm>
            <a:off x="4800600" y="4038480"/>
            <a:ext cx="3451320" cy="24386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         </a:t>
            </a: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Babie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The babies are called “Calv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15 minutes after the baby is born it st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t birth the Elephant weighs about 200 pounds and stands 3 feet t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bilia.files.wordpress.com/2009/08/baby-elephant-2.jpg"/>
          <p:cNvPicPr/>
          <p:nvPr/>
        </p:nvPicPr>
        <p:blipFill>
          <a:blip r:embed="rId1"/>
          <a:stretch/>
        </p:blipFill>
        <p:spPr>
          <a:xfrm>
            <a:off x="0" y="3733920"/>
            <a:ext cx="3619440" cy="2412720"/>
          </a:xfrm>
          <a:prstGeom prst="rect">
            <a:avLst/>
          </a:prstGeom>
          <a:ln w="0">
            <a:noFill/>
          </a:ln>
        </p:spPr>
      </p:pic>
      <p:sp>
        <p:nvSpPr>
          <p:cNvPr id="23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56:08Z</dcterms:created>
  <dc:creator>coupe</dc:creator>
  <dc:description/>
  <dc:language>en-US</dc:language>
  <cp:lastModifiedBy>LEGION</cp:lastModifiedBy>
  <dcterms:modified xsi:type="dcterms:W3CDTF">2018-03-12T08:00:55Z</dcterms:modified>
  <cp:revision>109</cp:revision>
  <dc:subject/>
  <dc:title>Neil Armstrong</dc:title>
</cp:coreProperties>
</file>