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721A-6081-4CFF-B1E5-16348B0BBD2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 Worm (Fire Fly) glows to attract small insec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worms construct snares made from silk threads and sticky droplets to capture the insects attracted to their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 Worm (Fire Fly) glows to attract small insec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worms construct snares made from silk threads and sticky droplets to capture the insects attracted to their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E67-B701-43EC-A57D-ABBD2154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268-299A-4B71-9F3B-6EA19856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0D1-05FF-4A66-8811-DAD2D146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759-321C-46A0-9ABB-0F6C2C9C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154-95F4-45AE-AEB2-35198FCC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6B6-2B8F-43B2-B6A8-AEDF452D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854-AD2D-4CCC-9034-57CCE0B0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BC3-7F44-43ED-8482-F8BFAE0C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ACC-6D4F-4F4A-8F2F-C8DAE86C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0B2-F359-42D8-A554-DFE6EC2A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5CB-843A-4001-980A-81FDE074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B3C-A3D3-42E7-8AFC-79112023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C34F-DEE9-471E-B4A8-A1EDD1DCA579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0066-E65C-46BE-802C-5F2C085DFF0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700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27000" y="1268280"/>
            <a:ext cx="9117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00"/>
                </a:solidFill>
                <a:latin typeface="Calibri"/>
                <a:ea typeface="Arial"/>
              </a:rPr>
              <a:t>A Glow Worm (Fire Fly) glows to attract small insect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00"/>
                </a:solidFill>
                <a:latin typeface="Calibri"/>
                <a:ea typeface="Arial"/>
              </a:rPr>
              <a:t>The glow worms construct snares made from silk threads and sticky droplets to capture the insects attracted to their g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are Larv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600360" cy="4105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Ad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568680" cy="43196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62000" y="1773360"/>
            <a:ext cx="4167000" cy="403200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24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3510000" cy="396108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0000" y="160020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3510000" cy="396108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23:00:33Z</dcterms:created>
  <dc:creator>Sumitomo</dc:creator>
  <dc:description/>
  <dc:language>en-US</dc:language>
  <cp:lastModifiedBy>LEGION</cp:lastModifiedBy>
  <dcterms:modified xsi:type="dcterms:W3CDTF">2018-03-12T08:06:04Z</dcterms:modified>
  <cp:revision>6</cp:revision>
  <dc:subject/>
  <dc:title>Glow Worms   Fire Flies</dc:title>
</cp:coreProperties>
</file>