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DA02-7FA0-4F76-B77E-0AB2D7B392D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 Worm (Fire Fly) glows to attract small insect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low worms construct snares made from silk threads and sticky droplets to capture the insects attracted to their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 Worm (Fire Fly) glows to attract small insect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low worms construct snares made from silk threads and sticky droplets to capture the insects attracted to their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 (immature stage) of a small f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stage is only stage in their life cycle when they can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 (immature stage) of a small f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stage is only stage in their life cycle when they can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 are delicate &amp; don’t have mouth-parts &amp; only live for small no. of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ale adults live for two days &amp; males only for 6 da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 are delicate &amp; don’t have mouth-parts &amp; only live for small no. of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ale adults live for two days &amp; males only for 6 da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dults can’t feed itself ,so glow-worms must gain enough strength at larval stage to spend adult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are believed to live for approximately on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dults can’t feed itself ,so glow-worms must gain enough strength at larval stage to spend adult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are believed to live for approximately on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produced by it is 99% light &amp; 1%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s needed to generate light are all produced within glow-worm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produced by it is 99% light &amp; 1%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s needed to generate light are all produced within glow-worm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require permanently ,moist habitat for their survival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are dependent on rain forests &amp; wet ca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require permanently ,moist habitat for their survival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are dependent on rain forests &amp; wet ca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sh I was a glow-worm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-worm is never gl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how can you be grum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un shines out of your b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sh I was a glow-worm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-worm is never gl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how can you be grum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un shines out of your b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5C61-0896-472A-9D65-D0CE3FC6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7370-919B-4F7A-8988-3A80F044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41C4-D543-4C37-A7B1-A216EAB4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B48E-35A9-4EBB-808F-D7B01185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A8D2-6A12-4B9E-96E8-1780E69E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09D-0C7C-4478-95CA-12068F56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523C-D1F5-4027-8890-7C2C403C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2903-F9EE-4AC3-B5E4-7081ADA2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DDE4-79E5-4878-98D3-2030B484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8C35-2716-4164-9C33-9F454751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470A-F422-4546-9A8A-A670F6B6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5910-84A3-4A4A-AD70-C5054DF1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0F65-AF83-4750-8C05-F73FD1BA1D41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7840-A2E1-4E05-B2E9-BA0A7AB38F3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7000" y="0"/>
            <a:ext cx="9117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27000" y="1268280"/>
            <a:ext cx="9117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00"/>
                </a:solidFill>
                <a:latin typeface="Calibri"/>
                <a:ea typeface="Arial"/>
              </a:rPr>
              <a:t>A Glow Worm (Fire Fly) glows to attract small insect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00"/>
                </a:solidFill>
                <a:latin typeface="Calibri"/>
                <a:ea typeface="Arial"/>
              </a:rPr>
              <a:t>The glow worms construct snares made from silk threads and sticky droplets to capture the insects attracted to their g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are Larva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w worms are larvae (immature stage) of a small f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rvae stage is only stage in their life cycle when they can g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600360" cy="410508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Ad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w worms adults are delicate &amp; don’t have mouth-parts &amp; only live for small no. of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male adults live for two days &amp; males only for 6 day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568680" cy="431964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 Adults can’t feed itself ,so glow-worms must gain enough strength at larval stage to spend adult life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arvae are believed to live for approximately one y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62000" y="1773360"/>
            <a:ext cx="4167000" cy="403200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ght produced by it is 99% light &amp; 1% h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emicals needed to generate light are all produced within glow-worm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24360" cy="4392720"/>
          </a:xfrm>
          <a:prstGeom prst="rect">
            <a:avLst/>
          </a:prstGeom>
          <a:ln w="0">
            <a:noFill/>
          </a:ln>
        </p:spPr>
      </p:pic>
      <p:sp>
        <p:nvSpPr>
          <p:cNvPr id="6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Habit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w worms require permanently ,moist habitat for their survival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they are dependent on rain forests &amp; wet ca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3510000" cy="3961080"/>
          </a:xfrm>
          <a:prstGeom prst="rect">
            <a:avLst/>
          </a:prstGeom>
          <a:ln w="0">
            <a:noFill/>
          </a:ln>
        </p:spPr>
      </p:pic>
      <p:sp>
        <p:nvSpPr>
          <p:cNvPr id="7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 Po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780000" y="160020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ish I was a glow-worm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low-worm is never g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how can you be grump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sun shines out of your b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3510000" cy="396108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23:00:33Z</dcterms:created>
  <dc:creator>Sumitomo</dc:creator>
  <dc:description/>
  <dc:language>en-US</dc:language>
  <cp:lastModifiedBy>LEGION</cp:lastModifiedBy>
  <dcterms:modified xsi:type="dcterms:W3CDTF">2018-03-12T08:06:04Z</dcterms:modified>
  <cp:revision>6</cp:revision>
  <dc:subject/>
  <dc:title>Glow Worms   Fire Flies</dc:title>
</cp:coreProperties>
</file>