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FF0E1-7E74-45AB-96B3-377CD69FB441}" type="slidenum">
              <a:rPr b="0" lang="en-I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nkeys :Facts you may not kno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origins of the word "monkey" are unclear. It could come from Moneke , the name of the son of Martin the Ape in a medieval animal story. It appears also to be related to manikin, from the Dutch manneken  ("little man"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Monkeys :Facts you may not know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The origins of the word "monkey" are unclear. It could come from Moneke , the name of the son of Martin the Ape in a medieval animal story. It appears also to be related to manikin, from the Dutch manneken  ("little man").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lligen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nkeys are generally considered to  be intellig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irst monkey in space was Albert II who flew in the US-launched V-2 rocket on June 14, 1949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nkeys are also used in various experiments as they are intelligent enough &amp; pick up skills very fast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nkeys are worshipped in India; they are believed to represent the Lord Hanuma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rd Hanum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Intelligent!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Monkeys are generally considered to  be intelligent.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 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The first monkey in space was Albert II who flew in the US-launched V-2 rocket on June 14, 1949.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Monkeys are also used in various experiments as they are intelligent enough &amp; pick up skills very fast .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Monkeys are worshipped in India; they are believed to represent the Lord Hanuman.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Lord Hanuman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oomi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monkeys like to be clean so they have a barber monkey clean out their fur. The barber monkey's payment is the bugs in its customer's hai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nkeys express affection and make peace with others by grooming each oth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impanzees, gorillas, and orangutans all catch cold, but curiously monkeys do no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Grooming 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All monkeys like to be clean so they have a barber monkey clean out their fur. The barber monkey's payment is the bugs in its customer's hair.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Monkeys express affection and make peace with others by grooming each other.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Chimpanzees, gorillas, and orangutans all catch cold, but curiously monkeys do not.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rform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Africa, South Asia –Monkeys are trained to do certain gymnastic activities ,they are great entertainers after train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Performer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In Africa, South Asia –Monkeys are trained to do certain gymnastic activities ,they are great entertainers after training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group of monkeys is called a "troop."A group of monkeys may be referred to as a mission or a trib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d you know that when monkeys yawn it's sometimes because they are tired, and sometimes because they are ma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nkeys peel their bananas and do not eat the ski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nkey brains are eaten as a delicacy in parts of South Asia, Africa and Chi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A group of monkeys is called a "troop."A group of monkeys may be referred to as a mission or a tribe.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id you know that when monkeys yawn it's sometimes because they are tired, and sometimes because they are mad?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Monkeys peel their bananas and do not eat the skins.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Monkey brains are eaten as a delicacy in parts of South Asia, Africa and China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ring Mother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ther Monkey carries its kid ,stuck to its body , till the time it is able walk/take care of himself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Caring Mother!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Mother Monkey carries its kid ,stuck to its body , till the time it is able walk/take care of himself.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ew more Fac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nkeys can weigh up to 45 kgs.  Their tails can be as long as 3 feet. They have opposable thumb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ygmy marmoset, whose body is only 10 centimetres long, lives in the forests along the Amazon river, in South America. It is the smallest monkey in the worl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nkeys are great swimmers; however, they prefer not to be in the wa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Few more Facts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Monkeys can weigh up to 45 kgs.  Their tails can be as long as 3 feet. They have opposable thumbs.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The pygmy marmoset, whose body is only 10 centimetres long, lives in the forests along the Amazon river, in South America. It is the smallest monkey in the world.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Monkeys are great swimmers; however, they prefer not to be in the water.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 you Know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nglish Language Institute have campaigned for years to have the plural of monkey to be changed accordingly to monkeies - changing the "y" to an "i" and adding "es"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o you Know?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The English Language Institute have campaigned for years to have the plural of monkey to be changed accordingly to monkeies - changing the "y" to an "i" and adding "es".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DCBF3-E3EB-411E-ACAB-FFFAD820E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F623A-5FC2-46FC-95AA-744BD8C56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5635E-EFD7-4B4D-BD09-84225E5A0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0D4B4-8A23-4684-8EC7-43B4010D6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7A4EB-148B-422F-BE49-FEC6F0CF2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02412-B28F-41A4-8369-1C958FA91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20175-D092-4BEA-8A73-0612E45DF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FCDE5-9412-4C2A-8BBF-80EB967BC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0391A-EF33-4BD5-B6BC-1D177C232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3A3C5-DD91-4B54-8D56-39D02B326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01DFB-32C4-4731-85DF-1CD135344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6839A-A821-4020-BE7C-703B0F902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0A93D-CFF9-46F2-B2D8-5887BE490AB7}" type="datetime">
              <a:rPr b="0" lang="en-IN" sz="1200" spc="-1" strike="noStrike">
                <a:solidFill>
                  <a:srgbClr val="ffffff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ffffff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14CE5-6080-4C5B-80E0-8873A1F3E04D}" type="slidenum">
              <a:rPr b="0" lang="en-IN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50336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onkeys :Facts you may not know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2417760" y="333360"/>
            <a:ext cx="3600360" cy="288288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3"/>
          <p:cNvSpPr/>
          <p:nvPr/>
        </p:nvSpPr>
        <p:spPr>
          <a:xfrm>
            <a:off x="684360" y="4437000"/>
            <a:ext cx="7920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ffffff"/>
                </a:solidFill>
                <a:latin typeface="Calibri"/>
                <a:ea typeface="Arial"/>
              </a:rPr>
              <a:t>The origins of the word "monkey" are unclear. It could come from Moneke , the name of the son of Martin the Ape in a medieval animal story. It appears also to be related to manikin, from the Dutch </a:t>
            </a:r>
            <a:r>
              <a:rPr b="0" i="1" lang="en-IN" sz="2000" spc="-1" strike="noStrike">
                <a:solidFill>
                  <a:srgbClr val="ffffff"/>
                </a:solidFill>
                <a:latin typeface="Calibri"/>
                <a:ea typeface="Arial"/>
              </a:rPr>
              <a:t>manneken </a:t>
            </a:r>
            <a:r>
              <a:rPr b="0" lang="en-IN" sz="2000" spc="-1" strike="noStrike">
                <a:solidFill>
                  <a:srgbClr val="ffffff"/>
                </a:solidFill>
                <a:latin typeface="Calibri"/>
                <a:ea typeface="Arial"/>
              </a:rPr>
              <a:t> ("little man")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ffffff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Intelligent!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419280" y="1600200"/>
            <a:ext cx="5267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200" spc="-1" strike="noStrike">
                <a:solidFill>
                  <a:srgbClr val="ffffff"/>
                </a:solidFill>
                <a:latin typeface="Calibri"/>
              </a:rPr>
              <a:t>Monkeys are generally considered to  be intelligent.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200" spc="-1" strike="noStrike">
                <a:solidFill>
                  <a:srgbClr val="ffffff"/>
                </a:solidFill>
                <a:latin typeface="Calibri"/>
              </a:rPr>
              <a:t> </a:t>
            </a:r>
            <a:r>
              <a:rPr b="0" lang="en-IN" sz="2200" spc="-1" strike="noStrike">
                <a:solidFill>
                  <a:srgbClr val="ffffff"/>
                </a:solidFill>
                <a:latin typeface="Calibri"/>
              </a:rPr>
              <a:t>The first monkey in space was Albert II who flew in the US-launched V-2 rocket on June 14, 1949.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Monkeys are also used in various experiments as they are intelligent enough &amp; pick up skills very fast .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200" spc="-1" strike="noStrike">
                <a:solidFill>
                  <a:srgbClr val="ffffff"/>
                </a:solidFill>
                <a:latin typeface="Calibri"/>
              </a:rPr>
              <a:t>Monkeys are worshipped in India; they are believed to represent the Lord Hanuman.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3168720" cy="2849760"/>
          </a:xfrm>
          <a:prstGeom prst="rect">
            <a:avLst/>
          </a:prstGeom>
          <a:ln w="0">
            <a:noFill/>
          </a:ln>
        </p:spPr>
      </p:pic>
      <p:sp>
        <p:nvSpPr>
          <p:cNvPr id="55" name="TextBox 3"/>
          <p:cNvSpPr/>
          <p:nvPr/>
        </p:nvSpPr>
        <p:spPr>
          <a:xfrm>
            <a:off x="980280" y="5229360"/>
            <a:ext cx="155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Lord Hanuman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Нижний колонтитул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ffffff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Grooming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71360" y="1413000"/>
            <a:ext cx="5815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ffffff"/>
                </a:solidFill>
                <a:latin typeface="Calibri"/>
              </a:rPr>
              <a:t>All monkeys like to be clean so they have a barber monkey clean out their fur. The barber monkey's payment is the bugs in its customer's hair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ffffff"/>
                </a:solidFill>
                <a:latin typeface="Calibri"/>
              </a:rPr>
              <a:t>Monkeys express affection and make peace with others by grooming each other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ffffff"/>
                </a:solidFill>
                <a:latin typeface="Calibri"/>
              </a:rPr>
              <a:t>Chimpanzees, gorillas, and orangutans all catch cold, but curiously monkeys do not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179280" y="1989000"/>
            <a:ext cx="2692440" cy="2735280"/>
          </a:xfrm>
          <a:prstGeom prst="rect">
            <a:avLst/>
          </a:prstGeom>
          <a:ln w="0">
            <a:noFill/>
          </a:ln>
        </p:spPr>
      </p:pic>
      <p:sp>
        <p:nvSpPr>
          <p:cNvPr id="60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ffffff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4716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Performer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1116000" y="5661000"/>
            <a:ext cx="7570800" cy="75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 Africa, South Asia –Monkeys are trained to do certain gymnastic activities ,they are great entertainers after training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1116000" y="1052640"/>
            <a:ext cx="6408720" cy="4321080"/>
          </a:xfrm>
          <a:prstGeom prst="rect">
            <a:avLst/>
          </a:prstGeom>
          <a:ln w="0">
            <a:noFill/>
          </a:ln>
        </p:spPr>
      </p:pic>
      <p:sp>
        <p:nvSpPr>
          <p:cNvPr id="64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ffffff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IN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3059280" y="1600200"/>
            <a:ext cx="562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500" spc="-1" strike="noStrike">
                <a:solidFill>
                  <a:srgbClr val="ffffff"/>
                </a:solidFill>
                <a:latin typeface="Calibri"/>
              </a:rPr>
              <a:t>A group of monkeys is called a "troop."A group of monkeys may be referred to as a </a:t>
            </a:r>
            <a:r>
              <a:rPr b="0" i="1" lang="en-IN" sz="2500" spc="-1" strike="noStrike">
                <a:solidFill>
                  <a:srgbClr val="ffffff"/>
                </a:solidFill>
                <a:latin typeface="Calibri"/>
              </a:rPr>
              <a:t>mission</a:t>
            </a:r>
            <a:r>
              <a:rPr b="0" lang="en-IN" sz="2500" spc="-1" strike="noStrike">
                <a:solidFill>
                  <a:srgbClr val="ffffff"/>
                </a:solidFill>
                <a:latin typeface="Calibri"/>
              </a:rPr>
              <a:t> or a </a:t>
            </a:r>
            <a:r>
              <a:rPr b="0" i="1" lang="en-IN" sz="2500" spc="-1" strike="noStrike">
                <a:solidFill>
                  <a:srgbClr val="ffffff"/>
                </a:solidFill>
                <a:latin typeface="Calibri"/>
              </a:rPr>
              <a:t>tribe</a:t>
            </a:r>
            <a:r>
              <a:rPr b="0" lang="en-IN" sz="25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500" spc="-1" strike="noStrike">
                <a:solidFill>
                  <a:srgbClr val="ffffff"/>
                </a:solidFill>
                <a:latin typeface="Calibri"/>
              </a:rPr>
              <a:t>Did you know that when monkeys yawn it's sometimes because they are tired, and sometimes because they are mad?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500" spc="-1" strike="noStrike">
                <a:solidFill>
                  <a:srgbClr val="ffffff"/>
                </a:solidFill>
                <a:latin typeface="Calibri"/>
              </a:rPr>
              <a:t>Monkeys peel their bananas and do not eat the skins.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500" spc="-1" strike="noStrike">
                <a:solidFill>
                  <a:srgbClr val="ffffff"/>
                </a:solidFill>
                <a:latin typeface="Calibri"/>
              </a:rPr>
              <a:t>Monkey brains are eaten as a delicacy in parts of South Asia, Africa and China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250920" y="1700280"/>
            <a:ext cx="2305080" cy="3476520"/>
          </a:xfrm>
          <a:prstGeom prst="rect">
            <a:avLst/>
          </a:prstGeom>
          <a:ln w="0">
            <a:noFill/>
          </a:ln>
        </p:spPr>
      </p:pic>
      <p:sp>
        <p:nvSpPr>
          <p:cNvPr id="68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ffffff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aring Mother!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5229000"/>
            <a:ext cx="8229600" cy="89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Mother Monkey carries its kid ,stuck to its body , till the time it is able walk/take care of himself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1116000" y="1285920"/>
            <a:ext cx="7632720" cy="3943440"/>
          </a:xfrm>
          <a:prstGeom prst="rect">
            <a:avLst/>
          </a:prstGeom>
          <a:ln w="0">
            <a:noFill/>
          </a:ln>
        </p:spPr>
      </p:pic>
      <p:sp>
        <p:nvSpPr>
          <p:cNvPr id="72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ffffff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Few more Fact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3203280" y="1557360"/>
            <a:ext cx="5545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2700" spc="-1" strike="noStrike">
                <a:solidFill>
                  <a:srgbClr val="ffffff"/>
                </a:solidFill>
                <a:latin typeface="Calibri"/>
              </a:rPr>
              <a:t>Monkeys can weigh up to 45 kgs.  Their tails can be as long as 3 feet. They have opposable thumbs.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700" spc="-1" strike="noStrike">
                <a:solidFill>
                  <a:srgbClr val="ffffff"/>
                </a:solidFill>
                <a:latin typeface="Calibri"/>
              </a:rPr>
              <a:t>The pygmy marmoset, whose body is only 10 centimetres long, lives in the forests along the Amazon river, in South America. It is the smallest monkey in the world.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700" spc="-1" strike="noStrike">
                <a:solidFill>
                  <a:srgbClr val="ffffff"/>
                </a:solidFill>
                <a:latin typeface="Calibri"/>
              </a:rPr>
              <a:t>Monkeys are great swimmers; however, they prefer not to be in the water.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468360" y="1989000"/>
            <a:ext cx="2519280" cy="3119400"/>
          </a:xfrm>
          <a:prstGeom prst="rect">
            <a:avLst/>
          </a:prstGeom>
          <a:ln w="0">
            <a:noFill/>
          </a:ln>
        </p:spPr>
      </p:pic>
      <p:sp>
        <p:nvSpPr>
          <p:cNvPr id="76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ffffff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Do you Know?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ffffff"/>
                </a:solidFill>
                <a:latin typeface="Calibri"/>
              </a:rPr>
              <a:t>The English Language Institute have campaigned for years to have the plural of monkey to be changed accordingly to monkeies - changing the "y" to an "i" and adding "es"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ffffff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ffffff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7T11:19:25Z</dcterms:created>
  <dc:creator>Sumitomo</dc:creator>
  <dc:description/>
  <dc:language>en-US</dc:language>
  <cp:lastModifiedBy>LEGION</cp:lastModifiedBy>
  <dcterms:modified xsi:type="dcterms:W3CDTF">2018-03-12T08:19:20Z</dcterms:modified>
  <cp:revision>9</cp:revision>
  <dc:subject/>
  <dc:title>PowerPoint Presentation</dc:title>
</cp:coreProperties>
</file>