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EDAA-CC7C-497F-B6B0-842799469806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Giant pandas are black and white bears that live in temperate-zone bamboo forests in central Ch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Giant pandas are black and white bears that live in temperate-zone bamboo forests in central Ch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C5E0-CE72-40F5-A787-AD2F6962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05D-AE95-49EB-8C28-022069DD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AE8-4C56-4A6E-BDD7-97517427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56A7-131D-4932-B921-DFBA78A4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FFE0-EE66-4141-AB6A-7CB827A8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F639-3EC2-420B-8847-7A465A5F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F79-84BE-4C07-82DF-2E10496E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2D8-9025-4035-9F0A-4A18E272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8F57-C028-46C2-911E-AF3B832D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4F1-EDC1-4BC6-AD59-360D76EC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EDC3-4C06-4DB0-9729-24D14C09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A8A6-EFC6-4D05-B2D0-4501BD94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AC3F-42ED-4B4C-BF27-804A8B0648C7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8276-CCE3-4F69-98B7-432A812939F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344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https://encrypted-tbn3.google.com/images?q=tbn:ANd9GcSzAcg4MPcRW4xsqWc8mNq4SuX0j-01BqVdiQPb_WC2eSX4iB3oqw"/>
          <p:cNvPicPr/>
          <p:nvPr/>
        </p:nvPicPr>
        <p:blipFill>
          <a:blip r:embed="rId1"/>
          <a:stretch/>
        </p:blipFill>
        <p:spPr>
          <a:xfrm>
            <a:off x="3348000" y="404640"/>
            <a:ext cx="2232000" cy="288000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2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Giant pandas are black and white bears that live in temperate-zone bamboo forests in central Ch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iant pandas live in broadleaf and coniferous forests with a dense understory of bamboo, at elevations between 5,000 and 10,000 f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arance –Black &amp; Whit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62864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A giant panda is bear-like in shape. It has black fur on ears, eye patches, muzzle, legs, and shoulders. The rest of the animal's coat is whi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The panda's thick, woolly coat keeps it warm in the cool forests of its habitat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https://encrypted-tbn3.google.com/images?q=tbn:ANd9GcTXqF7mEPd2_9RRp3NNrzDm_8A781UhVjzOQECooTtzUyxNWdgKfw"/>
          <p:cNvPicPr/>
          <p:nvPr/>
        </p:nvPicPr>
        <p:blipFill>
          <a:blip r:embed="rId1"/>
          <a:stretch/>
        </p:blipFill>
        <p:spPr>
          <a:xfrm>
            <a:off x="395280" y="1844640"/>
            <a:ext cx="3835440" cy="316692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they 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pproximately 99 percent of a panda’s diet – bamboo leaves and shoots – it does not have much nutritional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das eat very fast and they eat 12 hours a 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andas must eat upwards of 30 pounds of bamboo daily just to stay fu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https://encrypted-tbn1.google.com/images?q=tbn:ANd9GcRmjqycL2m9C9y1LKKi3BLgrSr7ITe0yQG8swQyM5JJm7i_2UYsWA"/>
          <p:cNvPicPr/>
          <p:nvPr/>
        </p:nvPicPr>
        <p:blipFill>
          <a:blip r:embed="rId1"/>
          <a:stretch/>
        </p:blipFill>
        <p:spPr>
          <a:xfrm>
            <a:off x="177840" y="2276640"/>
            <a:ext cx="2738520" cy="265248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1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Amazing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1196640"/>
            <a:ext cx="8785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da ears act like its nose &amp; its nose acts like its ears. That means ,it smells through ears &amp; smells from 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pandas are very shy, they don’t go to areas where people l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das are not affected by any human illness, except chick-po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lind folded Panda would always move north. Panda liver has lot of iron content, which makes it magnetic, that is why it always moves towards north like a comp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68360" y="11970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panda can live up-to 30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ng pandas live with their mothers for 18 mont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t takes approximately 50 to 60 days for the panda cub to open its eyes. Therefore, the mother must stay with the panda at all times, rarely leaving the d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ant panda weigh between 165 pounds to 300 pounds (75-135 k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Panda sits while eating – Instead of standing while eating food, the panda will sit in order to use its front paws to hold the bamboo shoo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more Amazing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173320" y="907920"/>
            <a:ext cx="65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n Chinese, the Panda is called 'Da Xiong Mao', meaning 'giant bear cat'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Pandas are considered to be the most affable bears. They have often helped troubled people in jung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he logo of World Wide Fund (WWF) for nature features a giant panda on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t's an endangered species .There are around 1000 of them existing in the wild, and one hundred of them in captiv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9280" y="-14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w more 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74520" y="1773360"/>
            <a:ext cx="2098800" cy="2098440"/>
          </a:xfrm>
          <a:prstGeom prst="rect">
            <a:avLst/>
          </a:prstGeom>
          <a:ln w="0">
            <a:noFill/>
          </a:ln>
        </p:spPr>
      </p:pic>
      <p:sp>
        <p:nvSpPr>
          <p:cNvPr id="7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7:30:55Z</dcterms:created>
  <dc:creator>Sumitomo</dc:creator>
  <dc:description/>
  <dc:language>en-US</dc:language>
  <cp:lastModifiedBy>LEGION</cp:lastModifiedBy>
  <dcterms:modified xsi:type="dcterms:W3CDTF">2018-03-12T08:29:29Z</dcterms:modified>
  <cp:revision>11</cp:revision>
  <dc:subject/>
  <dc:title>Polar Bear</dc:title>
</cp:coreProperties>
</file>