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EC49-5158-429D-BD9B-005DF3C340E2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EFD-F0BD-45A9-8FD5-667A93D3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046-8147-4BC8-8F35-0A01B440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D85-7F8D-4A8F-89CB-AF9418C7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45B-CA7D-4BB5-AAF2-89FBB1D3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749-D5EB-4804-98CE-294B635C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FE2-4E60-4940-8E90-0181D53A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4F0-9E27-4980-9CE6-3D903FA8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715-BBC4-423C-B904-9FD184D6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E41-4E87-4365-A351-6E90C0E6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2C2-63DD-4643-B493-64008411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1D5-BCEB-43F2-B449-A74EBE31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095-D361-4355-AFD4-06E02236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6122-3B76-4497-AC24-0DD6FAD12279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2C61-CE88-4EDA-9720-A1066E3C063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344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https://encrypted-tbn3.google.com/images?q=tbn:ANd9GcSzAcg4MPcRW4xsqWc8mNq4SuX0j-01BqVdiQPb_WC2eSX4iB3oqw"/>
          <p:cNvPicPr/>
          <p:nvPr/>
        </p:nvPicPr>
        <p:blipFill>
          <a:blip r:embed="rId1"/>
          <a:stretch/>
        </p:blipFill>
        <p:spPr>
          <a:xfrm>
            <a:off x="3348000" y="404640"/>
            <a:ext cx="2232000" cy="28800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Giant pandas are black and white bears that live in temperate-zone bamboo forests in central Ch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2864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https://encrypted-tbn3.google.com/images?q=tbn:ANd9GcTXqF7mEPd2_9RRp3NNrzDm_8A781UhVjzOQECooTtzUyxNWdgKfw"/>
          <p:cNvPicPr/>
          <p:nvPr/>
        </p:nvPicPr>
        <p:blipFill>
          <a:blip r:embed="rId1"/>
          <a:stretch/>
        </p:blipFill>
        <p:spPr>
          <a:xfrm>
            <a:off x="395280" y="1844640"/>
            <a:ext cx="3835440" cy="316692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s://encrypted-tbn1.google.com/images?q=tbn:ANd9GcRmjqycL2m9C9y1LKKi3BLgrSr7ITe0yQG8swQyM5JJm7i_2UYsWA"/>
          <p:cNvPicPr/>
          <p:nvPr/>
        </p:nvPicPr>
        <p:blipFill>
          <a:blip r:embed="rId1"/>
          <a:stretch/>
        </p:blipFill>
        <p:spPr>
          <a:xfrm>
            <a:off x="177840" y="2276640"/>
            <a:ext cx="2738520" cy="265248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1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196640"/>
            <a:ext cx="8785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11970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173320" y="907920"/>
            <a:ext cx="65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9280" y="-14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74520" y="1773360"/>
            <a:ext cx="2098800" cy="2098440"/>
          </a:xfrm>
          <a:prstGeom prst="rect">
            <a:avLst/>
          </a:prstGeom>
          <a:ln w="0">
            <a:noFill/>
          </a:ln>
        </p:spPr>
      </p:pic>
      <p:sp>
        <p:nvSpPr>
          <p:cNvPr id="7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7:30:55Z</dcterms:created>
  <dc:creator>Sumitomo</dc:creator>
  <dc:description/>
  <dc:language>en-US</dc:language>
  <cp:lastModifiedBy>LEGION</cp:lastModifiedBy>
  <dcterms:modified xsi:type="dcterms:W3CDTF">2018-03-12T08:29:29Z</dcterms:modified>
  <cp:revision>11</cp:revision>
  <dc:subject/>
  <dc:title>Polar Bear</dc:title>
</cp:coreProperties>
</file>