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6593-B87A-409D-B404-F56C060D869F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n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Pan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Giant pandas are black and white bears that live in temperate-zone bamboo forests in central Chi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pandas live in broadleaf and coniferous forests with a dense understory of bamboo, at elevations between 5,000 and 10,000 f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Giant pandas are black and white bears that live in temperate-zone bamboo forests in central Chi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pandas live in broadleaf and coniferous forests with a dense understory of bamboo, at elevations between 5,000 and 10,000 f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 –Black &amp; Whit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iant panda is bear-like in shape. It has black fur on ears, eye patches, muzzle, legs, and shoulders. The rest of the animal's coat is wh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's thick, woolly coat keeps it warm in the cool forests of its habitat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 –Black &amp; Whit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iant panda is bear-like in shape. It has black fur on ears, eye patches, muzzle, legs, and shoulders. The rest of the animal's coat is wh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's thick, woolly coat keeps it warm in the cool forests of its habitat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ximately 99 percent of a panda’s diet – bamboo leaves and shoots – it does not have much nutritional va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eat very fast and they eat 12 hours a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must eat upwards of 30 pounds of bamboo daily just to stay fu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ximately 99 percent of a panda’s diet – bamboo leaves and shoots – it does not have much nutritional va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eat very fast and they eat 12 hours a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must eat upwards of 30 pounds of bamboo daily just to stay fu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Amaz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 ears act like its nose &amp; its nose acts like its ears. That means ,it smells through ears &amp; smells from 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s are very shy, they don’t go to areas where people l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are not affected by any human illness, except chick-po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lind folded Panda would always move north. Panda liver has lot of iron content, which makes it magnetic, that is why it always moves towards north like a comp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Amaz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 ears act like its nose &amp; its nose acts like its ears. That means ,it smells through ears &amp; smells from 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s are very shy, they don’t go to areas where people l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are not affected by any human illness, except chick-po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lind folded Panda would always move north. Panda liver has lot of iron content, which makes it magnetic, that is why it always moves towards north like a comp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anda can live up-to 30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pandas live with their mothers for 18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approximately 50 to 60 days for the panda cub to open its eyes. Therefore, the mother must stay with the panda at all times, rarely leaving the 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panda weigh between 165 pounds to 300 pounds (75-135 k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 sits while eating – Instead of standing while eating food, the panda will sit in order to use its front paws to hold the bamboo sh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Amaz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anda can live up-to 30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pandas live with their mothers for 18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approximately 50 to 60 days for the panda cub to open its eyes. Therefore, the mother must stay with the panda at all times, rarely leaving the 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panda weigh between 165 pounds to 300 pounds (75-135 k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 sits while eating – Instead of standing while eating food, the panda will sit in order to use its front paws to hold the bamboo sh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Amaz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hinese, the Panda is called 'Da Xiong Mao', meaning 'giant bear cat'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are considered to be the most affable bears. They have often helped troubled people in ju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go of World Wide Fund (WWF) for nature features a giant panda on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's an endangered species .There are around 1000 of them existing in the wild, and one hundred of them in captiv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hinese, the Panda is called 'Da Xiong Mao', meaning 'giant bear cat'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are considered to be the most affable bears. They have often helped troubled people in ju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go of World Wide Fund (WWF) for nature features a giant panda on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's an endangered species .There are around 1000 of them existing in the wild, and one hundred of them in captiv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B259-FC52-4CF4-8F80-FDBF9C1B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53C1-701B-4532-B55B-8989442F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8CFA-5391-43D7-A97D-20F72C09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DA6C-58F0-4C62-B67A-B37EFA64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A312-30F8-481F-BB9E-959CE0D8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D835-248A-43DE-9B0E-2E29DD22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7CBC-0518-4FD6-A93B-0FE57061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48FA-D0EC-4900-9C71-1EAAAC9F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E63A-9A35-4C60-8F08-046C4C24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6665-2043-42CA-8DC5-6244C616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53EE-745D-4CF8-B3C3-139F6F3A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89F4-410D-4621-A667-63A8AD8A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94BD-9764-4AE8-BF31-21ACF37913D3}" type="datetime">
              <a:rPr b="0" lang="en-IN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A85F-9F5E-4830-8107-2FD360679F65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344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https://encrypted-tbn3.google.com/images?q=tbn:ANd9GcSzAcg4MPcRW4xsqWc8mNq4SuX0j-01BqVdiQPb_WC2eSX4iB3oqw"/>
          <p:cNvPicPr/>
          <p:nvPr/>
        </p:nvPicPr>
        <p:blipFill>
          <a:blip r:embed="rId1"/>
          <a:stretch/>
        </p:blipFill>
        <p:spPr>
          <a:xfrm>
            <a:off x="3348000" y="404640"/>
            <a:ext cx="2232000" cy="2880000"/>
          </a:xfrm>
          <a:prstGeom prst="rect">
            <a:avLst/>
          </a:prstGeom>
          <a:ln w="0">
            <a:noFill/>
          </a:ln>
        </p:spPr>
      </p:pic>
      <p:sp>
        <p:nvSpPr>
          <p:cNvPr id="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bit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200" spc="-1" strike="noStrike">
                <a:solidFill>
                  <a:srgbClr val="00b050"/>
                </a:solidFill>
                <a:latin typeface="Calibri"/>
              </a:rPr>
              <a:t>.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Giant pandas are black and white bears that live in temperate-zone bamboo forests in central Chi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iant pandas live in broadleaf and coniferous forests with a dense understory of bamboo, at elevations between 5,000 and 10,000 f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earance –Black &amp; Whit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427280" y="162864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A giant panda is bear-like in shape. It has black fur on ears, eye patches, muzzle, legs, and shoulders. The rest of the animal's coat is whi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The panda's thick, woolly coat keeps it warm in the cool forests of its habitat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https://encrypted-tbn3.google.com/images?q=tbn:ANd9GcTXqF7mEPd2_9RRp3NNrzDm_8A781UhVjzOQECooTtzUyxNWdgKfw"/>
          <p:cNvPicPr/>
          <p:nvPr/>
        </p:nvPicPr>
        <p:blipFill>
          <a:blip r:embed="rId1"/>
          <a:stretch/>
        </p:blipFill>
        <p:spPr>
          <a:xfrm>
            <a:off x="395280" y="1844640"/>
            <a:ext cx="3835440" cy="316692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they E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5928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Approximately 99 percent of a panda’s diet – bamboo leaves and shoots – it does not have much nutritional va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ndas eat very fast and they eat 12 hours a 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Pandas must eat upwards of 30 pounds of bamboo daily just to stay fu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https://encrypted-tbn1.google.com/images?q=tbn:ANd9GcRmjqycL2m9C9y1LKKi3BLgrSr7ITe0yQG8swQyM5JJm7i_2UYsWA"/>
          <p:cNvPicPr/>
          <p:nvPr/>
        </p:nvPicPr>
        <p:blipFill>
          <a:blip r:embed="rId1"/>
          <a:stretch/>
        </p:blipFill>
        <p:spPr>
          <a:xfrm>
            <a:off x="177840" y="2276640"/>
            <a:ext cx="2738520" cy="265248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12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w Amazing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9280" y="1196640"/>
            <a:ext cx="8785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nda ears act like its nose &amp; its nose acts like its ears. That means ,it smells through ears &amp; smells from ea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The pandas are very shy, they don’t go to areas where people l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ndas are not affected by any human illness, except chick-po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lind folded Panda would always move north. Panda liver has lot of iron content, which makes it magnetic, that is why it always moves towards north like a compa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68360" y="11970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panda can live up-to 30 yea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ng pandas live with their mothers for 18 month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It takes approximately 50 to 60 days for the panda cub to open its eyes. Therefore, the mother must stay with the panda at all times, rarely leaving the d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ant panda weigh between 165 pounds to 300 pounds (75-135 k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The Panda sits while eating – Instead of standing while eating food, the panda will sit in order to use its front paws to hold the bamboo shoo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w more Amazing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173320" y="907920"/>
            <a:ext cx="652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In Chinese, the Panda is called 'Da Xiong Mao', meaning 'giant bear cat'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Pandas are considered to be the most affable bears. They have often helped troubled people in jung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The logo of World Wide Fund (WWF) for nature features a giant panda on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It's an endangered species .There are around 1000 of them existing in the wild, and one hundred of them in captiv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9280" y="-144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w more 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74520" y="1773360"/>
            <a:ext cx="2098800" cy="2098440"/>
          </a:xfrm>
          <a:prstGeom prst="rect">
            <a:avLst/>
          </a:prstGeom>
          <a:ln w="0">
            <a:noFill/>
          </a:ln>
        </p:spPr>
      </p:pic>
      <p:sp>
        <p:nvSpPr>
          <p:cNvPr id="7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07:30:55Z</dcterms:created>
  <dc:creator>Sumitomo</dc:creator>
  <dc:description/>
  <dc:language>en-US</dc:language>
  <cp:lastModifiedBy>LEGION</cp:lastModifiedBy>
  <dcterms:modified xsi:type="dcterms:W3CDTF">2018-03-12T08:29:29Z</dcterms:modified>
  <cp:revision>11</cp:revision>
  <dc:subject/>
  <dc:title>Polar Bear</dc:title>
</cp:coreProperties>
</file>