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8033C-62E3-4D18-A30C-57389930E782}"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between 17-20 living species of 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species is the Emperor Penguin- on average adults are about 1.1 m (3 ft 7 in) tall or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Penguin  is the second largest species of peng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penguin species is the Little Blue Penguin  also known as the Fairy Peng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eyed penguin is believed to be the rarest penguin species, with only approximately 5,000 birds surviving , though population numbers fluctu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between 17-20 living species of 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species is the Emperor Penguin- on average adults are about 1.1 m (3 ft 7 in) tall or more.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Penguin  is the second largest species of pengui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penguin species is the Little Blue Penguin  also known as the Fairy Pengui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eyed penguin is believed to be the rarest penguin species, with only approximately 5,000 birds surviving , though population numbers fluctuat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eror Penguin –A Brave So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ter arrives in Antarctica in March. Nearly all creatures leave except for the emperor, the only animal that spends the winter on Antarctica's open 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eror Penguin –A Brave Soul!</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ter arrives in Antarctica in March. Nearly all creatures leave except for the emperor, the only animal that spends the winter on Antarctica's open ice.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are warm-blooded birds as humans but still lay eg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male Penguin takes care of the chick. To keep eggs warm away from cold they balance their egg on feet and cover them with their belly f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females return, the males eagerly leave for their own fishing session at sea, and the mothers take over care of the chicks for a wh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bring up their bab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are warm-blooded birds as humans but still lay egg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male Penguin takes care of the chick. To keep eggs warm away from cold they balance their egg on feet and cover them with their belly flap..</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females return, the males eagerly leave for their own fishing session at sea, and the mothers take over care of the chicks for a whi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bring up their bab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bout 17-20 different species of penguin and around 100 million penguins are there  in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seem to have no special fear of humans. This is probably because penguins have no land predators in Antarct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thing about them is if they lose a chick they steal from other m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bout 17-20 different species of penguin and around 100 million penguins are there  in the worl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seem to have no special fear of humans. This is probably because penguins have no land predators in Antarctica.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thing about them is if they lose a chick they steal from other moth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 walk faster than humans even when they seem to waddle while wal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know Yoga ! They can hold their breath for 20 minutes under water and can leap in water while swimm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love to store stones that help them to float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ally funny that penguins steal stones from each other &amp; there are sometimes fight among them for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 walk faster than humans even when they seem to waddle while walk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know Yoga ! They can hold their breath for 20 minutes under water and can leap in water while swimm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love to store stones that help them to float in water.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ally funny that penguins steal stones from each other &amp; there are sometimes fight among them for thi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eyes work better underwater than they do in the air, giving them good eyesight to spot prey while hunting, even in cloudy, dark or murky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peror penguins and king penguins do not make any sort of nes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eyes work better underwater than they do in the air, giving them good eyesight to spot prey while hunting, even in cloudy, dark or murky wat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peror penguins and king penguins do not make any sort of nests.</a:t>
            </a:r>
            <a:br>
              <a:rPr sz="1200"/>
            </a:b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E2E68-214B-489B-8B09-53E24C7FD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1A317-0486-49B9-BE60-B2135EF0E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C1947-66CD-42D5-AF50-97248E3D3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E8C7A-02B5-43E7-8DE2-A3B3D0D76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3C57B-1A7F-46C0-AB9F-9E007AE22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FD155-F7F0-4EF2-A885-3C074BB48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A3FE5-CE83-4765-828C-9C7A7F043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B87EB-9FE2-46D0-8E74-5DB857290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0D7F0-1A8F-4352-95F4-AA67A3C95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3F9B7-6328-4F36-B68B-FB17DCC37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68705-03A1-4597-96CC-8EBD02128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81939-2E28-41ED-BBE9-1569330D2D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F2450-DA90-42E0-B012-04D05300D0CC}" type="datetime">
              <a:rPr b="0" lang="en-IN"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BEF92-6B8C-4A05-976F-B2BECC4FEEB4}"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33440" y="2781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enguins</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7" descr="https://encrypted-tbn1.google.com/images?q=tbn:ANd9GcQEsS1mjKNUg8-T5xRbCXnheh_nnDcsCG6bp58mRlPkTzZVTB8m"/>
          <p:cNvPicPr/>
          <p:nvPr/>
        </p:nvPicPr>
        <p:blipFill>
          <a:blip r:embed="rId1"/>
          <a:stretch/>
        </p:blipFill>
        <p:spPr>
          <a:xfrm>
            <a:off x="2700360" y="714240"/>
            <a:ext cx="3637080" cy="238140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a:t>
            </a:r>
            <a:endParaRPr b="0" lang="en-US" sz="4400" spc="-1" strike="noStrike">
              <a:solidFill>
                <a:srgbClr val="000000"/>
              </a:solidFill>
              <a:latin typeface="Calibri"/>
            </a:endParaRPr>
          </a:p>
        </p:txBody>
      </p:sp>
      <p:sp>
        <p:nvSpPr>
          <p:cNvPr id="53" name=""/>
          <p:cNvSpPr txBox="1"/>
          <p:nvPr/>
        </p:nvSpPr>
        <p:spPr>
          <a:xfrm>
            <a:off x="2987280" y="907920"/>
            <a:ext cx="6156360" cy="4525920"/>
          </a:xfrm>
          <a:prstGeom prst="rect">
            <a:avLst/>
          </a:prstGeom>
          <a:noFill/>
          <a:ln w="0">
            <a:noFill/>
          </a:ln>
        </p:spPr>
        <p:txBody>
          <a:bodyPr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re are between 17-20 living species of Penguins.</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rgest living species is the </a:t>
            </a:r>
            <a:r>
              <a:rPr b="0" lang="en-IN" sz="2400" spc="-1" strike="noStrike">
                <a:solidFill>
                  <a:srgbClr val="0070c0"/>
                </a:solidFill>
                <a:latin typeface="Calibri"/>
              </a:rPr>
              <a:t>Emperor Penguin- </a:t>
            </a:r>
            <a:r>
              <a:rPr b="0" lang="en-IN" sz="2400" spc="-1" strike="noStrike">
                <a:solidFill>
                  <a:srgbClr val="000000"/>
                </a:solidFill>
                <a:latin typeface="Calibri"/>
              </a:rPr>
              <a:t>on average adults are about 1.1 m (3 ft 7 in) tall or more. </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t>
            </a:r>
            <a:r>
              <a:rPr b="1" lang="en-IN" sz="2400" spc="-1" strike="noStrike">
                <a:solidFill>
                  <a:srgbClr val="000000"/>
                </a:solidFill>
                <a:latin typeface="Calibri"/>
              </a:rPr>
              <a:t>King Penguin</a:t>
            </a:r>
            <a:r>
              <a:rPr b="0" lang="en-IN" sz="2400" spc="-1" strike="noStrike">
                <a:solidFill>
                  <a:srgbClr val="000000"/>
                </a:solidFill>
                <a:latin typeface="Calibri"/>
              </a:rPr>
              <a:t>  is the second largest species of penguin.</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smallest penguin species is the </a:t>
            </a:r>
            <a:r>
              <a:rPr b="0" lang="en-IN" sz="2400" spc="-1" strike="noStrike">
                <a:solidFill>
                  <a:srgbClr val="0070c0"/>
                </a:solidFill>
                <a:latin typeface="Calibri"/>
              </a:rPr>
              <a:t>Little Blue Penguin</a:t>
            </a:r>
            <a:r>
              <a:rPr b="0" lang="en-IN" sz="2400" spc="-1" strike="noStrike">
                <a:solidFill>
                  <a:srgbClr val="000000"/>
                </a:solidFill>
                <a:latin typeface="Calibri"/>
              </a:rPr>
              <a:t>  also known as the </a:t>
            </a:r>
            <a:r>
              <a:rPr b="0" lang="en-IN" sz="2400" spc="-1" strike="noStrike">
                <a:solidFill>
                  <a:srgbClr val="ff0000"/>
                </a:solidFill>
                <a:latin typeface="Calibri"/>
              </a:rPr>
              <a:t>Fairy</a:t>
            </a:r>
            <a:r>
              <a:rPr b="0" lang="en-IN" sz="2400" spc="-1" strike="noStrike">
                <a:solidFill>
                  <a:srgbClr val="000000"/>
                </a:solidFill>
                <a:latin typeface="Calibri"/>
              </a:rPr>
              <a:t> Penguin.</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yellow-eyed penguin is believed to be the rarest penguin species, with only approximately 5,000 birds surviving , though population numbers fluctuate.</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Picture 6" descr="https://encrypted-tbn0.google.com/images?q=tbn:ANd9GcSg2XgCdu2-8EJKdUqTITVSi4H6mVGiH77mjFz2nrG0rHXEelQM"/>
          <p:cNvPicPr/>
          <p:nvPr/>
        </p:nvPicPr>
        <p:blipFill>
          <a:blip r:embed="rId1"/>
          <a:stretch/>
        </p:blipFill>
        <p:spPr>
          <a:xfrm>
            <a:off x="193680" y="1268280"/>
            <a:ext cx="2612880" cy="2133720"/>
          </a:xfrm>
          <a:prstGeom prst="rect">
            <a:avLst/>
          </a:prstGeom>
          <a:ln w="0">
            <a:noFill/>
          </a:ln>
        </p:spPr>
      </p:pic>
      <p:pic>
        <p:nvPicPr>
          <p:cNvPr id="55" name="Picture 8" descr="https://encrypted-tbn2.google.com/images?q=tbn:ANd9GcRiK0GWSgFuxT33MpRUQhH1L7uJKhqyxe1vY1lttehSu0zq4VqN"/>
          <p:cNvPicPr/>
          <p:nvPr/>
        </p:nvPicPr>
        <p:blipFill>
          <a:blip r:embed="rId2"/>
          <a:stretch/>
        </p:blipFill>
        <p:spPr>
          <a:xfrm>
            <a:off x="158760" y="3645000"/>
            <a:ext cx="2828880" cy="2087640"/>
          </a:xfrm>
          <a:prstGeom prst="rect">
            <a:avLst/>
          </a:prstGeom>
          <a:ln w="0">
            <a:noFill/>
          </a:ln>
        </p:spPr>
      </p:pic>
      <p:sp>
        <p:nvSpPr>
          <p:cNvPr id="56" name="Нижний колонтитул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peror Penguin –A Brave Soul!</a:t>
            </a:r>
            <a:endParaRPr b="0" lang="en-US" sz="4400" spc="-1" strike="noStrike">
              <a:solidFill>
                <a:srgbClr val="000000"/>
              </a:solidFill>
              <a:latin typeface="Calibri"/>
            </a:endParaRPr>
          </a:p>
        </p:txBody>
      </p:sp>
      <p:sp>
        <p:nvSpPr>
          <p:cNvPr id="58" name=""/>
          <p:cNvSpPr txBox="1"/>
          <p:nvPr/>
        </p:nvSpPr>
        <p:spPr>
          <a:xfrm>
            <a:off x="4427280" y="1628640"/>
            <a:ext cx="453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Winter arrives in Antarctica in March. Nearly all creatures leave except for the emperor, the only animal that spends the winter on Antarctica's open i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6" descr=""/>
          <p:cNvPicPr/>
          <p:nvPr/>
        </p:nvPicPr>
        <p:blipFill>
          <a:blip r:embed="rId1"/>
          <a:stretch/>
        </p:blipFill>
        <p:spPr>
          <a:xfrm>
            <a:off x="360360" y="1484280"/>
            <a:ext cx="3602160" cy="3889440"/>
          </a:xfrm>
          <a:prstGeom prst="rect">
            <a:avLst/>
          </a:prstGeom>
          <a:ln w="0">
            <a:noFill/>
          </a:ln>
        </p:spPr>
      </p:pic>
      <p:sp>
        <p:nvSpPr>
          <p:cNvPr id="60"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68360" y="981000"/>
            <a:ext cx="8578800" cy="4525920"/>
          </a:xfrm>
          <a:prstGeom prst="rect">
            <a:avLst/>
          </a:prstGeom>
          <a:noFill/>
          <a:ln w="0">
            <a:noFill/>
          </a:ln>
        </p:spPr>
        <p:txBody>
          <a:bodyPr anchor="t">
            <a:normAutofit fontScale="84000"/>
          </a:bodyPr>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Penguins are warm-blooded birds as humans but still lay eggs.</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Interestingly, male Penguin takes care of the chick. To keep eggs warm away from cold they balance their egg on feet and cover them with their belly flap..</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fter females return,</a:t>
            </a:r>
            <a:r>
              <a:rPr b="0" lang="en-IN" sz="2600" spc="-1" strike="noStrike">
                <a:solidFill>
                  <a:srgbClr val="000000"/>
                </a:solidFill>
                <a:latin typeface="Calibri"/>
              </a:rPr>
              <a:t> the males eagerly leave for their own fishing session at sea, and the mothers take over care of the chicks for a while.</a:t>
            </a:r>
            <a:endParaRPr b="0" lang="en-US" sz="2600" spc="-1" strike="noStrike">
              <a:solidFill>
                <a:srgbClr val="000000"/>
              </a:solidFill>
              <a:latin typeface="Calibri"/>
            </a:endParaRPr>
          </a:p>
          <a:p>
            <a:pPr marL="288000" indent="-288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Calibri"/>
            </a:endParaRPr>
          </a:p>
        </p:txBody>
      </p:sp>
      <p:sp>
        <p:nvSpPr>
          <p:cNvPr id="62" name="PlaceHolder 1"/>
          <p:cNvSpPr>
            <a:spLocks noGrp="1"/>
          </p:cNvSpPr>
          <p:nvPr>
            <p:ph type="title"/>
          </p:nvPr>
        </p:nvSpPr>
        <p:spPr>
          <a:xfrm>
            <a:off x="539640" y="1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w they bring up their babies!</a:t>
            </a:r>
            <a:endParaRPr b="0" lang="en-US" sz="4400" spc="-1" strike="noStrike">
              <a:solidFill>
                <a:srgbClr val="000000"/>
              </a:solidFill>
              <a:latin typeface="Calibri"/>
            </a:endParaRPr>
          </a:p>
        </p:txBody>
      </p:sp>
      <p:sp>
        <p:nvSpPr>
          <p:cNvPr id="63"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2600"/>
            <a:ext cx="81360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65" name=""/>
          <p:cNvSpPr txBox="1"/>
          <p:nvPr/>
        </p:nvSpPr>
        <p:spPr>
          <a:xfrm>
            <a:off x="179280" y="1052280"/>
            <a:ext cx="8785440" cy="388764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here are about 17-20 different species of penguin and around 100 million penguins are there  in the world.</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Penguins seem to have no special fear of humans. This is probably because penguins have no land predators in Antarctica. </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Another interesting  thing about them is if they lose a chick they steal from other mother.</a:t>
            </a:r>
            <a:endParaRPr b="0" lang="en-US" sz="2800" spc="-1" strike="noStrike">
              <a:solidFill>
                <a:srgbClr val="000000"/>
              </a:solidFill>
              <a:latin typeface="Calibri"/>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68360" y="1197000"/>
            <a:ext cx="822960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can walk faster than humans even when they seem to waddle while walking.</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know Yoga ! They can hold their breath for 20 minutes under water and can leap in water while swimming.</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love to store stones that help them to float in water. </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really funny that penguins steal stones from each other &amp; there are sometimes fight among them for this.</a:t>
            </a:r>
            <a:endParaRPr b="0" lang="en-US" sz="3200" spc="-1" strike="noStrike">
              <a:solidFill>
                <a:srgbClr val="000000"/>
              </a:solidFill>
              <a:latin typeface="Calibri"/>
            </a:endParaRPr>
          </a:p>
        </p:txBody>
      </p:sp>
      <p:sp>
        <p:nvSpPr>
          <p:cNvPr id="68"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69"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68360" y="1052640"/>
            <a:ext cx="8229600" cy="4176720"/>
          </a:xfrm>
          <a:prstGeom prst="rect">
            <a:avLst/>
          </a:prstGeom>
          <a:noFill/>
          <a:ln w="0">
            <a:noFill/>
          </a:ln>
        </p:spPr>
        <p:txBody>
          <a:bodyPr anchor="t">
            <a:normAutofit fontScale="84000"/>
          </a:bodyPr>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3000" spc="-1" strike="noStrike">
              <a:solidFill>
                <a:srgbClr val="000000"/>
              </a:solidFill>
              <a:latin typeface="Calibri"/>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Penguins’ eyes work better underwater than they do in the air, giving them good eyesight to spot prey while hunting, even in cloudy, dark or murky water.</a:t>
            </a:r>
            <a:endParaRPr b="0" lang="en-US" sz="3000" spc="-1" strike="noStrike">
              <a:solidFill>
                <a:srgbClr val="000000"/>
              </a:solidFill>
              <a:latin typeface="Calibri"/>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 </a:t>
            </a:r>
            <a:r>
              <a:rPr b="0" lang="en-IN" sz="3000" spc="-1" strike="noStrike">
                <a:solidFill>
                  <a:srgbClr val="000000"/>
                </a:solidFill>
                <a:latin typeface="Calibri"/>
              </a:rPr>
              <a:t>Emperor penguins and king penguins do not make any sort of nests.</a:t>
            </a:r>
            <a:br>
              <a:rPr sz="3000"/>
            </a:br>
            <a:r>
              <a:rPr b="0" lang="en-IN" sz="3000" spc="-1" strike="noStrike">
                <a:solidFill>
                  <a:srgbClr val="000000"/>
                </a:solidFill>
                <a:latin typeface="Calibri"/>
              </a:rPr>
              <a:t> </a:t>
            </a:r>
            <a:endParaRPr b="0" lang="en-US" sz="3000" spc="-1" strike="noStrike">
              <a:solidFill>
                <a:srgbClr val="000000"/>
              </a:solidFill>
              <a:latin typeface="Calibri"/>
            </a:endParaRPr>
          </a:p>
        </p:txBody>
      </p:sp>
      <p:sp>
        <p:nvSpPr>
          <p:cNvPr id="71" name="PlaceHolder 1"/>
          <p:cNvSpPr>
            <a:spLocks noGrp="1"/>
          </p:cNvSpPr>
          <p:nvPr>
            <p:ph type="title"/>
          </p:nvPr>
        </p:nvSpPr>
        <p:spPr>
          <a:xfrm>
            <a:off x="39528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72"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30:07Z</dcterms:modified>
  <cp:revision>16</cp:revision>
  <dc:subject/>
  <dc:title>Polar Bear</dc:title>
</cp:coreProperties>
</file>