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5F72-1A26-4DA7-96FE-D4C728BC6F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.6 Oils and F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nd F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nd fats – important for storing chemical energy in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re liquids – fats are sol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from esters of propane-1,2,3,triol (glycerol) + long chain carboxylic acids R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nd fats – important for storing chemical energy in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re liquids – fats are sol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from esters of propane-1,2,3,triol (glycerol) + long chain carboxylic acids R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11 Common fatty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11 Common fatty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s (triglycerides) – 3 carboxylic acids react with tri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ed triesters – three acid groups, not all alike often found in natural oils and f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s (triglycerides) – 3 carboxylic acids react with tri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ed triesters – three acid groups, not all alike often found in natural oils and f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s and fatty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anched hydrocarbo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fatty acids – occur in fat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unsaturated / 3 or 4 double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known by old names – systematic names too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cause blockage of blood vessels and heart disease, especially the saturated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s and fatty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anched hydrocarbo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fatty acids – occur in fat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unsaturated / 3 or 4 double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known by old names – systematic names too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cause blockage of blood vessels and heart disease, especially the saturated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fact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oils and fats are mixtures of trie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plit up by hydrolysis, heat with conc. Na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 + NaOH  glycerol + sodium salt of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s of soap manufacture eg. “Palmoliv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dium salts to free acids by adding dil. HCl or other mineral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fact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oils and fats are mixtures of trie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plit up by hydrolysis, heat with conc. Na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 + NaOH  glycerol + sodium salt of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s of soap manufacture eg. “Palmoliv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dium salts to free acids by adding dil. HCl or other mineral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or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s present in mixture affect th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ated triglycerides pack closely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active forces - high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or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s present in mixture affect th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ated triglycerides pack closely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active forces - high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Liqu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aturated triglyceride molecules cannot pack closely together because of cis double bonds - causes kin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olecular forces are wea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energy needed to separate molecules - low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Liqu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aturated triglyceride molecules cannot pack closely together because of cis double bonds - causes kin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olecular forces are wea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energy needed to separate molecules - low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ing oil to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atural oils need processing to make them fit for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ation of unsaturated oils - make marga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d hydrogenation makes oils more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 H2 through heated oil - nickel cataly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flavourings, salt, vitamin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ing oil to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atural oils need processing to make them fit for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ation of unsaturated oils - make marga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d hydrogenation makes oils more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 H2 through heated oil - nickel cataly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flavourings, salt, vitamin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D77-10BC-41FE-A33A-B4EE8804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4560-0EA9-413E-B143-197CCF06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EA1A-E9F4-418E-B4A4-2A671091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6729-8A90-4E16-B03D-4C9D43C1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C6A6-3C56-41C0-93F7-DCA0A223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B42-B604-4420-94BC-948B226E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604A-D815-4640-ADDD-55A9D005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26C6-2C36-46DE-982F-8DF256CC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0739-8237-45BF-95D6-DAEE1258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69B8-42B1-4EE2-A421-14E8937F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C3BB-CA50-4B1D-9C48-61A24C80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FFCA-733C-46E1-AFC9-FD4B819E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3708-CD4B-4F1C-922D-9F99F6F072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3.6 Oils and F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2057400" y="3581280"/>
          <a:ext cx="1738440" cy="21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581280"/>
                    <a:ext cx="173844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6"/>
          <p:cNvGraphicFramePr/>
          <p:nvPr/>
        </p:nvGraphicFramePr>
        <p:xfrm>
          <a:off x="5181480" y="4038480"/>
          <a:ext cx="2057400" cy="134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4038480"/>
                    <a:ext cx="205740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ourier New"/>
              </a:rPr>
              <a:t>Chemical structu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ils and fats – important for storing chemical energy in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ils are liquids – fats are sol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de from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ester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of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propane-1,2,3,triol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(glycerol) + long chain carboxylic acids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RCOOH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5"/>
          <p:cNvGraphicFramePr/>
          <p:nvPr/>
        </p:nvGraphicFramePr>
        <p:xfrm>
          <a:off x="1676520" y="4343400"/>
          <a:ext cx="6457680" cy="21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343400"/>
                    <a:ext cx="645768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fatty acids"/>
          <p:cNvPicPr/>
          <p:nvPr/>
        </p:nvPicPr>
        <p:blipFill>
          <a:blip r:embed="rId1"/>
          <a:stretch/>
        </p:blipFill>
        <p:spPr>
          <a:xfrm>
            <a:off x="457200" y="1981080"/>
            <a:ext cx="8282160" cy="3048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able 11 Common fatty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s of tries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Triesters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triglycerides)</a:t>
            </a:r>
            <a:r>
              <a:rPr b="0" lang="en-GB" sz="2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– 3 carboxylic acids react with tri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Mixed triesters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– three acid groups, not all alike often found in natural oils and f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5"/>
          <p:cNvGraphicFramePr/>
          <p:nvPr/>
        </p:nvGraphicFramePr>
        <p:xfrm>
          <a:off x="609480" y="2362320"/>
          <a:ext cx="4496040" cy="266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362320"/>
                    <a:ext cx="44960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ourier New"/>
              </a:rPr>
              <a:t>Fats and fatty aci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nbranched hydrocarbon ch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alled fatty acids – occur in fat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lly unsaturated / 3 or 4 double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till known by old names – systematic names too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hought to cause blockage of blood vessels and heart disease, especially the saturated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t fact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atural oils and fats are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mixtures of triester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an be split up by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hydrolysis,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heat with conc. NaO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</a:rPr>
              <a:t>Triester + NaOH </a:t>
            </a:r>
            <a:r>
              <a:rPr b="1" lang="en-GB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</a:rPr>
              <a:t> glycerol + sodium salt of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asis of soap manufacture eg. </a:t>
            </a: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“Palmoliv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nvert sodium salts to free acids by adding dil. HCl or other mineral ac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id or...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3809880"/>
            <a:ext cx="7238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tty acids present in mixture affect the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turated triglycerides pack closely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tractive forces - higher melting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3" descr="satgly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186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14"/>
          <p:cNvGraphicFramePr/>
          <p:nvPr/>
        </p:nvGraphicFramePr>
        <p:xfrm>
          <a:off x="914400" y="657360"/>
          <a:ext cx="1752480" cy="114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657360"/>
                    <a:ext cx="1752480" cy="11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r Liqu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saturated triglyceride molecules cannot pack closely together because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ouble bonds - causes kink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molecular forces are wea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ss energy needed to separate molecules - lower melting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unsatgly"/>
          <p:cNvPicPr/>
          <p:nvPr/>
        </p:nvPicPr>
        <p:blipFill>
          <a:blip r:embed="rId1"/>
          <a:stretch/>
        </p:blipFill>
        <p:spPr>
          <a:xfrm>
            <a:off x="1219320" y="1371600"/>
            <a:ext cx="5867280" cy="277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9"/>
          <p:cNvGraphicFramePr/>
          <p:nvPr/>
        </p:nvGraphicFramePr>
        <p:xfrm>
          <a:off x="838080" y="685800"/>
          <a:ext cx="1430280" cy="17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685800"/>
                    <a:ext cx="143028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verting oil to f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3962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natural oils need processing to make them fit for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ydrogen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unsaturated oils - make margar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ontroll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ydrogenation makes oils more sol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ss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rough heated oil - nickel cataly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 flavourings, salt, vitamin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1"/>
          <p:cNvGrpSpPr/>
          <p:nvPr/>
        </p:nvGrpSpPr>
        <p:grpSpPr>
          <a:xfrm>
            <a:off x="609480" y="914400"/>
            <a:ext cx="8344080" cy="2857680"/>
            <a:chOff x="609480" y="914400"/>
            <a:chExt cx="8344080" cy="2857680"/>
          </a:xfrm>
        </p:grpSpPr>
        <p:grpSp>
          <p:nvGrpSpPr>
            <p:cNvPr id="81" name="Group 32"/>
            <p:cNvGrpSpPr/>
            <p:nvPr/>
          </p:nvGrpSpPr>
          <p:grpSpPr>
            <a:xfrm>
              <a:off x="609480" y="914400"/>
              <a:ext cx="8344080" cy="2400480"/>
              <a:chOff x="609480" y="914400"/>
              <a:chExt cx="8344080" cy="2400480"/>
            </a:xfrm>
          </p:grpSpPr>
          <p:sp>
            <p:nvSpPr>
              <p:cNvPr id="82" name="Line 33"/>
              <p:cNvSpPr/>
              <p:nvPr/>
            </p:nvSpPr>
            <p:spPr>
              <a:xfrm flipV="1">
                <a:off x="4200480" y="2287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" name="Group 34"/>
              <p:cNvGrpSpPr/>
              <p:nvPr/>
            </p:nvGrpSpPr>
            <p:grpSpPr>
              <a:xfrm>
                <a:off x="609480" y="914400"/>
                <a:ext cx="8344080" cy="2400480"/>
                <a:chOff x="609480" y="914400"/>
                <a:chExt cx="8344080" cy="2400480"/>
              </a:xfrm>
            </p:grpSpPr>
            <p:sp>
              <p:nvSpPr>
                <p:cNvPr id="84" name="AutoShape 35"/>
                <p:cNvSpPr/>
                <p:nvPr/>
              </p:nvSpPr>
              <p:spPr>
                <a:xfrm>
                  <a:off x="609480" y="1600200"/>
                  <a:ext cx="1828800" cy="91440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Oil mixtu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Text Box 36"/>
                <p:cNvSpPr/>
                <p:nvPr/>
              </p:nvSpPr>
              <p:spPr>
                <a:xfrm>
                  <a:off x="2666880" y="1943280"/>
                  <a:ext cx="799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Refin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Text Box 37"/>
                <p:cNvSpPr/>
                <p:nvPr/>
              </p:nvSpPr>
              <p:spPr>
                <a:xfrm>
                  <a:off x="3695400" y="1943280"/>
                  <a:ext cx="1142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Hydrogen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Text Box 38"/>
                <p:cNvSpPr/>
                <p:nvPr/>
              </p:nvSpPr>
              <p:spPr>
                <a:xfrm>
                  <a:off x="5067360" y="1943280"/>
                  <a:ext cx="6854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Blen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Text Box 39"/>
                <p:cNvSpPr/>
                <p:nvPr/>
              </p:nvSpPr>
              <p:spPr>
                <a:xfrm>
                  <a:off x="5981760" y="1943280"/>
                  <a:ext cx="91440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Emulsifi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AutoShape 40"/>
                <p:cNvSpPr/>
                <p:nvPr/>
              </p:nvSpPr>
              <p:spPr>
                <a:xfrm>
                  <a:off x="7124760" y="1600200"/>
                  <a:ext cx="1828800" cy="91440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Margari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AutoShape 41"/>
                <p:cNvSpPr/>
                <p:nvPr/>
              </p:nvSpPr>
              <p:spPr>
                <a:xfrm>
                  <a:off x="3466800" y="2514600"/>
                  <a:ext cx="1485720" cy="5713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Catalys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AutoShape 42"/>
                <p:cNvSpPr/>
                <p:nvPr/>
              </p:nvSpPr>
              <p:spPr>
                <a:xfrm>
                  <a:off x="3466800" y="1142640"/>
                  <a:ext cx="1485720" cy="5713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Hydro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AutoShape 43"/>
                <p:cNvSpPr/>
                <p:nvPr/>
              </p:nvSpPr>
              <p:spPr>
                <a:xfrm>
                  <a:off x="5753160" y="914400"/>
                  <a:ext cx="1485720" cy="7999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Fat free mil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AutoShape 44"/>
                <p:cNvSpPr/>
                <p:nvPr/>
              </p:nvSpPr>
              <p:spPr>
                <a:xfrm>
                  <a:off x="5753160" y="2514600"/>
                  <a:ext cx="1714680" cy="80028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Flavourings etc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45"/>
                <p:cNvSpPr/>
                <p:nvPr/>
              </p:nvSpPr>
              <p:spPr>
                <a:xfrm>
                  <a:off x="2438280" y="205740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46"/>
                <p:cNvSpPr/>
                <p:nvPr/>
              </p:nvSpPr>
              <p:spPr>
                <a:xfrm>
                  <a:off x="346680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47"/>
                <p:cNvSpPr/>
                <p:nvPr/>
              </p:nvSpPr>
              <p:spPr>
                <a:xfrm>
                  <a:off x="483840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Line 48"/>
                <p:cNvSpPr/>
                <p:nvPr/>
              </p:nvSpPr>
              <p:spPr>
                <a:xfrm>
                  <a:off x="575316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Line 49"/>
                <p:cNvSpPr/>
                <p:nvPr/>
              </p:nvSpPr>
              <p:spPr>
                <a:xfrm>
                  <a:off x="6896160" y="205740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Line 50"/>
                <p:cNvSpPr/>
                <p:nvPr/>
              </p:nvSpPr>
              <p:spPr>
                <a:xfrm>
                  <a:off x="4209840" y="17067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Line 51"/>
                <p:cNvSpPr/>
                <p:nvPr/>
              </p:nvSpPr>
              <p:spPr>
                <a:xfrm>
                  <a:off x="6496200" y="1716120"/>
                  <a:ext cx="0" cy="23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Line 52"/>
                <p:cNvSpPr/>
                <p:nvPr/>
              </p:nvSpPr>
              <p:spPr>
                <a:xfrm flipV="1">
                  <a:off x="6610320" y="2287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" name="Rectangle 53"/>
            <p:cNvSpPr/>
            <p:nvPr/>
          </p:nvSpPr>
          <p:spPr>
            <a:xfrm>
              <a:off x="1066680" y="3086280"/>
              <a:ext cx="114264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54"/>
            <p:cNvSpPr/>
            <p:nvPr/>
          </p:nvSpPr>
          <p:spPr>
            <a:xfrm>
              <a:off x="2323800" y="3086280"/>
              <a:ext cx="18288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Processes involv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AutoShape 55"/>
            <p:cNvSpPr/>
            <p:nvPr/>
          </p:nvSpPr>
          <p:spPr>
            <a:xfrm>
              <a:off x="952200" y="3429360"/>
              <a:ext cx="1028520" cy="3427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56"/>
            <p:cNvSpPr/>
            <p:nvPr/>
          </p:nvSpPr>
          <p:spPr>
            <a:xfrm>
              <a:off x="2095200" y="3429360"/>
              <a:ext cx="17146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Chemicals involv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5T19:45:16Z</dcterms:created>
  <dc:creator>M Tyrrell</dc:creator>
  <dc:description/>
  <dc:language>en-US</dc:language>
  <cp:lastModifiedBy>RomaK</cp:lastModifiedBy>
  <cp:lastPrinted>2002-03-05T22:45:04Z</cp:lastPrinted>
  <dcterms:modified xsi:type="dcterms:W3CDTF">2015-09-02T05:58:37Z</dcterms:modified>
  <cp:revision>16</cp:revision>
  <dc:subject/>
  <dc:title>13.6 Oils and Fats</dc:title>
</cp:coreProperties>
</file>