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0FDB-8766-4A32-816C-69F76E46A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: The Smallest Unit of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cts on individuals, but only populations evol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Genetic vari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populations contribute to 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icroevolu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change in allele freque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gen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rocesses,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u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duce the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gene pools that contributes to differences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07720" y="1166400"/>
            <a:ext cx="8902440" cy="50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n all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 can   be calcul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re are 2 alleles at a locu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sed to represent their frequen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ll alleles in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ll add up to 1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d0e08"/>
                </a:solidFill>
                <a:latin typeface="Arial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93600"/>
            <a:ext cx="6019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ardy-Weinberg Principle: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64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ardy-Weinberg princi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s an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ide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pulation that 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not evolv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loser a population is to the criteria of the Hardy-Weinberg principle, the more stable the population is likely to 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Genotype Frequ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                  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+ 2pq + q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the frequencies of the homozygous genotypes and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the frequency of the heterozygous g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0520" y="4546080"/>
            <a:ext cx="287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ve conditions for nonevolving populations are rarely met in na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mu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Random m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natural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Extremely larg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ge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228240"/>
            <a:ext cx="65530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ed0e08"/>
                </a:solidFill>
                <a:latin typeface="Arial"/>
              </a:rPr>
              <a:t>Hardy-Weinberg Ideal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54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pplying the Hardy-Weinberg Principl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4480" y="1230480"/>
            <a:ext cx="8534520" cy="516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137"/>
              </a:spcBef>
              <a:spcAft>
                <a:spcPts val="32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assume the locus that causes phenylketonuria (PKU) is in Hardy-Weinberg equilibrium given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KU gene mutation rate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 selection is random with respect to whether or not an individual is a carrier for the PKU all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selection can only act on rare homozygous individuals who do not follow dietary restr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is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has no effect as many other populations have similar allele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4480" y="1211400"/>
            <a:ext cx="853452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ccurrence of PKU is 1 per 10,000 bir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normal allele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 1 – 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– 0.01 = 0.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heterozygo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carrier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q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x 0.99 x 0.01 = 0.01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pproximately 2% of the U.S.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98000" y="1574640"/>
            <a:ext cx="853452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ajo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ctors alter allele frequen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bring about most evolutionary chan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tic drift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 flow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52280" y="838080"/>
            <a:ext cx="8839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atural Selection and Genetic Drif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Differential success in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ults in certain alleles being passed to the next generation in greater proportions by the more fit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Genetic dri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s how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allele frequencies fluctuate random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ne generation to the nex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maller a sample, the greater the chance of deviation from a predicted resul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drift tends to reduce genetic variation through losses of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3_08GeneticDrift_3-U"/>
          <p:cNvPicPr/>
          <p:nvPr/>
        </p:nvPicPr>
        <p:blipFill>
          <a:blip r:embed="rId1"/>
          <a:stretch/>
        </p:blipFill>
        <p:spPr>
          <a:xfrm>
            <a:off x="297000" y="995400"/>
            <a:ext cx="8548560" cy="4865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152280" y="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Drif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28880" y="4941720"/>
            <a:ext cx="1323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53920" y="28306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52600" y="16747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78040" y="45831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279520" y="16686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828800" y="28274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745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930240" y="4579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2251080" y="40053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1339920" y="34113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393920" y="21826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22280" y="5214960"/>
            <a:ext cx="2365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78000" y="5472000"/>
            <a:ext cx="24796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r>
              <a:rPr b="1" lang="en-US" sz="600" spc="-1" strike="noStrike" baseline="30000">
                <a:solidFill>
                  <a:srgbClr val="000000"/>
                </a:solidFill>
                <a:latin typeface="BI Times BoldItalic"/>
                <a:ea typeface="Genev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400680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184720" y="456732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505320" y="45640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43400" y="33987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40160" y="220824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876840" y="16588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5137200" y="2833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3882960" y="3976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4854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552840" y="28717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48513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17840" y="521820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21080" y="548172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694044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7257960" y="521496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7257960" y="547848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7302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6464160" y="2211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6861240" y="279576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8163000" y="221760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7731000" y="28242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6467400" y="3408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9"/>
          <p:cNvSpPr/>
          <p:nvPr/>
        </p:nvSpPr>
        <p:spPr>
          <a:xfrm>
            <a:off x="8188200" y="34052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7318440" y="392904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6873840" y="4525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7689960" y="452268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Founder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04480" y="1165320"/>
            <a:ext cx="853452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ounder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 few individuals become isola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a larger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 frequencies in the small founder population can be different from those in the larger parent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Bottleneck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bottleneck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sudden reduction in 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e to a change in the environment, such as a natural disa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ing gene pool may no longer be reflective of the original population’s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population remains small, it may be further affected by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23_02-NonheritVariation-U"/>
          <p:cNvPicPr/>
          <p:nvPr/>
        </p:nvPicPr>
        <p:blipFill>
          <a:blip r:embed="rId1"/>
          <a:stretch/>
        </p:blipFill>
        <p:spPr>
          <a:xfrm>
            <a:off x="297000" y="1825560"/>
            <a:ext cx="8548560" cy="3206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152280" y="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Genetic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28760" y="18558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765680" y="18493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23_09BottleneckEffect-U"/>
          <p:cNvPicPr/>
          <p:nvPr/>
        </p:nvPicPr>
        <p:blipFill>
          <a:blip r:embed="rId1"/>
          <a:stretch/>
        </p:blipFill>
        <p:spPr>
          <a:xfrm>
            <a:off x="304920" y="762120"/>
            <a:ext cx="8548560" cy="5346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152280" y="0"/>
            <a:ext cx="670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e08"/>
                </a:solidFill>
                <a:latin typeface="Arial"/>
              </a:rPr>
              <a:t>Genetic Drift:  The BottleNe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0920" y="5303880"/>
            <a:ext cx="15652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629160" y="5297400"/>
            <a:ext cx="19461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Bottlene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7311960" y="5300640"/>
            <a:ext cx="15908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Surv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308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0e08"/>
                </a:solidFill>
                <a:latin typeface="Times New Roman"/>
              </a:rPr>
              <a:t>Effects of Genetic Drift</a:t>
            </a:r>
            <a:r>
              <a:rPr b="1" lang="en-US" sz="3200" spc="-1" strike="noStrike">
                <a:solidFill>
                  <a:srgbClr val="ed0e08"/>
                </a:solidFill>
                <a:latin typeface="Times New Roman"/>
              </a:rPr>
              <a:t>: A Summary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7160" y="1174320"/>
            <a:ext cx="853416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is significant in small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uses allele frequencies to change at rand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lead to a loss of genetic variation with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cause harmful alleles to become fix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Gene Flow:  Immigration &amp; Emmig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flo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alleles among popul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s can be transferred through the 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fertile individuals or game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or example, polle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Gene flow tends to reduce differences between populations over 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 flow is more likely than mutation to alter allele frequencies direc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23_11GeneFlowHumanFace-U"/>
          <p:cNvPicPr/>
          <p:nvPr/>
        </p:nvPicPr>
        <p:blipFill>
          <a:blip r:embed="rId1"/>
          <a:stretch/>
        </p:blipFill>
        <p:spPr>
          <a:xfrm>
            <a:off x="2147760" y="136440"/>
            <a:ext cx="4846680" cy="658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05920" y="1568160"/>
            <a:ext cx="853452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natural selection consistently results in adaptive ev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atural selection brings about adaptive evolution by acting on an organism’s phenotyp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52280" y="838080"/>
            <a:ext cx="8763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38240" y="76320"/>
            <a:ext cx="8996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atural Selection:  Relative Fitnes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tural selection phrases “struggle for existence” and “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urvival of the fitt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are misleading as they imply direct competition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oductive success is generally more subtle and depends on many fa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Relative fitn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the contribution an individual makes to the gene poo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next generation, relative to the contributions of other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ion favors certain genotypes by acting on the phenotypes of certain organis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rectional, Disruptive, and Stabilizing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des of natural sele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rectional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one end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sruptive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both extremes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Stabilizing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termediate variants and acts against extreme pheno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23_13-SelectionModes-U"/>
          <p:cNvPicPr/>
          <p:nvPr/>
        </p:nvPicPr>
        <p:blipFill>
          <a:blip r:embed="rId1"/>
          <a:stretch/>
        </p:blipFill>
        <p:spPr>
          <a:xfrm>
            <a:off x="304920" y="380880"/>
            <a:ext cx="8548560" cy="60548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52280" y="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6105600" y="142560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Origi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465960" y="604368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c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Stabilizing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395520" y="6043680"/>
            <a:ext cx="1843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Disruptiv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339840" y="6046920"/>
            <a:ext cx="1982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a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Directio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3718080" y="3095640"/>
            <a:ext cx="198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henotypes (fur col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 rot="16162200">
            <a:off x="2263680" y="1539720"/>
            <a:ext cx="1982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Frequency of individu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79056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178740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Evol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4835520" y="1530360"/>
            <a:ext cx="1235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1303200" y="3535200"/>
            <a:ext cx="131760" cy="73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>
            <a:off x="1854000" y="3535200"/>
            <a:ext cx="2206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Key Role of Natural Selection in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Natural selection increas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frequencies of alleles that enhance survival an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Adaptive evolution =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he match between an organism and its environ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" descr="23_14-AdaptationExamples-U"/>
          <p:cNvPicPr/>
          <p:nvPr/>
        </p:nvPicPr>
        <p:blipFill>
          <a:blip r:embed="rId1"/>
          <a:stretch/>
        </p:blipFill>
        <p:spPr>
          <a:xfrm>
            <a:off x="2849400" y="136440"/>
            <a:ext cx="3445200" cy="6585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</a:rPr>
              <a:t>Natural Selection - Adaptive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879640" y="2433600"/>
            <a:ext cx="420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a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Color-changing ability in cuttle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209680" y="5943600"/>
            <a:ext cx="1870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Movable j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bone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sn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889360" y="2963880"/>
            <a:ext cx="117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 flipV="1">
            <a:off x="3111480" y="3143160"/>
            <a:ext cx="50760" cy="3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 flipH="1" flipV="1">
            <a:off x="3162240" y="3139920"/>
            <a:ext cx="44640" cy="44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853452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Population geneticis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asure polymorphisms in a population by determining the amount of heterozygosity at the gene and molecular lev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erage heterozygos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the average percent of loci that are heterozygou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pecies exhibit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geographic 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ces between gene pools of separate populations or population subgrou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xamples of geographic variation occur as a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cl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is a graded change in a trait along a geographic ax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nvironments chan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daptive evolution is a continuous proc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natur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mating suc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result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xual dimorph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arked differences between the sexes in secondary sexual characterist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showiness due to mate choice can increase a male’s chances of attracting a female, while decreasing his chances of surviv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7" descr="23_15SexualSelection-U"/>
          <p:cNvPicPr/>
          <p:nvPr/>
        </p:nvPicPr>
        <p:blipFill>
          <a:blip r:embed="rId1"/>
          <a:stretch/>
        </p:blipFill>
        <p:spPr>
          <a:xfrm>
            <a:off x="297000" y="458640"/>
            <a:ext cx="8548560" cy="59389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0" y="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Sexua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female preferences evol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genes hypothesis suggests that if a trait is related to male health, both the male trait and female preference for that trait should be selected f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Times New Roman"/>
              </a:rPr>
              <a:t>Preservation of Genetic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ous mechanisms help to preserve genetic variation in a popul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Diploi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intains genetic variation in the form of hidden recessive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eterozygote advantag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when heterozygotes have a higher fitness than do both homozygotes. Natural selection will tend to maintain two or more alleles at that loc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ickle-cell alle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uses mutations in hemoglobin but also confers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malaria resist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7" descr="23_17MalariaSickleCelMap-U"/>
          <p:cNvPicPr/>
          <p:nvPr/>
        </p:nvPicPr>
        <p:blipFill>
          <a:blip r:embed="rId1"/>
          <a:stretch/>
        </p:blipFill>
        <p:spPr>
          <a:xfrm>
            <a:off x="952560" y="136440"/>
            <a:ext cx="7237440" cy="65851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0" y="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454800" y="4125960"/>
            <a:ext cx="1008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0–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1130400" y="4998960"/>
            <a:ext cx="41068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Distribution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malaria caus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Plasmodium falcipa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(a parasitic unicellular eukaryot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587920" y="3475080"/>
            <a:ext cx="225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Frequencies of t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sickle-cell all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251400" y="449424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2.5–5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251400" y="5205240"/>
            <a:ext cx="1287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7.5–10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6251400" y="484992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5.0–7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620040" y="5942160"/>
            <a:ext cx="1071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&gt;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111720" y="5548320"/>
            <a:ext cx="1465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10.0–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16000" y="19558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requency-dependent selection, the fitness of a phenotype declines if it becomes too common in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vors whichever phenotype is less comm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09520" y="1181160"/>
            <a:ext cx="6008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requency-Dependent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7" descr="23_18-FreqDepSelection-U"/>
          <p:cNvPicPr/>
          <p:nvPr/>
        </p:nvPicPr>
        <p:blipFill>
          <a:blip r:embed="rId1"/>
          <a:stretch/>
        </p:blipFill>
        <p:spPr>
          <a:xfrm>
            <a:off x="1346040" y="136440"/>
            <a:ext cx="6451920" cy="65851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Depend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4886280" y="1319040"/>
            <a:ext cx="2100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Righ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2438280" y="5884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959360" y="2878200"/>
            <a:ext cx="156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 rot="16198800">
            <a:off x="330480" y="3664080"/>
            <a:ext cx="279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Frequenc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4013280" y="6192720"/>
            <a:ext cx="1414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Sample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2025720" y="2023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022480" y="3824280"/>
            <a:ext cx="309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2193840" y="5703840"/>
            <a:ext cx="109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294948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339084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3819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4257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4692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5127480" y="5881680"/>
            <a:ext cx="322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5562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5997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5"/>
          <p:cNvSpPr/>
          <p:nvPr/>
        </p:nvSpPr>
        <p:spPr>
          <a:xfrm>
            <a:off x="643896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eutral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utral vari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genetic variation that appears to confe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o selective advan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disadvan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noncoding region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proteins that have little effect on protein function or reproductive f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hy </a:t>
            </a: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Natural Selection Cannot Fashion Perfect Organism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7160" y="1174680"/>
            <a:ext cx="853416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can act only on existing vari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 is limited by historical constra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aptations are often compromi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ce, natural selection, and the environment inte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23_04GeoVariationCline-U"/>
          <p:cNvPicPr/>
          <p:nvPr/>
        </p:nvPicPr>
        <p:blipFill>
          <a:blip r:embed="rId1"/>
          <a:stretch/>
        </p:blipFill>
        <p:spPr>
          <a:xfrm>
            <a:off x="297000" y="279360"/>
            <a:ext cx="8548560" cy="6297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C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28880" y="426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019160" y="124308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019160" y="205884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015920" y="287820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019160" y="3693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263600" y="450684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153684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3907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2385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09248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94352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7913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64524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4995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835020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924600" y="5627520"/>
            <a:ext cx="1714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Geo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Warm (21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4397400" y="5227560"/>
            <a:ext cx="171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Latitude (°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1558800" y="5627520"/>
            <a:ext cx="1517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Ma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Cold (6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 rot="16199400">
            <a:off x="-930240" y="2380680"/>
            <a:ext cx="3232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Geneva"/>
              </a:rPr>
              <a:t>Ldh-B</a:t>
            </a:r>
            <a:r>
              <a:rPr b="1" i="1" lang="en-US" sz="600" spc="-1" strike="noStrike">
                <a:solidFill>
                  <a:srgbClr val="000000"/>
                </a:solidFill>
                <a:latin typeface="Times New Roman"/>
                <a:ea typeface="Geneva"/>
              </a:rPr>
              <a:t> 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 allele frequ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he majority of point mutations are harml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sexual recombination generates genetic vari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s population, species, gene pool, relative fitness, and neutral var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the five conditions of Hardy-Weinberg equilibri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the Hardy-Weinberg equation to a population genetics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natural selection is the only mechanism that consistently produces adaptive ch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the role of population size in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16000" y="1174320"/>
            <a:ext cx="8534160" cy="31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among the following sets of terms: directional, disruptive, and stabilizing selection; intrasexual and intersexual se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four reasons why natural selection cannot produce perfect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ut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Mutatio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changes 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ucleotide seq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DN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caus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ge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ari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mutations in cells that produce gametes can be passed to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point mu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change in one base in a ge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315280" y="5905440"/>
            <a:ext cx="18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4480" y="990720"/>
            <a:ext cx="853452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ffects of point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va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noncoding regions of DNA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a gene might not affect protein production because of redundancy in the genetic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can sometimes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increase the fit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organism in it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Mutations That Alter Gene / Chromosome Number or Seque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Chromosomal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lete, disrupt, or rearrange many loci are typically harm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utation ra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low in animals and pl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rates are often lower in prokaryotes and higher in viru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Reprodu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shuffle existing alleles into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combin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ganisms that reproduce sexually, recombination of alleles is more important than mutation in producing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genetic differences that make adaptation poss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tests whether a sexually reproducing population is evolv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localized group of individuals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speci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 an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capable of interbreeding and producing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erti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poo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 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ll loci in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cus is fixed if all individuals in a population are homozygous for the same all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19:06:35Z</cp:lastPrinted>
  <dcterms:modified xsi:type="dcterms:W3CDTF">2018-03-12T08:53:58Z</dcterms:modified>
  <cp:revision>816</cp:revision>
  <dc:subject/>
  <dc:title>video slide</dc:title>
</cp:coreProperties>
</file>