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3205-7658-4A30-82C2-7D90ADA10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, the origin of new species, is at the focal point of Darwin’s evolutionary the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ary theory must explain how new species originate and how populations ev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 consists of adaptations that evolve within a population, confined to one gene p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 refers to evolutionary change above the species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, the origin of new species, is at the focal point of Darwin’s evolutionary theo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ary theory must explain how new species originate and how populations ev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 consists of adaptations that evolve within a population, confined to one gene p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 refers to evolutionary change above the species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-dwelling Thamnop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-dwelling Thamnop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Thamnop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Thamnop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 Isolation: Species that breed at different times of the day, different seasons, or different years cannot mix their game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 isolation: Courtship rituals and other behaviors unique to a species are effective barri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isolation: Morphological differences can prevent successful m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ic isolation: Sperm of one species may not be able to fertilize eggs of another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Reproductive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 Isolation: Species that breed at different times of the day, different seasons, or different years cannot mix their game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 isolation: Courtship rituals and other behaviors unique to a species are effective barri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isolation: Morphological differences can prevent successful m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ic isolation: Sperm of one species may not be able to fertilize eggs of another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Reproductive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 Isolation Occurs Without Appropriate Mating Rit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ship ritual of blue-footed boob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 Isolation Occurs Without Appropriate Mating Rit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ship ritual of blue-footed boo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Isol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dybaena with shells spiraling in opposite dir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Isol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dybaena with shells spiraling in opposite di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barriers prevent the hybrid zygote from developing into a viable, fertile adul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ybrid viability -- weak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ybrid fertility -- sterile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break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Reproductive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zygotic barriers prevent the hybrid zygote from developing into a viable, fertile adul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duced hybrid viability -- weak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duced hybrid fertility -- sterile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ybrid breakd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Zygotic Reproductive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Reproductive 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e:  sterile hybrid offspring between horse and don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Reproductive B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e:  sterile hybrid offspring between horse and don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Definitions of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cannot be applied to fossils or asexual organisms (including all prokary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pecies concepts emphasize the unity within a species rather than the separateness of diffe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phological species concept defines a species by structural featur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 but relies on subjective cri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Definitions of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cannot be applied to fossils or asexual organisms (including all prokaryot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pecies concepts emphasize the unity within a species rather than the separateness of diffe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phological species concept defines a species by structural featur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 but relies on subjective cri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logical species concept views a species in terms of its ecological niche.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 and emphasizes the role of disruptive se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ylogenetic species concept: defines a species as the smallest group of individuals on a phylogenetic tree.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, but it can be difficult to determine the degree of difference required for separate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logical species concept views a species in terms of its ecological niche.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 and emphasizes the role of disruptive se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ylogenetic species concept: defines a species as the smallest group of individuals on a phylogenetic tree.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, but it can be difficult to determine the degree of difference required for separate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4.2: Speciation can take place with or without geographic sepa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 can occur in two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:  geographic barrier separates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: no geographic 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4.2: Speciation can take place with or without geographic se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 can occur in two way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:  geographic barrier separates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: no geographic b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Galápagos Islands Darwin discovered plants and animals found nowhere else on 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Galápagos Islands Darwin discovered plants and animals found nowhere else on 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llo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ym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llopatric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ympatric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(“Other Country”)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opatric speciation, gene flow is interrupted or macroevolution is the cumulative effect of many speciation and extinction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when a population is divided into geographically isolated subpopulations … A geographic barrier separates the original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e populations may evolve independently through mutation, natural selection, and genetic dri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between populations generally increases as the distance between them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iers to reproduction are intrinsic; separation itself is not a biological barr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(“Other Country”)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opatric speciation, gene flow is interrupted or macroevolution is the cumulative effect of many speciation and extinction ev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when a population is divided into geographically isolated subpopulations … A geographic barrier separates the original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e populations may evolve independently through mutation, natural selection, and genetic dri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between populations generally increases as the distance between them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iers to reproduction are intrinsic; separation itself is not a biological barr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harr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leucu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harri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leuc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ental Drift Caused Allopatric Speci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tellin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adagascar only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hacophorin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dia/South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a): 31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nd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east As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of years ago (my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8 m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6 m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agas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ental Drift Caused Allopatric Speci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tellin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adagascar only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hacophorin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dia/Southe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a): 310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nd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east A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of years ago (my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8 m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6 m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agasc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(“Same Country”)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patric speciation, speciation takes place in geographically overlapping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 is the presence of extra sets of chromosomes due to accidents during cell di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utopolyploid is an individual with more than two chromosome sets, derived from one spec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lopolyploid is a species with multiple sets of chromosomes derived from diffe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 is common in plants. Many important crops (oats, cotton, potatoes, tobacco, and wheat) are polyplo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(“Same Country”)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patric speciation, speciation takes place in geographically overlapping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 is the presence of extra sets of chromosomes due to accidents during cell divi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utopolyploid is an individual with more than two chromosome sets, derived from one spec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lopolyploid is a species with multiple sets of chromosomes derived from diffe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 is common in plants. Many important crops (oats, cotton, potatoes, tobacco, and wheat) are polyplo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via Polyploidy is Common in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n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lur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ion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plication g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 to tetra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diploid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tra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yotypes m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viable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via Polyploidy is Common in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n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lure of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ion af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plication g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 to tetra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diploid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tra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yotypes m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viable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- Polyploidy --&gt; Allopoly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able fer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llopolypl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- Polyploidy --&gt; Allopoly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able fert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llopolyplo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:  Habitat Differentiation and Sexu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can also result from the appearance of new ecological nic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the North American maggot fly can live on native hawthorn trees as well as more recently introduced apple tr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can drive sympatric spec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for mates of different colors has likely contributed to the speciation in cichlid fish in Lake Victor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:  Habitat Differentiation and Sexu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can also result from the appearance of new ecological nic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the North American maggot fly can live on native hawthorn trees as well as more recently introduced apple tr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can drive sympatric spec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for mates of different colors has likely contributed to the speciation in cichlid fish in Lake Victori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and Sympatric Speciation May Cause Reproductive Isolation: A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opatric speciation, geographic separation restricts gene flow between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may then arise by natural selection, genetic drift, or sexual selection in the isolated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if contact is restored between populations, interbreeding is preven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patric speciation, a reproductive barrier isolates a subset of a population without geographic separation from the pa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can result from polyploidy, natural selection, or sexual se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and Sympatric Speciation May Cause Reproductive Isolation: A 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opatric speciation, geographic separation restricts gene flow between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may then arise by natural selection, genetic drift, or sexual selection in the isolated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if contact is restored between populations, interbreeding is prevent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patric speciation, a reproductive barrier isolates a subset of a population without geographic separation from the pa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can result from polyploidy, natural selection, or sexual se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4.3: Hybrid zones provide opportunities to study factors that cause reproductive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ybrid zone is a region in which members of different species mate and produce hybr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ybrid zone can occur in a single band where adjacent species m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s often have reduced fitness compared with pa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ribution of hybrid zones can be more complex if parent species are found in multiple habitats within the same reg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4.3: Hybrid zones provide opportunities to study factors that cause reproductive 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ybrid zone is a region in which members of different species mate and produce hybr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ybrid zone can occur in a single band where adjacent species me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s often have reduced fitness compared with pa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ribution of hybrid zones can be more complex if parent species are found in multiple habitats within the same reg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emphasizes reproductive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sts compare morphology, physiology, biochemistry, and DNA sequences when grouping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states that a species is a group of populations whose members have the potential to interbreed in nature and produce viable, fertile offspring; they do not breed successfully with other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emphasizes reproductive 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sts compare morphology, physiology, biochemistry, and DNA sequences when grouping org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states that a species is a group of populations whose members have the potential to interbreed in nature and produce viable, fertile offspring; they do not breed successfully with other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-bel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-bel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-bellied toa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mbina varieg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-bellied toa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mbina bomb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y (log sc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hybrid zone center (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-bel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-bel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-bellied toa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mbina varieg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-bellied toa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mbina bomb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y (log sc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hybrid zone center (k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 ove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losely related species meet in a hybrid zone, there are three possible outco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-- Strengthening of reproductive barriers reducing gene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-- Weakening of reproductive barriers with eventual fusion into one spec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-- Continued formation of hybrid individu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 ov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losely related species meet in a hybrid zone, there are three possible outcom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-- Strengthening of reproductive barriers reducing gene f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-- Weakening of reproductive barriers with eventual fusion into one spec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-- Continued formation of hybrid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 Ove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ive 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sh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ier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ed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e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co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gene flow barr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pec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ybrid individu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 Ov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ive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show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ie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ed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com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gene flow barr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pec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d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ybrid individu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me Course of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ad patterns in speciation can be studied using the fossil record, morphological data, or molecular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ssil record includes examples of species that appear suddenly, persist essentially unchanged for some time, and then apparently dis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les Eldredge and Stephen Jay Gould coined the term punctuated equilibrium to describe periods of apparent stasis (no change) punctuated by brief periods of rapid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nctuated equilibrium model contrasts with a Darwinian model of gradualism:  slow continuous change over time in a species’ exist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me Course of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ad patterns in speciation can be studied using the fossil record, morphological data, or molecular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ssil record includes examples of species that appear suddenly, persist essentially unchanged for some time, and then apparently disapp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les Eldredge and Stephen Jay Gould coined the term punctuated equilibrium to describe periods of apparent stasis (no change) punctuated by brief periods of rapid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nctuated equilibrium model contrasts with a Darwinian model of gradualism:  slow continuous change over time in a species’ exis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in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ctuated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ualism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 / 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in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ctuated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ualism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 / 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the Genetics of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losion of genomics is enabling researchers to identify specific genes involved in some cases of spec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ing on the species in question, speciation might require the change of only a single allele or many alle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Speciation to Macroev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 is the cumulative effect of many speciation and extinction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the Genetics of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losion of genomics is enabling researchers to identify specific genes involved in some cases of spec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ing on the species in question, speciation might require the change of only a single allele or many alle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Speciation to Macroevolu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 is the cumulative effect of many speciation and extinction ev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peciation </a:t>
            </a: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Original popul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llopatric speci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ympatric speci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 spe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ti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coc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n = 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ti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n = 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 BB 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. aestiv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read wh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n = 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. tausch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n = 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peci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ncestral species: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riticum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monococcum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2n = 14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riticum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2n = 14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Product: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A BB DD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. aestivum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bread wheat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2n = 42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. tauschii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2n = 14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and discuss the limitations of the four species concep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and provide examples of prezygotic and postzygotic reproductive barri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and provide examples of allopatric and sympatric spec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polyploidy can cause reproductive iso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the term hybrid zone and describe three outcomes for hybrid zones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and discuss the limitations of the four species concep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and provide examples of prezygotic and postzygotic reproductive barri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and provide examples of allopatric and sympatric spec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polyploidy can cause reproductive iso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the term hybrid zone and describe three outcomes for hybrid zones over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. 2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Similarity between different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Diversity within a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. 24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Similarity between different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Diversity within 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Between 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a gene tree for population pair A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1 is more closely relate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2, 3, and 4 than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5, 6, and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ence: Gene flow occur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5, 6, and 7 are more clos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one another than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in population 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ence: No gene flow occur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det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d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s to account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(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-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-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-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-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–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–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3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1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1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3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Between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a gene tree for population pair A-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1 is more closely relat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2, 3, and 4 than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5, 6, and 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ence: Gene flow occur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5, 6, and 7 are more clos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one another than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in population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ence: No gene flow occur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det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d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s to account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betw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(k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-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-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-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-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–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–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3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1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3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 =  Barriers to Interbreed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is the existence of biological factors (barriers) that impede two different species from producing viable, fertile off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s are the offspring of crosses between diffe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can be classified by whether factors act before or after ferti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 =  Barriers to Interbree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is the existence of biological factors (barriers) that impede two different species from producing viable, fertile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s are the offspring of crosses between diffe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can be classified by whether factors act before or after fert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 block fertilization from occurring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eding different species from attempting to m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ng the successful completion of m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dering fertilization if mating is successf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 maintain reproductive isolation and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, Habitat, Behavioral, Mechanical, and Gamete Iso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Barriers Between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 block fertilization from occurring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eding different species from attempting to m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ng the successful completion of m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dering fertilization if mating is success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 maintain reproductive isolation and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, Habitat, Behavioral, Mechanical, and Gamete Iso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Barriers Between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Barriers Between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m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Vi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abl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Barriers Between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m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Vi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abl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j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: Two species encounter each other rarely, or not at all, because they occupy different habitats, even though not isolated by physical barri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Reproductive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: Two species encounter each other rarely, or not at all, because they occupy different habitats, even though not isolated by physical barri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Reproductive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5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91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77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05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91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77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091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77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05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091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77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6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8"/>
          <p:cNvSpPr/>
          <p:nvPr/>
        </p:nvSpPr>
        <p:spPr>
          <a:xfrm>
            <a:off x="2160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28600" y="5791320"/>
            <a:ext cx="8610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1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2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3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4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5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6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0" descr="art"/>
          <p:cNvPicPr/>
          <p:nvPr/>
        </p:nvPicPr>
        <p:blipFill>
          <a:blip r:embed="rId2"/>
          <a:srcRect l="0" t="53715" r="0" b="2773"/>
          <a:stretch/>
        </p:blipFill>
        <p:spPr>
          <a:xfrm>
            <a:off x="0" y="0"/>
            <a:ext cx="9147240" cy="62485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1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2"/>
          <p:cNvSpPr/>
          <p:nvPr/>
        </p:nvSpPr>
        <p:spPr>
          <a:xfrm>
            <a:off x="0" y="6019920"/>
            <a:ext cx="9144000" cy="533160"/>
          </a:xfrm>
          <a:prstGeom prst="rect">
            <a:avLst/>
          </a:prstGeom>
          <a:solidFill>
            <a:srgbClr val="584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3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57b2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1476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5"/>
          <p:cNvSpPr/>
          <p:nvPr/>
        </p:nvSpPr>
        <p:spPr>
          <a:xfrm>
            <a:off x="76320" y="4254480"/>
            <a:ext cx="36957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 Narrow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Lecture Presentations for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ighth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il Campbell and Jane 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6"/>
          <p:cNvSpPr/>
          <p:nvPr/>
        </p:nvSpPr>
        <p:spPr>
          <a:xfrm>
            <a:off x="0" y="6172200"/>
            <a:ext cx="914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ctures by Chris Romero, updated by Erin Barley with contributions from Joan Shar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94760" y="1218960"/>
            <a:ext cx="8534520" cy="47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Speci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the origin of new species, is at the focal point of Darwin’s evolutionary theor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olutionary theory must explain how new species originate and how populations evol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Microevolu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nsists of adaptations that evolve within a population, confined to one gene poo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Macroevolu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ers to evolutionary change above the species lev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11" descr="24_04cReproBarriersHabA-U"/>
          <p:cNvPicPr/>
          <p:nvPr/>
        </p:nvPicPr>
        <p:blipFill>
          <a:blip r:embed="rId1"/>
          <a:stretch/>
        </p:blipFill>
        <p:spPr>
          <a:xfrm>
            <a:off x="2057400" y="685800"/>
            <a:ext cx="4919760" cy="54928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2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Habitat Iso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2327400" y="844560"/>
            <a:ext cx="428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2124000" y="5657760"/>
            <a:ext cx="42642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-dwell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amnop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24_04dReproBarriersHabB-U"/>
          <p:cNvPicPr/>
          <p:nvPr/>
        </p:nvPicPr>
        <p:blipFill>
          <a:blip r:embed="rId1"/>
          <a:stretch/>
        </p:blipFill>
        <p:spPr>
          <a:xfrm>
            <a:off x="2763720" y="1082520"/>
            <a:ext cx="3614760" cy="47674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3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Habitat Iso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2924280" y="1174680"/>
            <a:ext cx="428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2809800" y="5315040"/>
            <a:ext cx="3387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restria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amnop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05920" y="1176480"/>
            <a:ext cx="853452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Temporal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Species that breed at different times of the day, different seasons, or different years cannot mix their game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Behavioral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Courtship rituals and other behaviors unique to a species are effective barri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Mechanical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Morphological differences can prevent successful mat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Gametic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Sperm of one species may not be able to fertilize eggs of another spec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457200" y="266400"/>
            <a:ext cx="739152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34694"/>
                </a:solidFill>
                <a:latin typeface="Arial"/>
              </a:rPr>
              <a:t>PreZygotic Reproductive Barri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24_04gReproBarriersBehE-U"/>
          <p:cNvPicPr/>
          <p:nvPr/>
        </p:nvPicPr>
        <p:blipFill>
          <a:blip r:embed="rId1"/>
          <a:stretch/>
        </p:blipFill>
        <p:spPr>
          <a:xfrm>
            <a:off x="1819440" y="558720"/>
            <a:ext cx="5505120" cy="58165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6"/>
          <p:cNvSpPr/>
          <p:nvPr/>
        </p:nvSpPr>
        <p:spPr>
          <a:xfrm>
            <a:off x="152280" y="0"/>
            <a:ext cx="8763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Behavioral Isol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curs Without Appropriate Mating Rit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6797520" y="730080"/>
            <a:ext cx="428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1857240" y="5543640"/>
            <a:ext cx="576288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rtship ritual of blue-footed boob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5" descr="24_04hReproBarriersMecF-U"/>
          <p:cNvPicPr/>
          <p:nvPr/>
        </p:nvPicPr>
        <p:blipFill>
          <a:blip r:embed="rId1"/>
          <a:stretch/>
        </p:blipFill>
        <p:spPr>
          <a:xfrm>
            <a:off x="938160" y="174600"/>
            <a:ext cx="7267680" cy="658512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6"/>
          <p:cNvSpPr/>
          <p:nvPr/>
        </p:nvSpPr>
        <p:spPr>
          <a:xfrm>
            <a:off x="228600" y="380880"/>
            <a:ext cx="7315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1120680" y="285840"/>
            <a:ext cx="4287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609480" y="5607000"/>
            <a:ext cx="85345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Mechanical Iso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radybae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ith shells spiraling in opposite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17080" y="1176120"/>
            <a:ext cx="853452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Postzygotic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arrier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vent the hybrid zygote from developing into a viable, fertile adul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hybrid viability -- </a:t>
            </a:r>
            <a:r>
              <a:rPr b="0" lang="en-US" sz="2800" spc="-1" strike="noStrike">
                <a:solidFill>
                  <a:srgbClr val="f61a29"/>
                </a:solidFill>
                <a:latin typeface="Arial"/>
              </a:rPr>
              <a:t>weak off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hybrid fertility -- </a:t>
            </a:r>
            <a:r>
              <a:rPr b="0" lang="en-US" sz="2800" spc="-1" strike="noStrike">
                <a:solidFill>
                  <a:srgbClr val="f61a29"/>
                </a:solidFill>
                <a:latin typeface="Arial"/>
              </a:rPr>
              <a:t>sterile off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break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0" y="177480"/>
            <a:ext cx="91440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34694"/>
                </a:solidFill>
                <a:latin typeface="Arial"/>
              </a:rPr>
              <a:t>PostZygotic Reproductive Barri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6" descr="24_04oReproBarriersFerK-U"/>
          <p:cNvPicPr/>
          <p:nvPr/>
        </p:nvPicPr>
        <p:blipFill>
          <a:blip r:embed="rId1"/>
          <a:stretch/>
        </p:blipFill>
        <p:spPr>
          <a:xfrm>
            <a:off x="1219320" y="533520"/>
            <a:ext cx="6657840" cy="59086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7"/>
          <p:cNvSpPr/>
          <p:nvPr/>
        </p:nvSpPr>
        <p:spPr>
          <a:xfrm>
            <a:off x="152280" y="0"/>
            <a:ext cx="6553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PostZygoti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oductive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 B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1552680" y="692280"/>
            <a:ext cx="428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304920" y="5873760"/>
            <a:ext cx="78483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e:  </a:t>
            </a: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ster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ybrid offspring between horse and don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Other Definitions of Speci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16000" y="990360"/>
            <a:ext cx="8534160" cy="55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iological species concept cannot be applied to fossils or asexual organisms (including all prokaryote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species concepts emphasize the unity within a species rather than the separateness of different spec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morphological species concep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s a species by structural features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pplies to sexual and asexual species but relies on subjective cri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217080" y="990360"/>
            <a:ext cx="8534520" cy="54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ecological species concep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views a species in terms of its ecological niche.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pplies to sexual and asexual species and emphasizes the role of disruptive se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phylogenetic species concep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defines a species as the smallest group of individuals on a phylogenetic tree.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pplies to sexual and asexual species, but it can be difficult to determine the degree of difference required for separate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ncept 24.2: Speciation can take place with or without geographic separ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17080" y="1176120"/>
            <a:ext cx="8534520" cy="24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Speci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occur in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two way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Allopatr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ation:  geographic barrier separates popu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Sympatr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ation: no geographic b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5" descr="24_01FlightlessCormorant-U"/>
          <p:cNvPicPr/>
          <p:nvPr/>
        </p:nvPicPr>
        <p:blipFill>
          <a:blip r:embed="rId1"/>
          <a:stretch/>
        </p:blipFill>
        <p:spPr>
          <a:xfrm>
            <a:off x="297000" y="235080"/>
            <a:ext cx="8548560" cy="65656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6"/>
          <p:cNvSpPr/>
          <p:nvPr/>
        </p:nvSpPr>
        <p:spPr>
          <a:xfrm>
            <a:off x="152280" y="0"/>
            <a:ext cx="8686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61a29"/>
                </a:solidFill>
                <a:latin typeface="Arial"/>
              </a:rPr>
              <a:t>In the Galápagos Islands Darwin discovered plants and animals found nowhere else on Earth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8" descr="24_05AlloSymSpeciation-U"/>
          <p:cNvPicPr/>
          <p:nvPr/>
        </p:nvPicPr>
        <p:blipFill>
          <a:blip r:embed="rId1"/>
          <a:stretch/>
        </p:blipFill>
        <p:spPr>
          <a:xfrm>
            <a:off x="1008000" y="174600"/>
            <a:ext cx="7128000" cy="65851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9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pe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1082520" y="6299280"/>
            <a:ext cx="26384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Allopatr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pe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4746600" y="6305400"/>
            <a:ext cx="27208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ympatr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pe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llopatric (“Other Country”) Spec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05920" y="1066320"/>
            <a:ext cx="8534520" cy="735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allo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gene flow is interrupted or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macroevolu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the cumulative effect of many speciation and extinction ev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uced when a population is divided into geographically isolated subpopulations … A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geographic barri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eparates the original popul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Separate populat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ay evolve independently through mutation, natural selection, and genetic drif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Reproductive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tween populations generally increases as the distance between them increas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rriers to reproduction are intrinsic; separation itself is not a biological barri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7" descr="24_06AlloSpeciaGCanyon-U"/>
          <p:cNvPicPr/>
          <p:nvPr/>
        </p:nvPicPr>
        <p:blipFill>
          <a:blip r:embed="rId1"/>
          <a:stretch/>
        </p:blipFill>
        <p:spPr>
          <a:xfrm>
            <a:off x="297000" y="2079720"/>
            <a:ext cx="8548560" cy="27734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8"/>
          <p:cNvSpPr/>
          <p:nvPr/>
        </p:nvSpPr>
        <p:spPr>
          <a:xfrm>
            <a:off x="152280" y="0"/>
            <a:ext cx="7620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Allopatric Spe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498600" y="3924360"/>
            <a:ext cx="10252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. harri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7292880" y="3930480"/>
            <a:ext cx="12477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. leucu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7" descr="24_07-AlloSpeciaFrogs-U"/>
          <p:cNvPicPr/>
          <p:nvPr/>
        </p:nvPicPr>
        <p:blipFill>
          <a:blip r:embed="rId1"/>
          <a:stretch/>
        </p:blipFill>
        <p:spPr>
          <a:xfrm>
            <a:off x="365040" y="200160"/>
            <a:ext cx="8413920" cy="6584760"/>
          </a:xfrm>
          <a:prstGeom prst="rect">
            <a:avLst/>
          </a:prstGeom>
          <a:ln w="0">
            <a:noFill/>
          </a:ln>
        </p:spPr>
      </p:pic>
      <p:sp>
        <p:nvSpPr>
          <p:cNvPr id="267" name="Oval 8"/>
          <p:cNvSpPr/>
          <p:nvPr/>
        </p:nvSpPr>
        <p:spPr>
          <a:xfrm>
            <a:off x="5526000" y="4809960"/>
            <a:ext cx="247680" cy="23364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9"/>
          <p:cNvSpPr/>
          <p:nvPr/>
        </p:nvSpPr>
        <p:spPr>
          <a:xfrm>
            <a:off x="3255840" y="4807080"/>
            <a:ext cx="247680" cy="23328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10"/>
          <p:cNvSpPr/>
          <p:nvPr/>
        </p:nvSpPr>
        <p:spPr>
          <a:xfrm>
            <a:off x="1017720" y="4797360"/>
            <a:ext cx="247680" cy="23328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11"/>
          <p:cNvSpPr/>
          <p:nvPr/>
        </p:nvSpPr>
        <p:spPr>
          <a:xfrm>
            <a:off x="2833560" y="4162320"/>
            <a:ext cx="247680" cy="23364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12"/>
          <p:cNvSpPr/>
          <p:nvPr/>
        </p:nvSpPr>
        <p:spPr>
          <a:xfrm>
            <a:off x="2368440" y="4154400"/>
            <a:ext cx="247680" cy="23328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3"/>
          <p:cNvSpPr/>
          <p:nvPr/>
        </p:nvSpPr>
        <p:spPr>
          <a:xfrm>
            <a:off x="1351080" y="4154400"/>
            <a:ext cx="247680" cy="23328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4"/>
          <p:cNvSpPr/>
          <p:nvPr/>
        </p:nvSpPr>
        <p:spPr>
          <a:xfrm>
            <a:off x="152280" y="0"/>
            <a:ext cx="8153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Continental Drif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ed</a:t>
            </a: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 Allopatric Speci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635800" y="507960"/>
            <a:ext cx="185724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tellin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Madagascar only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6"/>
          <p:cNvSpPr/>
          <p:nvPr/>
        </p:nvSpPr>
        <p:spPr>
          <a:xfrm>
            <a:off x="5629320" y="1593720"/>
            <a:ext cx="17812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hacophorin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ndia/Southe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ia): 310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5635800" y="2673360"/>
            <a:ext cx="161604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Indi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theast Asi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8"/>
          <p:cNvSpPr/>
          <p:nvPr/>
        </p:nvSpPr>
        <p:spPr>
          <a:xfrm>
            <a:off x="1660680" y="4397400"/>
            <a:ext cx="26701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lions of years ago (my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9"/>
          <p:cNvSpPr/>
          <p:nvPr/>
        </p:nvSpPr>
        <p:spPr>
          <a:xfrm>
            <a:off x="1415880" y="4160880"/>
            <a:ext cx="95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0"/>
          <p:cNvSpPr/>
          <p:nvPr/>
        </p:nvSpPr>
        <p:spPr>
          <a:xfrm>
            <a:off x="2444760" y="4164120"/>
            <a:ext cx="95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1"/>
          <p:cNvSpPr/>
          <p:nvPr/>
        </p:nvSpPr>
        <p:spPr>
          <a:xfrm>
            <a:off x="2909880" y="4164120"/>
            <a:ext cx="95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2"/>
          <p:cNvSpPr/>
          <p:nvPr/>
        </p:nvSpPr>
        <p:spPr>
          <a:xfrm>
            <a:off x="1085760" y="4813200"/>
            <a:ext cx="9540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3"/>
          <p:cNvSpPr/>
          <p:nvPr/>
        </p:nvSpPr>
        <p:spPr>
          <a:xfrm>
            <a:off x="3332160" y="4815000"/>
            <a:ext cx="95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4"/>
          <p:cNvSpPr/>
          <p:nvPr/>
        </p:nvSpPr>
        <p:spPr>
          <a:xfrm>
            <a:off x="5600880" y="4813200"/>
            <a:ext cx="9504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679320" y="3889440"/>
            <a:ext cx="3700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6"/>
          <p:cNvSpPr/>
          <p:nvPr/>
        </p:nvSpPr>
        <p:spPr>
          <a:xfrm>
            <a:off x="1654200" y="3897360"/>
            <a:ext cx="2397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2590920" y="3895560"/>
            <a:ext cx="23976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8"/>
          <p:cNvSpPr/>
          <p:nvPr/>
        </p:nvSpPr>
        <p:spPr>
          <a:xfrm>
            <a:off x="3548160" y="3897360"/>
            <a:ext cx="2397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9"/>
          <p:cNvSpPr/>
          <p:nvPr/>
        </p:nvSpPr>
        <p:spPr>
          <a:xfrm>
            <a:off x="4473720" y="3895560"/>
            <a:ext cx="23940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0"/>
          <p:cNvSpPr/>
          <p:nvPr/>
        </p:nvSpPr>
        <p:spPr>
          <a:xfrm>
            <a:off x="5468760" y="3902040"/>
            <a:ext cx="125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1"/>
          <p:cNvSpPr/>
          <p:nvPr/>
        </p:nvSpPr>
        <p:spPr>
          <a:xfrm>
            <a:off x="1349280" y="6357960"/>
            <a:ext cx="7095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8 m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2"/>
          <p:cNvSpPr/>
          <p:nvPr/>
        </p:nvSpPr>
        <p:spPr>
          <a:xfrm>
            <a:off x="3589200" y="6357960"/>
            <a:ext cx="70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5 m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3"/>
          <p:cNvSpPr/>
          <p:nvPr/>
        </p:nvSpPr>
        <p:spPr>
          <a:xfrm>
            <a:off x="5830920" y="6356520"/>
            <a:ext cx="7095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6 m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4"/>
          <p:cNvSpPr/>
          <p:nvPr/>
        </p:nvSpPr>
        <p:spPr>
          <a:xfrm>
            <a:off x="7575480" y="4951440"/>
            <a:ext cx="4780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35"/>
          <p:cNvSpPr/>
          <p:nvPr/>
        </p:nvSpPr>
        <p:spPr>
          <a:xfrm flipV="1">
            <a:off x="6748560" y="5079960"/>
            <a:ext cx="803160" cy="31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6"/>
          <p:cNvSpPr/>
          <p:nvPr/>
        </p:nvSpPr>
        <p:spPr>
          <a:xfrm>
            <a:off x="7577280" y="5907240"/>
            <a:ext cx="118872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dagasc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37"/>
          <p:cNvSpPr/>
          <p:nvPr/>
        </p:nvSpPr>
        <p:spPr>
          <a:xfrm>
            <a:off x="6172200" y="6037200"/>
            <a:ext cx="1389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ympatric (“Same Country”) Spec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05920" y="1164960"/>
            <a:ext cx="8534520" cy="69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sym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speciation takes place in geographically overlapping popul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61a29"/>
                </a:solidFill>
                <a:latin typeface="Arial"/>
              </a:rPr>
              <a:t>Polyploid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the presence of extra sets of chromosomes due to accidents during cell divis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autopolyploi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n individual with more than two chromosome sets, </a:t>
            </a: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derived from one spec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allopolyploi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 species with multiple sets of chromosomes </a:t>
            </a: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derived from different spec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yploidy is common in plants. Many important crops (oats, cotton, potatoes, tobacco, and wheat) are polyploi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24_10SymAutopolyploidy_3-U"/>
          <p:cNvPicPr/>
          <p:nvPr/>
        </p:nvPicPr>
        <p:blipFill>
          <a:blip r:embed="rId1"/>
          <a:stretch/>
        </p:blipFill>
        <p:spPr>
          <a:xfrm>
            <a:off x="297000" y="1719360"/>
            <a:ext cx="8548560" cy="349416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3"/>
          <p:cNvSpPr/>
          <p:nvPr/>
        </p:nvSpPr>
        <p:spPr>
          <a:xfrm>
            <a:off x="152280" y="0"/>
            <a:ext cx="807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ympatric Speci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 Polyploid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m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33520" y="3152880"/>
            <a:ext cx="7491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2921040" y="3152880"/>
            <a:ext cx="8888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1244520" y="3533760"/>
            <a:ext cx="187956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ilure of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ision 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plication g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e to tetrapl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ss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5460840" y="3127320"/>
            <a:ext cx="292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5156280" y="3533760"/>
            <a:ext cx="132084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diploid.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7620120" y="3152880"/>
            <a:ext cx="2919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7086600" y="3533760"/>
            <a:ext cx="171468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pring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trapl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ryotypes 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viable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t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24_11SymAllopolyploidy_4-U"/>
          <p:cNvPicPr/>
          <p:nvPr/>
        </p:nvPicPr>
        <p:blipFill>
          <a:blip r:embed="rId1"/>
          <a:stretch/>
        </p:blipFill>
        <p:spPr>
          <a:xfrm>
            <a:off x="297000" y="1778040"/>
            <a:ext cx="8548560" cy="337824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3"/>
          <p:cNvSpPr/>
          <p:nvPr/>
        </p:nvSpPr>
        <p:spPr>
          <a:xfrm>
            <a:off x="152280" y="0"/>
            <a:ext cx="8839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ympatric Speciation - Polyploidy --&gt; Allopolypl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322200" y="4545000"/>
            <a:ext cx="10288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es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2451240" y="4124160"/>
            <a:ext cx="7110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428840" y="2911320"/>
            <a:ext cx="730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io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361800" y="1774800"/>
            <a:ext cx="10288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es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2228760" y="1825560"/>
            <a:ext cx="13906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redu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9"/>
          <p:cNvSpPr/>
          <p:nvPr/>
        </p:nvSpPr>
        <p:spPr>
          <a:xfrm>
            <a:off x="4006800" y="2308320"/>
            <a:ext cx="144144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5759280" y="2003400"/>
            <a:ext cx="13906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redu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5880240" y="4327560"/>
            <a:ext cx="7110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7397640" y="4111560"/>
            <a:ext cx="13906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able fert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llopolypl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Sympatric Speciation:  Habitat Differentiation and Sexual Selec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17080" y="1176120"/>
            <a:ext cx="853452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Sym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n also result from the appearance of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new ecological nich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xample, the North American maggot fly can live on native hawthorn trees as well as more recently introduced apple tre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Sexual sele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n drive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sym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xual selection for mates of different colors has likely contributed to the speciation in cichlid fish in Lake Victori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llopatric </a:t>
            </a:r>
            <a:r>
              <a:rPr b="0" lang="en-US" sz="3000" spc="-1" strike="noStrike">
                <a:solidFill>
                  <a:srgbClr val="333399"/>
                </a:solidFill>
                <a:latin typeface="Times New Roman"/>
              </a:rPr>
              <a:t>and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Sympatric Speciation </a:t>
            </a:r>
            <a:r>
              <a:rPr b="0" lang="en-US" sz="3000" spc="-1" strike="noStrike">
                <a:solidFill>
                  <a:srgbClr val="333399"/>
                </a:solidFill>
                <a:latin typeface="Times New Roman"/>
              </a:rPr>
              <a:t>May Cause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Reproductive Isolation: </a:t>
            </a: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A Review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05920" y="1066320"/>
            <a:ext cx="8534520" cy="735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i="1" lang="en-US" sz="2600" spc="-1" strike="noStrike">
                <a:solidFill>
                  <a:srgbClr val="f61a29"/>
                </a:solidFill>
                <a:latin typeface="Arial"/>
              </a:rPr>
              <a:t>allo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geographic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separ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stricts gene flow between popul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Reproductive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ay then arise by natural selection, genetic drift, or sexual selection in the isolated popul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n if contact is restored between populations, interbreeding is prevente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i="1" lang="en-US" sz="2600" spc="-1" strike="noStrike">
                <a:solidFill>
                  <a:srgbClr val="f61a29"/>
                </a:solidFill>
                <a:latin typeface="Arial"/>
              </a:rPr>
              <a:t>sym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 reproductive barrier isolates a subset of a population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without geographic separ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rom the parent spec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mpatric speciation can result from polyploidy, natural selection, or sexual sele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ncept 24.3: Hybrid zones provide opportunities to study factors that cause reproductive isol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17080" y="1176480"/>
            <a:ext cx="853452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hybrid zon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region in which members of different species mate and produce hybri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hybrid zone can occur in a single band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where adjacent species mee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ybrids often have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reduced fitnes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mpared with parent spec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istribution of hybrid zones can be more complex if parent species are found in multiple habitats within the same reg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Biological Species Concept emphasizes reproductive isol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7080" y="1174320"/>
            <a:ext cx="853452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ologists compare morphology, physiology, biochemistry, and DNA sequences when grouping organis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iological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speci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concep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s that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pec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group of populations whose members have the potential to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interbree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nature and produce viable,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fertile offspr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 they do not breed successfully with other popul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7" descr="24_13-FrogHybridZone-U"/>
          <p:cNvPicPr/>
          <p:nvPr/>
        </p:nvPicPr>
        <p:blipFill>
          <a:blip r:embed="rId1"/>
          <a:stretch/>
        </p:blipFill>
        <p:spPr>
          <a:xfrm>
            <a:off x="297000" y="558720"/>
            <a:ext cx="8548560" cy="581652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8"/>
          <p:cNvSpPr/>
          <p:nvPr/>
        </p:nvSpPr>
        <p:spPr>
          <a:xfrm>
            <a:off x="152280" y="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Hybrid 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1003320" y="1076400"/>
            <a:ext cx="55872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4743360" y="2714760"/>
            <a:ext cx="6796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re-bell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ad 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1"/>
          <p:cNvSpPr/>
          <p:nvPr/>
        </p:nvSpPr>
        <p:spPr>
          <a:xfrm>
            <a:off x="4197240" y="3038400"/>
            <a:ext cx="74952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Hybrid 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2"/>
          <p:cNvSpPr/>
          <p:nvPr/>
        </p:nvSpPr>
        <p:spPr>
          <a:xfrm>
            <a:off x="3753000" y="3336840"/>
            <a:ext cx="8762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ellow-bell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ad 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3"/>
          <p:cNvSpPr/>
          <p:nvPr/>
        </p:nvSpPr>
        <p:spPr>
          <a:xfrm>
            <a:off x="368280" y="3540240"/>
            <a:ext cx="1193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ellow-bellied toa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Bombina varieg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4"/>
          <p:cNvSpPr/>
          <p:nvPr/>
        </p:nvSpPr>
        <p:spPr>
          <a:xfrm>
            <a:off x="5962680" y="3139920"/>
            <a:ext cx="11937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re-bellied toa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Bombina bomb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5"/>
          <p:cNvSpPr/>
          <p:nvPr/>
        </p:nvSpPr>
        <p:spPr>
          <a:xfrm rot="16200000">
            <a:off x="4101120" y="4632480"/>
            <a:ext cx="167652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lele frequency (log sca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6"/>
          <p:cNvSpPr/>
          <p:nvPr/>
        </p:nvSpPr>
        <p:spPr>
          <a:xfrm>
            <a:off x="5918040" y="5965920"/>
            <a:ext cx="23371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stance from hybrid zone center (k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7"/>
          <p:cNvSpPr/>
          <p:nvPr/>
        </p:nvSpPr>
        <p:spPr>
          <a:xfrm>
            <a:off x="5334120" y="5788080"/>
            <a:ext cx="1648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8"/>
          <p:cNvSpPr/>
          <p:nvPr/>
        </p:nvSpPr>
        <p:spPr>
          <a:xfrm>
            <a:off x="5816520" y="5788080"/>
            <a:ext cx="16524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9"/>
          <p:cNvSpPr/>
          <p:nvPr/>
        </p:nvSpPr>
        <p:spPr>
          <a:xfrm>
            <a:off x="6311880" y="5781600"/>
            <a:ext cx="16524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0"/>
          <p:cNvSpPr/>
          <p:nvPr/>
        </p:nvSpPr>
        <p:spPr>
          <a:xfrm>
            <a:off x="8248680" y="5788080"/>
            <a:ext cx="16524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1"/>
          <p:cNvSpPr/>
          <p:nvPr/>
        </p:nvSpPr>
        <p:spPr>
          <a:xfrm>
            <a:off x="6813720" y="5788080"/>
            <a:ext cx="1648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2"/>
          <p:cNvSpPr/>
          <p:nvPr/>
        </p:nvSpPr>
        <p:spPr>
          <a:xfrm>
            <a:off x="7759800" y="5788080"/>
            <a:ext cx="1648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3"/>
          <p:cNvSpPr/>
          <p:nvPr/>
        </p:nvSpPr>
        <p:spPr>
          <a:xfrm>
            <a:off x="7340760" y="5788080"/>
            <a:ext cx="11412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4"/>
          <p:cNvSpPr/>
          <p:nvPr/>
        </p:nvSpPr>
        <p:spPr>
          <a:xfrm>
            <a:off x="5060880" y="5572080"/>
            <a:ext cx="25416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5"/>
          <p:cNvSpPr/>
          <p:nvPr/>
        </p:nvSpPr>
        <p:spPr>
          <a:xfrm>
            <a:off x="5137200" y="5108400"/>
            <a:ext cx="19044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6"/>
          <p:cNvSpPr/>
          <p:nvPr/>
        </p:nvSpPr>
        <p:spPr>
          <a:xfrm>
            <a:off x="5130720" y="4664160"/>
            <a:ext cx="19044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7"/>
          <p:cNvSpPr/>
          <p:nvPr/>
        </p:nvSpPr>
        <p:spPr>
          <a:xfrm>
            <a:off x="5137200" y="4219560"/>
            <a:ext cx="18396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8"/>
          <p:cNvSpPr/>
          <p:nvPr/>
        </p:nvSpPr>
        <p:spPr>
          <a:xfrm>
            <a:off x="5067360" y="3718080"/>
            <a:ext cx="241200" cy="1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Times New Roman"/>
              </a:rPr>
              <a:t>Hybrid Zones over Tim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05920" y="1165320"/>
            <a:ext cx="853452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closely related species meet in a hybrid zone, there are </a:t>
            </a:r>
            <a:r>
              <a:rPr b="0" i="1" lang="en-US" sz="3000" spc="-1" strike="noStrike">
                <a:solidFill>
                  <a:srgbClr val="f61a29"/>
                </a:solidFill>
                <a:latin typeface="Arial"/>
              </a:rPr>
              <a:t>three possible outcom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61a29"/>
                </a:solidFill>
                <a:latin typeface="Arial"/>
              </a:rPr>
              <a:t>Reinforc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 Strengthening of reproductive barriers reducing gene f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61a29"/>
                </a:solidFill>
                <a:latin typeface="Arial"/>
              </a:rPr>
              <a:t>Fu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 Weakening of reproductive barriers with eventual fusion into one spec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61a29"/>
                </a:solidFill>
                <a:latin typeface="Arial"/>
              </a:rPr>
              <a:t>Stabiliz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 Continued formation of hybrid individu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24_14HybrZoneOverTime_4-U"/>
          <p:cNvPicPr/>
          <p:nvPr/>
        </p:nvPicPr>
        <p:blipFill>
          <a:blip r:embed="rId1"/>
          <a:stretch/>
        </p:blipFill>
        <p:spPr>
          <a:xfrm>
            <a:off x="297000" y="1379520"/>
            <a:ext cx="8847000" cy="403848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3"/>
          <p:cNvSpPr/>
          <p:nvPr/>
        </p:nvSpPr>
        <p:spPr>
          <a:xfrm>
            <a:off x="152280" y="0"/>
            <a:ext cx="7467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Hybrid Zone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933480" y="3863880"/>
            <a:ext cx="11430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Gene flo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336600" y="4562640"/>
            <a:ext cx="16635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five individua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re shown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2476440" y="4352760"/>
            <a:ext cx="9907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arrier 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gene flo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7"/>
          <p:cNvSpPr/>
          <p:nvPr/>
        </p:nvSpPr>
        <p:spPr>
          <a:xfrm flipH="1">
            <a:off x="647640" y="3613320"/>
            <a:ext cx="209520" cy="95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8"/>
          <p:cNvSpPr/>
          <p:nvPr/>
        </p:nvSpPr>
        <p:spPr>
          <a:xfrm>
            <a:off x="1193760" y="3486240"/>
            <a:ext cx="209520" cy="36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9"/>
          <p:cNvSpPr/>
          <p:nvPr/>
        </p:nvSpPr>
        <p:spPr>
          <a:xfrm>
            <a:off x="2368440" y="3346560"/>
            <a:ext cx="362160" cy="977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1841400" y="1546200"/>
            <a:ext cx="19814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solated popul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iverg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1"/>
          <p:cNvSpPr/>
          <p:nvPr/>
        </p:nvSpPr>
        <p:spPr>
          <a:xfrm>
            <a:off x="2851200" y="2019240"/>
            <a:ext cx="323640" cy="628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2"/>
          <p:cNvSpPr/>
          <p:nvPr/>
        </p:nvSpPr>
        <p:spPr>
          <a:xfrm>
            <a:off x="5956200" y="2130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zon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3"/>
          <p:cNvSpPr/>
          <p:nvPr/>
        </p:nvSpPr>
        <p:spPr>
          <a:xfrm>
            <a:off x="5952960" y="4086360"/>
            <a:ext cx="6858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4"/>
          <p:cNvSpPr/>
          <p:nvPr/>
        </p:nvSpPr>
        <p:spPr>
          <a:xfrm>
            <a:off x="5613480" y="3759120"/>
            <a:ext cx="296640" cy="401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5"/>
          <p:cNvSpPr/>
          <p:nvPr/>
        </p:nvSpPr>
        <p:spPr>
          <a:xfrm flipV="1">
            <a:off x="5586480" y="2222280"/>
            <a:ext cx="349200" cy="355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6"/>
          <p:cNvSpPr/>
          <p:nvPr/>
        </p:nvSpPr>
        <p:spPr>
          <a:xfrm>
            <a:off x="6883560" y="762120"/>
            <a:ext cx="109188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com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7"/>
          <p:cNvSpPr/>
          <p:nvPr/>
        </p:nvSpPr>
        <p:spPr>
          <a:xfrm>
            <a:off x="6883560" y="2575080"/>
            <a:ext cx="15620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Reinforc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f gene flow barrie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8"/>
          <p:cNvSpPr/>
          <p:nvPr/>
        </p:nvSpPr>
        <p:spPr>
          <a:xfrm>
            <a:off x="7467480" y="3200400"/>
            <a:ext cx="4827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9"/>
          <p:cNvSpPr/>
          <p:nvPr/>
        </p:nvSpPr>
        <p:spPr>
          <a:xfrm>
            <a:off x="7391520" y="4191120"/>
            <a:ext cx="55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0"/>
          <p:cNvSpPr/>
          <p:nvPr/>
        </p:nvSpPr>
        <p:spPr>
          <a:xfrm>
            <a:off x="6972480" y="3629160"/>
            <a:ext cx="7236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Fusion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in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ne specie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1"/>
          <p:cNvSpPr/>
          <p:nvPr/>
        </p:nvSpPr>
        <p:spPr>
          <a:xfrm>
            <a:off x="6946920" y="4784760"/>
            <a:ext cx="85104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tability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inued form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f hybrid individual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2"/>
          <p:cNvSpPr/>
          <p:nvPr/>
        </p:nvSpPr>
        <p:spPr>
          <a:xfrm>
            <a:off x="6781680" y="1625760"/>
            <a:ext cx="0" cy="3530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Time Course of Spec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05920" y="990360"/>
            <a:ext cx="8534520" cy="58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ad patterns in speciation can be studied using the fossil record, morphological data, or molecular da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ossil record includes examples of species that appear suddenly, persist essentially unchanged for some time, and then apparently disapp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iles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Eldredg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Stephen Jay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Goul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ined the term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punctuated equilibrium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describe periods of apparent stasis (no change) punctuated by brief periods of rapid chan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unctuated equilibrium model contrasts with a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Darwinia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odel of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gradualism: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ow continuous change over time in a species’ existe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7" descr="24_17PunctuatedVsGradual-U"/>
          <p:cNvPicPr/>
          <p:nvPr/>
        </p:nvPicPr>
        <p:blipFill>
          <a:blip r:embed="rId1"/>
          <a:stretch/>
        </p:blipFill>
        <p:spPr>
          <a:xfrm>
            <a:off x="0" y="1143000"/>
            <a:ext cx="8845560" cy="487692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8"/>
          <p:cNvSpPr/>
          <p:nvPr/>
        </p:nvSpPr>
        <p:spPr>
          <a:xfrm>
            <a:off x="152280" y="0"/>
            <a:ext cx="8305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Patterns in Spe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9"/>
          <p:cNvSpPr/>
          <p:nvPr/>
        </p:nvSpPr>
        <p:spPr>
          <a:xfrm>
            <a:off x="304920" y="1371600"/>
            <a:ext cx="247464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Punctuated</a:t>
            </a:r>
            <a:r>
              <a:rPr b="1" lang="en-US" sz="1800" spc="-1" strike="noStrike">
                <a:solidFill>
                  <a:srgbClr val="f61a2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lib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0"/>
          <p:cNvSpPr/>
          <p:nvPr/>
        </p:nvSpPr>
        <p:spPr>
          <a:xfrm>
            <a:off x="322200" y="4152960"/>
            <a:ext cx="20685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Gradualis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1"/>
          <p:cNvSpPr/>
          <p:nvPr/>
        </p:nvSpPr>
        <p:spPr>
          <a:xfrm>
            <a:off x="2133720" y="2927520"/>
            <a:ext cx="12398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ange  / 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1920" y="83880"/>
            <a:ext cx="853452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tudying the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Genetics of Speciation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17080" y="1176120"/>
            <a:ext cx="853452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xplosion of genomics is enabling researchers to identify specific genes involved in some cases of speci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pending on the species in question, speciation might require the change of only a single allele or many alle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8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34694"/>
                </a:solidFill>
                <a:latin typeface="Arial"/>
              </a:rPr>
              <a:t>From Speciation to Macroev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Macroevolu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the cumulative effect of many speciation and extinction eve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8" descr="24_UN01SummaryAlloSym-U"/>
          <p:cNvPicPr/>
          <p:nvPr/>
        </p:nvPicPr>
        <p:blipFill>
          <a:blip r:embed="rId1"/>
          <a:stretch/>
        </p:blipFill>
        <p:spPr>
          <a:xfrm>
            <a:off x="1306440" y="174600"/>
            <a:ext cx="6529320" cy="658512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9"/>
          <p:cNvSpPr/>
          <p:nvPr/>
        </p:nvSpPr>
        <p:spPr>
          <a:xfrm>
            <a:off x="152280" y="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ation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0"/>
          <p:cNvSpPr/>
          <p:nvPr/>
        </p:nvSpPr>
        <p:spPr>
          <a:xfrm>
            <a:off x="3225960" y="208080"/>
            <a:ext cx="27921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rigin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1"/>
          <p:cNvSpPr/>
          <p:nvPr/>
        </p:nvSpPr>
        <p:spPr>
          <a:xfrm>
            <a:off x="1397160" y="6278400"/>
            <a:ext cx="29955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patric spe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4730760" y="6284880"/>
            <a:ext cx="30718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mpatric spe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24_UN02SIQWheat-U"/>
          <p:cNvPicPr/>
          <p:nvPr/>
        </p:nvPicPr>
        <p:blipFill>
          <a:blip r:embed="rId1"/>
          <a:stretch/>
        </p:blipFill>
        <p:spPr>
          <a:xfrm>
            <a:off x="1449360" y="174600"/>
            <a:ext cx="6243840" cy="658512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3"/>
          <p:cNvSpPr/>
          <p:nvPr/>
        </p:nvSpPr>
        <p:spPr>
          <a:xfrm>
            <a:off x="0" y="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1a29"/>
                </a:solidFill>
                <a:latin typeface="Arial"/>
              </a:rPr>
              <a:t>Spe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1530360" y="208080"/>
            <a:ext cx="2055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cestral spe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1523880" y="2144880"/>
            <a:ext cx="1509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itic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onococc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2489040" y="160488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4578480" y="160488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4464000" y="2157480"/>
            <a:ext cx="982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itic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1523880" y="3821040"/>
            <a:ext cx="976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0"/>
          <p:cNvSpPr/>
          <p:nvPr/>
        </p:nvSpPr>
        <p:spPr>
          <a:xfrm>
            <a:off x="4444920" y="4849920"/>
            <a:ext cx="10652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A BB D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1"/>
          <p:cNvSpPr/>
          <p:nvPr/>
        </p:nvSpPr>
        <p:spPr>
          <a:xfrm>
            <a:off x="4422600" y="5384880"/>
            <a:ext cx="1509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. aestiv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read whe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2"/>
          <p:cNvSpPr/>
          <p:nvPr/>
        </p:nvSpPr>
        <p:spPr>
          <a:xfrm>
            <a:off x="6534000" y="2131920"/>
            <a:ext cx="11988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. tausch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3"/>
          <p:cNvSpPr/>
          <p:nvPr/>
        </p:nvSpPr>
        <p:spPr>
          <a:xfrm>
            <a:off x="6648480" y="160488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You should now be able to: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05920" y="1199880"/>
            <a:ext cx="853452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and discuss the limitations of the four species concep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and provide examples of prezygotic and postzygotic reproductive barri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inguish between and provide examples of allopatric and sympatric speci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how polyploidy can cause reproductive iso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the term hybrid zone and describe three outcomes for hybrid zones over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24_02-BioSpeciesConcept-U"/>
          <p:cNvPicPr/>
          <p:nvPr/>
        </p:nvPicPr>
        <p:blipFill>
          <a:blip r:embed="rId1"/>
          <a:stretch/>
        </p:blipFill>
        <p:spPr>
          <a:xfrm>
            <a:off x="2286000" y="174600"/>
            <a:ext cx="4572000" cy="65851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2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2344680" y="1854360"/>
            <a:ext cx="44974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a) Similarity between different spec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2306520" y="6273720"/>
            <a:ext cx="335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b) Diversity within a spec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8" descr="24_03-BabblerGeneFlowInq-U"/>
          <p:cNvPicPr/>
          <p:nvPr/>
        </p:nvPicPr>
        <p:blipFill>
          <a:blip r:embed="rId1"/>
          <a:stretch/>
        </p:blipFill>
        <p:spPr>
          <a:xfrm>
            <a:off x="2416320" y="174600"/>
            <a:ext cx="4309920" cy="65851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9"/>
          <p:cNvSpPr/>
          <p:nvPr/>
        </p:nvSpPr>
        <p:spPr>
          <a:xfrm>
            <a:off x="2451240" y="3600360"/>
            <a:ext cx="1225440" cy="203400"/>
          </a:xfrm>
          <a:prstGeom prst="rect">
            <a:avLst/>
          </a:prstGeom>
          <a:solidFill>
            <a:srgbClr val="fecd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2451240" y="654120"/>
            <a:ext cx="1218960" cy="216000"/>
          </a:xfrm>
          <a:prstGeom prst="rect">
            <a:avLst/>
          </a:prstGeom>
          <a:solidFill>
            <a:srgbClr val="fecd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152280" y="0"/>
            <a:ext cx="358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Gene Flow Between Pop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2529000" y="685800"/>
            <a:ext cx="92232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63a84"/>
                </a:solidFill>
                <a:latin typeface="Arial"/>
              </a:rPr>
              <a:t>EXPERI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2529000" y="3619440"/>
            <a:ext cx="66816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63a84"/>
                </a:solidFill>
                <a:latin typeface="Arial"/>
              </a:rPr>
              <a:t>RESUL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2620800" y="961920"/>
            <a:ext cx="252288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xample of a gene tree for population pair A-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5" descr="triangle_bullet"/>
          <p:cNvPicPr/>
          <p:nvPr/>
        </p:nvPicPr>
        <p:blipFill>
          <a:blip r:embed="rId2"/>
          <a:stretch/>
        </p:blipFill>
        <p:spPr>
          <a:xfrm>
            <a:off x="2506680" y="981000"/>
            <a:ext cx="77760" cy="777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6"/>
          <p:cNvSpPr/>
          <p:nvPr/>
        </p:nvSpPr>
        <p:spPr>
          <a:xfrm>
            <a:off x="3833640" y="1174680"/>
            <a:ext cx="31932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4237200" y="1174680"/>
            <a:ext cx="5252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2487600" y="1292400"/>
            <a:ext cx="79200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ene flow ev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9"/>
          <p:cNvSpPr/>
          <p:nvPr/>
        </p:nvSpPr>
        <p:spPr>
          <a:xfrm>
            <a:off x="3295800" y="1355760"/>
            <a:ext cx="171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3983040" y="133668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4338720" y="133992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4335480" y="254628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4338720" y="285120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4338720" y="314964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3986280" y="254628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6"/>
          <p:cNvSpPr/>
          <p:nvPr/>
        </p:nvSpPr>
        <p:spPr>
          <a:xfrm>
            <a:off x="3983040" y="285444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3983040" y="315288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8"/>
          <p:cNvSpPr/>
          <p:nvPr/>
        </p:nvSpPr>
        <p:spPr>
          <a:xfrm>
            <a:off x="3983040" y="165096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9"/>
          <p:cNvSpPr/>
          <p:nvPr/>
        </p:nvSpPr>
        <p:spPr>
          <a:xfrm>
            <a:off x="3983040" y="195264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0"/>
          <p:cNvSpPr/>
          <p:nvPr/>
        </p:nvSpPr>
        <p:spPr>
          <a:xfrm>
            <a:off x="3979800" y="224784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1"/>
          <p:cNvSpPr/>
          <p:nvPr/>
        </p:nvSpPr>
        <p:spPr>
          <a:xfrm>
            <a:off x="4338720" y="1647720"/>
            <a:ext cx="65160" cy="1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2"/>
          <p:cNvSpPr/>
          <p:nvPr/>
        </p:nvSpPr>
        <p:spPr>
          <a:xfrm>
            <a:off x="4338720" y="195912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3"/>
          <p:cNvSpPr/>
          <p:nvPr/>
        </p:nvSpPr>
        <p:spPr>
          <a:xfrm>
            <a:off x="4338720" y="225432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34"/>
          <p:cNvSpPr/>
          <p:nvPr/>
        </p:nvSpPr>
        <p:spPr>
          <a:xfrm>
            <a:off x="4400640" y="1308240"/>
            <a:ext cx="152280" cy="1092240"/>
          </a:xfrm>
          <a:custGeom>
            <a:avLst/>
            <a:gdLst>
              <a:gd name="textAreaLeft" fmla="*/ 0 w 152280"/>
              <a:gd name="textAreaRight" fmla="*/ 55080 w 152280"/>
              <a:gd name="textAreaTop" fmla="*/ 28440 h 1092240"/>
              <a:gd name="textAreaBottom" fmla="*/ 106380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5"/>
          <p:cNvSpPr/>
          <p:nvPr/>
        </p:nvSpPr>
        <p:spPr>
          <a:xfrm>
            <a:off x="4400640" y="2540160"/>
            <a:ext cx="152280" cy="758520"/>
          </a:xfrm>
          <a:custGeom>
            <a:avLst/>
            <a:gdLst>
              <a:gd name="textAreaLeft" fmla="*/ 0 w 152280"/>
              <a:gd name="textAreaRight" fmla="*/ 55080 w 152280"/>
              <a:gd name="textAreaTop" fmla="*/ 19440 h 758520"/>
              <a:gd name="textAreaBottom" fmla="*/ 739080 h 75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6"/>
          <p:cNvSpPr/>
          <p:nvPr/>
        </p:nvSpPr>
        <p:spPr>
          <a:xfrm>
            <a:off x="4578480" y="1581120"/>
            <a:ext cx="18493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 1 is more closely related 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s 2, 3, and 4 than 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s 5, 6, and 7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ference: Gene flow occurr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4576680" y="2658960"/>
            <a:ext cx="18954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s 5, 6, and 7 are more close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lated to one another than 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s in population 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ference: No gene flow occurr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8"/>
          <p:cNvSpPr/>
          <p:nvPr/>
        </p:nvSpPr>
        <p:spPr>
          <a:xfrm>
            <a:off x="2608200" y="3941640"/>
            <a:ext cx="9032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i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pul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ith detect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ene flo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9"/>
          <p:cNvSpPr/>
          <p:nvPr/>
        </p:nvSpPr>
        <p:spPr>
          <a:xfrm>
            <a:off x="3699000" y="3944880"/>
            <a:ext cx="14158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stimated minim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umber of gene flo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vents to account f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enetic patter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0"/>
          <p:cNvSpPr/>
          <p:nvPr/>
        </p:nvSpPr>
        <p:spPr>
          <a:xfrm>
            <a:off x="5369040" y="4278240"/>
            <a:ext cx="1199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tance betwe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pulations (km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1"/>
          <p:cNvSpPr/>
          <p:nvPr/>
        </p:nvSpPr>
        <p:spPr>
          <a:xfrm>
            <a:off x="2849400" y="4719600"/>
            <a:ext cx="2239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-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2"/>
          <p:cNvSpPr/>
          <p:nvPr/>
        </p:nvSpPr>
        <p:spPr>
          <a:xfrm>
            <a:off x="2852640" y="4989600"/>
            <a:ext cx="2239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-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3"/>
          <p:cNvSpPr/>
          <p:nvPr/>
        </p:nvSpPr>
        <p:spPr>
          <a:xfrm>
            <a:off x="2841480" y="525780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-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4"/>
          <p:cNvSpPr/>
          <p:nvPr/>
        </p:nvSpPr>
        <p:spPr>
          <a:xfrm>
            <a:off x="2847960" y="552924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-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5"/>
          <p:cNvSpPr/>
          <p:nvPr/>
        </p:nvSpPr>
        <p:spPr>
          <a:xfrm>
            <a:off x="2855880" y="579600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-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6"/>
          <p:cNvSpPr/>
          <p:nvPr/>
        </p:nvSpPr>
        <p:spPr>
          <a:xfrm>
            <a:off x="2852640" y="606744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-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7"/>
          <p:cNvSpPr/>
          <p:nvPr/>
        </p:nvSpPr>
        <p:spPr>
          <a:xfrm>
            <a:off x="2855880" y="634212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-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8"/>
          <p:cNvSpPr/>
          <p:nvPr/>
        </p:nvSpPr>
        <p:spPr>
          <a:xfrm>
            <a:off x="4363920" y="4721400"/>
            <a:ext cx="96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9"/>
          <p:cNvSpPr/>
          <p:nvPr/>
        </p:nvSpPr>
        <p:spPr>
          <a:xfrm>
            <a:off x="4359240" y="4984920"/>
            <a:ext cx="96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0"/>
          <p:cNvSpPr/>
          <p:nvPr/>
        </p:nvSpPr>
        <p:spPr>
          <a:xfrm>
            <a:off x="4313160" y="5261040"/>
            <a:ext cx="20808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–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1"/>
          <p:cNvSpPr/>
          <p:nvPr/>
        </p:nvSpPr>
        <p:spPr>
          <a:xfrm>
            <a:off x="4373640" y="5532480"/>
            <a:ext cx="96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2"/>
          <p:cNvSpPr/>
          <p:nvPr/>
        </p:nvSpPr>
        <p:spPr>
          <a:xfrm>
            <a:off x="4368960" y="5802480"/>
            <a:ext cx="9684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3"/>
          <p:cNvSpPr/>
          <p:nvPr/>
        </p:nvSpPr>
        <p:spPr>
          <a:xfrm>
            <a:off x="4365720" y="6067440"/>
            <a:ext cx="96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4"/>
          <p:cNvSpPr/>
          <p:nvPr/>
        </p:nvSpPr>
        <p:spPr>
          <a:xfrm>
            <a:off x="4308480" y="6335640"/>
            <a:ext cx="2030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–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5"/>
          <p:cNvSpPr/>
          <p:nvPr/>
        </p:nvSpPr>
        <p:spPr>
          <a:xfrm>
            <a:off x="5883120" y="4724280"/>
            <a:ext cx="23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4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6"/>
          <p:cNvSpPr/>
          <p:nvPr/>
        </p:nvSpPr>
        <p:spPr>
          <a:xfrm>
            <a:off x="5880240" y="4991040"/>
            <a:ext cx="2314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7"/>
          <p:cNvSpPr/>
          <p:nvPr/>
        </p:nvSpPr>
        <p:spPr>
          <a:xfrm>
            <a:off x="5784840" y="5257800"/>
            <a:ext cx="3459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39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8"/>
          <p:cNvSpPr/>
          <p:nvPr/>
        </p:nvSpPr>
        <p:spPr>
          <a:xfrm>
            <a:off x="5781600" y="5524560"/>
            <a:ext cx="3463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19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9"/>
          <p:cNvSpPr/>
          <p:nvPr/>
        </p:nvSpPr>
        <p:spPr>
          <a:xfrm>
            <a:off x="5783400" y="6068880"/>
            <a:ext cx="34596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1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0"/>
          <p:cNvSpPr/>
          <p:nvPr/>
        </p:nvSpPr>
        <p:spPr>
          <a:xfrm>
            <a:off x="5888160" y="5796000"/>
            <a:ext cx="2314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6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1"/>
          <p:cNvSpPr/>
          <p:nvPr/>
        </p:nvSpPr>
        <p:spPr>
          <a:xfrm>
            <a:off x="5776920" y="6335640"/>
            <a:ext cx="3459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3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100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Reproductive Isolation  =  Barriers to Interbreeding 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05920" y="1176480"/>
            <a:ext cx="853452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Reproductive isola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existence of biological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facto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barriers)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that impede two different speci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rom producing viable, fertile offspr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Hybrid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the offspring of crosses between different spec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roductive isolation can be classified by whether factors act before or after fertiliz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04480" y="1176480"/>
            <a:ext cx="853452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Prezygotic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rriers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block fertiliz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rom occurring b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eding different species from attempting to m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ng the successful completion of ma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dering fertilization if mating is success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34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Prezygotic barri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inta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productive 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34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Tempor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 Habita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 Behavior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 Mechanic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Gamet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533520" y="139320"/>
            <a:ext cx="80010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61a29"/>
                </a:solidFill>
                <a:latin typeface="Arial"/>
              </a:rPr>
              <a:t>Reproductive Barriers Between Speci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9" descr="24_04-ReproBarriers-U"/>
          <p:cNvPicPr/>
          <p:nvPr/>
        </p:nvPicPr>
        <p:blipFill>
          <a:blip r:embed="rId1"/>
          <a:stretch/>
        </p:blipFill>
        <p:spPr>
          <a:xfrm>
            <a:off x="304920" y="1752480"/>
            <a:ext cx="8548560" cy="381024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0"/>
          <p:cNvSpPr/>
          <p:nvPr/>
        </p:nvSpPr>
        <p:spPr>
          <a:xfrm>
            <a:off x="152280" y="0"/>
            <a:ext cx="8077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Reproductive Barriers </a:t>
            </a:r>
            <a:r>
              <a:rPr b="1" lang="en-US" sz="2800" spc="-1" strike="noStrike">
                <a:solidFill>
                  <a:srgbClr val="034694"/>
                </a:solidFill>
                <a:latin typeface="Arial"/>
              </a:rPr>
              <a:t>Between</a:t>
            </a: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2719440" y="1600200"/>
            <a:ext cx="696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Prezygotic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34694"/>
                </a:solidFill>
                <a:latin typeface="Arial"/>
              </a:rPr>
              <a:t>B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457200" y="1905120"/>
            <a:ext cx="914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bita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309600" y="2289240"/>
            <a:ext cx="4460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ffe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e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1538280" y="1905120"/>
            <a:ext cx="976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mpo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2563920" y="1981080"/>
            <a:ext cx="73188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havio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3297240" y="2374920"/>
            <a:ext cx="2746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em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3598920" y="1984320"/>
            <a:ext cx="73188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chan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4761000" y="1987560"/>
            <a:ext cx="65880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me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9"/>
          <p:cNvSpPr/>
          <p:nvPr/>
        </p:nvSpPr>
        <p:spPr>
          <a:xfrm>
            <a:off x="5370480" y="2413080"/>
            <a:ext cx="4399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0"/>
          <p:cNvSpPr/>
          <p:nvPr/>
        </p:nvSpPr>
        <p:spPr>
          <a:xfrm>
            <a:off x="5675400" y="1987560"/>
            <a:ext cx="92844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brid Vi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1"/>
          <p:cNvSpPr/>
          <p:nvPr/>
        </p:nvSpPr>
        <p:spPr>
          <a:xfrm>
            <a:off x="6726240" y="1987560"/>
            <a:ext cx="89388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uced 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2"/>
          <p:cNvSpPr/>
          <p:nvPr/>
        </p:nvSpPr>
        <p:spPr>
          <a:xfrm>
            <a:off x="6400800" y="1600200"/>
            <a:ext cx="11937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Postzygotic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34694"/>
                </a:solidFill>
                <a:latin typeface="Arial"/>
              </a:rPr>
              <a:t>B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3"/>
          <p:cNvSpPr/>
          <p:nvPr/>
        </p:nvSpPr>
        <p:spPr>
          <a:xfrm>
            <a:off x="8077320" y="1981080"/>
            <a:ext cx="76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eak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4"/>
          <p:cNvSpPr/>
          <p:nvPr/>
        </p:nvSpPr>
        <p:spPr>
          <a:xfrm>
            <a:off x="8447040" y="2349360"/>
            <a:ext cx="338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ab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rt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fsp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5"/>
          <p:cNvSpPr/>
          <p:nvPr/>
        </p:nvSpPr>
        <p:spPr>
          <a:xfrm>
            <a:off x="398520" y="289872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a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6"/>
          <p:cNvSpPr/>
          <p:nvPr/>
        </p:nvSpPr>
        <p:spPr>
          <a:xfrm>
            <a:off x="398520" y="388620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b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7"/>
          <p:cNvSpPr/>
          <p:nvPr/>
        </p:nvSpPr>
        <p:spPr>
          <a:xfrm>
            <a:off x="1452600" y="3625920"/>
            <a:ext cx="968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8"/>
          <p:cNvSpPr/>
          <p:nvPr/>
        </p:nvSpPr>
        <p:spPr>
          <a:xfrm>
            <a:off x="1449360" y="2892600"/>
            <a:ext cx="968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9"/>
          <p:cNvSpPr/>
          <p:nvPr/>
        </p:nvSpPr>
        <p:spPr>
          <a:xfrm>
            <a:off x="3271680" y="2892600"/>
            <a:ext cx="968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0"/>
          <p:cNvSpPr/>
          <p:nvPr/>
        </p:nvSpPr>
        <p:spPr>
          <a:xfrm>
            <a:off x="3525840" y="289548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f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1"/>
          <p:cNvSpPr/>
          <p:nvPr/>
        </p:nvSpPr>
        <p:spPr>
          <a:xfrm>
            <a:off x="4691160" y="289872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g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2"/>
          <p:cNvSpPr/>
          <p:nvPr/>
        </p:nvSpPr>
        <p:spPr>
          <a:xfrm>
            <a:off x="5726160" y="289872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h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3"/>
          <p:cNvSpPr/>
          <p:nvPr/>
        </p:nvSpPr>
        <p:spPr>
          <a:xfrm>
            <a:off x="6770520" y="290196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i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4"/>
          <p:cNvSpPr/>
          <p:nvPr/>
        </p:nvSpPr>
        <p:spPr>
          <a:xfrm>
            <a:off x="6773760" y="3625920"/>
            <a:ext cx="968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j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5"/>
          <p:cNvSpPr/>
          <p:nvPr/>
        </p:nvSpPr>
        <p:spPr>
          <a:xfrm>
            <a:off x="7812000" y="289872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6"/>
          <p:cNvSpPr/>
          <p:nvPr/>
        </p:nvSpPr>
        <p:spPr>
          <a:xfrm>
            <a:off x="6773760" y="435276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k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17080" y="1176120"/>
            <a:ext cx="8534520" cy="20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Habitat isol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wo species encounter each other rarely, or not at all, because they occupy different habitats, even though not isolated by physical barri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304920" y="393480"/>
            <a:ext cx="64008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34694"/>
                </a:solidFill>
                <a:latin typeface="Arial"/>
              </a:rPr>
              <a:t>PreZygotic Reproductive Barri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LEGION</cp:lastModifiedBy>
  <cp:lastPrinted>2004-11-23T05:28:16Z</cp:lastPrinted>
  <dcterms:modified xsi:type="dcterms:W3CDTF">2018-03-12T09:00:10Z</dcterms:modified>
  <cp:revision>791</cp:revision>
  <dc:subject/>
  <dc:title>video slide</dc:title>
</cp:coreProperties>
</file>