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8.png" ContentType="image/png"/>
  <Override PartName="/ppt/media/image7.png" ContentType="image/png"/>
  <Override PartName="/ppt/media/image9.png" ContentType="image/png"/>
  <Override PartName="/ppt/media/image13.jpeg" ContentType="image/jpeg"/>
  <Override PartName="/ppt/media/image30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9582-4588-429A-A390-4D67672C33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E9E-067F-4662-9588-CAA0AA1B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335-C880-4784-AC47-3436F565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8F1-675E-4ECA-AAFB-0E1B07D7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A66-5560-4E53-88AA-2D6DD34C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750C-9FE8-4D51-B626-0A7FB2C5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3216-1BB4-463B-81E7-DA93456A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F1EA-6ACC-4EAC-B466-30A22157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9F92-336E-4F3D-9506-7CA11C1C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D1E1-9BB2-4A99-8984-4035A6CB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DAB3-C035-49A0-84C0-2849A9E6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6346-ECE4-4762-B649-ADCB18C4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B3B-0586-4F40-A540-2BD019FC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7EA7-F1FF-4CE1-A39A-FFD9B3C1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8864-207E-406B-B0BE-484E93BE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B1F9-27FF-400A-B730-427102B0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C5F9-3A27-44DD-ADA5-0FE436A2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9FDF-02BE-4A83-B0ED-A21AC617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FD593-7899-42BB-8785-9162301B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FEF25-7C45-4B3D-9805-35ECAAC4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7CA0A-38C7-42A8-8421-574AFD3E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B8D77-4B3C-4777-9E53-422A22B6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7741C-1861-4941-81E4-E784FB42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CF1-5E64-4234-85E4-D61EC0F3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4918-72EC-4ADA-AA30-3BF3E1A6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20214-ABB1-43CB-AECA-BCFDFD17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2941-3A78-4DCF-94E8-016CC93C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0C85B-DA1C-407D-A3D2-1F20B84F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6ECE3-78BA-4955-AAAA-8B5DBD90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59A6F-8F60-4630-B1F4-05839F54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1EE47-242A-416F-83F9-64927C68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C23DE-3DDA-442A-93B0-A707E979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E6AD3-303F-4EEF-B3C8-0BF69656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CFD64-6AD0-4A67-9B32-2793B073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3AA5-C953-43D9-8498-9D93A1A5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8E48B-EBA6-45BC-BD17-FA520114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412EC-3922-4805-8C16-095ED7AE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B490C-7C3F-4EF7-9275-F659EE57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B24A5-FA6A-411D-9DB6-1C61AB88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EB382-6795-42C4-B534-F55E164A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737DF-2704-4623-B860-C8DC9D1C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BE92E-10DE-4BC5-AF1E-46BA1BE6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70FB-CC40-4C06-B2C9-3F002FD7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BF1E6-B86C-443C-BB38-4065F67C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7C89A-03B0-4362-A828-83D61796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9625-5B00-4037-B7A1-ED2809A1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90CA2-87A0-4FC7-B0EE-B90D4092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2EB22-1786-4A9D-A53D-A6434A5F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D0504-2015-4325-A94F-234A2802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8463E-2A1C-49B9-9C61-D9A25739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04678-F698-453B-BDF1-AE5BFF3D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85413-03C9-47F2-9680-9B27FD44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980C0-F47A-45F0-930B-25B2B124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FE373-4B8C-4E2A-976B-1DD6D521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E19EE-6A44-4166-855E-DE50DC15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18579-A55B-472E-9CE1-0048BCD5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ED8-A0D0-4A32-9FCA-532B3C4B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D525C-1BEA-43A5-BF6F-DF4DB310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CC0B0-A19C-4171-8997-7CA3056B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D7509-253B-43B7-9892-AFDD5829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E8853-8A73-4FFA-BE59-36460675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1DC38-7B17-4F8E-A9D6-EDFA2431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852F2-32E6-4DA2-886A-E09B9783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66BB0-F2D1-48DF-A4EA-7641C49A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A4C6D-9349-4FCE-A5D1-469E25CB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2B752-6551-4C22-AD8E-B96BDE9F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38CAB-2F42-44F5-B574-F092B00D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468-9F32-4291-97C8-ABA35999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DA8CB-2158-4A78-AE21-92B0157E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41234-1695-47A7-8DCD-41FF2D4C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A549A-670E-466E-95E5-80CEF71C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6A52B-5333-421F-A8E1-DBA36469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4C516-3DFC-495A-B31C-5AB2F89D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CC9BA-2629-416C-8074-D21E6381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E3A11-0316-4798-A448-4A4C5FB9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C096A-8DF5-4A63-B884-8AC05C55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FA8F7-5CF6-46AE-8EED-6BCE24A6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012E8-5BC6-4243-B6C5-648BDB54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5A2-F4B3-490C-A52B-4226D432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89A25-CC31-49DF-825C-F94652F4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91CCA-CAC8-49B7-B444-3DB27653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F08B8-B220-404F-80F9-07E94973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F3BE5-A0FC-4FEC-952B-A1196E7D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CE928-D69B-4E3A-8F50-F0C6FE22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CAC-A236-4D5A-A174-65B7009B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C2B0-A913-4833-8884-0E95B18D7B4E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2D0B-7B24-4CB1-A398-FC7330E91359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1EE2-80CD-4A77-AD38-F1E876808186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4e7ed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57B6-BC85-45FF-A6BE-58C218C82B9C}" type="slidenum">
              <a:rPr b="0" lang="en-GB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61E6-4CDD-42ED-979A-8A946B8BD1A7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7885-1EDD-4594-BFD7-7B3012D1EEA9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05A8-8E31-44D5-87E9-FA8C65D7440D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4" descr=""/>
          <p:cNvPicPr/>
          <p:nvPr/>
        </p:nvPicPr>
        <p:blipFill>
          <a:blip r:embed="rId1"/>
          <a:stretch/>
        </p:blipFill>
        <p:spPr>
          <a:xfrm>
            <a:off x="212760" y="274320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2857320"/>
            <a:ext cx="822960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12 bird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istorically spread all over Indian subcontinent. Now restricted to only a few places in Rajasthan, Maharashtra, Karnataka, Andhra Pradesh and Madhya Prades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s representative of Grasslan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expansion of agriculture, habitat fragmentation, overgrazing, pesticides and hunt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1" name="Picture 4" descr="Great Indian Bustard"/>
          <p:cNvPicPr/>
          <p:nvPr/>
        </p:nvPicPr>
        <p:blipFill>
          <a:blip r:embed="rId2"/>
          <a:stretch/>
        </p:blipFill>
        <p:spPr>
          <a:xfrm>
            <a:off x="304920" y="1676520"/>
            <a:ext cx="3406680" cy="4114800"/>
          </a:xfrm>
          <a:prstGeom prst="rect">
            <a:avLst/>
          </a:prstGeom>
          <a:ln w="0">
            <a:noFill/>
          </a:ln>
        </p:spPr>
      </p:pic>
      <p:sp>
        <p:nvSpPr>
          <p:cNvPr id="3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9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species found all over India in large wetlan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population is declining very fa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destruction of nesting habitat, drainage and pollution of wetlands and dearth of fo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8" name="Picture 4" descr="Spot-bellied-Pelican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272556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712800" y="-79200"/>
            <a:ext cx="7974000" cy="1371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4197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storically widespread all over south Asia and Australia. Now declining all over its ran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- primarily threatened by a combination of habitat loss and modification (owing primarily to agricultural expansion), pollution and persec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2" name="Picture 4" descr="Sarus-Crane"/>
          <p:cNvPicPr/>
          <p:nvPr/>
        </p:nvPicPr>
        <p:blipFill>
          <a:blip r:embed="rId2"/>
          <a:stretch/>
        </p:blipFill>
        <p:spPr>
          <a:xfrm>
            <a:off x="380880" y="2057400"/>
            <a:ext cx="3810240" cy="3070080"/>
          </a:xfrm>
          <a:prstGeom prst="rect">
            <a:avLst/>
          </a:prstGeom>
          <a:ln w="0">
            <a:noFill/>
          </a:ln>
        </p:spPr>
      </p:pic>
      <p:sp>
        <p:nvSpPr>
          <p:cNvPr id="3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83808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8 species which fall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87440" y="-15228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495680" y="11426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idespread and locally common resident in South east As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frequents freshwater marshes, lakes and reservoirs, flooded fields, paddy fields, freshwater swamp forests, riverbanks, intertidal mudflats and saltpa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- habitat loss, disturbance, pollution and hunting of adults and collection of eggs and nestlings from colonies is cause for concer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9" name="Picture 4" descr="Painted-Stork"/>
          <p:cNvPicPr/>
          <p:nvPr/>
        </p:nvPicPr>
        <p:blipFill>
          <a:blip r:embed="rId2"/>
          <a:stretch/>
        </p:blipFill>
        <p:spPr>
          <a:xfrm>
            <a:off x="152280" y="1600200"/>
            <a:ext cx="4191120" cy="3195720"/>
          </a:xfrm>
          <a:prstGeom prst="rect">
            <a:avLst/>
          </a:prstGeom>
          <a:ln w="0">
            <a:noFill/>
          </a:ln>
        </p:spPr>
      </p:pic>
      <p:sp>
        <p:nvSpPr>
          <p:cNvPr id="3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nd only in Asia and African 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ery year 10%  population decline is observed in Africa. It breeds in Little Run of Katch in Gujar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fter breeding, disperse over Indian Sub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water pollution, disturbance to nesting sites and  habitat destru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3" name="Picture 6" descr="B-0043"/>
          <p:cNvPicPr/>
          <p:nvPr/>
        </p:nvPicPr>
        <p:blipFill>
          <a:blip r:embed="rId2"/>
          <a:stretch/>
        </p:blipFill>
        <p:spPr>
          <a:xfrm>
            <a:off x="228600" y="2576520"/>
            <a:ext cx="4038480" cy="268128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hy birds are threat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bitat De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ansion of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pid Industr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aching and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obal Warming and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abitat Destruction"/>
          <p:cNvPicPr/>
          <p:nvPr/>
        </p:nvPicPr>
        <p:blipFill>
          <a:blip r:embed="rId1"/>
          <a:stretch/>
        </p:blipFill>
        <p:spPr>
          <a:xfrm>
            <a:off x="3200400" y="1523880"/>
            <a:ext cx="2847960" cy="434340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xtinct – not seen at least for 50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ritically Endangered – likely to be extin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ndangered – high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Vulnerable –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Near threatened – close to vulner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Least Concern – not qualify any of the abo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ata deficient – no information avail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44600" y="0"/>
            <a:ext cx="80168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800280" y="1905120"/>
          <a:ext cx="7429320" cy="4114800"/>
        </p:xfrm>
        <a:graphic>
          <a:graphicData uri="http://schemas.openxmlformats.org/drawingml/2006/table">
            <a:tbl>
              <a:tblPr/>
              <a:tblGrid>
                <a:gridCol w="4076640"/>
                <a:gridCol w="1722240"/>
                <a:gridCol w="1630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ly 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lne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 Threaten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500040" y="-152280"/>
            <a:ext cx="8034480" cy="145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990720" y="2971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Central India we have 9 species of the bird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182520" y="-49320"/>
            <a:ext cx="8431200" cy="1420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403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species is widely distributed in In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ill late 1990 it was in abundant but declined rapidl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use – veterinary use of  diclofenac for livesto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2" name="Picture 4" descr="White-backed-vulture"/>
          <p:cNvPicPr/>
          <p:nvPr/>
        </p:nvPicPr>
        <p:blipFill>
          <a:blip r:embed="rId2"/>
          <a:stretch/>
        </p:blipFill>
        <p:spPr>
          <a:xfrm>
            <a:off x="4648320" y="1523880"/>
            <a:ext cx="4267080" cy="4267440"/>
          </a:xfrm>
          <a:prstGeom prst="rect">
            <a:avLst/>
          </a:prstGeom>
          <a:ln w="0">
            <a:noFill/>
          </a:ln>
        </p:spPr>
      </p:pic>
      <p:sp>
        <p:nvSpPr>
          <p:cNvPr id="3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495680" y="1752120"/>
            <a:ext cx="4648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species is also widely distributed in Ind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ke White-backed Vultures their population declined rapidly after 199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use – veterinary use of  diclofenac for c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6" name="Picture 4" descr="Long-billed-vulture"/>
          <p:cNvPicPr/>
          <p:nvPr/>
        </p:nvPicPr>
        <p:blipFill>
          <a:blip r:embed="rId2"/>
          <a:stretch/>
        </p:blipFill>
        <p:spPr>
          <a:xfrm>
            <a:off x="733320" y="1600200"/>
            <a:ext cx="376236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is endemic bird found in south-eastern Andhra Pradesh. Earlier known from few places in Central India from Godavari River basi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 found only in scrub fore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habitat destruction because of human activitie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0" name="Picture 4" descr="Jerdon's-Courser"/>
          <p:cNvPicPr/>
          <p:nvPr/>
        </p:nvPicPr>
        <p:blipFill>
          <a:blip r:embed="rId2"/>
          <a:stretch/>
        </p:blipFill>
        <p:spPr>
          <a:xfrm>
            <a:off x="5516640" y="1600200"/>
            <a:ext cx="32464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nly found in dry deciduous fore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reats – habitat destruction for fuel wood, illicit wood cutting, overgrazing and direct persecution by trib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4" name="Picture 4" descr="Forest Owlet"/>
          <p:cNvPicPr/>
          <p:nvPr/>
        </p:nvPicPr>
        <p:blipFill>
          <a:blip r:embed="rId2"/>
          <a:stretch/>
        </p:blipFill>
        <p:spPr>
          <a:xfrm>
            <a:off x="5467320" y="1600200"/>
            <a:ext cx="3524400" cy="3809880"/>
          </a:xfrm>
          <a:prstGeom prst="rect">
            <a:avLst/>
          </a:prstGeom>
          <a:ln w="0">
            <a:noFill/>
          </a:ln>
        </p:spPr>
      </p:pic>
      <p:sp>
        <p:nvSpPr>
          <p:cNvPr id="3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42:41Z</dcterms:created>
  <dc:creator> GIRISH</dc:creator>
  <dc:description/>
  <dc:language>en-US</dc:language>
  <cp:lastModifiedBy>LEGION</cp:lastModifiedBy>
  <dcterms:modified xsi:type="dcterms:W3CDTF">2018-03-12T09:10:25Z</dcterms:modified>
  <cp:revision>337</cp:revision>
  <dc:subject/>
  <dc:title>Slide 1</dc:title>
</cp:coreProperties>
</file>