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A619-FEED-4E22-AC0A-0366FBD1E4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,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, T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,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, T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in triangular pri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ost media, refractive index varies with wavelength. This gives the familiar rainbow spectrum with white light in glass or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in triangular pr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media, refractive index varies with wavelength. This gives the familiar rainbow spectrum with white light in glass or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 as a function of wavelength for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glass                    and               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 as a function of wavelength for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lass                    and         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-quality optical glass is engineered to have a constant refractive index across the visible spectr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iations are still possible. Such deviations are called chromatic aber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quality optical glass is engineered to have a constant refractive index across the visible spectr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ations are still possible. Such deviations are called chromatic aber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pproximately 1.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glass and acrylic plastic is about 1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carbonate is about 1.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st optical plastic index is 1.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smuth glass is ov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ond is 2.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approximately 1.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glass and acrylic plastic is about 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carbonate is about 1.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optical plastic index is 1.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muth glass is ov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 is 2.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ref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ross a refractive index drop, there is an angle beyond which ray exit is impossib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 refractive index drop, there is an angle beyond which ray exit is impossi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internal reflection (TI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itical angle is where the refracted ray would have 90 incid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al reflection angle is therefo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glass/acrylic, this is 42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iamond, it is 24 - light will make many internal reflections before leaving, creating the “fire” in the diamon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internal reflection (T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itical angle is where the refracted ray would have 90 inc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al reflection angle is therefo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lass/acrylic, this is 42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diamond, it is 24 - light will make many internal reflections before leaving, creating the “fire” in the diamon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a-pri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a-prisms are used in SLR cameras to rotate an image without inverting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equivalent to two conventional mirrors, and cause a 90 rotation of the image, without inver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ven number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rors produce a non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ed rotated ima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obj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a-pr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a-prisms are used in SLR cameras to rotate an image without inverting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equivalent to two conventional mirrors, and cause a 90 rotation of the image, without inver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ven number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s produce a non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ted rotated ima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obje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2D, two mirrors at right angles will retro-reflect light rays, i.e. send them back in the direction they came fro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D, two mirrors at right angles will retro-reflect light rays, i.e. send them back in the direction they came fr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3D, you need 3 mirrors to do this: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sis: each mirror inverts one of X,Y,Z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3D, you need 3 mirrors to do this: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: each mirror inverts one of X,Y,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: TIR sphe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a sphere and an incoming ra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ing and refracted ray angles are , 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ray to hit the centerline,  = 2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retro-reflection, w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  = sin  /sin 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mall angles,  =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s good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: TIR sphe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 sphere and an incoming r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ming and refracted ray angles are , 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ay to hit the centerline,  = 2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tro-reflection, w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 = sin  /sin 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mall angles,  =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good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fronts and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waves propagate normal to the wavefront surface, and vice-vers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y description is most useful for describing the geometry of imag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fronts and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waves propagate normal to the wavefront surface, and vice-ver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y description is most useful for describing the geometry of imag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ve sh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xpensive retro-reflective tapes are available that use tiny corner reflectors or spheres embedded in clear plastic (3M Scotchl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in many colors, including blac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ve sh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xpensive retro-reflective tapes are available that use tiny corner reflectors or spheres embedded in clear plastic (3M Scotchl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me in many colors, including bla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or 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tro-reflection response of a screen is normally rated in terms of 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 = ratio of peak reflected light energy to the energy reflected by a Lambertian surf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s may be 1000 or mo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source only needs 1/1000 of the light energy to illuminate the screen, as long as the viewer is close enough to the sour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or 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tro-reflection response of a screen is normally rated in terms of 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= ratio of peak reflected light energy to the energy reflected by a Lambertian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s may be 1000 or m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 only needs 1/1000 of the light energy to illuminate the screen, as long as the viewer is close enough to the sour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: personal displ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ser has a personal projector (e.g. a PDA with a single lens in front of it), and projects on the same retro-reflective scre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: personal dis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user has a personal projector (e.g. a PDA with a single lens in front of it), and projects on the same retro-reflective scre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: Artificial backgr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or and camera along same optical axis, project scene onto actors and retro-reflective backgr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ras sees background only on screen, not on the actors (3M received technical academy award for this in 198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: Artificial backgr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or and camera along same optical axis, project scene onto actors and retro-reflective backgr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ras sees background only on screen, not on the actors (3M received technical academy award for this in 1985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fractive disk with one or two convex spherical surfaces converges parallel light rays almost to a poi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to this point is the focal length of the le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ractive disk with one or two convex spherical surfaces converges parallel light rays almost to a poi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tance to this point is the focal length of the le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ight comes from a point source that is further away than the focal length, it will focus to another point on the other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ght comes from a point source that is further away than the focal length, it will focus to another point on the other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are two focal points f1 , f2 (sometimes called conjugates), then they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are two focal points f1 , f2 (sometimes called conjugates), then they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lens consists of spherical surfaces with radii r1 and r2, then the focal length satisfi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1/f = ( - 1) (1/r1 - 1/r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lens consists of spherical surfaces with radii r1 and r2, then the focal length satisfi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1/f = ( - 1) (1/r1 - 1/r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lenses cannot achieve perfect focus, and always have some aber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lenses cannot achieve perfect focus, and always have some aber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und lenses, comprising convex, concave or hybrid elements, are used to minimize aber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lenses, comprising convex, concave or hybrid elements, are used to minimize aber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als are excellent conduct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educe the E field to zero at the surface, causing ref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, R, N unit vecto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N = R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(N  R)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are excellent condu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duce the E field to zero at the surface, causing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, R, N unit ve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N = R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(N  R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-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racing rays back from the viewer, we can estimate what a reflected object would look like. Follow at least two rays at extremes of the objec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-tra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racing rays back from the viewer, we can estimate what a reflected object would look like. Follow at least two rays at extremes of the obje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bertian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ost non-metallic objects, the apparent brightness depends on surface orientation relative to the light source but not the vie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e. brightness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rtional to I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bertian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non-metallic objects, the apparent brightness depends on surface orientation relative to the light source but not the vie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brightness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al to I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wave re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ransparent materials (plastic, glass), light propagates slower than in ai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boundary, wavefronts ben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– wave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ransparent materials (plastic, glass), light propagates slower than in 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oundary, wavefronts be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 measures how fast light propagates through a medi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media must be poor conductors and are usually called dielectric med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fractive index of a dielectric medium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c is the speed of light in vacuum, and v is the speed in the medium. Note that  &gt; 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 measures how fast light propagates through a med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media must be poor conductors and are usually called dielectric me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ve index of a dielectric medium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c is the speed of light in vacuum, and v is the speed in the medium. Note that  &gt;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Snell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ident and refracted rays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– Snell’s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dent and refracted rays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ray re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erms of rays, light bends toward the normal in the slower materi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– ray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erms of rays, light bends toward the normal in the slower materi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5C7-C8DC-4F49-B1A1-287CC0C3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6897-794D-4C5F-A243-942ADFCD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A56B-A9BE-4813-9824-8ABA8F6A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113-0F8E-4AAF-9AB3-64A3F1FC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86BA-332B-49FE-BFD6-5DD63B50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7212-D1FE-427E-899F-ABA516AC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6B70-9A46-4330-80C6-997EEA01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33FF-04A3-49C0-89D5-B3BF2DF6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B823-7353-4027-8513-F03767CE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730-3A8C-43C1-B4CD-B03992F0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5291-54A2-4491-A387-B6696F65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A586-2631-4879-87E8-BA765B08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bc0"/>
            </a:gs>
            <a:gs pos="50000">
              <a:srgbClr val="c3b7fd"/>
            </a:gs>
            <a:gs pos="100000">
              <a:srgbClr val="948bc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041E-EE92-4F53-81F0-F92753559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c3b7fd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s ti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on, Scat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, 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o-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in triangular pris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st media, refractive index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aries with wavel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is gives the familiar rainbow spectrum with white light in glass or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prism"/>
          <p:cNvPicPr/>
          <p:nvPr/>
        </p:nvPicPr>
        <p:blipFill>
          <a:blip r:embed="rId1"/>
          <a:srcRect l="0" t="0" r="3983" b="6374"/>
          <a:stretch/>
        </p:blipFill>
        <p:spPr>
          <a:xfrm>
            <a:off x="2097000" y="3203640"/>
            <a:ext cx="5399280" cy="3036960"/>
          </a:xfrm>
          <a:prstGeom prst="rect">
            <a:avLst/>
          </a:prstGeom>
          <a:ln w="0">
            <a:noFill/>
          </a:ln>
        </p:spPr>
      </p:pic>
      <p:sp>
        <p:nvSpPr>
          <p:cNvPr id="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7360" y="1554120"/>
            <a:ext cx="8172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ve index as a function of wavelength for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glass                    and               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RI-Comparisons"/>
          <p:cNvPicPr/>
          <p:nvPr/>
        </p:nvPicPr>
        <p:blipFill>
          <a:blip r:embed="rId1"/>
          <a:stretch/>
        </p:blipFill>
        <p:spPr>
          <a:xfrm>
            <a:off x="4946760" y="3503520"/>
            <a:ext cx="4011480" cy="2909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5-2"/>
          <p:cNvPicPr/>
          <p:nvPr/>
        </p:nvPicPr>
        <p:blipFill>
          <a:blip r:embed="rId2"/>
          <a:stretch/>
        </p:blipFill>
        <p:spPr>
          <a:xfrm>
            <a:off x="560520" y="3503520"/>
            <a:ext cx="3973320" cy="2928960"/>
          </a:xfrm>
          <a:prstGeom prst="rect">
            <a:avLst/>
          </a:prstGeom>
          <a:ln w="0">
            <a:noFill/>
          </a:ln>
        </p:spPr>
      </p:pic>
      <p:sp>
        <p:nvSpPr>
          <p:cNvPr id="9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7360" y="1554120"/>
            <a:ext cx="8172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quality optical glass is engineered to have a constant refractive index across the visible spectr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s are still possible. Such deviations are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romatic aber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i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approximately 1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glass and acrylic plastic is about 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carbonate is about 1.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st optical plastic index is 1.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muth glass is ove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ond is 2.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rnal refl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ross a refractive index drop, there is an angle beyond which ray exit is impossi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u14l3b2"/>
          <p:cNvPicPr/>
          <p:nvPr/>
        </p:nvPicPr>
        <p:blipFill>
          <a:blip r:embed="rId1"/>
          <a:stretch/>
        </p:blipFill>
        <p:spPr>
          <a:xfrm>
            <a:off x="1835280" y="2641680"/>
            <a:ext cx="5248080" cy="389880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otal internal reflection (TIR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itical angle is where the refracted ray would have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al reflection angle is therefo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glass/acrylic, this is 4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iamond, it is 24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light will make many internal reflections before leaving, creating the “fire” in the diamon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2735280" y="3166920"/>
                <a:ext cx="2909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nta-pris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a-prisms are used in SLR cameras to rotate an image without inverting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equivalent to two conventional mirrors, and cause a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o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image, without in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ven number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rors produce a non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ted rotated imag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obj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PentaPrism"/>
          <p:cNvPicPr/>
          <p:nvPr/>
        </p:nvPicPr>
        <p:blipFill>
          <a:blip r:embed="rId1"/>
          <a:stretch/>
        </p:blipFill>
        <p:spPr>
          <a:xfrm>
            <a:off x="5172120" y="3578400"/>
            <a:ext cx="2914560" cy="283824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on: Corner reflect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D, two mirrors at right angles will retro-reflect light rays, i.e. send them back in the direction they came fr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orneref"/>
          <p:cNvPicPr/>
          <p:nvPr/>
        </p:nvPicPr>
        <p:blipFill>
          <a:blip r:embed="rId1"/>
          <a:srcRect l="0" t="8651" r="0" b="16788"/>
          <a:stretch/>
        </p:blipFill>
        <p:spPr>
          <a:xfrm>
            <a:off x="1085760" y="3054240"/>
            <a:ext cx="7012080" cy="350676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on: Corner reflect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3D, you need 3 mirrors to do this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: each mirror inverts one of X,Y,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coriverc"/>
          <p:cNvPicPr/>
          <p:nvPr/>
        </p:nvPicPr>
        <p:blipFill>
          <a:blip r:embed="rId1"/>
          <a:srcRect l="1523" t="1185" r="2730" b="53580"/>
          <a:stretch/>
        </p:blipFill>
        <p:spPr>
          <a:xfrm>
            <a:off x="1722600" y="2228760"/>
            <a:ext cx="5062320" cy="2927520"/>
          </a:xfrm>
          <a:prstGeom prst="rect">
            <a:avLst/>
          </a:prstGeom>
          <a:ln w="0">
            <a:noFill/>
          </a:ln>
        </p:spPr>
      </p:pic>
      <p:sp>
        <p:nvSpPr>
          <p:cNvPr id="12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on: TIR sphe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sphere and an incoming r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ing and refracted ray angles a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ray to hit the centerlin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etro-reflection, w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s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mall angle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good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4309920" y="3392640"/>
            <a:ext cx="3673440" cy="2998800"/>
            <a:chOff x="4309920" y="3392640"/>
            <a:chExt cx="3673440" cy="2998800"/>
          </a:xfrm>
        </p:grpSpPr>
        <p:sp>
          <p:nvSpPr>
            <p:cNvPr id="124" name="Oval 6"/>
            <p:cNvSpPr/>
            <p:nvPr/>
          </p:nvSpPr>
          <p:spPr>
            <a:xfrm>
              <a:off x="4309920" y="4479840"/>
              <a:ext cx="1911600" cy="1911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 flipV="1">
              <a:off x="4497480" y="3615840"/>
              <a:ext cx="3485880" cy="232596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H="1">
              <a:off x="4460760" y="4479840"/>
              <a:ext cx="749520" cy="14623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0"/>
            <p:cNvSpPr/>
            <p:nvPr/>
          </p:nvSpPr>
          <p:spPr>
            <a:xfrm flipH="1">
              <a:off x="5246640" y="3392640"/>
              <a:ext cx="1611360" cy="10508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>
              <a:off x="5246640" y="3578400"/>
              <a:ext cx="0" cy="187452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3"/>
            <p:cNvSpPr/>
            <p:nvPr/>
          </p:nvSpPr>
          <p:spPr>
            <a:xfrm>
              <a:off x="5212080" y="39146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4"/>
            <p:cNvSpPr/>
            <p:nvPr/>
          </p:nvSpPr>
          <p:spPr>
            <a:xfrm>
              <a:off x="4986360" y="4591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5"/>
            <p:cNvSpPr/>
            <p:nvPr/>
          </p:nvSpPr>
          <p:spPr>
            <a:xfrm>
              <a:off x="4647960" y="53769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6"/>
            <p:cNvSpPr/>
            <p:nvPr/>
          </p:nvSpPr>
          <p:spPr>
            <a:xfrm>
              <a:off x="5221440" y="49658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5059440" y="4290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>
              <a:off x="5059440" y="429084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459320" y="5753160"/>
              <a:ext cx="1687320" cy="2239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6184800" y="4740120"/>
              <a:ext cx="1575000" cy="10130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avefronts and R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1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waves propagate normal to the wavefront surface, and vice-ver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y description is most useful for describing the geometry of imag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dviewwavefronts"/>
          <p:cNvPicPr/>
          <p:nvPr/>
        </p:nvPicPr>
        <p:blipFill>
          <a:blip r:embed="rId1"/>
          <a:stretch/>
        </p:blipFill>
        <p:spPr>
          <a:xfrm>
            <a:off x="635040" y="3916440"/>
            <a:ext cx="4086360" cy="2403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3dplanewaves"/>
          <p:cNvPicPr/>
          <p:nvPr/>
        </p:nvPicPr>
        <p:blipFill>
          <a:blip r:embed="rId2"/>
          <a:stretch/>
        </p:blipFill>
        <p:spPr>
          <a:xfrm>
            <a:off x="4946760" y="3916440"/>
            <a:ext cx="3711600" cy="238608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ve shee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xpensive retro-reflective tapes are available that use tiny corner reflectors or spheres embedded in clear plastic (3M Scotchl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ome in many colors, including bla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8" descr="1-inch_sew-on"/>
          <p:cNvPicPr/>
          <p:nvPr/>
        </p:nvPicPr>
        <p:blipFill>
          <a:blip r:embed="rId1"/>
          <a:stretch/>
        </p:blipFill>
        <p:spPr>
          <a:xfrm>
            <a:off x="2135160" y="3616200"/>
            <a:ext cx="4799160" cy="234972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or ga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tro-reflection response of a screen is normally rated in terms of 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= ratio of peak reflected light energy to the energy reflected by a Lambertian surf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s may be 1000 or mo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source only needs 1/1000 of the light energy to illuminate the screen, as long as the viewer is close enough to the sour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: personal displ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user has a personal projector (e.g. a PDA with a single lens in front of it), and projects on the same retro-reflective scre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5"/>
          <p:cNvGrpSpPr/>
          <p:nvPr/>
        </p:nvGrpSpPr>
        <p:grpSpPr>
          <a:xfrm>
            <a:off x="3034800" y="3090960"/>
            <a:ext cx="2675160" cy="3187440"/>
            <a:chOff x="3034800" y="3090960"/>
            <a:chExt cx="2675160" cy="3187440"/>
          </a:xfrm>
        </p:grpSpPr>
        <p:sp>
          <p:nvSpPr>
            <p:cNvPr id="148" name="AutoShape 6"/>
            <p:cNvSpPr/>
            <p:nvPr/>
          </p:nvSpPr>
          <p:spPr>
            <a:xfrm>
              <a:off x="3035160" y="3090960"/>
              <a:ext cx="2648160" cy="31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"/>
            <p:cNvSpPr/>
            <p:nvPr/>
          </p:nvSpPr>
          <p:spPr>
            <a:xfrm rot="5400000">
              <a:off x="3985920" y="4581360"/>
              <a:ext cx="3187440" cy="206280"/>
            </a:xfrm>
            <a:custGeom>
              <a:avLst/>
              <a:gdLst>
                <a:gd name="textAreaLeft" fmla="*/ 663840 w 3187440"/>
                <a:gd name="textAreaRight" fmla="*/ 2523600 w 3187440"/>
                <a:gd name="textAreaTop" fmla="*/ 43200 h 206280"/>
                <a:gd name="textAreaBottom" fmla="*/ 163800 h 20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8"/>
            <p:cNvSpPr/>
            <p:nvPr/>
          </p:nvSpPr>
          <p:spPr>
            <a:xfrm rot="5400000">
              <a:off x="4083840" y="3636000"/>
              <a:ext cx="838800" cy="2097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4377600" y="4684680"/>
              <a:ext cx="922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10"/>
            <p:cNvSpPr/>
            <p:nvPr/>
          </p:nvSpPr>
          <p:spPr>
            <a:xfrm>
              <a:off x="3957840" y="4516920"/>
              <a:ext cx="419400" cy="33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11"/>
            <p:cNvGrpSpPr/>
            <p:nvPr/>
          </p:nvGrpSpPr>
          <p:grpSpPr>
            <a:xfrm>
              <a:off x="3034800" y="4349160"/>
              <a:ext cx="671040" cy="670680"/>
              <a:chOff x="3034800" y="4349160"/>
              <a:chExt cx="671040" cy="670680"/>
            </a:xfrm>
          </p:grpSpPr>
          <p:sp>
            <p:nvSpPr>
              <p:cNvPr id="154" name="Oval 12"/>
              <p:cNvSpPr/>
              <p:nvPr/>
            </p:nvSpPr>
            <p:spPr>
              <a:xfrm flipH="1">
                <a:off x="3034440" y="4349160"/>
                <a:ext cx="670680" cy="670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13"/>
              <p:cNvSpPr/>
              <p:nvPr/>
            </p:nvSpPr>
            <p:spPr>
              <a:xfrm flipH="1">
                <a:off x="3482280" y="4404960"/>
                <a:ext cx="223200" cy="279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14"/>
              <p:cNvSpPr/>
              <p:nvPr/>
            </p:nvSpPr>
            <p:spPr>
              <a:xfrm flipH="1">
                <a:off x="3482280" y="4684320"/>
                <a:ext cx="223200" cy="279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15"/>
              <p:cNvSpPr/>
              <p:nvPr/>
            </p:nvSpPr>
            <p:spPr>
              <a:xfrm flipH="1">
                <a:off x="3571200" y="4460760"/>
                <a:ext cx="134640" cy="1674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16"/>
              <p:cNvSpPr/>
              <p:nvPr/>
            </p:nvSpPr>
            <p:spPr>
              <a:xfrm flipH="1">
                <a:off x="3571200" y="4740120"/>
                <a:ext cx="134640" cy="16776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AutoShape 17"/>
            <p:cNvSpPr/>
            <p:nvPr/>
          </p:nvSpPr>
          <p:spPr>
            <a:xfrm rot="3712200">
              <a:off x="4167720" y="4138920"/>
              <a:ext cx="838800" cy="2097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68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 flipV="1">
              <a:off x="4475880" y="4812120"/>
              <a:ext cx="81396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9"/>
            <p:cNvSpPr/>
            <p:nvPr/>
          </p:nvSpPr>
          <p:spPr>
            <a:xfrm rot="19912200">
              <a:off x="4080600" y="5177160"/>
              <a:ext cx="419040" cy="3351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20"/>
            <p:cNvSpPr/>
            <p:nvPr/>
          </p:nvSpPr>
          <p:spPr>
            <a:xfrm flipV="1" rot="17887800">
              <a:off x="4167720" y="3132000"/>
              <a:ext cx="838800" cy="2097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68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4475880" y="4121280"/>
              <a:ext cx="81396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 flipV="1" rot="1687800">
              <a:off x="4080240" y="3853800"/>
              <a:ext cx="419400" cy="33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: Artificial backgrou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or and camera along same optical axis, project scene onto actors and retro-reflective back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ras sees background only on screen, not on the actors (3M received technical academy award for this in 198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vex 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fractive disk with one or two convex spherical surfaces converges parallel light rays almost to a poi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ance to this point i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ocal l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e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lens-convex"/>
          <p:cNvPicPr/>
          <p:nvPr/>
        </p:nvPicPr>
        <p:blipFill>
          <a:blip r:embed="rId1"/>
          <a:stretch/>
        </p:blipFill>
        <p:spPr>
          <a:xfrm>
            <a:off x="3110040" y="3503520"/>
            <a:ext cx="5511600" cy="3048120"/>
          </a:xfrm>
          <a:prstGeom prst="rect">
            <a:avLst/>
          </a:prstGeom>
          <a:ln w="0">
            <a:noFill/>
          </a:ln>
        </p:spPr>
      </p:pic>
      <p:sp>
        <p:nvSpPr>
          <p:cNvPr id="1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ght comes from a point source that is further away than the focal length, it will focus to another point on the other s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focus"/>
          <p:cNvPicPr/>
          <p:nvPr/>
        </p:nvPicPr>
        <p:blipFill>
          <a:blip r:embed="rId1"/>
          <a:srcRect l="0" t="0" r="0" b="29783"/>
          <a:stretch/>
        </p:blipFill>
        <p:spPr>
          <a:xfrm>
            <a:off x="2509920" y="2979720"/>
            <a:ext cx="4386240" cy="3611520"/>
          </a:xfrm>
          <a:prstGeom prst="rect">
            <a:avLst/>
          </a:prstGeom>
          <a:ln w="0">
            <a:noFill/>
          </a:ln>
        </p:spPr>
      </p:pic>
      <p:sp>
        <p:nvSpPr>
          <p:cNvPr id="1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are two focal points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ometimes called conjugates), then they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3222720" y="2941560"/>
                <a:ext cx="2361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herical 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lens consists of spherical surfaces with radii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the focal length satisfi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1/f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1) (1/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1/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herical aber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erical lenses cannot achieve perfect focus, and always have some aber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image001"/>
          <p:cNvPicPr/>
          <p:nvPr/>
        </p:nvPicPr>
        <p:blipFill>
          <a:blip r:embed="rId1"/>
          <a:stretch/>
        </p:blipFill>
        <p:spPr>
          <a:xfrm>
            <a:off x="1947960" y="2941560"/>
            <a:ext cx="5510160" cy="333540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herical aber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und lenses, comprising convex, concave or hybrid elements, are used to minimize aber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image001"/>
          <p:cNvPicPr/>
          <p:nvPr/>
        </p:nvPicPr>
        <p:blipFill>
          <a:blip r:embed="rId1"/>
          <a:stretch/>
        </p:blipFill>
        <p:spPr>
          <a:xfrm>
            <a:off x="1947960" y="3090960"/>
            <a:ext cx="5510160" cy="3335400"/>
          </a:xfrm>
          <a:prstGeom prst="rect">
            <a:avLst/>
          </a:prstGeom>
          <a:ln w="0">
            <a:noFill/>
          </a:ln>
        </p:spPr>
      </p:pic>
      <p:sp>
        <p:nvSpPr>
          <p:cNvPr id="19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l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metals are excellent conduct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reduce the E field to zero at the surface, causing ref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, R, N unit ve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R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teces_012"/>
          <p:cNvPicPr/>
          <p:nvPr/>
        </p:nvPicPr>
        <p:blipFill>
          <a:blip r:embed="rId1"/>
          <a:srcRect l="46142" t="0" r="0" b="0"/>
          <a:stretch/>
        </p:blipFill>
        <p:spPr>
          <a:xfrm>
            <a:off x="5321160" y="3654360"/>
            <a:ext cx="2847960" cy="284976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ay-trac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racing rays back from the viewer, we can estimate what a reflected object would look like. Follow at least two rays at extremes of the objec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Image1308"/>
          <p:cNvPicPr/>
          <p:nvPr/>
        </p:nvPicPr>
        <p:blipFill>
          <a:blip r:embed="rId1"/>
          <a:stretch/>
        </p:blipFill>
        <p:spPr>
          <a:xfrm>
            <a:off x="2622600" y="3203640"/>
            <a:ext cx="4160880" cy="315432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ambertian scatte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st non-metallic objects, the apparent brightness depends on surface orientatio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lative to the light 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t not the vie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brightness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rtional to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fig4_1a"/>
          <p:cNvPicPr/>
          <p:nvPr/>
        </p:nvPicPr>
        <p:blipFill>
          <a:blip r:embed="rId1"/>
          <a:stretch/>
        </p:blipFill>
        <p:spPr>
          <a:xfrm>
            <a:off x="4610160" y="3728880"/>
            <a:ext cx="3419280" cy="223848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– wave repres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ransparent materials (plastic, glass), light propagates slower than in a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boundary, wavefronts be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refractionanswer"/>
          <p:cNvPicPr/>
          <p:nvPr/>
        </p:nvPicPr>
        <p:blipFill>
          <a:blip r:embed="rId1">
            <a:lum contrast="6000"/>
          </a:blip>
          <a:srcRect l="0" t="10115" r="0" b="0"/>
          <a:stretch/>
        </p:blipFill>
        <p:spPr>
          <a:xfrm>
            <a:off x="1909800" y="3129120"/>
            <a:ext cx="5060880" cy="333360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ve index measures how fast light propagates through a medi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media must be poor conductors and are usually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electric med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fractive index of a dielectric medium i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c is the speed of light in vacuum, and v is the speed in the medium. Note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3822840" y="3803760"/>
                <a:ext cx="11062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– Snell’s law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ident and refracted rays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refractionanswer"/>
          <p:cNvPicPr/>
          <p:nvPr/>
        </p:nvPicPr>
        <p:blipFill>
          <a:blip r:embed="rId1">
            <a:lum contrast="6000"/>
          </a:blip>
          <a:srcRect l="0" t="10115" r="0" b="0"/>
          <a:stretch/>
        </p:blipFill>
        <p:spPr>
          <a:xfrm>
            <a:off x="1873080" y="2903400"/>
            <a:ext cx="4986360" cy="3654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2809800" y="2041560"/>
                <a:ext cx="28638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– ray repres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rays, light bends toward the normal in the slower mater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chapter_03"/>
          <p:cNvPicPr/>
          <p:nvPr/>
        </p:nvPicPr>
        <p:blipFill>
          <a:blip r:embed="rId1"/>
          <a:stretch/>
        </p:blipFill>
        <p:spPr>
          <a:xfrm>
            <a:off x="1573200" y="2867040"/>
            <a:ext cx="5924520" cy="332748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LEGION</cp:lastModifiedBy>
  <dcterms:modified xsi:type="dcterms:W3CDTF">2018-03-12T09:22:47Z</dcterms:modified>
  <cp:revision>404</cp:revision>
  <dc:subject/>
  <dc:title>PowerPoint Presentation</dc:title>
</cp:coreProperties>
</file>