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4.png" ContentType="image/png"/>
  <Override PartName="/ppt/media/image18.jpeg" ContentType="image/jpeg"/>
  <Override PartName="/ppt/media/image21.wmf" ContentType="image/x-wmf"/>
  <Override PartName="/ppt/media/image19.wmf" ContentType="image/x-wm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09C7-BC58-4270-823F-B64F733CB1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bonfires to la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bonfires to la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things that are not sources of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bounces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reaches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things that are not sources of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bounces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reaches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ook ou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that the baby squirrel watches as it f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ook ou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that the baby squirrel watches as it f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bounces off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ay the 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ry thi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hiny sur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bounces off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ay the 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ry thi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hiny sur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 as a beam and can be seen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 as a beam and can be seen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a different place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a different place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in a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a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in a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a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irection of the 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still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a refle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differ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irection of the 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still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a refle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differ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mp hangs between two large mirrors on opposite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ion in the first mirror is reflected in the second mirror, which is reflected again in the first mirror - -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mp hangs between two large mirrors on opposite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ion in the first mirror is reflected in the second mirror, which is reflected again in the first mirror - -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object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n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object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n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shining on 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colours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shining on 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colours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light is made up of lots of 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light is made up of lots of 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 from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a lamp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through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                         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 from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a lamp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through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                         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colou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erent to adding p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colou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erent to adding p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+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 +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et in Ve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et in Ve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+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 +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 +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en +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r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ir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s- produce very bright beams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s all give out their li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use laser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flectio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s- produce very bright beams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s all give out their li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use laser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flectio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face has tiny pits and smooth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spiral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ts scatter light from a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ooth bits reflect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 coded message i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face has tiny pits and smooth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spiral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ts scatter light from a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ooth bits reflect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 coded message i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is in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is in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nd galaxie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nd galaxie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m living in dark caves sends out light from its 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droplets form a string of shining beads to attract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m living in dark caves sends out light from its 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droplets form a string of shining beads to attract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ld things give out li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un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 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-in-the-dark’ sti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ld things give out li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un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 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-in-the-dark’ sti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light sour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from a source to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sources in a dark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light sour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from a source to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sources in a dark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see in the da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no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see any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a test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few small objects into the black bag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see in the da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no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see any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a test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few small objects into the black bag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7AD9-DE10-4015-9BF0-5DEB0108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A7F7F-ECA6-47D7-8A4A-A77E6839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0F308-8F76-4CF0-B06D-E96A85C7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A63DA-C6A0-42A3-BFA6-134629CC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7F0B1-303A-4D9D-B512-F432C355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34626-55FB-4FDE-BF7F-4114CB79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3EA95-55A8-4E8A-A258-3CB4CCA5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836EC-A04E-4D8C-BB37-D8B6194F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2DF5C-929D-4BA5-A5E4-D477EE1E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277B9-01B1-4578-9748-58FD9A5F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9DD5A-5ECD-4513-96B7-A4E73B6E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A107B-4B31-42B9-80D9-118C8997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0128B-A8A7-4466-9E77-FCA8E679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2AA13-D034-40EC-82C6-E4E79D6D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9FC02-C8F7-45CD-BD70-292F8C08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EE6BA-CD9D-49FC-A920-B99EDCC1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98F47-C0B1-44E3-B4FD-3E792F52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A02B7-2847-44E7-85D6-16C182A0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C89C1-DBE4-4332-8DDE-5A33F05F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B8419-BA63-4D09-82E9-8041BE5B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56DD6-B7E9-48B2-957E-AC8ACDDC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60813-CF0D-42FC-95C6-F0AB96C1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093CE-9782-48F1-A28F-1906A4A2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7B645-A053-40A7-B8AA-D034E082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60D20-0228-4491-8512-8C19D9E1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A96A9-C009-4BF1-B692-97144839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AC6F3-7AE5-4CFF-9738-5CABC743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3805A-093B-4213-8B47-33E5EA91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431B9-6E98-407F-B6BA-2C3BDC47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2FF7D-B053-4DFB-AFE0-9CDD6111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E7D78-E846-4F11-951C-394FE679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A4C72-E76A-4496-9579-73DB22E7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0D184-7948-49A9-B429-8788EC52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C910-00F8-440A-957B-856F4EBA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71EA5-35A8-473E-8CBA-EDEF5836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782A0-6995-4619-AE11-25CA1A82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C7834-1567-45C0-B1E5-CFD998AE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4B8E9-AE2F-4BB6-9F94-8DA3C676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EE417-BC08-4F9D-880A-CAFFA355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FCFCB-B141-48BE-8774-B96A59FD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D558E-38F5-4632-B4CB-23B1CA65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1EBF3-E179-47A0-A016-8EF90BBD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5B738-FC22-4D32-A181-42C60844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5538B-3AF7-44E4-AF62-929523F7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085EB-4D83-4136-80E9-855A9EC3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7E67C-C3F8-4263-BA61-5BE51106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0A958-8AF8-4715-8526-B374A68F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F7901-CC29-4A31-ABDB-62CFF6DD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62D5-E765-43AD-AD57-E4D6F5C52EB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FB5D-9512-481E-A106-EAEAA3D734B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AF5F-01BA-4384-8CC1-64A22B1C516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582F-C12F-4A46-B8C1-8297EBD5EFD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9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500" spc="-1" strike="noStrike">
                <a:solidFill>
                  <a:srgbClr val="ffffff"/>
                </a:solidFill>
                <a:latin typeface="Comic Sans MS"/>
              </a:rPr>
              <a:t>LIGHT !</a:t>
            </a:r>
            <a:endParaRPr b="1" lang="en-US" sz="115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71280" y="400536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9933ff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from bonfires to lasers</a:t>
            </a:r>
            <a:endParaRPr b="1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ow do we see things that are not sources of light?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5805000"/>
            <a:ext cx="77040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bounces off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and some reaches our eyes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65" name="Picture 4" descr="MCj02151650000[1]"/>
          <p:cNvPicPr/>
          <p:nvPr/>
        </p:nvPicPr>
        <p:blipFill>
          <a:blip r:embed="rId1"/>
          <a:stretch/>
        </p:blipFill>
        <p:spPr>
          <a:xfrm flipH="1" rot="20750400">
            <a:off x="826560" y="1916280"/>
            <a:ext cx="2304720" cy="203184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5"/>
          <p:cNvGrpSpPr/>
          <p:nvPr/>
        </p:nvGrpSpPr>
        <p:grpSpPr>
          <a:xfrm>
            <a:off x="7211160" y="2182680"/>
            <a:ext cx="1354680" cy="1810080"/>
            <a:chOff x="7211160" y="2182680"/>
            <a:chExt cx="1354680" cy="1810080"/>
          </a:xfrm>
        </p:grpSpPr>
        <p:sp>
          <p:nvSpPr>
            <p:cNvPr id="267" name="Freeform 6"/>
            <p:cNvSpPr/>
            <p:nvPr/>
          </p:nvSpPr>
          <p:spPr>
            <a:xfrm rot="20749200">
              <a:off x="7412760" y="2276280"/>
              <a:ext cx="968760" cy="1622160"/>
            </a:xfrm>
            <a:custGeom>
              <a:avLst/>
              <a:gdLst>
                <a:gd name="textAreaLeft" fmla="*/ 0 w 968760"/>
                <a:gd name="textAreaRight" fmla="*/ 969120 w 968760"/>
                <a:gd name="textAreaTop" fmla="*/ 0 h 1622160"/>
                <a:gd name="textAreaBottom" fmla="*/ 1622520 h 1622160"/>
              </a:gdLst>
              <a:ahLst/>
              <a:rect l="textAreaLeft" t="textAreaTop" r="textAreaRight" b="textAreaBottom"/>
              <a:pathLst>
                <a:path w="1527" h="2555">
                  <a:moveTo>
                    <a:pt x="300" y="0"/>
                  </a:moveTo>
                  <a:cubicBezTo>
                    <a:pt x="317" y="84"/>
                    <a:pt x="351" y="101"/>
                    <a:pt x="388" y="176"/>
                  </a:cubicBezTo>
                  <a:cubicBezTo>
                    <a:pt x="429" y="258"/>
                    <a:pt x="490" y="321"/>
                    <a:pt x="538" y="401"/>
                  </a:cubicBezTo>
                  <a:cubicBezTo>
                    <a:pt x="580" y="470"/>
                    <a:pt x="624" y="552"/>
                    <a:pt x="676" y="614"/>
                  </a:cubicBezTo>
                  <a:cubicBezTo>
                    <a:pt x="703" y="646"/>
                    <a:pt x="739" y="669"/>
                    <a:pt x="764" y="702"/>
                  </a:cubicBezTo>
                  <a:cubicBezTo>
                    <a:pt x="839" y="803"/>
                    <a:pt x="907" y="932"/>
                    <a:pt x="1014" y="1002"/>
                  </a:cubicBezTo>
                  <a:cubicBezTo>
                    <a:pt x="1073" y="1091"/>
                    <a:pt x="1153" y="1153"/>
                    <a:pt x="1227" y="1228"/>
                  </a:cubicBezTo>
                  <a:cubicBezTo>
                    <a:pt x="1318" y="1320"/>
                    <a:pt x="1214" y="1245"/>
                    <a:pt x="1302" y="1303"/>
                  </a:cubicBezTo>
                  <a:cubicBezTo>
                    <a:pt x="1310" y="1315"/>
                    <a:pt x="1314" y="1332"/>
                    <a:pt x="1327" y="1340"/>
                  </a:cubicBezTo>
                  <a:cubicBezTo>
                    <a:pt x="1349" y="1354"/>
                    <a:pt x="1402" y="1365"/>
                    <a:pt x="1402" y="1365"/>
                  </a:cubicBezTo>
                  <a:cubicBezTo>
                    <a:pt x="1445" y="1398"/>
                    <a:pt x="1476" y="1435"/>
                    <a:pt x="1527" y="1453"/>
                  </a:cubicBezTo>
                  <a:cubicBezTo>
                    <a:pt x="1502" y="1461"/>
                    <a:pt x="1478" y="1472"/>
                    <a:pt x="1452" y="1478"/>
                  </a:cubicBezTo>
                  <a:cubicBezTo>
                    <a:pt x="1419" y="1486"/>
                    <a:pt x="1352" y="1503"/>
                    <a:pt x="1352" y="1503"/>
                  </a:cubicBezTo>
                  <a:cubicBezTo>
                    <a:pt x="1284" y="1548"/>
                    <a:pt x="1254" y="1543"/>
                    <a:pt x="1164" y="1553"/>
                  </a:cubicBezTo>
                  <a:cubicBezTo>
                    <a:pt x="1123" y="1580"/>
                    <a:pt x="1082" y="1591"/>
                    <a:pt x="1039" y="1616"/>
                  </a:cubicBezTo>
                  <a:cubicBezTo>
                    <a:pt x="942" y="1672"/>
                    <a:pt x="850" y="1727"/>
                    <a:pt x="751" y="1779"/>
                  </a:cubicBezTo>
                  <a:cubicBezTo>
                    <a:pt x="708" y="1801"/>
                    <a:pt x="665" y="1825"/>
                    <a:pt x="626" y="1854"/>
                  </a:cubicBezTo>
                  <a:cubicBezTo>
                    <a:pt x="607" y="1868"/>
                    <a:pt x="594" y="1889"/>
                    <a:pt x="576" y="1904"/>
                  </a:cubicBezTo>
                  <a:cubicBezTo>
                    <a:pt x="560" y="1918"/>
                    <a:pt x="543" y="1929"/>
                    <a:pt x="526" y="1941"/>
                  </a:cubicBezTo>
                  <a:cubicBezTo>
                    <a:pt x="472" y="1978"/>
                    <a:pt x="408" y="2018"/>
                    <a:pt x="363" y="2067"/>
                  </a:cubicBezTo>
                  <a:cubicBezTo>
                    <a:pt x="177" y="2273"/>
                    <a:pt x="366" y="2081"/>
                    <a:pt x="250" y="2229"/>
                  </a:cubicBezTo>
                  <a:cubicBezTo>
                    <a:pt x="235" y="2248"/>
                    <a:pt x="216" y="2261"/>
                    <a:pt x="200" y="2279"/>
                  </a:cubicBezTo>
                  <a:cubicBezTo>
                    <a:pt x="182" y="2299"/>
                    <a:pt x="166" y="2320"/>
                    <a:pt x="150" y="2342"/>
                  </a:cubicBezTo>
                  <a:cubicBezTo>
                    <a:pt x="117" y="2386"/>
                    <a:pt x="102" y="2428"/>
                    <a:pt x="62" y="2467"/>
                  </a:cubicBezTo>
                  <a:cubicBezTo>
                    <a:pt x="49" y="2509"/>
                    <a:pt x="29" y="2523"/>
                    <a:pt x="0" y="25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rc 7"/>
            <p:cNvSpPr/>
            <p:nvPr/>
          </p:nvSpPr>
          <p:spPr>
            <a:xfrm rot="13945800">
              <a:off x="7310160" y="2798640"/>
              <a:ext cx="864720" cy="67536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fill="none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</a:path>
                <a:path stroke="0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8"/>
            <p:cNvSpPr/>
            <p:nvPr/>
          </p:nvSpPr>
          <p:spPr>
            <a:xfrm rot="21081000">
              <a:off x="7521480" y="2904840"/>
              <a:ext cx="154080" cy="58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9"/>
            <p:cNvSpPr/>
            <p:nvPr/>
          </p:nvSpPr>
          <p:spPr>
            <a:xfrm rot="2116200">
              <a:off x="7380360" y="2820240"/>
              <a:ext cx="654480" cy="72288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fill="none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</a:path>
                <a:path stroke="0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  <a:lnTo>
                    <a:pt x="28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Picture 13" descr="MCj02511320000[1]"/>
          <p:cNvPicPr/>
          <p:nvPr/>
        </p:nvPicPr>
        <p:blipFill>
          <a:blip r:embed="rId2"/>
          <a:stretch/>
        </p:blipFill>
        <p:spPr>
          <a:xfrm>
            <a:off x="3851280" y="3824280"/>
            <a:ext cx="2376360" cy="1878120"/>
          </a:xfrm>
          <a:prstGeom prst="rect">
            <a:avLst/>
          </a:prstGeom>
          <a:ln w="0">
            <a:noFill/>
          </a:ln>
        </p:spPr>
      </p:pic>
      <p:sp>
        <p:nvSpPr>
          <p:cNvPr id="272" name="Line 19"/>
          <p:cNvSpPr/>
          <p:nvPr/>
        </p:nvSpPr>
        <p:spPr>
          <a:xfrm flipV="1">
            <a:off x="5651640" y="2491920"/>
            <a:ext cx="720720" cy="1368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0"/>
          <p:cNvSpPr/>
          <p:nvPr/>
        </p:nvSpPr>
        <p:spPr>
          <a:xfrm>
            <a:off x="3059280" y="3429000"/>
            <a:ext cx="1081080" cy="576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3"/>
          <p:cNvSpPr/>
          <p:nvPr/>
        </p:nvSpPr>
        <p:spPr>
          <a:xfrm flipV="1">
            <a:off x="6084720" y="3428640"/>
            <a:ext cx="1297080" cy="64764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4"/>
          <p:cNvSpPr/>
          <p:nvPr/>
        </p:nvSpPr>
        <p:spPr>
          <a:xfrm>
            <a:off x="6300720" y="4797360"/>
            <a:ext cx="1297080" cy="21600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look out</a:t>
            </a:r>
            <a:r>
              <a:rPr b="1" lang="en-GB" sz="9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940360" y="692280"/>
            <a:ext cx="2664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How do you know that the baby squirrel watches as it feeds?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79" name="Picture 4" descr="baby squirre croppedl"/>
          <p:cNvPicPr/>
          <p:nvPr/>
        </p:nvPicPr>
        <p:blipFill>
          <a:blip r:embed="rId1"/>
          <a:stretch/>
        </p:blipFill>
        <p:spPr>
          <a:xfrm>
            <a:off x="539640" y="2781360"/>
            <a:ext cx="5616720" cy="3263760"/>
          </a:xfrm>
          <a:prstGeom prst="rect">
            <a:avLst/>
          </a:prstGeom>
          <a:ln w="0">
            <a:noFill/>
          </a:ln>
        </p:spPr>
      </p:pic>
      <p:sp>
        <p:nvSpPr>
          <p:cNvPr id="28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Reflection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0400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hen light bounces off something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 the light i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flect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 can try this with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ough surfaces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shiny surfac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46069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716360" y="0"/>
            <a:ext cx="4427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00720" y="404640"/>
            <a:ext cx="4124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Shiny surfaces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518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is reflected as a beam and can be seen on the wall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289" name="Group 16"/>
          <p:cNvGrpSpPr/>
          <p:nvPr/>
        </p:nvGrpSpPr>
        <p:grpSpPr>
          <a:xfrm>
            <a:off x="900000" y="560160"/>
            <a:ext cx="6143400" cy="5300280"/>
            <a:chOff x="900000" y="560160"/>
            <a:chExt cx="6143400" cy="5300280"/>
          </a:xfrm>
        </p:grpSpPr>
        <p:pic>
          <p:nvPicPr>
            <p:cNvPr id="290" name="Picture 6" descr="hand-mirror"/>
            <p:cNvPicPr/>
            <p:nvPr/>
          </p:nvPicPr>
          <p:blipFill>
            <a:blip r:embed="rId1"/>
            <a:stretch/>
          </p:blipFill>
          <p:spPr>
            <a:xfrm rot="16483200">
              <a:off x="4274280" y="3221640"/>
              <a:ext cx="4122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Line 7"/>
            <p:cNvSpPr/>
            <p:nvPr/>
          </p:nvSpPr>
          <p:spPr>
            <a:xfrm flipV="1">
              <a:off x="4140360" y="3933720"/>
              <a:ext cx="2158920" cy="93672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8"/>
            <p:cNvSpPr/>
            <p:nvPr/>
          </p:nvSpPr>
          <p:spPr>
            <a:xfrm flipH="1" flipV="1">
              <a:off x="4211640" y="2204640"/>
              <a:ext cx="2016000" cy="158436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9"/>
            <p:cNvSpPr/>
            <p:nvPr/>
          </p:nvSpPr>
          <p:spPr>
            <a:xfrm rot="9786600">
              <a:off x="1547280" y="907200"/>
              <a:ext cx="2819520" cy="2884680"/>
            </a:xfrm>
            <a:prstGeom prst="parallelogram">
              <a:avLst>
                <a:gd name="adj" fmla="val 2994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0"/>
            <p:cNvSpPr/>
            <p:nvPr/>
          </p:nvSpPr>
          <p:spPr>
            <a:xfrm>
              <a:off x="2771640" y="1341360"/>
              <a:ext cx="792360" cy="7207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900000" y="256536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mic Sans MS"/>
                </a:rPr>
                <a:t>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7"/>
          <p:cNvSpPr/>
          <p:nvPr/>
        </p:nvSpPr>
        <p:spPr>
          <a:xfrm>
            <a:off x="6877080" y="4437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4720" y="404640"/>
            <a:ext cx="4340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Move the mirror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5400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light reaches a different place on the wall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00" name="Picture 5" descr="hand-mirror"/>
          <p:cNvPicPr/>
          <p:nvPr/>
        </p:nvPicPr>
        <p:blipFill>
          <a:blip r:embed="rId1"/>
          <a:stretch/>
        </p:blipFill>
        <p:spPr>
          <a:xfrm rot="15195600">
            <a:off x="4274280" y="3294720"/>
            <a:ext cx="4122720" cy="1079640"/>
          </a:xfrm>
          <a:prstGeom prst="rect">
            <a:avLst/>
          </a:prstGeom>
          <a:ln w="0">
            <a:noFill/>
          </a:ln>
        </p:spPr>
      </p:pic>
      <p:sp>
        <p:nvSpPr>
          <p:cNvPr id="301" name="Line 6"/>
          <p:cNvSpPr/>
          <p:nvPr/>
        </p:nvSpPr>
        <p:spPr>
          <a:xfrm flipV="1">
            <a:off x="4140360" y="4005000"/>
            <a:ext cx="2158920" cy="936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 flipH="1" flipV="1">
            <a:off x="3995640" y="3357360"/>
            <a:ext cx="2232000" cy="50292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8"/>
          <p:cNvSpPr/>
          <p:nvPr/>
        </p:nvSpPr>
        <p:spPr>
          <a:xfrm rot="9786600">
            <a:off x="1547280" y="907200"/>
            <a:ext cx="2819520" cy="2884680"/>
          </a:xfrm>
          <a:prstGeom prst="parallelogram">
            <a:avLst>
              <a:gd name="adj" fmla="val 2994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9"/>
          <p:cNvSpPr/>
          <p:nvPr/>
        </p:nvSpPr>
        <p:spPr>
          <a:xfrm>
            <a:off x="2843280" y="2852640"/>
            <a:ext cx="792000" cy="7207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900000" y="256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Look in a mirror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76360" y="1484280"/>
            <a:ext cx="7414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ght is reflected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ou can see a reflection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309" name="Group 19"/>
          <p:cNvGrpSpPr/>
          <p:nvPr/>
        </p:nvGrpSpPr>
        <p:grpSpPr>
          <a:xfrm>
            <a:off x="607680" y="1612800"/>
            <a:ext cx="7814160" cy="3832200"/>
            <a:chOff x="607680" y="1612800"/>
            <a:chExt cx="7814160" cy="3832200"/>
          </a:xfrm>
        </p:grpSpPr>
        <p:sp>
          <p:nvSpPr>
            <p:cNvPr id="310" name="Line 16"/>
            <p:cNvSpPr/>
            <p:nvPr/>
          </p:nvSpPr>
          <p:spPr>
            <a:xfrm flipV="1">
              <a:off x="2843280" y="4437000"/>
              <a:ext cx="1869840" cy="1008000"/>
            </a:xfrm>
            <a:prstGeom prst="line">
              <a:avLst/>
            </a:prstGeom>
            <a:ln w="114480">
              <a:solidFill>
                <a:srgbClr val="dedc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Picture 4" descr="MCj02151650000[1]"/>
            <p:cNvPicPr/>
            <p:nvPr/>
          </p:nvPicPr>
          <p:blipFill>
            <a:blip r:embed="rId1"/>
            <a:stretch/>
          </p:blipFill>
          <p:spPr>
            <a:xfrm flipH="1" rot="21328800">
              <a:off x="684000" y="1700280"/>
              <a:ext cx="2305080" cy="203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Group 5"/>
            <p:cNvGrpSpPr/>
            <p:nvPr/>
          </p:nvGrpSpPr>
          <p:grpSpPr>
            <a:xfrm>
              <a:off x="6797520" y="1779480"/>
              <a:ext cx="1624320" cy="1887840"/>
              <a:chOff x="6797520" y="1779480"/>
              <a:chExt cx="1624320" cy="1887840"/>
            </a:xfrm>
          </p:grpSpPr>
          <p:sp>
            <p:nvSpPr>
              <p:cNvPr id="313" name="Freeform 6"/>
              <p:cNvSpPr/>
              <p:nvPr/>
            </p:nvSpPr>
            <p:spPr>
              <a:xfrm rot="19894200">
                <a:off x="7125120" y="1911960"/>
                <a:ext cx="968760" cy="162216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622160"/>
                  <a:gd name="textAreaBottom" fmla="*/ 1622520 h 1622160"/>
                </a:gdLst>
                <a:ahLst/>
                <a:rect l="textAreaLeft" t="textAreaTop" r="textAreaRight" b="textAreaBottom"/>
                <a:pathLst>
                  <a:path w="1527" h="2555">
                    <a:moveTo>
                      <a:pt x="300" y="0"/>
                    </a:moveTo>
                    <a:cubicBezTo>
                      <a:pt x="317" y="84"/>
                      <a:pt x="351" y="101"/>
                      <a:pt x="388" y="176"/>
                    </a:cubicBezTo>
                    <a:cubicBezTo>
                      <a:pt x="429" y="258"/>
                      <a:pt x="490" y="321"/>
                      <a:pt x="538" y="401"/>
                    </a:cubicBezTo>
                    <a:cubicBezTo>
                      <a:pt x="580" y="470"/>
                      <a:pt x="624" y="552"/>
                      <a:pt x="676" y="614"/>
                    </a:cubicBezTo>
                    <a:cubicBezTo>
                      <a:pt x="703" y="646"/>
                      <a:pt x="739" y="669"/>
                      <a:pt x="764" y="702"/>
                    </a:cubicBezTo>
                    <a:cubicBezTo>
                      <a:pt x="839" y="803"/>
                      <a:pt x="907" y="932"/>
                      <a:pt x="1014" y="1002"/>
                    </a:cubicBezTo>
                    <a:cubicBezTo>
                      <a:pt x="1073" y="1091"/>
                      <a:pt x="1153" y="1153"/>
                      <a:pt x="1227" y="1228"/>
                    </a:cubicBezTo>
                    <a:cubicBezTo>
                      <a:pt x="1318" y="1320"/>
                      <a:pt x="1214" y="1245"/>
                      <a:pt x="1302" y="1303"/>
                    </a:cubicBezTo>
                    <a:cubicBezTo>
                      <a:pt x="1310" y="1315"/>
                      <a:pt x="1314" y="1332"/>
                      <a:pt x="1327" y="1340"/>
                    </a:cubicBezTo>
                    <a:cubicBezTo>
                      <a:pt x="1349" y="1354"/>
                      <a:pt x="1402" y="1365"/>
                      <a:pt x="1402" y="1365"/>
                    </a:cubicBezTo>
                    <a:cubicBezTo>
                      <a:pt x="1445" y="1398"/>
                      <a:pt x="1476" y="1435"/>
                      <a:pt x="1527" y="1453"/>
                    </a:cubicBezTo>
                    <a:cubicBezTo>
                      <a:pt x="1502" y="1461"/>
                      <a:pt x="1478" y="1472"/>
                      <a:pt x="1452" y="1478"/>
                    </a:cubicBezTo>
                    <a:cubicBezTo>
                      <a:pt x="1419" y="1486"/>
                      <a:pt x="1352" y="1503"/>
                      <a:pt x="1352" y="1503"/>
                    </a:cubicBezTo>
                    <a:cubicBezTo>
                      <a:pt x="1284" y="1548"/>
                      <a:pt x="1254" y="1543"/>
                      <a:pt x="1164" y="1553"/>
                    </a:cubicBezTo>
                    <a:cubicBezTo>
                      <a:pt x="1123" y="1580"/>
                      <a:pt x="1082" y="1591"/>
                      <a:pt x="1039" y="1616"/>
                    </a:cubicBezTo>
                    <a:cubicBezTo>
                      <a:pt x="942" y="1672"/>
                      <a:pt x="850" y="1727"/>
                      <a:pt x="751" y="1779"/>
                    </a:cubicBezTo>
                    <a:cubicBezTo>
                      <a:pt x="708" y="1801"/>
                      <a:pt x="665" y="1825"/>
                      <a:pt x="626" y="1854"/>
                    </a:cubicBezTo>
                    <a:cubicBezTo>
                      <a:pt x="607" y="1868"/>
                      <a:pt x="594" y="1889"/>
                      <a:pt x="576" y="1904"/>
                    </a:cubicBezTo>
                    <a:cubicBezTo>
                      <a:pt x="560" y="1918"/>
                      <a:pt x="543" y="1929"/>
                      <a:pt x="526" y="1941"/>
                    </a:cubicBezTo>
                    <a:cubicBezTo>
                      <a:pt x="472" y="1978"/>
                      <a:pt x="408" y="2018"/>
                      <a:pt x="363" y="2067"/>
                    </a:cubicBezTo>
                    <a:cubicBezTo>
                      <a:pt x="177" y="2273"/>
                      <a:pt x="366" y="2081"/>
                      <a:pt x="250" y="2229"/>
                    </a:cubicBezTo>
                    <a:cubicBezTo>
                      <a:pt x="235" y="2248"/>
                      <a:pt x="216" y="2261"/>
                      <a:pt x="200" y="2279"/>
                    </a:cubicBezTo>
                    <a:cubicBezTo>
                      <a:pt x="182" y="2299"/>
                      <a:pt x="166" y="2320"/>
                      <a:pt x="150" y="2342"/>
                    </a:cubicBezTo>
                    <a:cubicBezTo>
                      <a:pt x="117" y="2386"/>
                      <a:pt x="102" y="2428"/>
                      <a:pt x="62" y="2467"/>
                    </a:cubicBezTo>
                    <a:cubicBezTo>
                      <a:pt x="49" y="2509"/>
                      <a:pt x="29" y="2523"/>
                      <a:pt x="0" y="255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rc 7"/>
              <p:cNvSpPr/>
              <p:nvPr/>
            </p:nvSpPr>
            <p:spPr>
              <a:xfrm rot="13090800">
                <a:off x="7039080" y="2470680"/>
                <a:ext cx="864720" cy="67536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fill="none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</a:path>
                  <a:path stroke="0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8"/>
              <p:cNvSpPr/>
              <p:nvPr/>
            </p:nvSpPr>
            <p:spPr>
              <a:xfrm rot="20226000">
                <a:off x="7270560" y="2610720"/>
                <a:ext cx="154080" cy="58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rc 9"/>
              <p:cNvSpPr/>
              <p:nvPr/>
            </p:nvSpPr>
            <p:spPr>
              <a:xfrm rot="1261200">
                <a:off x="7121520" y="2499840"/>
                <a:ext cx="654480" cy="722880"/>
              </a:xfrm>
              <a:custGeom>
                <a:avLst/>
                <a:gdLst>
                  <a:gd name="textAreaLeft" fmla="*/ 0 w 654480"/>
                  <a:gd name="textAreaRight" fmla="*/ 654840 w 654480"/>
                  <a:gd name="textAreaTop" fmla="*/ 0 h 722880"/>
                  <a:gd name="textAreaBottom" fmla="*/ 723240 h 722880"/>
                </a:gdLst>
                <a:ahLst/>
                <a:rect l="textAreaLeft" t="textAreaTop" r="textAreaRight" b="textAreaBottom"/>
                <a:pathLst>
                  <a:path fill="none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</a:path>
                  <a:path stroke="0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  <a:lnTo>
                      <a:pt x="28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7" name="Picture 15" descr="hand-mirror"/>
            <p:cNvPicPr/>
            <p:nvPr/>
          </p:nvPicPr>
          <p:blipFill>
            <a:blip r:embed="rId2"/>
            <a:stretch/>
          </p:blipFill>
          <p:spPr>
            <a:xfrm>
              <a:off x="2987640" y="3645000"/>
              <a:ext cx="412272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Line 12"/>
            <p:cNvSpPr/>
            <p:nvPr/>
          </p:nvSpPr>
          <p:spPr>
            <a:xfrm>
              <a:off x="2916360" y="3213000"/>
              <a:ext cx="1942920" cy="107964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3"/>
            <p:cNvSpPr/>
            <p:nvPr/>
          </p:nvSpPr>
          <p:spPr>
            <a:xfrm flipV="1">
              <a:off x="4932360" y="2997360"/>
              <a:ext cx="2303640" cy="129528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0" name="Picture 17" descr="MCj02151650000[1]"/>
          <p:cNvPicPr/>
          <p:nvPr/>
        </p:nvPicPr>
        <p:blipFill>
          <a:blip r:embed="rId3">
            <a:lum bright="18000"/>
          </a:blip>
          <a:stretch/>
        </p:blipFill>
        <p:spPr>
          <a:xfrm rot="11071200">
            <a:off x="826560" y="4797000"/>
            <a:ext cx="2305080" cy="2032560"/>
          </a:xfrm>
          <a:prstGeom prst="rect">
            <a:avLst/>
          </a:prstGeom>
          <a:ln w="0">
            <a:noFill/>
          </a:ln>
        </p:spPr>
      </p:pic>
      <p:sp>
        <p:nvSpPr>
          <p:cNvPr id="321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4" descr="MCj02151650000[1]"/>
          <p:cNvPicPr/>
          <p:nvPr/>
        </p:nvPicPr>
        <p:blipFill>
          <a:blip r:embed="rId1">
            <a:lum bright="18000"/>
          </a:blip>
          <a:stretch/>
        </p:blipFill>
        <p:spPr>
          <a:xfrm rot="9039600">
            <a:off x="2194920" y="5373000"/>
            <a:ext cx="2305080" cy="20318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25207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Change the direction of the light beam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35640" y="4652640"/>
            <a:ext cx="406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is still reflected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You see a reflection 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-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in a different   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direction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325" name="Group 15"/>
          <p:cNvGrpSpPr/>
          <p:nvPr/>
        </p:nvGrpSpPr>
        <p:grpSpPr>
          <a:xfrm>
            <a:off x="1678320" y="257040"/>
            <a:ext cx="5442480" cy="5548320"/>
            <a:chOff x="1678320" y="257040"/>
            <a:chExt cx="5442480" cy="5548320"/>
          </a:xfrm>
        </p:grpSpPr>
        <p:sp>
          <p:nvSpPr>
            <p:cNvPr id="326" name="Line 2"/>
            <p:cNvSpPr/>
            <p:nvPr/>
          </p:nvSpPr>
          <p:spPr>
            <a:xfrm flipV="1">
              <a:off x="3635280" y="4294080"/>
              <a:ext cx="792000" cy="1511280"/>
            </a:xfrm>
            <a:prstGeom prst="line">
              <a:avLst/>
            </a:prstGeom>
            <a:ln w="114480">
              <a:solidFill>
                <a:srgbClr val="dedc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Picture 5" descr="MCj02151650000[1]"/>
            <p:cNvPicPr/>
            <p:nvPr/>
          </p:nvPicPr>
          <p:blipFill>
            <a:blip r:embed="rId2"/>
            <a:stretch/>
          </p:blipFill>
          <p:spPr>
            <a:xfrm flipH="1" rot="1350000">
              <a:off x="1978920" y="620640"/>
              <a:ext cx="2305080" cy="203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" name="Group 6"/>
            <p:cNvGrpSpPr/>
            <p:nvPr/>
          </p:nvGrpSpPr>
          <p:grpSpPr>
            <a:xfrm>
              <a:off x="5249160" y="346320"/>
              <a:ext cx="1871640" cy="1524240"/>
              <a:chOff x="5249160" y="346320"/>
              <a:chExt cx="1871640" cy="1524240"/>
            </a:xfrm>
          </p:grpSpPr>
          <p:sp>
            <p:nvSpPr>
              <p:cNvPr id="329" name="Freeform 7"/>
              <p:cNvSpPr/>
              <p:nvPr/>
            </p:nvSpPr>
            <p:spPr>
              <a:xfrm rot="17576400">
                <a:off x="5700600" y="297000"/>
                <a:ext cx="968760" cy="162252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622520"/>
                  <a:gd name="textAreaBottom" fmla="*/ 1622880 h 1622520"/>
                </a:gdLst>
                <a:ahLst/>
                <a:rect l="textAreaLeft" t="textAreaTop" r="textAreaRight" b="textAreaBottom"/>
                <a:pathLst>
                  <a:path w="1527" h="2555">
                    <a:moveTo>
                      <a:pt x="300" y="0"/>
                    </a:moveTo>
                    <a:cubicBezTo>
                      <a:pt x="317" y="84"/>
                      <a:pt x="351" y="101"/>
                      <a:pt x="388" y="176"/>
                    </a:cubicBezTo>
                    <a:cubicBezTo>
                      <a:pt x="429" y="258"/>
                      <a:pt x="490" y="321"/>
                      <a:pt x="538" y="401"/>
                    </a:cubicBezTo>
                    <a:cubicBezTo>
                      <a:pt x="580" y="470"/>
                      <a:pt x="624" y="552"/>
                      <a:pt x="676" y="614"/>
                    </a:cubicBezTo>
                    <a:cubicBezTo>
                      <a:pt x="703" y="646"/>
                      <a:pt x="739" y="669"/>
                      <a:pt x="764" y="702"/>
                    </a:cubicBezTo>
                    <a:cubicBezTo>
                      <a:pt x="839" y="803"/>
                      <a:pt x="907" y="932"/>
                      <a:pt x="1014" y="1002"/>
                    </a:cubicBezTo>
                    <a:cubicBezTo>
                      <a:pt x="1073" y="1091"/>
                      <a:pt x="1153" y="1153"/>
                      <a:pt x="1227" y="1228"/>
                    </a:cubicBezTo>
                    <a:cubicBezTo>
                      <a:pt x="1318" y="1320"/>
                      <a:pt x="1214" y="1245"/>
                      <a:pt x="1302" y="1303"/>
                    </a:cubicBezTo>
                    <a:cubicBezTo>
                      <a:pt x="1310" y="1315"/>
                      <a:pt x="1314" y="1332"/>
                      <a:pt x="1327" y="1340"/>
                    </a:cubicBezTo>
                    <a:cubicBezTo>
                      <a:pt x="1349" y="1354"/>
                      <a:pt x="1402" y="1365"/>
                      <a:pt x="1402" y="1365"/>
                    </a:cubicBezTo>
                    <a:cubicBezTo>
                      <a:pt x="1445" y="1398"/>
                      <a:pt x="1476" y="1435"/>
                      <a:pt x="1527" y="1453"/>
                    </a:cubicBezTo>
                    <a:cubicBezTo>
                      <a:pt x="1502" y="1461"/>
                      <a:pt x="1478" y="1472"/>
                      <a:pt x="1452" y="1478"/>
                    </a:cubicBezTo>
                    <a:cubicBezTo>
                      <a:pt x="1419" y="1486"/>
                      <a:pt x="1352" y="1503"/>
                      <a:pt x="1352" y="1503"/>
                    </a:cubicBezTo>
                    <a:cubicBezTo>
                      <a:pt x="1284" y="1548"/>
                      <a:pt x="1254" y="1543"/>
                      <a:pt x="1164" y="1553"/>
                    </a:cubicBezTo>
                    <a:cubicBezTo>
                      <a:pt x="1123" y="1580"/>
                      <a:pt x="1082" y="1591"/>
                      <a:pt x="1039" y="1616"/>
                    </a:cubicBezTo>
                    <a:cubicBezTo>
                      <a:pt x="942" y="1672"/>
                      <a:pt x="850" y="1727"/>
                      <a:pt x="751" y="1779"/>
                    </a:cubicBezTo>
                    <a:cubicBezTo>
                      <a:pt x="708" y="1801"/>
                      <a:pt x="665" y="1825"/>
                      <a:pt x="626" y="1854"/>
                    </a:cubicBezTo>
                    <a:cubicBezTo>
                      <a:pt x="607" y="1868"/>
                      <a:pt x="594" y="1889"/>
                      <a:pt x="576" y="1904"/>
                    </a:cubicBezTo>
                    <a:cubicBezTo>
                      <a:pt x="560" y="1918"/>
                      <a:pt x="543" y="1929"/>
                      <a:pt x="526" y="1941"/>
                    </a:cubicBezTo>
                    <a:cubicBezTo>
                      <a:pt x="472" y="1978"/>
                      <a:pt x="408" y="2018"/>
                      <a:pt x="363" y="2067"/>
                    </a:cubicBezTo>
                    <a:cubicBezTo>
                      <a:pt x="177" y="2273"/>
                      <a:pt x="366" y="2081"/>
                      <a:pt x="250" y="2229"/>
                    </a:cubicBezTo>
                    <a:cubicBezTo>
                      <a:pt x="235" y="2248"/>
                      <a:pt x="216" y="2261"/>
                      <a:pt x="200" y="2279"/>
                    </a:cubicBezTo>
                    <a:cubicBezTo>
                      <a:pt x="182" y="2299"/>
                      <a:pt x="166" y="2320"/>
                      <a:pt x="150" y="2342"/>
                    </a:cubicBezTo>
                    <a:cubicBezTo>
                      <a:pt x="117" y="2386"/>
                      <a:pt x="102" y="2428"/>
                      <a:pt x="62" y="2467"/>
                    </a:cubicBezTo>
                    <a:cubicBezTo>
                      <a:pt x="49" y="2509"/>
                      <a:pt x="29" y="2523"/>
                      <a:pt x="0" y="255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Arc 8"/>
              <p:cNvSpPr/>
              <p:nvPr/>
            </p:nvSpPr>
            <p:spPr>
              <a:xfrm rot="10773000">
                <a:off x="5697720" y="923400"/>
                <a:ext cx="864720" cy="67536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fill="none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</a:path>
                  <a:path stroke="0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9"/>
              <p:cNvSpPr/>
              <p:nvPr/>
            </p:nvSpPr>
            <p:spPr>
              <a:xfrm rot="17907600">
                <a:off x="6016320" y="1119240"/>
                <a:ext cx="154080" cy="58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rc 10"/>
              <p:cNvSpPr/>
              <p:nvPr/>
            </p:nvSpPr>
            <p:spPr>
              <a:xfrm rot="20542800">
                <a:off x="5818680" y="955080"/>
                <a:ext cx="654480" cy="723240"/>
              </a:xfrm>
              <a:custGeom>
                <a:avLst/>
                <a:gdLst>
                  <a:gd name="textAreaLeft" fmla="*/ 0 w 654480"/>
                  <a:gd name="textAreaRight" fmla="*/ 654840 w 654480"/>
                  <a:gd name="textAreaTop" fmla="*/ 0 h 723240"/>
                  <a:gd name="textAreaBottom" fmla="*/ 723600 h 723240"/>
                </a:gdLst>
                <a:ahLst/>
                <a:rect l="textAreaLeft" t="textAreaTop" r="textAreaRight" b="textAreaBottom"/>
                <a:pathLst>
                  <a:path fill="none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</a:path>
                  <a:path stroke="0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  <a:lnTo>
                      <a:pt x="28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3" name="Picture 11" descr="hand-mirror"/>
            <p:cNvPicPr/>
            <p:nvPr/>
          </p:nvPicPr>
          <p:blipFill>
            <a:blip r:embed="rId3"/>
            <a:stretch/>
          </p:blipFill>
          <p:spPr>
            <a:xfrm>
              <a:off x="2627280" y="3141360"/>
              <a:ext cx="4122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Line 12"/>
            <p:cNvSpPr/>
            <p:nvPr/>
          </p:nvSpPr>
          <p:spPr>
            <a:xfrm>
              <a:off x="3492360" y="2133360"/>
              <a:ext cx="1079640" cy="158436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3"/>
            <p:cNvSpPr/>
            <p:nvPr/>
          </p:nvSpPr>
          <p:spPr>
            <a:xfrm flipV="1">
              <a:off x="4716360" y="1701720"/>
              <a:ext cx="1079640" cy="201600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527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Multip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reflections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374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lamp hangs between two large mirrors on opposite walls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reflection in the first mirror is reflected in the second mirror, which is reflected again in the first mirror - - -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39" name="Picture 4" descr="reflections3"/>
          <p:cNvPicPr/>
          <p:nvPr/>
        </p:nvPicPr>
        <p:blipFill>
          <a:blip r:embed="rId1"/>
          <a:stretch/>
        </p:blipFill>
        <p:spPr>
          <a:xfrm>
            <a:off x="4500720" y="404640"/>
            <a:ext cx="4360680" cy="5877000"/>
          </a:xfrm>
          <a:prstGeom prst="rect">
            <a:avLst/>
          </a:prstGeom>
          <a:ln w="0">
            <a:noFill/>
          </a:ln>
        </p:spPr>
      </p:pic>
      <p:sp>
        <p:nvSpPr>
          <p:cNvPr id="34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50920" y="1628640"/>
            <a:ext cx="48974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Now for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some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games</a:t>
            </a:r>
            <a:r>
              <a:rPr b="1" lang="en-GB" sz="10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!</a:t>
            </a:r>
            <a:endParaRPr b="1" lang="en-US" sz="6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ources of ligh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00360" y="6021360"/>
            <a:ext cx="590544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Hot objects give out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23" name="Picture 4" descr="Bonfire%20ablaze"/>
          <p:cNvPicPr/>
          <p:nvPr/>
        </p:nvPicPr>
        <p:blipFill>
          <a:blip r:embed="rId1"/>
          <a:stretch/>
        </p:blipFill>
        <p:spPr>
          <a:xfrm>
            <a:off x="1476360" y="1557360"/>
            <a:ext cx="6083280" cy="4201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6012000" y="177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A bonf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92360" y="1412640"/>
            <a:ext cx="5400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fe2110"/>
                </a:solidFill>
                <a:latin typeface="Comic Sans MS"/>
              </a:rPr>
              <a:t>Colour</a:t>
            </a:r>
            <a:endParaRPr b="1" lang="en-US" sz="10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086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unlight shining on CD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284360" y="1699920"/>
            <a:ext cx="41749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Where do the colours come from?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47" name="Picture 5" descr="CD colour larger"/>
          <p:cNvPicPr/>
          <p:nvPr/>
        </p:nvPicPr>
        <p:blipFill>
          <a:blip r:embed="rId1"/>
          <a:stretch/>
        </p:blipFill>
        <p:spPr>
          <a:xfrm>
            <a:off x="826920" y="1773360"/>
            <a:ext cx="3240360" cy="2884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CDs bright smaller"/>
          <p:cNvPicPr/>
          <p:nvPr/>
        </p:nvPicPr>
        <p:blipFill>
          <a:blip r:embed="rId2"/>
          <a:stretch/>
        </p:blipFill>
        <p:spPr>
          <a:xfrm>
            <a:off x="3564000" y="2852640"/>
            <a:ext cx="4464000" cy="3498840"/>
          </a:xfrm>
          <a:prstGeom prst="rect">
            <a:avLst/>
          </a:prstGeom>
          <a:ln w="0">
            <a:noFill/>
          </a:ln>
        </p:spPr>
      </p:pic>
      <p:sp>
        <p:nvSpPr>
          <p:cNvPr id="34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002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Rainbow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019640" y="1773000"/>
            <a:ext cx="158436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red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orang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ellow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reen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blue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indigo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viole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52" name="Picture 7" descr="Skye rainbowcard"/>
          <p:cNvPicPr/>
          <p:nvPr/>
        </p:nvPicPr>
        <p:blipFill>
          <a:blip r:embed="rId1"/>
          <a:stretch/>
        </p:blipFill>
        <p:spPr>
          <a:xfrm>
            <a:off x="684360" y="1844640"/>
            <a:ext cx="6192720" cy="4044960"/>
          </a:xfrm>
          <a:prstGeom prst="rect">
            <a:avLst/>
          </a:prstGeom>
          <a:ln w="0">
            <a:noFill/>
          </a:ln>
        </p:spPr>
      </p:pic>
      <p:sp>
        <p:nvSpPr>
          <p:cNvPr id="3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olour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511164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hite light is made up of lots of colour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56" name="Picture 4" descr="MCj03918040000[1]"/>
          <p:cNvPicPr/>
          <p:nvPr/>
        </p:nvPicPr>
        <p:blipFill>
          <a:blip r:embed="rId1"/>
          <a:stretch/>
        </p:blipFill>
        <p:spPr>
          <a:xfrm>
            <a:off x="611280" y="3645000"/>
            <a:ext cx="3986280" cy="1079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MCj01043500000[1]"/>
          <p:cNvPicPr/>
          <p:nvPr/>
        </p:nvPicPr>
        <p:blipFill>
          <a:blip r:embed="rId2"/>
          <a:stretch/>
        </p:blipFill>
        <p:spPr>
          <a:xfrm>
            <a:off x="4500720" y="4005360"/>
            <a:ext cx="3944880" cy="3695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MCj01979380000[1]"/>
          <p:cNvPicPr/>
          <p:nvPr/>
        </p:nvPicPr>
        <p:blipFill>
          <a:blip r:embed="rId3"/>
          <a:stretch/>
        </p:blipFill>
        <p:spPr>
          <a:xfrm>
            <a:off x="6191280" y="836640"/>
            <a:ext cx="2952720" cy="274320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olours from white ligh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425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                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ook at a lamp               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               through the grating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ou will see                           colours.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62" name="Picture 4" descr="difrraction and lamp"/>
          <p:cNvPicPr/>
          <p:nvPr/>
        </p:nvPicPr>
        <p:blipFill>
          <a:blip r:embed="rId1"/>
          <a:stretch/>
        </p:blipFill>
        <p:spPr>
          <a:xfrm>
            <a:off x="324000" y="1628640"/>
            <a:ext cx="3168360" cy="2490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diffraction pattern"/>
          <p:cNvPicPr/>
          <p:nvPr/>
        </p:nvPicPr>
        <p:blipFill>
          <a:blip r:embed="rId2"/>
          <a:stretch/>
        </p:blipFill>
        <p:spPr>
          <a:xfrm>
            <a:off x="3419640" y="3429000"/>
            <a:ext cx="5205240" cy="2938320"/>
          </a:xfrm>
          <a:prstGeom prst="rect">
            <a:avLst/>
          </a:prstGeom>
          <a:ln w="0">
            <a:noFill/>
          </a:ln>
        </p:spPr>
      </p:pic>
      <p:sp>
        <p:nvSpPr>
          <p:cNvPr id="3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32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21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red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0"/>
            <a:ext cx="95392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blu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68515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Adding colours</a:t>
            </a:r>
            <a:br>
              <a:rPr sz="6000"/>
            </a:b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 with light</a:t>
            </a:r>
            <a:endParaRPr b="1" lang="en-US" sz="6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55640" y="3573360"/>
            <a:ext cx="77040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This is different to adding paint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7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e2110"/>
                </a:solidFill>
                <a:latin typeface="Comic Sans MS"/>
              </a:rPr>
              <a:t>Red</a:t>
            </a:r>
            <a:r>
              <a:rPr b="1" lang="en-GB" sz="7200" spc="-1" strike="noStrike">
                <a:solidFill>
                  <a:srgbClr val="cc0099"/>
                </a:solidFill>
                <a:latin typeface="Comic Sans MS"/>
              </a:rPr>
              <a:t> + </a:t>
            </a: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Blue</a:t>
            </a:r>
            <a:endParaRPr b="1" lang="en-US" sz="72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0900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987640" y="17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The Sun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3887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unset in Venic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28" name="Picture 5" descr="sunset"/>
          <p:cNvPicPr/>
          <p:nvPr/>
        </p:nvPicPr>
        <p:blipFill>
          <a:blip r:embed="rId1"/>
          <a:stretch/>
        </p:blipFill>
        <p:spPr>
          <a:xfrm>
            <a:off x="1403280" y="1628640"/>
            <a:ext cx="6697800" cy="4676760"/>
          </a:xfrm>
          <a:prstGeom prst="rect">
            <a:avLst/>
          </a:prstGeom>
          <a:ln w="0">
            <a:noFill/>
          </a:ln>
        </p:spPr>
      </p:pic>
      <p:sp>
        <p:nvSpPr>
          <p:cNvPr id="2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Blue</a:t>
            </a:r>
            <a:r>
              <a:rPr b="1" lang="en-GB" sz="7200" spc="-1" strike="noStrike">
                <a:solidFill>
                  <a:srgbClr val="00cc99"/>
                </a:solidFill>
                <a:latin typeface="Comic Sans MS"/>
              </a:rPr>
              <a:t> + </a:t>
            </a:r>
            <a:r>
              <a:rPr b="1" lang="en-GB" sz="7200" spc="-1" strike="noStrike">
                <a:solidFill>
                  <a:srgbClr val="00cc00"/>
                </a:solidFill>
                <a:latin typeface="Comic Sans MS"/>
              </a:rPr>
              <a:t>Green</a:t>
            </a:r>
            <a:endParaRPr b="1" lang="en-US" sz="72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yan</a:t>
            </a:r>
            <a:endParaRPr b="1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cc00"/>
                </a:solidFill>
                <a:latin typeface="Comic Sans MS"/>
              </a:rPr>
              <a:t>Green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10000" spc="-1" strike="noStrike">
                <a:solidFill>
                  <a:srgbClr val="f4ee00"/>
                </a:solidFill>
                <a:latin typeface="Comic Sans MS"/>
              </a:rPr>
              <a:t>+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Red</a:t>
            </a:r>
            <a:endParaRPr b="1" lang="en-US" sz="5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1" lang="en-US" sz="36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4560" y="0"/>
            <a:ext cx="1022508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324000" y="333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68360" y="549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07640" y="764640"/>
            <a:ext cx="516924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Fairy lights</a:t>
            </a:r>
            <a:endParaRPr b="1" lang="en-US" sz="66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2700360" y="314172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3635280" y="3716280"/>
            <a:ext cx="914400" cy="91440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116000" y="2781360"/>
            <a:ext cx="914400" cy="91440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4788000" y="4005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9"/>
          <p:cNvSpPr/>
          <p:nvPr/>
        </p:nvSpPr>
        <p:spPr>
          <a:xfrm>
            <a:off x="1908000" y="3573360"/>
            <a:ext cx="914400" cy="9144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0"/>
          <p:cNvSpPr/>
          <p:nvPr/>
        </p:nvSpPr>
        <p:spPr>
          <a:xfrm>
            <a:off x="2771640" y="4365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1"/>
          <p:cNvSpPr/>
          <p:nvPr/>
        </p:nvSpPr>
        <p:spPr>
          <a:xfrm>
            <a:off x="5003640" y="3141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/>
          <p:cNvSpPr/>
          <p:nvPr/>
        </p:nvSpPr>
        <p:spPr>
          <a:xfrm>
            <a:off x="3851280" y="4653000"/>
            <a:ext cx="914400" cy="91440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5867280" y="3933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6012000" y="2781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7020000" y="357336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6"/>
          <p:cNvSpPr/>
          <p:nvPr/>
        </p:nvSpPr>
        <p:spPr>
          <a:xfrm>
            <a:off x="7308720" y="2565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Use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asers- produce very bright beams of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toms all give out their light toge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CDs use laser light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reflection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1738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CDs</a:t>
            </a:r>
            <a:endParaRPr b="1" lang="en-US" sz="48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55640" y="3715920"/>
            <a:ext cx="7848720" cy="23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surface has tiny pits and smooth bits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a spiral patte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pits scatter light from a laser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smooth bits reflect the light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so a coded message is read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416" name="Group 30"/>
          <p:cNvGrpSpPr/>
          <p:nvPr/>
        </p:nvGrpSpPr>
        <p:grpSpPr>
          <a:xfrm>
            <a:off x="900000" y="1557360"/>
            <a:ext cx="6748560" cy="2179440"/>
            <a:chOff x="900000" y="1557360"/>
            <a:chExt cx="6748560" cy="2179440"/>
          </a:xfrm>
        </p:grpSpPr>
        <p:grpSp>
          <p:nvGrpSpPr>
            <p:cNvPr id="417" name="Group 15"/>
            <p:cNvGrpSpPr/>
            <p:nvPr/>
          </p:nvGrpSpPr>
          <p:grpSpPr>
            <a:xfrm>
              <a:off x="900000" y="2675880"/>
              <a:ext cx="6748560" cy="1060920"/>
              <a:chOff x="900000" y="2675880"/>
              <a:chExt cx="6748560" cy="1060920"/>
            </a:xfrm>
          </p:grpSpPr>
          <p:grpSp>
            <p:nvGrpSpPr>
              <p:cNvPr id="418" name="Group 16"/>
              <p:cNvGrpSpPr/>
              <p:nvPr/>
            </p:nvGrpSpPr>
            <p:grpSpPr>
              <a:xfrm>
                <a:off x="900000" y="2675880"/>
                <a:ext cx="2013480" cy="1029240"/>
                <a:chOff x="900000" y="2675880"/>
                <a:chExt cx="2013480" cy="1029240"/>
              </a:xfrm>
            </p:grpSpPr>
            <p:sp>
              <p:nvSpPr>
                <p:cNvPr id="419" name="Arc 17"/>
                <p:cNvSpPr/>
                <p:nvPr/>
              </p:nvSpPr>
              <p:spPr>
                <a:xfrm rot="8542200">
                  <a:off x="1981080" y="285300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18"/>
                <p:cNvSpPr/>
                <p:nvPr/>
              </p:nvSpPr>
              <p:spPr>
                <a:xfrm flipV="1">
                  <a:off x="900000" y="318636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19"/>
              <p:cNvGrpSpPr/>
              <p:nvPr/>
            </p:nvGrpSpPr>
            <p:grpSpPr>
              <a:xfrm>
                <a:off x="2880720" y="2692080"/>
                <a:ext cx="2013480" cy="1029240"/>
                <a:chOff x="2880720" y="2692080"/>
                <a:chExt cx="2013480" cy="1029240"/>
              </a:xfrm>
            </p:grpSpPr>
            <p:sp>
              <p:nvSpPr>
                <p:cNvPr id="422" name="Arc 20"/>
                <p:cNvSpPr/>
                <p:nvPr/>
              </p:nvSpPr>
              <p:spPr>
                <a:xfrm rot="8542200">
                  <a:off x="3961800" y="286920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1"/>
                <p:cNvSpPr/>
                <p:nvPr/>
              </p:nvSpPr>
              <p:spPr>
                <a:xfrm flipV="1">
                  <a:off x="2880720" y="320256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22"/>
              <p:cNvGrpSpPr/>
              <p:nvPr/>
            </p:nvGrpSpPr>
            <p:grpSpPr>
              <a:xfrm>
                <a:off x="4866840" y="2707560"/>
                <a:ext cx="2013480" cy="1029240"/>
                <a:chOff x="4866840" y="2707560"/>
                <a:chExt cx="2013480" cy="1029240"/>
              </a:xfrm>
            </p:grpSpPr>
            <p:sp>
              <p:nvSpPr>
                <p:cNvPr id="425" name="Arc 23"/>
                <p:cNvSpPr/>
                <p:nvPr/>
              </p:nvSpPr>
              <p:spPr>
                <a:xfrm rot="8542200">
                  <a:off x="5947920" y="288468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"/>
                <p:cNvSpPr/>
                <p:nvPr/>
              </p:nvSpPr>
              <p:spPr>
                <a:xfrm flipV="1">
                  <a:off x="4866840" y="321804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" name="Line 25"/>
              <p:cNvSpPr/>
              <p:nvPr/>
            </p:nvSpPr>
            <p:spPr>
              <a:xfrm flipV="1">
                <a:off x="6869520" y="3241800"/>
                <a:ext cx="779040" cy="7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Line 26"/>
            <p:cNvSpPr/>
            <p:nvPr/>
          </p:nvSpPr>
          <p:spPr>
            <a:xfrm>
              <a:off x="2700360" y="1702080"/>
              <a:ext cx="576360" cy="1511280"/>
            </a:xfrm>
            <a:prstGeom prst="line">
              <a:avLst/>
            </a:prstGeom>
            <a:ln w="69840">
              <a:solidFill>
                <a:srgbClr val="fe21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V="1">
              <a:off x="3276720" y="1557360"/>
              <a:ext cx="431640" cy="1656000"/>
            </a:xfrm>
            <a:prstGeom prst="line">
              <a:avLst/>
            </a:prstGeom>
            <a:ln w="82440">
              <a:solidFill>
                <a:srgbClr val="fe211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0" name="Picture 29" descr="spiral2"/>
          <p:cNvPicPr/>
          <p:nvPr/>
        </p:nvPicPr>
        <p:blipFill>
          <a:blip r:embed="rId1"/>
          <a:stretch/>
        </p:blipFill>
        <p:spPr>
          <a:xfrm>
            <a:off x="6227640" y="7509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1"/>
          <p:cNvSpPr/>
          <p:nvPr/>
        </p:nvSpPr>
        <p:spPr>
          <a:xfrm>
            <a:off x="7667640" y="83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i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laser show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46818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489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  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Laser show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987280" y="5950080"/>
            <a:ext cx="576108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Physics is in everything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3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68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68" fill="hold"/>
                                        <p:tgtEl>
                                          <p:spTgt spid="4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2027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tars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4292280"/>
            <a:ext cx="2735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tars and galaxies give out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6156360" y="616572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2" descr="Bubble_LT_NSO"/>
          <p:cNvPicPr/>
          <p:nvPr/>
        </p:nvPicPr>
        <p:blipFill>
          <a:blip r:embed="rId1"/>
          <a:stretch/>
        </p:blipFill>
        <p:spPr>
          <a:xfrm>
            <a:off x="3635280" y="981000"/>
            <a:ext cx="4680000" cy="4629240"/>
          </a:xfrm>
          <a:prstGeom prst="rect">
            <a:avLst/>
          </a:prstGeom>
          <a:ln w="0">
            <a:noFill/>
          </a:ln>
        </p:spPr>
      </p:pic>
      <p:sp>
        <p:nvSpPr>
          <p:cNvPr id="23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35280" y="836640"/>
            <a:ext cx="3313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Lightning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pic>
        <p:nvPicPr>
          <p:cNvPr id="236" name="Picture 7" descr="lightning"/>
          <p:cNvPicPr/>
          <p:nvPr/>
        </p:nvPicPr>
        <p:blipFill>
          <a:blip r:embed="rId1"/>
          <a:stretch/>
        </p:blipFill>
        <p:spPr>
          <a:xfrm>
            <a:off x="3564000" y="2781360"/>
            <a:ext cx="5040360" cy="3666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lightning"/>
          <p:cNvPicPr/>
          <p:nvPr/>
        </p:nvPicPr>
        <p:blipFill>
          <a:blip r:embed="rId2"/>
          <a:stretch/>
        </p:blipFill>
        <p:spPr>
          <a:xfrm>
            <a:off x="684360" y="765000"/>
            <a:ext cx="4464000" cy="3405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Lightening20050628cr"/>
          <p:cNvPicPr/>
          <p:nvPr/>
        </p:nvPicPr>
        <p:blipFill>
          <a:blip r:embed="rId3"/>
          <a:stretch/>
        </p:blipFill>
        <p:spPr>
          <a:xfrm>
            <a:off x="684360" y="4653000"/>
            <a:ext cx="2627280" cy="177336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A worm living in dark caves sends out light from its tail.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292360" y="2349360"/>
            <a:ext cx="3313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quid droplets form a string of shining beads to attract insects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42" name="Picture 4" descr="sorces of light"/>
          <p:cNvPicPr/>
          <p:nvPr/>
        </p:nvPicPr>
        <p:blipFill>
          <a:blip r:embed="rId1"/>
          <a:stretch/>
        </p:blipFill>
        <p:spPr>
          <a:xfrm>
            <a:off x="611280" y="2205000"/>
            <a:ext cx="4645080" cy="35179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268360" y="609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 flipH="1" flipV="1">
            <a:off x="2484000" y="4221000"/>
            <a:ext cx="505080" cy="18734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Some cold things give out light: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6560" y="2781000"/>
            <a:ext cx="4681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ome fungi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low worm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ght stick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EDs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‘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low-in-the-dark’ sticker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48" name="Picture 7" descr="Glowing_fungi3"/>
          <p:cNvPicPr/>
          <p:nvPr/>
        </p:nvPicPr>
        <p:blipFill>
          <a:blip r:embed="rId1"/>
          <a:stretch/>
        </p:blipFill>
        <p:spPr>
          <a:xfrm>
            <a:off x="5940360" y="2349360"/>
            <a:ext cx="2451240" cy="290844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How do we see light sources?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84720" y="4365360"/>
            <a:ext cx="4392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Light travels from a source to our eyes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33ff"/>
                </a:solidFill>
                <a:latin typeface="Comic Sans MS"/>
              </a:rPr>
              <a:t>We can see sources in a dark room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52" name="Picture 6" descr="MCj02151650000[1]"/>
          <p:cNvPicPr/>
          <p:nvPr/>
        </p:nvPicPr>
        <p:blipFill>
          <a:blip r:embed="rId1"/>
          <a:stretch/>
        </p:blipFill>
        <p:spPr>
          <a:xfrm rot="11649600">
            <a:off x="1042200" y="3572640"/>
            <a:ext cx="2304720" cy="20322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15"/>
          <p:cNvGrpSpPr/>
          <p:nvPr/>
        </p:nvGrpSpPr>
        <p:grpSpPr>
          <a:xfrm>
            <a:off x="6418800" y="1966680"/>
            <a:ext cx="1355040" cy="1810440"/>
            <a:chOff x="6418800" y="1966680"/>
            <a:chExt cx="1355040" cy="1810440"/>
          </a:xfrm>
        </p:grpSpPr>
        <p:sp>
          <p:nvSpPr>
            <p:cNvPr id="254" name="Freeform 16"/>
            <p:cNvSpPr/>
            <p:nvPr/>
          </p:nvSpPr>
          <p:spPr>
            <a:xfrm rot="20749200">
              <a:off x="6620760" y="2060280"/>
              <a:ext cx="969120" cy="1622520"/>
            </a:xfrm>
            <a:custGeom>
              <a:avLst/>
              <a:gdLst>
                <a:gd name="textAreaLeft" fmla="*/ 0 w 969120"/>
                <a:gd name="textAreaRight" fmla="*/ 969480 w 969120"/>
                <a:gd name="textAreaTop" fmla="*/ 0 h 1622520"/>
                <a:gd name="textAreaBottom" fmla="*/ 1622880 h 1622520"/>
              </a:gdLst>
              <a:ahLst/>
              <a:rect l="textAreaLeft" t="textAreaTop" r="textAreaRight" b="textAreaBottom"/>
              <a:pathLst>
                <a:path w="1527" h="2555">
                  <a:moveTo>
                    <a:pt x="300" y="0"/>
                  </a:moveTo>
                  <a:cubicBezTo>
                    <a:pt x="317" y="84"/>
                    <a:pt x="351" y="101"/>
                    <a:pt x="388" y="176"/>
                  </a:cubicBezTo>
                  <a:cubicBezTo>
                    <a:pt x="429" y="258"/>
                    <a:pt x="490" y="321"/>
                    <a:pt x="538" y="401"/>
                  </a:cubicBezTo>
                  <a:cubicBezTo>
                    <a:pt x="580" y="470"/>
                    <a:pt x="624" y="552"/>
                    <a:pt x="676" y="614"/>
                  </a:cubicBezTo>
                  <a:cubicBezTo>
                    <a:pt x="703" y="646"/>
                    <a:pt x="739" y="669"/>
                    <a:pt x="764" y="702"/>
                  </a:cubicBezTo>
                  <a:cubicBezTo>
                    <a:pt x="839" y="803"/>
                    <a:pt x="907" y="932"/>
                    <a:pt x="1014" y="1002"/>
                  </a:cubicBezTo>
                  <a:cubicBezTo>
                    <a:pt x="1073" y="1091"/>
                    <a:pt x="1153" y="1153"/>
                    <a:pt x="1227" y="1228"/>
                  </a:cubicBezTo>
                  <a:cubicBezTo>
                    <a:pt x="1318" y="1320"/>
                    <a:pt x="1214" y="1245"/>
                    <a:pt x="1302" y="1303"/>
                  </a:cubicBezTo>
                  <a:cubicBezTo>
                    <a:pt x="1310" y="1315"/>
                    <a:pt x="1314" y="1332"/>
                    <a:pt x="1327" y="1340"/>
                  </a:cubicBezTo>
                  <a:cubicBezTo>
                    <a:pt x="1349" y="1354"/>
                    <a:pt x="1402" y="1365"/>
                    <a:pt x="1402" y="1365"/>
                  </a:cubicBezTo>
                  <a:cubicBezTo>
                    <a:pt x="1445" y="1398"/>
                    <a:pt x="1476" y="1435"/>
                    <a:pt x="1527" y="1453"/>
                  </a:cubicBezTo>
                  <a:cubicBezTo>
                    <a:pt x="1502" y="1461"/>
                    <a:pt x="1478" y="1472"/>
                    <a:pt x="1452" y="1478"/>
                  </a:cubicBezTo>
                  <a:cubicBezTo>
                    <a:pt x="1419" y="1486"/>
                    <a:pt x="1352" y="1503"/>
                    <a:pt x="1352" y="1503"/>
                  </a:cubicBezTo>
                  <a:cubicBezTo>
                    <a:pt x="1284" y="1548"/>
                    <a:pt x="1254" y="1543"/>
                    <a:pt x="1164" y="1553"/>
                  </a:cubicBezTo>
                  <a:cubicBezTo>
                    <a:pt x="1123" y="1580"/>
                    <a:pt x="1082" y="1591"/>
                    <a:pt x="1039" y="1616"/>
                  </a:cubicBezTo>
                  <a:cubicBezTo>
                    <a:pt x="942" y="1672"/>
                    <a:pt x="850" y="1727"/>
                    <a:pt x="751" y="1779"/>
                  </a:cubicBezTo>
                  <a:cubicBezTo>
                    <a:pt x="708" y="1801"/>
                    <a:pt x="665" y="1825"/>
                    <a:pt x="626" y="1854"/>
                  </a:cubicBezTo>
                  <a:cubicBezTo>
                    <a:pt x="607" y="1868"/>
                    <a:pt x="594" y="1889"/>
                    <a:pt x="576" y="1904"/>
                  </a:cubicBezTo>
                  <a:cubicBezTo>
                    <a:pt x="560" y="1918"/>
                    <a:pt x="543" y="1929"/>
                    <a:pt x="526" y="1941"/>
                  </a:cubicBezTo>
                  <a:cubicBezTo>
                    <a:pt x="472" y="1978"/>
                    <a:pt x="408" y="2018"/>
                    <a:pt x="363" y="2067"/>
                  </a:cubicBezTo>
                  <a:cubicBezTo>
                    <a:pt x="177" y="2273"/>
                    <a:pt x="366" y="2081"/>
                    <a:pt x="250" y="2229"/>
                  </a:cubicBezTo>
                  <a:cubicBezTo>
                    <a:pt x="235" y="2248"/>
                    <a:pt x="216" y="2261"/>
                    <a:pt x="200" y="2279"/>
                  </a:cubicBezTo>
                  <a:cubicBezTo>
                    <a:pt x="182" y="2299"/>
                    <a:pt x="166" y="2320"/>
                    <a:pt x="150" y="2342"/>
                  </a:cubicBezTo>
                  <a:cubicBezTo>
                    <a:pt x="117" y="2386"/>
                    <a:pt x="102" y="2428"/>
                    <a:pt x="62" y="2467"/>
                  </a:cubicBezTo>
                  <a:cubicBezTo>
                    <a:pt x="49" y="2509"/>
                    <a:pt x="29" y="2523"/>
                    <a:pt x="0" y="25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rc 17"/>
            <p:cNvSpPr/>
            <p:nvPr/>
          </p:nvSpPr>
          <p:spPr>
            <a:xfrm rot="13945800">
              <a:off x="6517800" y="2582280"/>
              <a:ext cx="864720" cy="67572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675720"/>
                <a:gd name="textAreaBottom" fmla="*/ 676080 h 675720"/>
              </a:gdLst>
              <a:ahLst/>
              <a:rect l="textAreaLeft" t="textAreaTop" r="textAreaRight" b="textAreaBottom"/>
              <a:pathLst>
                <a:path fill="none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</a:path>
                <a:path stroke="0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8"/>
            <p:cNvSpPr/>
            <p:nvPr/>
          </p:nvSpPr>
          <p:spPr>
            <a:xfrm rot="21081000">
              <a:off x="6729120" y="2688840"/>
              <a:ext cx="154080" cy="58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rc 19"/>
            <p:cNvSpPr/>
            <p:nvPr/>
          </p:nvSpPr>
          <p:spPr>
            <a:xfrm rot="2116200">
              <a:off x="6588000" y="2604600"/>
              <a:ext cx="654840" cy="72324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fill="none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</a:path>
                <a:path stroke="0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  <a:lnTo>
                    <a:pt x="28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Line 20"/>
          <p:cNvSpPr/>
          <p:nvPr/>
        </p:nvSpPr>
        <p:spPr>
          <a:xfrm flipV="1">
            <a:off x="3419640" y="3141720"/>
            <a:ext cx="2952720" cy="100800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an we see in the dark?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70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If there is </a:t>
            </a:r>
            <a:r>
              <a:rPr b="1" lang="en-GB" sz="2800" spc="-1" strike="noStrike" u="sng">
                <a:solidFill>
                  <a:srgbClr val="9933ff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 light 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cannot see anything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Let’s try a test– 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ut a few small objects into the black bag----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8-03-12T09:25:35Z</dcterms:modified>
  <cp:revision>90</cp:revision>
  <dc:subject/>
  <dc:title>WOW !</dc:title>
</cp:coreProperties>
</file>