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9.wmf" ContentType="image/x-wmf"/>
  <Override PartName="/ppt/media/image49.jpeg" ContentType="image/jpeg"/>
  <Override PartName="/ppt/media/image1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9FBB-44A6-4226-95C5-9498E69BA729}" type="slidenum"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D0E-DE87-4586-9F0F-832086D8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A71-65C5-44AD-9A49-34844F93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5F1-9982-4DED-BF7D-93BE9CCF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AB7-05F1-4B9D-BFEB-355F8E59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EC6-6C0F-4531-8FDA-BC90523C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553-DA90-459B-9BC4-78273EAF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011-F5DB-4623-B81D-2D97C3C4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9E0-421D-4FAB-856E-D2D305A3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468-CA09-4427-8B42-5FA875C0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D85-945A-4C45-866D-74EC4349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5CF-20F6-4D6D-89A0-3BEE94C8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28D-5E33-497A-94BE-97FDEEBF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F33-FB04-4705-A49E-E7ADC1F4854C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44720" y="533520"/>
            <a:ext cx="160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C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057400" y="4552920"/>
            <a:ext cx="5456160" cy="1911600"/>
            <a:chOff x="2057400" y="4552920"/>
            <a:chExt cx="5456160" cy="1911600"/>
          </a:xfrm>
        </p:grpSpPr>
        <p:grpSp>
          <p:nvGrpSpPr>
            <p:cNvPr id="50" name="Group 12"/>
            <p:cNvGrpSpPr/>
            <p:nvPr/>
          </p:nvGrpSpPr>
          <p:grpSpPr>
            <a:xfrm>
              <a:off x="4584960" y="4572000"/>
              <a:ext cx="2928600" cy="1892520"/>
              <a:chOff x="4584960" y="4572000"/>
              <a:chExt cx="2928600" cy="189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4584960" y="4572000"/>
                <a:ext cx="231264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cc66"/>
                    </a:solidFill>
                    <a:latin typeface="Comic Sans MS"/>
                  </a:rPr>
                  <a:t>3. Orbital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5213520" y="4876920"/>
                <a:ext cx="2300040" cy="1587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Eyeba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Lacrimal gla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cular musc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phthalmic vess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.N. II, III, IV, V</a:t>
                </a:r>
                <a:r>
                  <a:rPr b="0" lang="th-TH" sz="1600" spc="-1" strike="noStrike" baseline="-25000">
                    <a:solidFill>
                      <a:srgbClr val="ffcc66"/>
                    </a:solidFill>
                    <a:latin typeface="Comic Sans MS"/>
                  </a:rPr>
                  <a:t>1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&amp; 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ilary gangl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9" descr="C:\WINDOWS\Desktop\lecture\orbit\content oforbit- sag sec.jpg"/>
            <p:cNvPicPr/>
            <p:nvPr/>
          </p:nvPicPr>
          <p:blipFill>
            <a:blip r:embed="rId1"/>
            <a:stretch/>
          </p:blipFill>
          <p:spPr>
            <a:xfrm>
              <a:off x="2057400" y="4552920"/>
              <a:ext cx="1981080" cy="1457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4" name="Group 13"/>
          <p:cNvGrpSpPr/>
          <p:nvPr/>
        </p:nvGrpSpPr>
        <p:grpSpPr>
          <a:xfrm>
            <a:off x="2567160" y="1523880"/>
            <a:ext cx="4358160" cy="1209960"/>
            <a:chOff x="2567160" y="1523880"/>
            <a:chExt cx="4358160" cy="1209960"/>
          </a:xfrm>
        </p:grpSpPr>
        <p:sp>
          <p:nvSpPr>
            <p:cNvPr id="55" name="Rectangle 3"/>
            <p:cNvSpPr/>
            <p:nvPr/>
          </p:nvSpPr>
          <p:spPr>
            <a:xfrm>
              <a:off x="4586760" y="1600200"/>
              <a:ext cx="233856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1.</a:t>
              </a:r>
              <a:r>
                <a:rPr b="1" lang="th-TH" sz="18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Bony orbi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open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fasci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0" descr="C:\WINDOWS\Desktop\lecture\orbit\skull-ant.2.jpg"/>
            <p:cNvPicPr/>
            <p:nvPr/>
          </p:nvPicPr>
          <p:blipFill>
            <a:blip r:embed="rId2"/>
            <a:stretch/>
          </p:blipFill>
          <p:spPr>
            <a:xfrm>
              <a:off x="2567160" y="1523880"/>
              <a:ext cx="861840" cy="1209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7" name="Group 14"/>
          <p:cNvGrpSpPr/>
          <p:nvPr/>
        </p:nvGrpSpPr>
        <p:grpSpPr>
          <a:xfrm>
            <a:off x="2514600" y="2971800"/>
            <a:ext cx="4839480" cy="1360440"/>
            <a:chOff x="2514600" y="2971800"/>
            <a:chExt cx="4839480" cy="1360440"/>
          </a:xfrm>
        </p:grpSpPr>
        <p:sp>
          <p:nvSpPr>
            <p:cNvPr id="58" name="Rectangle 4"/>
            <p:cNvSpPr/>
            <p:nvPr/>
          </p:nvSpPr>
          <p:spPr>
            <a:xfrm>
              <a:off x="4625280" y="3276720"/>
              <a:ext cx="272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2. Surface anatom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eyeball and eyel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1" descr="C:\WINDOWS\Desktop\lecture\orbit2\surface anat-female.2.jpg"/>
            <p:cNvPicPr/>
            <p:nvPr/>
          </p:nvPicPr>
          <p:blipFill>
            <a:blip r:embed="rId3"/>
            <a:stretch/>
          </p:blipFill>
          <p:spPr>
            <a:xfrm>
              <a:off x="2514600" y="2971800"/>
              <a:ext cx="1123920" cy="1360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60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57760" y="457200"/>
            <a:ext cx="1432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00"/>
                </a:solidFill>
                <a:latin typeface="Arial"/>
              </a:rPr>
              <a:t>Eye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1113480" y="1295280"/>
            <a:ext cx="6658920" cy="5337000"/>
            <a:chOff x="1113480" y="1295280"/>
            <a:chExt cx="6658920" cy="5337000"/>
          </a:xfrm>
        </p:grpSpPr>
        <p:sp>
          <p:nvSpPr>
            <p:cNvPr id="150" name="Rectangle 5"/>
            <p:cNvSpPr/>
            <p:nvPr/>
          </p:nvSpPr>
          <p:spPr>
            <a:xfrm>
              <a:off x="1113480" y="5146560"/>
              <a:ext cx="4073760" cy="148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Arial"/>
                </a:rPr>
                <a:t>Outer fibrous coat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Cornea, Sclera</a:t>
              </a:r>
              <a:r>
                <a:rPr b="0" lang="th-TH" sz="1800" spc="-1" strike="noStrike">
                  <a:solidFill>
                    <a:srgbClr val="ffe1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9900"/>
                  </a:solidFill>
                  <a:latin typeface="Arial"/>
                </a:rPr>
                <a:t>Middle vascular (pigmented) coat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Iris, Ciliary body, Chor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f6f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</a:t>
              </a:r>
              <a:r>
                <a:rPr b="1" lang="th-TH" sz="1800" spc="-1" strike="noStrike">
                  <a:solidFill>
                    <a:srgbClr val="f6f000"/>
                  </a:solidFill>
                  <a:latin typeface="Arial"/>
                </a:rPr>
                <a:t>Inner nervous coat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Retina</a:t>
              </a:r>
              <a:r>
                <a:rPr b="0" lang="th-TH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7" descr="C:\WINDOWS\Desktop\lecture\orbit\eye coat.1f.jpg"/>
            <p:cNvPicPr/>
            <p:nvPr/>
          </p:nvPicPr>
          <p:blipFill>
            <a:blip r:embed="rId1"/>
            <a:stretch/>
          </p:blipFill>
          <p:spPr>
            <a:xfrm>
              <a:off x="5791320" y="1295280"/>
              <a:ext cx="1981080" cy="173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52" name="Picture 8" descr="C:\WINDOWS\Desktop\lecture\orbit\Grant11-orbital wall.1f.jpg"/>
          <p:cNvPicPr/>
          <p:nvPr/>
        </p:nvPicPr>
        <p:blipFill>
          <a:blip r:embed="rId2"/>
          <a:stretch/>
        </p:blipFill>
        <p:spPr>
          <a:xfrm>
            <a:off x="1066680" y="1265400"/>
            <a:ext cx="3886200" cy="37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53" name="Group 12"/>
          <p:cNvGrpSpPr/>
          <p:nvPr/>
        </p:nvGrpSpPr>
        <p:grpSpPr>
          <a:xfrm>
            <a:off x="5360040" y="3276720"/>
            <a:ext cx="3556440" cy="3187080"/>
            <a:chOff x="5360040" y="3276720"/>
            <a:chExt cx="3556440" cy="3187080"/>
          </a:xfrm>
        </p:grpSpPr>
        <p:sp>
          <p:nvSpPr>
            <p:cNvPr id="154" name="Rectangle 6"/>
            <p:cNvSpPr/>
            <p:nvPr/>
          </p:nvSpPr>
          <p:spPr>
            <a:xfrm>
              <a:off x="5360040" y="5943600"/>
              <a:ext cx="3556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Sinus venosus sclerae (Canal of Schem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Glaucoma (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ต้อหิน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9" descr="C:\WINDOWS\Desktop\lecture\orbit\n11-iris cili body-f.jpg"/>
            <p:cNvPicPr/>
            <p:nvPr/>
          </p:nvPicPr>
          <p:blipFill>
            <a:blip r:embed="rId3"/>
            <a:stretch/>
          </p:blipFill>
          <p:spPr>
            <a:xfrm>
              <a:off x="5486400" y="3276720"/>
              <a:ext cx="2590920" cy="2319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56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53352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My Documents\lecture\orbit\eyecoat.1f.jpg"/>
          <p:cNvPicPr/>
          <p:nvPr/>
        </p:nvPicPr>
        <p:blipFill>
          <a:blip r:embed="rId1"/>
          <a:stretch/>
        </p:blipFill>
        <p:spPr>
          <a:xfrm>
            <a:off x="2362320" y="1279440"/>
            <a:ext cx="4724280" cy="216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9" name="Picture 8" descr="C:\My Documents\lecture\orbit\iris-Gross-ff.jpg"/>
          <p:cNvPicPr/>
          <p:nvPr/>
        </p:nvPicPr>
        <p:blipFill>
          <a:blip r:embed="rId2"/>
          <a:stretch/>
        </p:blipFill>
        <p:spPr>
          <a:xfrm>
            <a:off x="2057400" y="3570120"/>
            <a:ext cx="2201760" cy="206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0" name="Picture 9" descr="C:\My Documents\lecture\orbit\retina-Grossf.jpg"/>
          <p:cNvPicPr/>
          <p:nvPr/>
        </p:nvPicPr>
        <p:blipFill>
          <a:blip r:embed="rId3"/>
          <a:stretch/>
        </p:blipFill>
        <p:spPr>
          <a:xfrm>
            <a:off x="4419720" y="3657600"/>
            <a:ext cx="289548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9"/>
          <p:cNvGrpSpPr/>
          <p:nvPr/>
        </p:nvGrpSpPr>
        <p:grpSpPr>
          <a:xfrm>
            <a:off x="5774760" y="1295280"/>
            <a:ext cx="2622600" cy="1755360"/>
            <a:chOff x="5774760" y="1295280"/>
            <a:chExt cx="2622600" cy="1755360"/>
          </a:xfrm>
        </p:grpSpPr>
        <p:sp>
          <p:nvSpPr>
            <p:cNvPr id="163" name="Rectangle 3"/>
            <p:cNvSpPr/>
            <p:nvPr/>
          </p:nvSpPr>
          <p:spPr>
            <a:xfrm>
              <a:off x="5774760" y="1295280"/>
              <a:ext cx="23493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189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cc3300"/>
                  </a:solidFill>
                  <a:latin typeface="Arial"/>
                </a:rPr>
                <a:t>Chamber of 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5782680" y="1981080"/>
              <a:ext cx="2614680" cy="106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1.  An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2.  Pos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3.  Vitreous camber</a:t>
              </a:r>
              <a:r>
                <a:rPr b="0" lang="th-TH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5779800" y="3429000"/>
            <a:ext cx="2483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ff"/>
                </a:solidFill>
                <a:latin typeface="Arial"/>
              </a:rPr>
              <a:t>Refrac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WINDOWS\Desktop\lecture\orbit\Grant11-orbital wall.1f.jpg"/>
          <p:cNvPicPr/>
          <p:nvPr/>
        </p:nvPicPr>
        <p:blipFill>
          <a:blip r:embed="rId1"/>
          <a:stretch/>
        </p:blipFill>
        <p:spPr>
          <a:xfrm>
            <a:off x="1066680" y="1265400"/>
            <a:ext cx="4114800" cy="39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67" name="Group 12"/>
          <p:cNvGrpSpPr/>
          <p:nvPr/>
        </p:nvGrpSpPr>
        <p:grpSpPr>
          <a:xfrm>
            <a:off x="2819520" y="1371600"/>
            <a:ext cx="5474160" cy="4437360"/>
            <a:chOff x="2819520" y="1371600"/>
            <a:chExt cx="5474160" cy="4437360"/>
          </a:xfrm>
        </p:grpSpPr>
        <p:grpSp>
          <p:nvGrpSpPr>
            <p:cNvPr id="168" name="Group 10"/>
            <p:cNvGrpSpPr/>
            <p:nvPr/>
          </p:nvGrpSpPr>
          <p:grpSpPr>
            <a:xfrm>
              <a:off x="5811480" y="3946680"/>
              <a:ext cx="2482200" cy="1862280"/>
              <a:chOff x="5811480" y="3946680"/>
              <a:chExt cx="2482200" cy="1862280"/>
            </a:xfrm>
          </p:grpSpPr>
          <p:sp>
            <p:nvSpPr>
              <p:cNvPr id="169" name="Rectangle 6"/>
              <p:cNvSpPr/>
              <p:nvPr/>
            </p:nvSpPr>
            <p:spPr>
              <a:xfrm>
                <a:off x="5830560" y="3946680"/>
                <a:ext cx="2331000" cy="1313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1.  Corn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2.  Aqu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3.  Le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4.  Vitr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7"/>
              <p:cNvSpPr/>
              <p:nvPr/>
            </p:nvSpPr>
            <p:spPr>
              <a:xfrm>
                <a:off x="5811480" y="5410080"/>
                <a:ext cx="2482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Cataract   (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ต้อกระจก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1"/>
            <p:cNvSpPr/>
            <p:nvPr/>
          </p:nvSpPr>
          <p:spPr>
            <a:xfrm>
              <a:off x="2819520" y="1371600"/>
              <a:ext cx="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27"/>
          <p:cNvSpPr/>
          <p:nvPr/>
        </p:nvSpPr>
        <p:spPr>
          <a:xfrm>
            <a:off x="2870280" y="457200"/>
            <a:ext cx="3210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Lacrimal appara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385200" y="1600200"/>
            <a:ext cx="1485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ff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34"/>
          <p:cNvGrpSpPr/>
          <p:nvPr/>
        </p:nvGrpSpPr>
        <p:grpSpPr>
          <a:xfrm>
            <a:off x="490680" y="1523880"/>
            <a:ext cx="5925960" cy="4800600"/>
            <a:chOff x="490680" y="1523880"/>
            <a:chExt cx="5925960" cy="4800600"/>
          </a:xfrm>
        </p:grpSpPr>
        <p:pic>
          <p:nvPicPr>
            <p:cNvPr id="176" name="Picture 1026" descr="C:\My Documents\lecture\orbit\Lacrimal apparatus.f.jpg"/>
            <p:cNvPicPr/>
            <p:nvPr/>
          </p:nvPicPr>
          <p:blipFill>
            <a:blip r:embed="rId1"/>
            <a:stretch/>
          </p:blipFill>
          <p:spPr>
            <a:xfrm>
              <a:off x="2552760" y="1523880"/>
              <a:ext cx="3863880" cy="4800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77" name="Rectangle 1029"/>
            <p:cNvSpPr/>
            <p:nvPr/>
          </p:nvSpPr>
          <p:spPr>
            <a:xfrm>
              <a:off x="490680" y="2590920"/>
              <a:ext cx="2049120" cy="275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ประกอบด้ว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1. Lacrimal g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2. 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canalicu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3. Lacrimal s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4. Naso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33"/>
          <p:cNvGrpSpPr/>
          <p:nvPr/>
        </p:nvGrpSpPr>
        <p:grpSpPr>
          <a:xfrm>
            <a:off x="6591240" y="1523880"/>
            <a:ext cx="2057400" cy="4800600"/>
            <a:chOff x="6591240" y="1523880"/>
            <a:chExt cx="2057400" cy="4800600"/>
          </a:xfrm>
        </p:grpSpPr>
        <p:pic>
          <p:nvPicPr>
            <p:cNvPr id="179" name="Picture 1030" descr="C:\My Documents\lecture\orbit\lacrimal apparatus-Gross1.jpg"/>
            <p:cNvPicPr/>
            <p:nvPr/>
          </p:nvPicPr>
          <p:blipFill>
            <a:blip r:embed="rId2"/>
            <a:stretch/>
          </p:blipFill>
          <p:spPr>
            <a:xfrm>
              <a:off x="6591240" y="3657600"/>
              <a:ext cx="2057400" cy="266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80" name="Picture 1031" descr="C:\My Documents\lecture\orbit\lacrimal apparatus-Gross2.jpg"/>
            <p:cNvPicPr/>
            <p:nvPr/>
          </p:nvPicPr>
          <p:blipFill>
            <a:blip r:embed="rId3"/>
            <a:stretch/>
          </p:blipFill>
          <p:spPr>
            <a:xfrm>
              <a:off x="6591240" y="1523880"/>
              <a:ext cx="2057400" cy="1968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8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351600" y="762120"/>
            <a:ext cx="289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dddddd"/>
                </a:solidFill>
                <a:latin typeface="Comic Sans MS"/>
              </a:rPr>
              <a:t>Ocula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676960" y="1599120"/>
            <a:ext cx="4243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  Extraocular muscles of eye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1  Rect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Medial, 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Superior,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35000" y="3183480"/>
            <a:ext cx="3870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 Intraocula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1  Ciliary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2  Sphincter pupilla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Dilator pupilla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451960" y="4707360"/>
            <a:ext cx="46033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 Muscles of eye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1  Levator pupillae 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2  Palpebrae muscles of Mu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   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(smoo th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2967120" y="304560"/>
            <a:ext cx="3298680" cy="4899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6f000"/>
                </a:solidFill>
                <a:latin typeface="Comic Sans MS"/>
              </a:rPr>
              <a:t>Extraocular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My Documents\lecture\orbit\eye muscle1aff.jpg"/>
          <p:cNvPicPr/>
          <p:nvPr/>
        </p:nvPicPr>
        <p:blipFill>
          <a:blip r:embed="rId1"/>
          <a:stretch/>
        </p:blipFill>
        <p:spPr>
          <a:xfrm>
            <a:off x="609480" y="914400"/>
            <a:ext cx="218772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89" name="Picture 12" descr="C:\My Documents\lecture\orbit\eye muscle.1bff.jpg"/>
          <p:cNvPicPr/>
          <p:nvPr/>
        </p:nvPicPr>
        <p:blipFill>
          <a:blip r:embed="rId2"/>
          <a:stretch/>
        </p:blipFill>
        <p:spPr>
          <a:xfrm>
            <a:off x="638280" y="4292640"/>
            <a:ext cx="2133360" cy="213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0" name="Group 24"/>
          <p:cNvGrpSpPr/>
          <p:nvPr/>
        </p:nvGrpSpPr>
        <p:grpSpPr>
          <a:xfrm>
            <a:off x="1872360" y="914040"/>
            <a:ext cx="4528440" cy="3545280"/>
            <a:chOff x="1872360" y="914040"/>
            <a:chExt cx="4528440" cy="3545280"/>
          </a:xfrm>
        </p:grpSpPr>
        <p:grpSp>
          <p:nvGrpSpPr>
            <p:cNvPr id="191" name="Group 6"/>
            <p:cNvGrpSpPr/>
            <p:nvPr/>
          </p:nvGrpSpPr>
          <p:grpSpPr>
            <a:xfrm>
              <a:off x="2950560" y="914040"/>
              <a:ext cx="3450240" cy="1327680"/>
              <a:chOff x="2950560" y="914040"/>
              <a:chExt cx="3450240" cy="1327680"/>
            </a:xfrm>
          </p:grpSpPr>
          <p:sp>
            <p:nvSpPr>
              <p:cNvPr id="192" name="Text Box 7"/>
              <p:cNvSpPr/>
              <p:nvPr/>
            </p:nvSpPr>
            <p:spPr>
              <a:xfrm>
                <a:off x="2950560" y="914040"/>
                <a:ext cx="340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Levator palpebrae superioris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"/>
              <p:cNvSpPr/>
              <p:nvPr/>
            </p:nvSpPr>
            <p:spPr>
              <a:xfrm>
                <a:off x="3036960" y="1295280"/>
                <a:ext cx="305748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Medial &amp; Lateral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ff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Superior &amp; Inferior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9"/>
              <p:cNvSpPr/>
              <p:nvPr/>
            </p:nvSpPr>
            <p:spPr>
              <a:xfrm>
                <a:off x="2971800" y="1904400"/>
                <a:ext cx="3429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cc99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Superior &amp; Inferior oblique m.</a:t>
                </a:r>
                <a:r>
                  <a:rPr b="0" lang="th-TH" sz="1600" spc="-1" strike="noStrike">
                    <a:solidFill>
                      <a:srgbClr val="0000ff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1"/>
            <p:cNvSpPr/>
            <p:nvPr/>
          </p:nvSpPr>
          <p:spPr>
            <a:xfrm>
              <a:off x="1872360" y="3046320"/>
              <a:ext cx="9669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Comm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tendino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22" descr="C:\WINDOWS\Desktop\lecture\Grant-origin of oc m.jpg"/>
            <p:cNvPicPr/>
            <p:nvPr/>
          </p:nvPicPr>
          <p:blipFill>
            <a:blip r:embed="rId3"/>
            <a:stretch/>
          </p:blipFill>
          <p:spPr>
            <a:xfrm>
              <a:off x="3584520" y="2457360"/>
              <a:ext cx="2130480" cy="2001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97" name="Group 25"/>
          <p:cNvGrpSpPr/>
          <p:nvPr/>
        </p:nvGrpSpPr>
        <p:grpSpPr>
          <a:xfrm>
            <a:off x="3597120" y="990720"/>
            <a:ext cx="4980240" cy="5414760"/>
            <a:chOff x="3597120" y="990720"/>
            <a:chExt cx="4980240" cy="5414760"/>
          </a:xfrm>
        </p:grpSpPr>
        <p:pic>
          <p:nvPicPr>
            <p:cNvPr id="198" name="Picture 11" descr="C:\My Documents\lecture\orbit\eye muscle.1a2f.jpg"/>
            <p:cNvPicPr/>
            <p:nvPr/>
          </p:nvPicPr>
          <p:blipFill>
            <a:blip r:embed="rId4"/>
            <a:stretch/>
          </p:blipFill>
          <p:spPr>
            <a:xfrm>
              <a:off x="6442200" y="990720"/>
              <a:ext cx="2135160" cy="3276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" name="Picture 13" descr="C:\My Documents\lecture\orbit\eye muscle.1b1ff.jpg"/>
            <p:cNvPicPr/>
            <p:nvPr/>
          </p:nvPicPr>
          <p:blipFill>
            <a:blip r:embed="rId5"/>
            <a:stretch/>
          </p:blipFill>
          <p:spPr>
            <a:xfrm>
              <a:off x="6480000" y="4381560"/>
              <a:ext cx="2057400" cy="20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0" name="Picture 23" descr="C:\My Documents\lecture\orbit\common ten ring-gross-ff.jpg"/>
            <p:cNvPicPr/>
            <p:nvPr/>
          </p:nvPicPr>
          <p:blipFill>
            <a:blip r:embed="rId6"/>
            <a:stretch/>
          </p:blipFill>
          <p:spPr>
            <a:xfrm>
              <a:off x="3597120" y="4546440"/>
              <a:ext cx="2117880" cy="1859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01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7" descr="C:\WINDOWS\Desktop\lecture\orbit\Grant10-m.รอบ 3 axisf.jpg"/>
          <p:cNvPicPr/>
          <p:nvPr/>
        </p:nvPicPr>
        <p:blipFill>
          <a:blip r:embed="rId1"/>
          <a:stretch/>
        </p:blipFill>
        <p:spPr>
          <a:xfrm>
            <a:off x="2438280" y="1066680"/>
            <a:ext cx="3886200" cy="34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03" name="Picture 1028" descr="C:\WINDOWS\Desktop\lecture\orbit\action of m.1a.jpg"/>
          <p:cNvPicPr/>
          <p:nvPr/>
        </p:nvPicPr>
        <p:blipFill>
          <a:blip r:embed="rId2"/>
          <a:stretch/>
        </p:blipFill>
        <p:spPr>
          <a:xfrm>
            <a:off x="2438280" y="4562640"/>
            <a:ext cx="3886200" cy="184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04" name="Rectangle 1029"/>
          <p:cNvSpPr/>
          <p:nvPr/>
        </p:nvSpPr>
        <p:spPr>
          <a:xfrm>
            <a:off x="6538320" y="1447920"/>
            <a:ext cx="1553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Vertic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0"/>
          <p:cNvSpPr/>
          <p:nvPr/>
        </p:nvSpPr>
        <p:spPr>
          <a:xfrm>
            <a:off x="6539040" y="2514600"/>
            <a:ext cx="1852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rizon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t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6546960" y="3489480"/>
            <a:ext cx="169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Ant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posterior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2"/>
          <p:cNvSpPr/>
          <p:nvPr/>
        </p:nvSpPr>
        <p:spPr>
          <a:xfrm>
            <a:off x="1569960" y="304920"/>
            <a:ext cx="566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DilleniaUPC"/>
              </a:rPr>
              <a:t>การทำงานของกล้ามเนื้อแต่ละม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WINDOWS\Desktop\lecture\orbit2\Action of muscle.1f.jpg"/>
          <p:cNvPicPr/>
          <p:nvPr/>
        </p:nvPicPr>
        <p:blipFill>
          <a:blip r:embed="rId1"/>
          <a:stretch/>
        </p:blipFill>
        <p:spPr>
          <a:xfrm>
            <a:off x="2281320" y="2317680"/>
            <a:ext cx="455760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10" name="Rectangle 3"/>
          <p:cNvSpPr/>
          <p:nvPr/>
        </p:nvSpPr>
        <p:spPr>
          <a:xfrm>
            <a:off x="3429000" y="243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607840" y="914400"/>
            <a:ext cx="394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Yoke muscle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390960" y="2298600"/>
            <a:ext cx="8361720" cy="900360"/>
            <a:chOff x="390960" y="2298600"/>
            <a:chExt cx="8361720" cy="900360"/>
          </a:xfrm>
        </p:grpSpPr>
        <p:sp>
          <p:nvSpPr>
            <p:cNvPr id="213" name="Rectangle 5"/>
            <p:cNvSpPr/>
            <p:nvPr/>
          </p:nvSpPr>
          <p:spPr>
            <a:xfrm>
              <a:off x="390960" y="229860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. SR &amp; L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096680" y="237492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t. SR &amp; R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326160" y="3429000"/>
            <a:ext cx="8502840" cy="580680"/>
            <a:chOff x="326160" y="3429000"/>
            <a:chExt cx="8502840" cy="580680"/>
          </a:xfrm>
        </p:grpSpPr>
        <p:sp>
          <p:nvSpPr>
            <p:cNvPr id="216" name="Rectangle 6"/>
            <p:cNvSpPr/>
            <p:nvPr/>
          </p:nvSpPr>
          <p:spPr>
            <a:xfrm>
              <a:off x="326160" y="3429000"/>
              <a:ext cx="17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LR &amp; L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6868080" y="3429000"/>
              <a:ext cx="196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 Lt. LR &amp;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380880" y="4186080"/>
            <a:ext cx="8295480" cy="829080"/>
            <a:chOff x="380880" y="4186080"/>
            <a:chExt cx="8295480" cy="829080"/>
          </a:xfrm>
        </p:grpSpPr>
        <p:sp>
          <p:nvSpPr>
            <p:cNvPr id="219" name="Rectangle 7"/>
            <p:cNvSpPr/>
            <p:nvPr/>
          </p:nvSpPr>
          <p:spPr>
            <a:xfrm>
              <a:off x="380880" y="419112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Rt. IR &amp; L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020360" y="418608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Lt. IR &amp; R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978560" y="399960"/>
            <a:ext cx="520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af400"/>
                </a:solidFill>
                <a:latin typeface="Comic Sans MS"/>
              </a:rPr>
              <a:t>Innervation of the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695160" y="1362240"/>
          <a:ext cx="718200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362240"/>
                    <a:ext cx="7182000" cy="469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/>
          <p:cNvSpPr/>
          <p:nvPr/>
        </p:nvSpPr>
        <p:spPr>
          <a:xfrm>
            <a:off x="3862080" y="380880"/>
            <a:ext cx="195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mic Sans MS"/>
              </a:rPr>
              <a:t>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C:\My Documents\lecture\orbit\visual path.diagram.jpg"/>
          <p:cNvPicPr/>
          <p:nvPr/>
        </p:nvPicPr>
        <p:blipFill>
          <a:blip r:embed="rId1"/>
          <a:stretch/>
        </p:blipFill>
        <p:spPr>
          <a:xfrm>
            <a:off x="2529000" y="1066680"/>
            <a:ext cx="3566880" cy="495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28" name="Group 1043"/>
          <p:cNvGrpSpPr/>
          <p:nvPr/>
        </p:nvGrpSpPr>
        <p:grpSpPr>
          <a:xfrm>
            <a:off x="6262560" y="1066680"/>
            <a:ext cx="2043360" cy="4953240"/>
            <a:chOff x="6262560" y="1066680"/>
            <a:chExt cx="2043360" cy="4953240"/>
          </a:xfrm>
        </p:grpSpPr>
        <p:pic>
          <p:nvPicPr>
            <p:cNvPr id="229" name="Picture 1034" descr="C:\My Documents\lecture\orbit\visual path-ant.jpg"/>
            <p:cNvPicPr/>
            <p:nvPr/>
          </p:nvPicPr>
          <p:blipFill>
            <a:blip r:embed="rId2"/>
            <a:stretch/>
          </p:blipFill>
          <p:spPr>
            <a:xfrm>
              <a:off x="6262560" y="1066680"/>
              <a:ext cx="2043360" cy="2362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30" name="Picture 1035" descr="C:\My Documents\lecture\orbit\visual path.post.jpg"/>
            <p:cNvPicPr/>
            <p:nvPr/>
          </p:nvPicPr>
          <p:blipFill>
            <a:blip r:embed="rId3"/>
            <a:stretch/>
          </p:blipFill>
          <p:spPr>
            <a:xfrm>
              <a:off x="6269040" y="3635280"/>
              <a:ext cx="2036880" cy="2384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231" name="Group 1042"/>
          <p:cNvGrpSpPr/>
          <p:nvPr/>
        </p:nvGrpSpPr>
        <p:grpSpPr>
          <a:xfrm>
            <a:off x="533520" y="2408400"/>
            <a:ext cx="3200400" cy="1936080"/>
            <a:chOff x="533520" y="2408400"/>
            <a:chExt cx="3200400" cy="1936080"/>
          </a:xfrm>
        </p:grpSpPr>
        <p:sp>
          <p:nvSpPr>
            <p:cNvPr id="232" name="Line 1030"/>
            <p:cNvSpPr/>
            <p:nvPr/>
          </p:nvSpPr>
          <p:spPr>
            <a:xfrm flipV="1">
              <a:off x="2362320" y="2680920"/>
              <a:ext cx="1152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29"/>
            <p:cNvSpPr/>
            <p:nvPr/>
          </p:nvSpPr>
          <p:spPr>
            <a:xfrm>
              <a:off x="3505320" y="2529000"/>
              <a:ext cx="2286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041"/>
            <p:cNvGrpSpPr/>
            <p:nvPr/>
          </p:nvGrpSpPr>
          <p:grpSpPr>
            <a:xfrm>
              <a:off x="533520" y="2408400"/>
              <a:ext cx="1828800" cy="1936080"/>
              <a:chOff x="533520" y="2408400"/>
              <a:chExt cx="1828800" cy="1936080"/>
            </a:xfrm>
          </p:grpSpPr>
          <p:sp>
            <p:nvSpPr>
              <p:cNvPr id="235" name="Text Box 1028"/>
              <p:cNvSpPr/>
              <p:nvPr/>
            </p:nvSpPr>
            <p:spPr>
              <a:xfrm>
                <a:off x="1606680" y="397620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ffff00"/>
                    </a:solidFill>
                    <a:latin typeface="Arial"/>
                  </a:rPr>
                  <a:t>re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032"/>
              <p:cNvSpPr/>
              <p:nvPr/>
            </p:nvSpPr>
            <p:spPr>
              <a:xfrm>
                <a:off x="533520" y="2408400"/>
                <a:ext cx="914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Ganglion 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Bipol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ccccff"/>
                    </a:solidFill>
                    <a:latin typeface="Arial"/>
                  </a:rPr>
                  <a:t>Rods  Co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036" descr="C:\My Documents\lecture\orbit\visual pathway.retina.jpg"/>
              <p:cNvPicPr/>
              <p:nvPr/>
            </p:nvPicPr>
            <p:blipFill>
              <a:blip r:embed="rId4"/>
              <a:stretch/>
            </p:blipFill>
            <p:spPr>
              <a:xfrm>
                <a:off x="1673280" y="2452680"/>
                <a:ext cx="689040" cy="14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Line 1037"/>
              <p:cNvSpPr/>
              <p:nvPr/>
            </p:nvSpPr>
            <p:spPr>
              <a:xfrm>
                <a:off x="1371600" y="35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038"/>
              <p:cNvSpPr/>
              <p:nvPr/>
            </p:nvSpPr>
            <p:spPr>
              <a:xfrm flipV="1">
                <a:off x="1371600" y="3672000"/>
                <a:ext cx="762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39"/>
              <p:cNvSpPr/>
              <p:nvPr/>
            </p:nvSpPr>
            <p:spPr>
              <a:xfrm flipV="1">
                <a:off x="1371600" y="3033720"/>
                <a:ext cx="5335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40"/>
              <p:cNvSpPr/>
              <p:nvPr/>
            </p:nvSpPr>
            <p:spPr>
              <a:xfrm>
                <a:off x="1371600" y="2605320"/>
                <a:ext cx="5335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304080" y="593640"/>
            <a:ext cx="258408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00cc99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y </a:t>
            </a:r>
            <a:r>
              <a:rPr b="1" lang="th-TH" sz="35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th-TH" sz="35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th-TH" sz="35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WINDOWS\Desktop\lecture\orbit\skull-ant.2.jpg"/>
          <p:cNvPicPr/>
          <p:nvPr/>
        </p:nvPicPr>
        <p:blipFill>
          <a:blip r:embed="rId1"/>
          <a:stretch/>
        </p:blipFill>
        <p:spPr>
          <a:xfrm>
            <a:off x="1600200" y="2057400"/>
            <a:ext cx="233208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Picture 5" descr="C:\WINDOWS\Desktop\lecture\orbit2\Gray-Floor of orbit.final.jpg"/>
          <p:cNvPicPr/>
          <p:nvPr/>
        </p:nvPicPr>
        <p:blipFill>
          <a:blip r:embed="rId2"/>
          <a:stretch/>
        </p:blipFill>
        <p:spPr>
          <a:xfrm>
            <a:off x="4572000" y="2438280"/>
            <a:ext cx="3352680" cy="25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088640" y="380880"/>
            <a:ext cx="7267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Oculomotor, Trochlear and Abducens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(CN. III, IV, and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My Documents\lecture\orbit\ant cranial fossa.2f.jpg"/>
          <p:cNvPicPr/>
          <p:nvPr/>
        </p:nvPicPr>
        <p:blipFill>
          <a:blip r:embed="rId1"/>
          <a:stretch/>
        </p:blipFill>
        <p:spPr>
          <a:xfrm>
            <a:off x="812880" y="3363840"/>
            <a:ext cx="1778040" cy="199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5" name="Picture 5" descr="C:\My Documents\lecture\orbit\CN3-4-6.2 inset-f.jpg"/>
          <p:cNvPicPr/>
          <p:nvPr/>
        </p:nvPicPr>
        <p:blipFill>
          <a:blip r:embed="rId2"/>
          <a:stretch/>
        </p:blipFill>
        <p:spPr>
          <a:xfrm>
            <a:off x="1143000" y="1701720"/>
            <a:ext cx="1077840" cy="12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46" name="Group 7"/>
          <p:cNvGrpSpPr/>
          <p:nvPr/>
        </p:nvGrpSpPr>
        <p:grpSpPr>
          <a:xfrm>
            <a:off x="2971800" y="1752480"/>
            <a:ext cx="5562720" cy="4239360"/>
            <a:chOff x="2971800" y="1752480"/>
            <a:chExt cx="5562720" cy="4239360"/>
          </a:xfrm>
        </p:grpSpPr>
        <p:sp>
          <p:nvSpPr>
            <p:cNvPr id="247" name="Rectangle 3"/>
            <p:cNvSpPr/>
            <p:nvPr/>
          </p:nvSpPr>
          <p:spPr>
            <a:xfrm>
              <a:off x="4070160" y="5562720"/>
              <a:ext cx="339480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Arial"/>
                </a:rPr>
                <a:t>SO4-LR6-all remainings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6" descr="C:\My Documents\lecture\orbit\CN3-4-6.2.jpg"/>
            <p:cNvPicPr/>
            <p:nvPr/>
          </p:nvPicPr>
          <p:blipFill>
            <a:blip r:embed="rId3"/>
            <a:stretch/>
          </p:blipFill>
          <p:spPr>
            <a:xfrm>
              <a:off x="2971800" y="1752480"/>
              <a:ext cx="5562720" cy="3624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4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06040" y="573120"/>
            <a:ext cx="735264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Ophthalmic Division of Trigeminal nerve (CN. V</a:t>
            </a:r>
            <a:r>
              <a:rPr b="0" lang="th-TH" sz="2500" spc="-1" strike="noStrike" baseline="-25000">
                <a:solidFill>
                  <a:srgbClr val="f6f000"/>
                </a:solidFill>
                <a:latin typeface="Comic Sans MS"/>
              </a:rPr>
              <a:t>1</a:t>
            </a: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WINDOWS\Desktop\lecture\Grant-V1-suface.1.jpg"/>
          <p:cNvPicPr/>
          <p:nvPr/>
        </p:nvPicPr>
        <p:blipFill>
          <a:blip r:embed="rId1"/>
          <a:stretch/>
        </p:blipFill>
        <p:spPr>
          <a:xfrm>
            <a:off x="914400" y="1447920"/>
            <a:ext cx="19224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52" name="Group 10"/>
          <p:cNvGrpSpPr/>
          <p:nvPr/>
        </p:nvGrpSpPr>
        <p:grpSpPr>
          <a:xfrm>
            <a:off x="2971800" y="1447920"/>
            <a:ext cx="5105520" cy="4573440"/>
            <a:chOff x="2971800" y="1447920"/>
            <a:chExt cx="5105520" cy="4573440"/>
          </a:xfrm>
        </p:grpSpPr>
        <p:pic>
          <p:nvPicPr>
            <p:cNvPr id="253" name="Picture 2" descr="C:\My Documents\lecture\orbit\CNV-1 f.jpg"/>
            <p:cNvPicPr/>
            <p:nvPr/>
          </p:nvPicPr>
          <p:blipFill>
            <a:blip r:embed="rId2"/>
            <a:stretch/>
          </p:blipFill>
          <p:spPr>
            <a:xfrm>
              <a:off x="2971800" y="1447920"/>
              <a:ext cx="5105520" cy="4573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54" name="Rectangle 5"/>
            <p:cNvSpPr/>
            <p:nvPr/>
          </p:nvSpPr>
          <p:spPr>
            <a:xfrm>
              <a:off x="3276720" y="4343400"/>
              <a:ext cx="1218960" cy="3042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2981160" y="2971800"/>
            <a:ext cx="3848400" cy="533520"/>
            <a:chOff x="2981160" y="2971800"/>
            <a:chExt cx="3848400" cy="533520"/>
          </a:xfrm>
        </p:grpSpPr>
        <p:sp>
          <p:nvSpPr>
            <p:cNvPr id="256" name="Rectangle 6"/>
            <p:cNvSpPr/>
            <p:nvPr/>
          </p:nvSpPr>
          <p:spPr>
            <a:xfrm>
              <a:off x="2981160" y="3200400"/>
              <a:ext cx="99072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4857840" y="3200400"/>
              <a:ext cx="114300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5943600" y="2971800"/>
              <a:ext cx="88596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15600" y="453960"/>
            <a:ext cx="61747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ff00"/>
                </a:solidFill>
                <a:latin typeface="Comic Sans MS"/>
              </a:rPr>
              <a:t>Automomic nerve supply of eye mus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My Documents\lecture\orbit\Pansky-Autonomic I.1f.jpg"/>
          <p:cNvPicPr/>
          <p:nvPr/>
        </p:nvPicPr>
        <p:blipFill>
          <a:blip r:embed="rId1"/>
          <a:stretch/>
        </p:blipFill>
        <p:spPr>
          <a:xfrm>
            <a:off x="1676520" y="1104840"/>
            <a:ext cx="5790960" cy="529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9800" y="544680"/>
            <a:ext cx="638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Comic Sans MS"/>
              </a:rPr>
              <a:t>Automomic nerve supply of lacrimal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My Documents\lecture\orbit\Pansky-Autonomic2.1f.jpg"/>
          <p:cNvPicPr/>
          <p:nvPr/>
        </p:nvPicPr>
        <p:blipFill>
          <a:blip r:embed="rId1"/>
          <a:stretch/>
        </p:blipFill>
        <p:spPr>
          <a:xfrm>
            <a:off x="1447920" y="1328760"/>
            <a:ext cx="6324480" cy="484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My Documents\lecture\orbit\Grant oph v.f.jpg"/>
          <p:cNvPicPr/>
          <p:nvPr/>
        </p:nvPicPr>
        <p:blipFill>
          <a:blip r:embed="rId1"/>
          <a:stretch/>
        </p:blipFill>
        <p:spPr>
          <a:xfrm>
            <a:off x="4724280" y="4114800"/>
            <a:ext cx="3124440" cy="23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67" name="Picture 3" descr="C:\My Documents\lecture\orbit\ophthalmic a2f.jpg"/>
          <p:cNvPicPr/>
          <p:nvPr/>
        </p:nvPicPr>
        <p:blipFill>
          <a:blip r:embed="rId2"/>
          <a:stretch/>
        </p:blipFill>
        <p:spPr>
          <a:xfrm>
            <a:off x="2057400" y="685800"/>
            <a:ext cx="5257800" cy="311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8" name="Rectangle 4"/>
          <p:cNvSpPr/>
          <p:nvPr/>
        </p:nvSpPr>
        <p:spPr>
          <a:xfrm>
            <a:off x="1676520" y="4572000"/>
            <a:ext cx="22096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Blood </a:t>
            </a:r>
            <a:r>
              <a:rPr b="0" lang="th-TH" sz="2400" spc="-1" strike="noStrike">
                <a:solidFill>
                  <a:srgbClr val="0000ff"/>
                </a:solidFill>
                <a:latin typeface="Comic Sans MS"/>
              </a:rPr>
              <a:t>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cc"/>
                </a:solidFill>
                <a:latin typeface="Comic Sans MS"/>
              </a:rPr>
              <a:t>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Rectangle 11"/>
          <p:cNvSpPr/>
          <p:nvPr/>
        </p:nvSpPr>
        <p:spPr>
          <a:xfrm>
            <a:off x="753840" y="5181480"/>
            <a:ext cx="3773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ความหนา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0.5-1.00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มม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, tumor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จา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r sinus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ลุกลามเข้ามาไ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ด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ได้เมื่อมีแรงกระแท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741240" y="762120"/>
            <a:ext cx="7945560" cy="2347920"/>
            <a:chOff x="741240" y="762120"/>
            <a:chExt cx="7945560" cy="2347920"/>
          </a:xfrm>
        </p:grpSpPr>
        <p:sp>
          <p:nvSpPr>
            <p:cNvPr id="68" name="Text Box 5"/>
            <p:cNvSpPr/>
            <p:nvPr/>
          </p:nvSpPr>
          <p:spPr>
            <a:xfrm>
              <a:off x="741240" y="762120"/>
              <a:ext cx="916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ccff"/>
                  </a:solidFill>
                  <a:latin typeface="Arial"/>
                </a:rPr>
                <a:t>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5"/>
            <p:cNvGrpSpPr/>
            <p:nvPr/>
          </p:nvGrpSpPr>
          <p:grpSpPr>
            <a:xfrm>
              <a:off x="2057400" y="1066680"/>
              <a:ext cx="6629400" cy="2043360"/>
              <a:chOff x="2057400" y="1066680"/>
              <a:chExt cx="6629400" cy="2043360"/>
            </a:xfrm>
          </p:grpSpPr>
          <p:pic>
            <p:nvPicPr>
              <p:cNvPr id="70" name="Picture 3" descr="C:\WINDOWS\Desktop\lecture\orbit\orbit-roof.1f.jpg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1066680"/>
                <a:ext cx="3886200" cy="2043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grpSp>
            <p:nvGrpSpPr>
              <p:cNvPr id="71" name="Group 24"/>
              <p:cNvGrpSpPr/>
              <p:nvPr/>
            </p:nvGrpSpPr>
            <p:grpSpPr>
              <a:xfrm>
                <a:off x="2057400" y="1143000"/>
                <a:ext cx="2514600" cy="1371600"/>
                <a:chOff x="2057400" y="1143000"/>
                <a:chExt cx="2514600" cy="1371600"/>
              </a:xfrm>
            </p:grpSpPr>
            <p:grpSp>
              <p:nvGrpSpPr>
                <p:cNvPr id="72" name="Group 23"/>
                <p:cNvGrpSpPr/>
                <p:nvPr/>
              </p:nvGrpSpPr>
              <p:grpSpPr>
                <a:xfrm>
                  <a:off x="2057400" y="1143000"/>
                  <a:ext cx="2514600" cy="837720"/>
                  <a:chOff x="2057400" y="1143000"/>
                  <a:chExt cx="2514600" cy="837720"/>
                </a:xfrm>
              </p:grpSpPr>
              <p:sp>
                <p:nvSpPr>
                  <p:cNvPr id="73" name="Rectangle 7"/>
                  <p:cNvSpPr/>
                  <p:nvPr/>
                </p:nvSpPr>
                <p:spPr>
                  <a:xfrm>
                    <a:off x="2649600" y="1143000"/>
                    <a:ext cx="1922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9900ff"/>
                        </a:solidFill>
                        <a:latin typeface="Arial"/>
                      </a:rPr>
                      <a:t>Orbital plate of fron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4"/>
                  <p:cNvSpPr/>
                  <p:nvPr/>
                </p:nvSpPr>
                <p:spPr>
                  <a:xfrm flipV="1">
                    <a:off x="2057400" y="1371240"/>
                    <a:ext cx="609840" cy="609480"/>
                  </a:xfrm>
                  <a:prstGeom prst="line">
                    <a:avLst/>
                  </a:prstGeom>
                  <a:ln w="2844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2133720" y="1752480"/>
                  <a:ext cx="2164320" cy="762120"/>
                  <a:chOff x="2133720" y="1752480"/>
                  <a:chExt cx="2164320" cy="762120"/>
                </a:xfrm>
              </p:grpSpPr>
              <p:sp>
                <p:nvSpPr>
                  <p:cNvPr id="76" name="Rectangle 12"/>
                  <p:cNvSpPr/>
                  <p:nvPr/>
                </p:nvSpPr>
                <p:spPr>
                  <a:xfrm>
                    <a:off x="3114360" y="1752480"/>
                    <a:ext cx="1183680" cy="520200"/>
                  </a:xfrm>
                  <a:prstGeom prst="rect">
                    <a:avLst/>
                  </a:prstGeom>
                  <a:solidFill>
                    <a:srgbClr val="66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Lesser wing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of sphenoi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15"/>
                  <p:cNvSpPr/>
                  <p:nvPr/>
                </p:nvSpPr>
                <p:spPr>
                  <a:xfrm flipV="1">
                    <a:off x="2133720" y="1981080"/>
                    <a:ext cx="990720" cy="533520"/>
                  </a:xfrm>
                  <a:prstGeom prst="line">
                    <a:avLst/>
                  </a:prstGeom>
                  <a:ln w="2844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8" name="Group 28"/>
          <p:cNvGrpSpPr/>
          <p:nvPr/>
        </p:nvGrpSpPr>
        <p:grpSpPr>
          <a:xfrm>
            <a:off x="752040" y="2895480"/>
            <a:ext cx="7874280" cy="3351240"/>
            <a:chOff x="752040" y="2895480"/>
            <a:chExt cx="7874280" cy="3351240"/>
          </a:xfrm>
        </p:grpSpPr>
        <p:pic>
          <p:nvPicPr>
            <p:cNvPr id="79" name="Picture 2" descr="C:\WINDOWS\Desktop\lecture\orbit\orbit floor.f.jpg"/>
            <p:cNvPicPr/>
            <p:nvPr/>
          </p:nvPicPr>
          <p:blipFill>
            <a:blip r:embed="rId3"/>
            <a:stretch/>
          </p:blipFill>
          <p:spPr>
            <a:xfrm>
              <a:off x="4816440" y="3429000"/>
              <a:ext cx="3809880" cy="2817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0" name="Text Box 6"/>
            <p:cNvSpPr/>
            <p:nvPr/>
          </p:nvSpPr>
          <p:spPr>
            <a:xfrm>
              <a:off x="752040" y="4479840"/>
              <a:ext cx="107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FLO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6"/>
            <p:cNvGrpSpPr/>
            <p:nvPr/>
          </p:nvGrpSpPr>
          <p:grpSpPr>
            <a:xfrm>
              <a:off x="2149560" y="3429000"/>
              <a:ext cx="2445120" cy="459360"/>
              <a:chOff x="2149560" y="3429000"/>
              <a:chExt cx="2445120" cy="45936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144600" y="3581280"/>
                <a:ext cx="1450080" cy="307080"/>
              </a:xfrm>
              <a:prstGeom prst="rect">
                <a:avLst/>
              </a:prstGeom>
              <a:solidFill>
                <a:srgbClr val="ffe2d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663300"/>
                    </a:solidFill>
                    <a:latin typeface="Arial"/>
                  </a:rPr>
                  <a:t>Zygomatic b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"/>
              <p:cNvSpPr/>
              <p:nvPr/>
            </p:nvSpPr>
            <p:spPr>
              <a:xfrm>
                <a:off x="2149560" y="3429000"/>
                <a:ext cx="990360" cy="228600"/>
              </a:xfrm>
              <a:prstGeom prst="line">
                <a:avLst/>
              </a:prstGeom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7"/>
            <p:cNvGrpSpPr/>
            <p:nvPr/>
          </p:nvGrpSpPr>
          <p:grpSpPr>
            <a:xfrm>
              <a:off x="1692360" y="3276720"/>
              <a:ext cx="2821680" cy="1068840"/>
              <a:chOff x="1692360" y="3276720"/>
              <a:chExt cx="2821680" cy="106884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2365920" y="4038480"/>
                <a:ext cx="2148120" cy="307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faf400"/>
                    </a:solidFill>
                    <a:latin typeface="Arial"/>
                  </a:rPr>
                  <a:t>Orbital surface of maxill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1692360" y="3276720"/>
                <a:ext cx="761760" cy="838080"/>
              </a:xfrm>
              <a:prstGeom prst="line">
                <a:avLst/>
              </a:prstGeom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1"/>
            <p:cNvGrpSpPr/>
            <p:nvPr/>
          </p:nvGrpSpPr>
          <p:grpSpPr>
            <a:xfrm>
              <a:off x="2073240" y="2895480"/>
              <a:ext cx="2514600" cy="520200"/>
              <a:chOff x="2073240" y="2895480"/>
              <a:chExt cx="2514600" cy="5202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3176280" y="2895480"/>
                <a:ext cx="141156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rbital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f palat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2073240" y="3047760"/>
                <a:ext cx="1066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Нижний колонтитул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1287360" y="4343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3733920" y="795240"/>
            <a:ext cx="167616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93" name="Group 32"/>
          <p:cNvGrpSpPr/>
          <p:nvPr/>
        </p:nvGrpSpPr>
        <p:grpSpPr>
          <a:xfrm>
            <a:off x="5181480" y="1143000"/>
            <a:ext cx="2819520" cy="4295880"/>
            <a:chOff x="5181480" y="1143000"/>
            <a:chExt cx="2819520" cy="4295880"/>
          </a:xfrm>
        </p:grpSpPr>
        <p:sp>
          <p:nvSpPr>
            <p:cNvPr id="94" name="Rectangle 15"/>
            <p:cNvSpPr/>
            <p:nvPr/>
          </p:nvSpPr>
          <p:spPr>
            <a:xfrm>
              <a:off x="6365520" y="1143000"/>
              <a:ext cx="1154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</a:rPr>
                <a:t>Later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6361560" y="1676520"/>
              <a:ext cx="135108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ff9900"/>
                  </a:solidFill>
                  <a:latin typeface="Arial"/>
                </a:rPr>
                <a:t>Zygomatic 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Greater wing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sphenoid b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5410080" y="1600200"/>
              <a:ext cx="990720" cy="11430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3" descr="C:\WINDOWS\Desktop\lecture\orbit\orbit-lat wall-f.jpg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819520" cy="2619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8" name="Group 30"/>
          <p:cNvGrpSpPr/>
          <p:nvPr/>
        </p:nvGrpSpPr>
        <p:grpSpPr>
          <a:xfrm>
            <a:off x="990720" y="1143000"/>
            <a:ext cx="2971800" cy="4952880"/>
            <a:chOff x="990720" y="1143000"/>
            <a:chExt cx="2971800" cy="4952880"/>
          </a:xfrm>
        </p:grpSpPr>
        <p:sp>
          <p:nvSpPr>
            <p:cNvPr id="99" name="Rectangle 13"/>
            <p:cNvSpPr/>
            <p:nvPr/>
          </p:nvSpPr>
          <p:spPr>
            <a:xfrm>
              <a:off x="1485720" y="1143000"/>
              <a:ext cx="1123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a50021"/>
                  </a:solidFill>
                  <a:latin typeface="Arial"/>
                </a:rPr>
                <a:t>Medi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9"/>
            <p:cNvGrpSpPr/>
            <p:nvPr/>
          </p:nvGrpSpPr>
          <p:grpSpPr>
            <a:xfrm>
              <a:off x="990720" y="1523880"/>
              <a:ext cx="2971800" cy="4572000"/>
              <a:chOff x="990720" y="1523880"/>
              <a:chExt cx="2971800" cy="457200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1031040" y="1752480"/>
                <a:ext cx="207504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Frontal process of maxi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3300"/>
                    </a:solidFill>
                    <a:latin typeface="Arial"/>
                  </a:rPr>
                  <a:t>Lacrimal bone</a:t>
                </a: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9900"/>
                    </a:solidFill>
                    <a:latin typeface="Arial"/>
                  </a:rPr>
                  <a:t>Orbital plate of ethmo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200" spc="-1" strike="noStrike">
                    <a:solidFill>
                      <a:srgbClr val="33cc33"/>
                    </a:solidFill>
                    <a:latin typeface="Arial"/>
                  </a:rPr>
                  <a:t>Body of sphenoid b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22" descr="C:\WINDOWS\Desktop\lecture\orbit\orbit-med wall.1f.jpg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819520"/>
                <a:ext cx="2971800" cy="3276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03" name="Line 27"/>
              <p:cNvSpPr/>
              <p:nvPr/>
            </p:nvSpPr>
            <p:spPr>
              <a:xfrm flipH="1">
                <a:off x="2743200" y="1523880"/>
                <a:ext cx="99072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5760" y="533520"/>
            <a:ext cx="283860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ffccff"/>
                </a:solidFill>
                <a:latin typeface="Comic Sans MS"/>
              </a:rPr>
              <a:t>Orbital open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1376280"/>
          <a:ext cx="583092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6280"/>
                    <a:ext cx="58309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08" name="Picture 4" descr="C:\WINDOWS\Desktop\lecture\orbit\orbit-wall-ant-f.jpg"/>
          <p:cNvPicPr/>
          <p:nvPr/>
        </p:nvPicPr>
        <p:blipFill>
          <a:blip r:embed="rId3"/>
          <a:stretch/>
        </p:blipFill>
        <p:spPr>
          <a:xfrm>
            <a:off x="609480" y="1371600"/>
            <a:ext cx="1905120" cy="16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1238400" y="1438200"/>
            <a:ext cx="152280" cy="152640"/>
          </a:xfrm>
          <a:prstGeom prst="downArrow">
            <a:avLst>
              <a:gd name="adj1" fmla="val 50000"/>
              <a:gd name="adj2" fmla="val 2505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143000" y="1752480"/>
            <a:ext cx="311040" cy="184320"/>
            <a:chOff x="1143000" y="1752480"/>
            <a:chExt cx="311040" cy="184320"/>
          </a:xfrm>
        </p:grpSpPr>
        <p:sp>
          <p:nvSpPr>
            <p:cNvPr id="111" name="Line 7"/>
            <p:cNvSpPr/>
            <p:nvPr/>
          </p:nvSpPr>
          <p:spPr>
            <a:xfrm>
              <a:off x="1301760" y="175248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1143000" y="177804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9"/>
          <p:cNvSpPr/>
          <p:nvPr/>
        </p:nvSpPr>
        <p:spPr>
          <a:xfrm rot="1771200">
            <a:off x="1571400" y="181908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1752120" y="2152800"/>
            <a:ext cx="319680" cy="296640"/>
            <a:chOff x="1752120" y="2152800"/>
            <a:chExt cx="319680" cy="296640"/>
          </a:xfrm>
        </p:grpSpPr>
        <p:sp>
          <p:nvSpPr>
            <p:cNvPr id="115" name="Line 11"/>
            <p:cNvSpPr/>
            <p:nvPr/>
          </p:nvSpPr>
          <p:spPr>
            <a:xfrm flipH="1">
              <a:off x="1752120" y="2152800"/>
              <a:ext cx="2286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1889280" y="2312280"/>
              <a:ext cx="182520" cy="13716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3"/>
          <p:cNvSpPr/>
          <p:nvPr/>
        </p:nvSpPr>
        <p:spPr>
          <a:xfrm flipV="1">
            <a:off x="17524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838080" y="2514240"/>
            <a:ext cx="228600" cy="152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6"/>
          <p:cNvSpPr/>
          <p:nvPr/>
        </p:nvSpPr>
        <p:spPr>
          <a:xfrm>
            <a:off x="3557160" y="228600"/>
            <a:ext cx="232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9900"/>
                </a:solidFill>
                <a:latin typeface="Comic Sans MS"/>
              </a:rPr>
              <a:t>Orbital fascia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27"/>
          <p:cNvSpPr/>
          <p:nvPr/>
        </p:nvSpPr>
        <p:spPr>
          <a:xfrm>
            <a:off x="914400" y="838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fibrous tissue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ที่เชื่อมและรองรั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bital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35"/>
          <p:cNvGrpSpPr/>
          <p:nvPr/>
        </p:nvGrpSpPr>
        <p:grpSpPr>
          <a:xfrm>
            <a:off x="533520" y="1460520"/>
            <a:ext cx="8143920" cy="4854600"/>
            <a:chOff x="533520" y="1460520"/>
            <a:chExt cx="8143920" cy="4854600"/>
          </a:xfrm>
        </p:grpSpPr>
        <p:sp>
          <p:nvSpPr>
            <p:cNvPr id="123" name="Rectangle 1028"/>
            <p:cNvSpPr/>
            <p:nvPr/>
          </p:nvSpPr>
          <p:spPr>
            <a:xfrm>
              <a:off x="1143000" y="1460520"/>
              <a:ext cx="3056040" cy="1630440"/>
            </a:xfrm>
            <a:prstGeom prst="rect">
              <a:avLst/>
            </a:prstGeom>
            <a:solidFill>
              <a:srgbClr val="ffe2d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66"/>
                  </a:solidFill>
                  <a:latin typeface="Arial"/>
                </a:rPr>
                <a:t>1. Periorb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8000"/>
                  </a:solidFill>
                  <a:latin typeface="Arial"/>
                </a:rPr>
                <a:t>2. Orbital sep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ff"/>
                  </a:solidFill>
                  <a:latin typeface="Arial"/>
                </a:rPr>
                <a:t>3. Bulbar  shea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4. Muscular fasci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Check liga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Suspensory ligament of the ey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029" descr="C:\WINDOWS\Desktop\lecture\orbit\M-periorbita above.2f.jpg"/>
            <p:cNvPicPr/>
            <p:nvPr/>
          </p:nvPicPr>
          <p:blipFill>
            <a:blip r:embed="rId1"/>
            <a:stretch/>
          </p:blipFill>
          <p:spPr>
            <a:xfrm>
              <a:off x="3962520" y="3340080"/>
              <a:ext cx="2430360" cy="2971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5" name="Picture 1030" descr="C:\WINDOWS\Desktop\lecture\orbit\M-periorbita.lat.2.jpg"/>
            <p:cNvPicPr/>
            <p:nvPr/>
          </p:nvPicPr>
          <p:blipFill>
            <a:blip r:embed="rId2"/>
            <a:stretch/>
          </p:blipFill>
          <p:spPr>
            <a:xfrm>
              <a:off x="533520" y="3321000"/>
              <a:ext cx="3276360" cy="2989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6" name="Picture 1031" descr="C:\WINDOWS\Desktop\lecture\orbit\orbital septum.2f.jpg"/>
            <p:cNvPicPr/>
            <p:nvPr/>
          </p:nvPicPr>
          <p:blipFill>
            <a:blip r:embed="rId3"/>
            <a:stretch/>
          </p:blipFill>
          <p:spPr>
            <a:xfrm>
              <a:off x="6543720" y="4292640"/>
              <a:ext cx="2133720" cy="202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27" name="Picture 1032" descr="C:\WINDOWS\Desktop\lecture\orbit2\suspensory lig.f.jpg"/>
          <p:cNvPicPr/>
          <p:nvPr/>
        </p:nvPicPr>
        <p:blipFill>
          <a:blip r:embed="rId4"/>
          <a:stretch/>
        </p:blipFill>
        <p:spPr>
          <a:xfrm>
            <a:off x="5105520" y="1430280"/>
            <a:ext cx="2895480" cy="161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214280" y="669960"/>
            <a:ext cx="71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ffff"/>
                </a:solidFill>
                <a:latin typeface="Comic Sans MS"/>
              </a:rPr>
              <a:t>Surface anatomy of eyeball and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WINDOWS\Desktop\lecture\orbit\surface1.f.jpg"/>
          <p:cNvPicPr/>
          <p:nvPr/>
        </p:nvPicPr>
        <p:blipFill>
          <a:blip r:embed="rId1"/>
          <a:stretch/>
        </p:blipFill>
        <p:spPr>
          <a:xfrm>
            <a:off x="4343400" y="1951200"/>
            <a:ext cx="3733920" cy="309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</p:pic>
      <p:grpSp>
        <p:nvGrpSpPr>
          <p:cNvPr id="131" name="Group 6"/>
          <p:cNvGrpSpPr/>
          <p:nvPr/>
        </p:nvGrpSpPr>
        <p:grpSpPr>
          <a:xfrm>
            <a:off x="1295280" y="1954080"/>
            <a:ext cx="2895840" cy="3075120"/>
            <a:chOff x="1295280" y="1954080"/>
            <a:chExt cx="2895840" cy="3075120"/>
          </a:xfrm>
        </p:grpSpPr>
        <p:pic>
          <p:nvPicPr>
            <p:cNvPr id="132" name="Picture 4" descr="C:\WINDOWS\Desktop\lecture\orbit\eye-surface-f.jpg"/>
            <p:cNvPicPr/>
            <p:nvPr/>
          </p:nvPicPr>
          <p:blipFill>
            <a:blip r:embed="rId2"/>
            <a:stretch/>
          </p:blipFill>
          <p:spPr>
            <a:xfrm>
              <a:off x="1295280" y="3317760"/>
              <a:ext cx="2895840" cy="171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  <p:pic>
          <p:nvPicPr>
            <p:cNvPr id="133" name="Picture 5" descr="C:\WINDOWS\Desktop\lecture\orbit2\surface ana4f.jpg"/>
            <p:cNvPicPr/>
            <p:nvPr/>
          </p:nvPicPr>
          <p:blipFill>
            <a:blip r:embed="rId3"/>
            <a:stretch/>
          </p:blipFill>
          <p:spPr>
            <a:xfrm>
              <a:off x="2362320" y="1954080"/>
              <a:ext cx="1828800" cy="1170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752560" y="533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WINDOWS\Desktop\lecture\orbit2\Gray-surface ana-3 races.jpg"/>
          <p:cNvPicPr/>
          <p:nvPr/>
        </p:nvPicPr>
        <p:blipFill>
          <a:blip r:embed="rId1"/>
          <a:stretch/>
        </p:blipFill>
        <p:spPr>
          <a:xfrm>
            <a:off x="1828800" y="2133720"/>
            <a:ext cx="60339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"/>
          <p:cNvGrpSpPr/>
          <p:nvPr/>
        </p:nvGrpSpPr>
        <p:grpSpPr>
          <a:xfrm>
            <a:off x="2062080" y="3936960"/>
            <a:ext cx="5486400" cy="424440"/>
            <a:chOff x="2062080" y="3936960"/>
            <a:chExt cx="5486400" cy="424440"/>
          </a:xfrm>
        </p:grpSpPr>
        <p:sp>
          <p:nvSpPr>
            <p:cNvPr id="138" name="Rectangle 5"/>
            <p:cNvSpPr/>
            <p:nvPr/>
          </p:nvSpPr>
          <p:spPr>
            <a:xfrm>
              <a:off x="206208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Arial"/>
                </a:rPr>
                <a:t>Caucas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354720" y="3936960"/>
              <a:ext cx="1193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e2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Negr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766320" y="2233440"/>
            <a:ext cx="2126880" cy="2569680"/>
            <a:chOff x="3766320" y="2233440"/>
            <a:chExt cx="2126880" cy="2569680"/>
          </a:xfrm>
        </p:grpSpPr>
        <p:sp>
          <p:nvSpPr>
            <p:cNvPr id="141" name="Text Box 11"/>
            <p:cNvSpPr/>
            <p:nvPr/>
          </p:nvSpPr>
          <p:spPr>
            <a:xfrm>
              <a:off x="4069080" y="3949560"/>
              <a:ext cx="14655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af400"/>
                  </a:solidFill>
                  <a:latin typeface="Arial"/>
                </a:rPr>
                <a:t>Mongol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3766320" y="4343400"/>
              <a:ext cx="2126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ff00"/>
                  </a:solidFill>
                  <a:latin typeface="Arial"/>
                </a:rPr>
                <a:t>epicanthic f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3"/>
            <p:cNvSpPr/>
            <p:nvPr/>
          </p:nvSpPr>
          <p:spPr>
            <a:xfrm rot="2611800">
              <a:off x="5364000" y="228564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84200" y="533520"/>
            <a:ext cx="132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99ff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My Documents\lecture\orbit\n1.1-eyelid-f.jpg"/>
          <p:cNvPicPr/>
          <p:nvPr/>
        </p:nvPicPr>
        <p:blipFill>
          <a:blip r:embed="rId1"/>
          <a:stretch/>
        </p:blipFill>
        <p:spPr>
          <a:xfrm>
            <a:off x="1695600" y="1600200"/>
            <a:ext cx="594360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0:30:30Z</dcterms:created>
  <dc:creator>wandee</dc:creator>
  <dc:description/>
  <dc:language>en-US</dc:language>
  <cp:lastModifiedBy>LEGION</cp:lastModifiedBy>
  <dcterms:modified xsi:type="dcterms:W3CDTF">2018-03-12T09:36:05Z</dcterms:modified>
  <cp:revision>51</cp:revision>
  <dc:subject/>
  <dc:title>ไม่มีชื่อเรื่องภาพนิ่ง</dc:title>
</cp:coreProperties>
</file>