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28.jpeg" ContentType="image/jpeg"/>
  <Override PartName="/ppt/media/image27.jpeg" ContentType="image/jpeg"/>
  <Override PartName="/ppt/media/image26.jpeg" ContentType="image/jpeg"/>
  <Override PartName="/ppt/media/image24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9.png" ContentType="image/png"/>
  <Override PartName="/ppt/media/image29.gif" ContentType="image/gif"/>
  <Override PartName="/ppt/media/image5.png" ContentType="image/png"/>
  <Override PartName="/ppt/media/image8.jpeg" ContentType="image/jpeg"/>
  <Override PartName="/ppt/media/image10.jpeg" ContentType="image/jpeg"/>
  <Override PartName="/ppt/media/image11.gif" ContentType="image/gif"/>
  <Override PartName="/ppt/media/image16.jpeg" ContentType="image/jpeg"/>
  <Override PartName="/ppt/media/image13.gif" ContentType="image/gif"/>
  <Override PartName="/ppt/media/image31.jpeg" ContentType="image/jpeg"/>
  <Override PartName="/ppt/media/image2.png" ContentType="image/png"/>
  <Override PartName="/ppt/media/image33.gif" ContentType="image/gif"/>
  <Override PartName="/ppt/media/image6.png" ContentType="image/png"/>
  <Override PartName="/ppt/media/image34.png" ContentType="image/png"/>
  <Override PartName="/ppt/media/image4.png" ContentType="image/png"/>
  <Override PartName="/ppt/media/image30.png" ContentType="image/png"/>
  <Override PartName="/ppt/media/image3.jpeg" ContentType="image/jpeg"/>
  <Override PartName="/ppt/media/image18.jpeg" ContentType="image/jpeg"/>
  <Override PartName="/ppt/media/image15.png" ContentType="image/png"/>
  <Override PartName="/ppt/media/image25.png" ContentType="image/png"/>
  <Override PartName="/ppt/media/image32.gif" ContentType="image/gif"/>
  <Override PartName="/ppt/media/image14.jpeg" ContentType="image/jpeg"/>
  <Override PartName="/ppt/media/image17.png" ContentType="image/png"/>
  <Override PartName="/ppt/media/image19.png" ContentType="image/png"/>
  <Override PartName="/ppt/media/image20.gif" ContentType="image/gif"/>
  <Override PartName="/ppt/media/image21.jpeg" ContentType="image/jpeg"/>
  <Override PartName="/ppt/media/image23.jpeg" ContentType="image/jpe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8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9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Click to move the slide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50B37-2F34-4A64-8192-5362B90145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arization of Light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Basics to Instrument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 less than 100 slid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. Mans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F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arization of Light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Basics to Instrument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 less than 100 slid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. Mans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F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arization at 45º (I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: Polarization states, linear pola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arization at 45º (I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: Polarization states, linear pola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rcular polarization (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 phase difference is = 90º and E0x = E0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n: Ex / E0x = cos    ,   Ey / E0y = sin 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we get the equation of a circl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: Polarization states, circular pola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rcular polarization (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 phase difference is = 90º and E0x = E0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n: Ex / E0x = cos    ,   Ey / E0y = sin 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we get the equation of a circl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: Polarization states, circular pola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rcular polarization (I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: Polarization states, circular pola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rcular polarization (I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: Polarization states, circular pola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rcular polarization (II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: Polarization states, circular pola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rcular polarization (II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: Polarization states, circular pola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rcular polarization (IV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: Polarization states, circular polarization... see it n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rcular polarization (IV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: Polarization states, circular polarization... see it n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liptical pola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: Polarization states, elliptical pola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ear + circular polarization = elliptical pola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liptical pola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: Polarization states, elliptical pola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ear + circular polarization = elliptical pola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polarized ligh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natural ligh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: Polarization states, unpolarized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polarized ligh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natural ligh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: Polarization states, unpolarized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ool Appl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magnetic Wa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tion: http://www.uno.edu/~jsulliva/java/EMWave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: Polarization st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ool Appl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magnetic Wa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tion: http://www.uno.edu/~jsulliva/java/EMWave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: Polarization st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art II: Stokes parameters and Mueller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tokes parameters, Stokes v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tokes parameters for linear and circular pola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tokes parameters and polarization 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ueller matrices, Mueller calcul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Jones formal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: Stokes parameters and Mueller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kes parameters, Stokes v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kes parameters for linear and circular pola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kes parameters and polarization 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eller matrices, Mueller calcul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nes formal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kes parameter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tiny itsy-bitsy little bit of history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69: Bartholinus discovers double refraction in calc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7th – 19th centuries: Huygens, Malus, Brewster, Biot, Fresnel and Arago, Nicol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th century: unsuccessful attempts to describe unpolarized light in terms of amplitu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52: Sir George Gabriel Stokes took a very different approach and discovered that polarization can be described in terms of observables using an experimental 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: Stokes parame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kes parameter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tiny itsy-bitsy little bit of history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69: Bartholinus discovers double refraction in calc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7th – 19th centuries: Huygens, Malus, Brewster, Biot, Fresnel and Arago, Nicol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th century: unsuccessful attempts to describe unpolarized light in terms of amplitu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52: Sir George Gabriel Stokes took a very different approach and discovered that polarization can be described in terms of observables using an experimental 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: Stokes parame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: Different polarization states of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: Stokes parameters, Mueller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 for polari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V: Polarime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V: ESPaD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: Different polarization states of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: Stokes parameters, Mueller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 for polari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V: Polarime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V: ESPaD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kes parameters (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olarization ellipse is only valid at a given instant of time (function of time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get the Stokes parameters, do a time average (integral over time) and a little bit of algebra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: Stokes parame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kes parameters (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olarization ellipse is only valid at a given instant of time (function of time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get the Stokes parameters, do a time average (integral over time) and a little bit of algebra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: Stokes parame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kes parameters (II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cribed in terms of the electric fie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4 Stokes parameters a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: Stokes parame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kes parameters (II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cribed in terms of the electric fie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4 Stokes parameters a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: Stokes parame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kes parameters (III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cribed in geometrical te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: Stokes parame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kes parameters (III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cribed in geometrical te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: Stokes parame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kes v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okes parameters can be arranged in a Stokes vecto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ear pola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rcular pola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lly polarized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ially polarized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polarized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: Stokes parameters, Stokes v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kes v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okes parameters can be arranged in a Stokes vecto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ear pola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rcular pola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lly polarized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ially polarized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polarized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: Stokes parameters, Stokes v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ctorial representation of the Stokes parame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: Stokes parame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ctorial representation of the Stokes parame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: Stokes parame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kes vectors for linearly polarized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HP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VP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45º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45º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: Stokes parameters, exam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kes vectors for linearly polarized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HP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VP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45º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45º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: Stokes parameters, exam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kes vectors for circularly polarized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P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CP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: Stokes parameters, exam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kes vectors for circularly polarized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P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CP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: Stokes parameters, exam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Q,U) to (P,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case of linear polarization (V=0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: Stokes parame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Q,U) to (P,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case of linear polarization (V=0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: Stokes parame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eller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light is represented by Stokes vectors, optical components are then described with Mueller matric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[output light] = [Muller matrix]  [input light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: Stokes parameters, Mueller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eller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light is represented by Stokes vectors, optical components are then described with Mueller matric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[output light] = [Muller matrix]  [input light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: Stokes parameters, Mueller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ueller calculus (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lement 1       Element 2     Element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I’ = M3 M2 M1 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art II: Stokes parameters, Mueller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eller calculus (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ment 1       Element 2     Element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’ = M3 M2 M1 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: Stokes parameters, Mueller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: Different polarization states of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as an electromagnetic wa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hematical and graphical descriptions of pola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ear, circular, elliptical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arized, unpolarized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: Different polarization states of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as an electromagnetic wa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hematical and graphical descriptions of pola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ear, circular, elliptical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arized, unpolarized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ueller calculus (I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ueller matrix M’ of an optical component with Mueller matrix M rotated by an angle 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’ = R(- ) M R()         with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art II: Stokes parameters, Mueller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eller calculus (I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eller matrix M’ of an optical component with Mueller matrix M rotated by an angle 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’ = R(- ) M R()         with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: Stokes parameters, Mueller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nes formal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kes vectors and Mueller matrices cannot describe interference effects. If the phase information is important (radio-astronomy, masers...), one has to use the Jones formalism, with complex vectors and Jones matrice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nes vectors to describe the polarization of ligh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nes matrices to represent optical compon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: Jones formalism can only deal with 100% polarization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: Stokes parameters, Jones formalism, not that important here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nes formal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kes vectors and Mueller matrices cannot describe interference effects. If the phase information is important (radio-astronomy, masers...), one has to use the Jones formalism, with complex vectors and Jones matrice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nes vectors to describe the polarization of ligh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nes matrices to represent optical compon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: Jones formalism can only deal with 100% polarization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: Stokes parameters, Jones formalism, not that important here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 for polari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lex index of ref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ar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tar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 for polari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lex index of ref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ar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tar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lex index of ref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ndex of refraction is actually a complex quantit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l p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cal path length, refraction: speed of light depends on med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refringence: speed of light also depends on 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aginary p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sorption, attenuation, extinction: depends on med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chroism/diattenuation: also depends on 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lex index of ref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ndex of refraction is actually a complex quantit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l p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cal path length, refraction: speed of light depends on med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refringence: speed of light also depends on 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aginary p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sorption, attenuation, extinction: depends on med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chroism/diattenuation: also depends on 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ar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arizers absorb one component of the polarization but not the othe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nput is natural light, the output is polarized light (linear, circular, elliptical). They work by dichroism, birefringence, reflection, or scatter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polar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ar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arizers absorb one component of the polarization but not the othe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nput is natural light, the output is polarized light (linear, circular, elliptical). They work by dichroism, birefringence, reflection, or scatter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polar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re-grid polarizers (I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[dichroism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ly used in the IR and longer wavelengt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id of parallel conducting wires with a spacing comparable to the wavelength of observ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 field vector parallel to the wires is attenuated because of currents induced in the wi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polar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re-grid polarizers (I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[dichroism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ly used in the IR and longer wavelengt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id of parallel conducting wires with a spacing comparable to the wavelength of observ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 field vector parallel to the wires is attenuated because of currents induced in the wi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polar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ide-grid polarizers (II)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[dichroism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art III: Optical components, polar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de-grid polarizers (II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[dichroism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polar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chroic crystal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[dichroism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chroic crystals absorb one polarization state over the other on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 tourmali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polar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chroic crystal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[dichroism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chroic crystals absorb one polarization state over the other on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 tourmali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polar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aroid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[dichroism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de by heating and stretching a sheet of PVA laminated to a supporting sheet of cellulose acetate treated with iodine solution (H-type polaroid). Invented in 1928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polarizers – Polaroids, like in sunglasse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aroid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[dichroism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de by heating and stretching a sheet of PVA laminated to a supporting sheet of cellulose acetate treated with iodine solution (H-type polaroid). Invented in 1928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polarizers – Polaroids, like in sunglasse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ystal polarizers (I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[birefringence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cally anisotropic crystal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chanical model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rystal is anisotropic, which means that the electrons are bound with different ‘springs’ depending on the orien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‘spring constants’ gives different propagation speeds, therefore different indices of refraction, therefore 2 output beam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polar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ystal polarizers (I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[birefringence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cally anisotropic crystal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chanical model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rystal is anisotropic, which means that the electrons are bound with different ‘springs’ depending on the orien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‘spring constants’ gives different propagation speeds, therefore different indices of refraction, therefore 2 output beam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polar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as an electromagnetic wa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is a transverse wave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electromagnetic wa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: Polarization st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as an electromagnetic wa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is a transverse wave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electromagnetic wa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: Polarization st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ystal polarizers (II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[birefringence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2 output beams are polarized (orthogonally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polar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ystal polarizers (II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[birefringence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2 output beams are polarized (orthogonally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polar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rystal polarizers (IV)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[birefringence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rystal polarizers used a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Beam displacers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Beam splitters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olarizers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nalyzers, 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xamples: Nicol prism, Glan-Thomson polarizer, Glan or Glan-Foucault prism, Wollaston prism, Thin-film polarizer, 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art III: Optical components, polar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ystal polarizers (IV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[birefringence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ystal polarizers used a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am displacers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am splitters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arizers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alyzers, 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s: Nicol prism, Glan-Thomson polarizer, Glan or Glan-Foucault prism, Wollaston prism, Thin-film polarizer, 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polar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eller matrices of polarizers (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deal) linear polarizer at angle 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polarizer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eller matrices of polarizers (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deal) linear polarizer at angle 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polarizer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ueller matrices of polarizers (I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inear (±Q) polarizer at 0º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inear (±U) polarizer at 0º 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art III: Optical components, polarizer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ircular (±V) polarizer at 0º 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eller matrices of polarizers (I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ear (±Q) polarizer at 0º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ear (±U) polarizer at 0º 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polarizer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rcular (±V) polarizer at 0º 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eller calculus with a pola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put light: unpolarized --- output light: polariz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tal output intensity: 0.5 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polar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eller calculus with a pola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put light: unpolarized --- output light: polariz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tal output intensity: 0.5 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polar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tar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retarders, one polarization gets ‘retarded’, or delayed, with respect to the other one. There is a final phase difference between the 2 components of the polarization. Therefore, the polarization is chang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retarders are based on birefringent materials (quartz, mica, polymers) that have different indices of refraction depending on the polarization of the incoming ligh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retar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tar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retarders, one polarization gets ‘retarded’, or delayed, with respect to the other one. There is a final phase difference between the 2 components of the polarization. Therefore, the polarization is chang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retarders are based on birefringent materials (quartz, mica, polymers) that have different indices of refraction depending on the polarization of the incoming ligh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retar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lf-Wave plate (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tardation of ½ wave or 180º for one of the polariz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d to flip the linear polarization or change the handedness of circular polariz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retar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lf-Wave plate (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tardation of ½ wave or 180º for one of the polariz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d to flip the linear polarization or change the handedness of circular polariz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retar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alf-Wave plate (I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art III: Optical components, retar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lf-Wave plate (I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retar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rter-Wave plate (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tardation of ¼ wave or 90º for one of the polariz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d to convert linear polarization to elliptical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retar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rter-Wave plate (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tardation of ¼ wave or 90º for one of the polariz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d to convert linear polarization to elliptical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retar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al case: incoming light polarized at 45º with respect to the retarder’s ax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ersion from linear to circular polarization (vice vers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rter-Wave plate (I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retar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al case: incoming light polarized at 45º with respect to the retarder’s ax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ersion from linear to circular polarization (vice vers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rter-Wave plate (I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retar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hematical description of the EM wa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wave that propagates in the z direc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: Polarization st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hematical description of the EM wa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wave that propagates in the z direc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: Polarization st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eller matrix of retarders (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tarder of retardance  and position angle 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retar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eller matrix of retarders (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tarder of retardance  and position angle 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retar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eller matrix of retarders (I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lf-wave oriented at  0º or 90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lf-wave oriented at  ±45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retar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eller matrix of retarders (I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lf-wave oriented at  0º or 90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lf-wave oriented at  ±45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retar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eller matrix of retarders (II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rter-wave oriented at  0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rter-wave oriented at  ±45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retar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eller matrix of retarders (II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rter-wave oriented at  0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rter-wave oriented at  ±45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retar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eller calculus with a reta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put light linear polarized (Q=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rter-wave at +45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put light circularly polarized (V=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retar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eller calculus with a reta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put light linear polarized (Q=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rter-wave at +45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put light circularly polarized (V=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retar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Back to polarizers, briefly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rcular polar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put light: unpolarized   --- Output light: circularly polariz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de of a linear polarizer glued to a quarter-wave plate oriented at 45º with respect to one anot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polar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Back to polarizers, briefly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rcular polar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put light: unpolarized   --- Output light: circularly polariz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de of a linear polarizer glued to a quarter-wave plate oriented at 45º with respect to one anot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polar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hromatic retarders (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tardation depends on waveleng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hromatic retarders: made of 2 different materials with opposite variations of index of refraction as a function of waveleng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ncharatnam achromatic retarders: made of 3 identical plates rotated w/r one an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erachromatic retarders: 3 pairs of quartz and MgF2    pl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retar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hromatic retarders (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tardation depends on waveleng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hromatic retarders: made of 2 different materials with opposite variations of index of refraction as a function of waveleng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ncharatnam achromatic retarders: made of 3 identical plates rotated w/r one an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erachromatic retarders: 3 pairs of quartz and MgF2    pl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retar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hromatic retarders (I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retar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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140-220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very achromatic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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177-183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ch better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hromatic retarders (I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retar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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140-220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very achromatic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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177-183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ch better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tardation on total internal refl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tal internal reflection produces retardation (phase shif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is case, retardation is very achromatic since it only depends on the refractive ind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lication: Fresnel rhom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retar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tardation on total internal refl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tal internal reflection produces retardation (phase shif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is case, retardation is very achromatic since it only depends on the refractive ind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lication: Fresnel rhom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retar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snel rhomb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rter-wave and half-wave rhombs are achieved with 2 or 4 refl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retar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snel rhomb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rter-wave and half-wave rhombs are achieved with 2 or 4 refl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retar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Other retar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oleil-Babinet: variable retardation to better than 0.01 w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Nematic liquid crystals... Liquid crystal variable retarders... Ferroelectric liquid crystals... Piezo-elastic modulators... Pockels and Kerr cells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art III: Optical components, retar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retar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eil-Babinet: variable retardation to better than 0.01 w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matic liquid crystals... Liquid crystal variable retarders... Ferroelectric liquid crystals... Piezo-elastic modulators... Pockels and Kerr cells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retar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phical representation of the EM wave (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can go from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the equation of an ellipse (using trigonometric identities, squaring, adding)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: Polarization st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phical representation of the EM wave (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can go from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the equation of an ellipse (using trigonometric identities, squaring, adding)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: Polarization st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V: Polarime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aroid-type polarime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al-beam polarime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V: Polarime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aroid-type polarime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al-beam polarime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aroid-type polarimete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linear polarimetry (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a linear polarizer (polaroid) to measure linear polarization ... [another cool applet] Location: http://www.colorado.edu/physics/2000/applets/lens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arization percentage and position angle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V: Polarimeters, polaroid-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aroid-type polarimete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linear polarimetry (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a linear polarizer (polaroid) to measure linear polarization ... [another cool applet] Location: http://www.colorado.edu/physics/2000/applets/lens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arization percentage and position angle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V: Polarimeters, polaroid-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aroid-type polarimete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linear polarimetry (I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vantage: very simple to ma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advantage: half of the light is cut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disadvantages: non-simultaneous measurements, cross-talk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ve the polaroid to 2 positions, 0º and 45º (to measure Q, then 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V: Polarimeters, polaroid-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aroid-type polarimete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linear polarimetry (I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vantage: very simple to ma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advantage: half of the light is cut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disadvantages: non-simultaneous measurements, cross-talk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ve the polaroid to 2 positions, 0º and 45º (to measure Q, then 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V: Polarimeters, polaroid-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olaroid-type polarimeter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or circular polari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olaroids are not sensitive to circular polarization, so convert circular polarization to linear first, by using  a quarter-wave pl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olarimeter now uses a quarter-wave plate and a polaro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ame disadvantages as bef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art IV: Polarimeters, polaroid-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aroid-type polarimete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circular polari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aroids are not sensitive to circular polarization, so convert circular polarization to linear first, by using  a quarter-wave pl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arimeter now uses a quarter-wave plate and a polaro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me disadvantages as bef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V: Polarimeters, polaroid-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al-beam polarimeter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inci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stead of cutting out one polarization and keeping the other one (polaroid), split the 2 polarization states and keep them bo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a Wollaston prism as an analy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advantages: need 2 detectors (PMTs, APDs) or an array; end up with 2 ‘pixels’ with different g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ution: rotate the Wollaston or keep it fixed and use a half-wave plate to switch the 2 bea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V: Polarimeters, dual-beam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al-beam polarimeter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inci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stead of cutting out one polarization and keeping the other one (polaroid), split the 2 polarization states and keep them bo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a Wollaston prism as an analy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advantages: need 2 detectors (PMTs, APDs) or an array; end up with 2 ‘pixels’ with different g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ution: rotate the Wollaston or keep it fixed and use a half-wave plate to switch the 2 bea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V: Polarimeters, dual-beam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al-beam polarimeter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witching bea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V: Polarimeters, dual-beam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polarized light: two beams have identical intensities whatever the prism’s position if the 2 pixels have the same g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compensate different gains, switch the 2 beams and average the 2 measur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al-beam polarimeter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witching bea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V: Polarimeters, dual-beam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polarized light: two beams have identical intensities whatever the prism’s position if the 2 pixels have the same g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compensate different gains, switch the 2 beams and average the 2 measur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al-beam polarimeter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witching beams by rotating the pr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V: Polarimeters, dual-beam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al-beam polarimeter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witching beams by rotating the pr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V: Polarimeters, dual-beam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al-beam polarimeter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witching beams using a ½ wave pl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tated by 45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V: Polarimeters, dual-beam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al-beam polarimeter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witching beams using a ½ wave pl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tated by 45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V: Polarimeters, dual-beam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al-beam polarimeter for circular polarization - Wollaston and quarter-wave pl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V: Polarimeters, dual-beam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easurements V/I i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witch the beams to compensate the gain eff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al-beam polarimeter for circular polarization - Wollaston and quarter-wave pl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V: Polarimeters, dual-beam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easurements V/I i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witch the beams to compensate the gain eff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eal circular polarimete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mel, Donati, Rees (199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rter-wave plate, rotated at -45º and +45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alyser: double calcite crys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V: Polarimeters, example of circular polari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eal circular polarimete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mel, Donati, Rees (199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rter-wave plate, rotated at -45º and +45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alyser: double calcite crys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V: Polarimeters, example of circular polari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phical representation of the EM wave (I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ellipse can be represented by 4 quantiti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ze of minor ax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ze of major ax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ientation (ang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se (CW, CCW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can be represented by 4 quantities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: Polarization st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phical representation of the EM wave (I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ellipse can be represented by 4 quantiti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ze of minor ax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ze of major ax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ientation (ang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se (CW, CCW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can be represented by 4 quantities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: Polarization st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eal circular polarimete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e from gain (g) and atmospheric transmission () variation eff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 measurement with quarter-wave plate at -45º, signal in the (r)ight and (l)eft beam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measurement with quarter-wave plate at +45º, signal in the (r)ight and (l)eft beam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surements of the signal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V: Polarimeters, example of circular polari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eal circular polarimete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e from gain (g) and atmospheric transmission () variation eff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 measurement with quarter-wave plate at -45º, signal in the (r)ight and (l)eft beam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measurement with quarter-wave plate at +45º, signal in the (r)ight and (l)eft beam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surements of the signal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V: Polarimeters, example of circular polari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eal circular polarimete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e from gain and atmospheric transmission variation eff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 a ratio of measured signals which is free of gain and variable atmospheric transmission effec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erage of the 2 measur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V: Polarimeters, example of circular polari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eal circular polarimete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e from gain and atmospheric transmission variation eff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 a ratio of measured signals which is free of gain and variable atmospheric transmission effec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erage of the 2 measur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V: Polarimeters, example of circular polari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olarimeters - Summ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 typ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olaroid-type: easy to make but ½ light is lost, and affected by variable atmospheric trans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ual-beam type: no light lost but affected by gain differences and variable transmission probl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inear polarimetry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nalyzer, rota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nalyzer + half-wave pl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ircular polarimetr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nalyzer + quarter-wave pl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 positions minim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1 position minim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art IV: Polarimeters, summ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arimeters - Summ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typ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aroid-type: easy to make but ½ light is lost, and affected by variable atmospheric trans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al-beam type: no light lost but affected by gain differences and variable transmission probl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ear polarimetry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alyzer, rota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alyzer + half-wave pl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rcular polarimetr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alyzer + quarter-wave pl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positions minim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position minim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V: Polarimeters, summ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V: ESPaD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cal components of the polarimeter part 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llaston prism: analyses the polarization and separates the 2 (linear!) orthogonal polarization st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tarders, 3 Fresnel rhomb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half-wave plates to switch the beams aro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rter-wave plate to do circular polarimetry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V: ESPaD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cal components of the polarimeter part 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llaston prism: analyses the polarization and separates the 2 (linear!) orthogonal polarization st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tarders, 3 Fresnel rhomb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half-wave plates to switch the beams aro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rter-wave plate to do circular polarimetry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SPaDOnS: circular polari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ixed quarter-wave rhom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Rotating bottom half-wave, at 22.5º incr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op half-wave rotates continuously at about 1Hz to average out linear polarization when measuring circular pola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art V: ESPaDOnS, circular polarimetry m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PaDOnS: circular polari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ed quarter-wave rhom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tating bottom half-wave, at 22.5º incr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p half-wave rotates continuously at about 1Hz to average out linear polarization when measuring circular pola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V: ESPaDOnS, circular polarimetry m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SPaDOnS: circular polarimetry of circular pola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alf-wa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2.5º posi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lips pola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gain, trans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quarter-wa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ix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ircular to lin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naly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art V: ESPaDOnS, circular polarimetry m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PaDOnS: circular polarimetry of circular pola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lf-wa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2.5º posi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ips pola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in, trans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rter-wa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rcular to lin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aly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V: ESPaDOnS, circular polarimetry m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PaDOnS: circular polarimetry of (unwanted) linear pola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lf-wa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2.5º posi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in, trans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rter-wa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ear to ellipt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aly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rcular part goes through not analyzed and adds same intensities to both bea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ear part is analyzed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 a rotating half-wave to “spread out” the unwanted sig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V: ESPaDOnS, circular polarimetry m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PaDOnS: circular polarimetry of (unwanted) linear pola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lf-wa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2.5º posi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in, trans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rter-wa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ear to ellipt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aly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rcular part goes through not analyzed and adds same intensities to both bea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ear part is analyzed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 a rotating half-wave to “spread out” the unwanted sig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V: ESPaDOnS, circular polarimetry m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PaDOnS: linear polari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lf-Wave rhombs positioned at 22.5º incr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rter-Wave fix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V: ESPaDOnS, linear polari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PaDOnS: linear polari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lf-Wave rhombs positioned at 22.5º incr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rter-Wave fix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V: ESPaDOnS, linear polari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SPaDOnS: linear polari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alf-Wave rhombs positioned as 22.5º incr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irst position gives Q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econd position gives 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witch beams for gain and atmosphere eff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Quarter-Wave fix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art V: ESPaDOnS, linear polari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PaDOnS: linear polari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lf-Wave rhombs positioned as 22.5º incr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 position gives Q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position gives 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witch beams for gain and atmosphere eff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rter-Wave fix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V: ESPaDOnS, linear polari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PaDOnS - Summ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PaDOnS can do linear and circular polarimetry (quarter-wave plat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ams are switched around to do the measurements, compensate for gain and atmospheric eff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snel rhombs are very achroma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V: ESPaDOnS, summ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PaDOnS - Summ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PaDOnS can do linear and circular polarimetry (quarter-wave plat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ams are switched around to do the measurements, compensate for gain and atmospheric eff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snel rhombs are very achroma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V: ESPaDOnS, summ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tically polarized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re is no amplitude in x (E0x = 0), there is only one component, in y (vertica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: Polarization states, linear pola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tically polarized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re is no amplitude in x (E0x = 0), there is only one component, in y (vertica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: Polarization states, linear pola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redits for pictures and mov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hristoph Keller’s home page – his 5 lectures http://www.noao.edu/noao/staff/keller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Basic Polarisation techniques and devices”, Meadowlark Optics Inc. http://www.meadowlark.com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Optics, E. Hecht  and Astronomical Polarimetry, J. Tinberge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lanets, Stars and Nebulae Studied With Photopolarimetry, T. Gehr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ircular polarization movie http://www.optics.arizona.edu/jcwyant/JoseDiaz/Polarization-Circular.ht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Unpolarized light movie http://www.colorado.edu/physics/2000/polarization/polarizationII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Reflection of wave http://www.physicsclassroom.com/mmedia/waves/fix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SPaDOnS web page and docu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dits for pictures and mov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istoph Keller’s home page – his 5 lectures http://www.noao.edu/noao/staff/keller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 Polarisation techniques and devices”, Meadowlark Optics Inc. http://www.meadowlark.com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cs, E. Hecht  and Astronomical Polarimetry, J. Tinberge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ts, Stars and Nebulae Studied With Photopolarimetry, T. Gehr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rcular polarization movie http://www.optics.arizona.edu/jcwyant/JoseDiaz/Polarization-Circular.ht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polarized light movie http://www.colorado.edu/physics/2000/polarization/polarizationII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lection of wave http://www.physicsclassroom.com/mmedia/waves/fix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PaDOnS web page and docu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erences/Further reading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 the W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y short and quick introduction, no equation http://www.cfht.hawaii.edu/~manset/PolarIntro_eng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sy fun page with Applets, on polarizing filters http://www.colorado.edu/physics/2000/polarization/polarizationI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arization short course http://www.glenbrook.k12.il.us/gbssci/phys/Class/light/u12l1e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strumentation for Astrophysical Spectropolarimetry”, a series of 5 lectures given at the IAC Winter School on Astrophysical Spectropolarimetry, November 2000 –http://www.noao.edu/noao/staff/keller/lectures/index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erences/Further reading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 the W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y short and quick introduction, no equation http://www.cfht.hawaii.edu/~manset/PolarIntro_eng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sy fun page with Applets, on polarizing filters http://www.colorado.edu/physics/2000/polarization/polarizationI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arization short course http://www.glenbrook.k12.il.us/gbssci/phys/Class/light/u12l1e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strumentation for Astrophysical Spectropolarimetry”, a series of 5 lectures given at the IAC Winter School on Astrophysical Spectropolarimetry, November 2000 –http://www.noao.edu/noao/staff/keller/lectures/index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erences/Further reading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arization bas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arized Light, D. Goldstein – excellent book, easy read, gives a lot of insight, highly recommend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dergraduate textbooks, either will d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cs, E. Hec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ves, F. S. Crawford, Berkeley Physics Course vol.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erences/Further reading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arization bas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arized Light, D. Goldstein – excellent book, easy read, gives a lot of insight, highly recommend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dergraduate textbooks, either will d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cs, E. Hec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ves, F. S. Crawford, Berkeley Physics Course vol.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References/Further reading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stronomy, easy/intermedi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stronomical Polarimetry, J. Tinbergen – instrumentation-orien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a polarisation de la lumière et l'observation astronomique, J.-L. Leroy – astronomy-orien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lanets, Stars and Nebulae Studied With Photopolarimetry, T. Gehrels – old but clas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3 papers by K. Serkowski – instrumentation-orien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erences/Further reading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tronomy, easy/intermedi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tronomical Polarimetry, J. Tinbergen – instrumentation-orien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 polarisation de la lumière et l'observation astronomique, J.-L. Leroy – astronomy-orien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ts, Stars and Nebulae Studied With Photopolarimetry, T. Gehrels – old but clas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papers by K. Serkowski – instrumentation-orien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References/Further reading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stronomy, advanc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Introduction to Spectropolarimetry, J.C. del Toro Iniesta – radiative transfer – ouch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strophysical Spectropolarimetry, Trujillo-Bueno et al. (eds) – applications to astronom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erences/Further reading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tronomy, advanc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roduction to Spectropolarimetry, J.C. del Toro Iniesta – radiative transfer – ouch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trophysical Spectropolarimetry, Trujillo-Bueno et al. (eds) – applications to astronom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arization at 45º (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re is no phase difference (=0)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0x = E0y, then Ex = 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: Polarization states, linear pola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arization at 45º (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re is no phase difference (=0)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0x = E0y, then Ex = 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: Polarization states, linear pola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67FD1-A409-4BC8-950E-B569E7FFE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8FBCF-04CE-4940-8ED1-F5AC7A7FD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AA016-07AD-4B8B-92DF-395B1A0EE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A4190-6480-4D00-957B-97BCA05E4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14675-2281-4EB8-84F4-2128BA2F2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C2BE4-A5B3-49ED-9879-A3A473E0F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3EEC0-E9AF-444F-A36F-49EA52C2A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B1AB7-DE4A-40A1-832C-1FC55FF1A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A7F47-8758-4B35-AD91-8CA4E57C1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05895-5FE0-404D-A566-ECACCB972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A5A0B-97B0-4773-ABBB-7DDCD0C8F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5963C-CB02-445F-8B5C-8946E1C31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4771E-D340-44FF-8436-BD2CEDDF5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82E06-E12C-45D3-BE48-CD76184F7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C71BF-8339-4735-A833-8E0970681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E30A6-DA0E-4716-B5E9-CCD2F4D57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8C036-BEBF-4791-94C5-0B96C96E5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E5AB9-E7AB-470C-86EF-2A6F6208C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4027A-B8A7-42F7-8110-153B32722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0C568-47CA-4ACB-8AE2-520D9C24C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DE462-37ED-47A9-AC67-2139B906F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7BF6E-7A41-4219-8EB2-A9B2C359D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B08A1-F472-4464-92CE-787C4A1F9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7CEBB-CCC4-48C1-9E6D-2B131C7E6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62C4B-20D6-4719-B9F3-4BBCE6E3947D}" type="slidenum"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8DFFE-85FE-4ACA-BA6C-B23079406C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uno.edu/~jsulliva/java/EMWave.htm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9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hyperlink" Target="http://www.colorado.edu/physics/2000/applets/lens.html" TargetMode="External"/><Relationship Id="rId2" Type="http://schemas.openxmlformats.org/officeDocument/2006/relationships/hyperlink" Target="http://www.colorado.edu/physics/2000/applets/lens.html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32.gif"/><Relationship Id="rId2" Type="http://schemas.openxmlformats.org/officeDocument/2006/relationships/image" Target="../media/image33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hyperlink" Target="http://www.noao.edu/noao/staff/keller/" TargetMode="External"/><Relationship Id="rId2" Type="http://schemas.openxmlformats.org/officeDocument/2006/relationships/hyperlink" Target="http://www.meadowlark.com/" TargetMode="External"/><Relationship Id="rId3" Type="http://schemas.openxmlformats.org/officeDocument/2006/relationships/hyperlink" Target="http://www.optics.arizona.edu/jcwyant/JoseDiaz/Polarization-Circular.htm" TargetMode="External"/><Relationship Id="rId4" Type="http://schemas.openxmlformats.org/officeDocument/2006/relationships/hyperlink" Target="http://www.colorado.edu/physics/2000/polarization/polarizationII.html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hyperlink" Target="http://www.cfht.hawaii.edu/~manset/PolarIntro_eng.html" TargetMode="External"/><Relationship Id="rId2" Type="http://schemas.openxmlformats.org/officeDocument/2006/relationships/hyperlink" Target="http://www.colorado.edu/physics/2000/polarization/polarizationI.html" TargetMode="External"/><Relationship Id="rId3" Type="http://schemas.openxmlformats.org/officeDocument/2006/relationships/hyperlink" Target="http://www.glenbrook.k12.il.us/gbssci/phys/Class/light/u12l1e.html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Polarization of Light:</a:t>
            </a:r>
            <a:br>
              <a:rPr sz="4400"/>
            </a:b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from Basics to Instruments</a:t>
            </a:r>
            <a:br>
              <a:rPr sz="4400"/>
            </a:b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(in less than 100 slides)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895120" y="4876920"/>
            <a:ext cx="2514600" cy="12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. Mans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F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6" descr="C:\Documents and Settings\manset\My Documents\CFHT_AND_SCIENCE\PolarizationOfLight\DoubleRefraction.gif"/>
          <p:cNvPicPr/>
          <p:nvPr/>
        </p:nvPicPr>
        <p:blipFill>
          <a:blip r:embed="rId1"/>
          <a:stretch/>
        </p:blipFill>
        <p:spPr>
          <a:xfrm>
            <a:off x="380880" y="228600"/>
            <a:ext cx="3508560" cy="18288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7" descr="C:\Documents and Settings\manset\My Documents\CFHT_AND_SCIENCE\Espadons\SPIE\Materiel\PolarModule3D_crop.jpg"/>
          <p:cNvPicPr/>
          <p:nvPr/>
        </p:nvPicPr>
        <p:blipFill>
          <a:blip r:embed="rId2"/>
          <a:stretch/>
        </p:blipFill>
        <p:spPr>
          <a:xfrm>
            <a:off x="5715000" y="3733920"/>
            <a:ext cx="2998800" cy="2744640"/>
          </a:xfrm>
          <a:prstGeom prst="rect">
            <a:avLst/>
          </a:prstGeom>
          <a:ln w="0">
            <a:noFill/>
          </a:ln>
        </p:spPr>
      </p:pic>
      <p:sp>
        <p:nvSpPr>
          <p:cNvPr id="93" name="Дата 5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Дата 2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Нижний колонтитул 3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Polarization at 45</a:t>
            </a:r>
            <a:r>
              <a:rPr b="1" lang="en-US" sz="4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º (II)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48" name="Picture 3" descr="C:\Documents and Settings\manset\My Documents\CFHT_AND_SCIENCE\PolarizationOfLight\LinearLight.jpg"/>
          <p:cNvPicPr/>
          <p:nvPr/>
        </p:nvPicPr>
        <p:blipFill>
          <a:blip r:embed="rId1"/>
          <a:stretch/>
        </p:blipFill>
        <p:spPr>
          <a:xfrm>
            <a:off x="2743200" y="1828800"/>
            <a:ext cx="3807000" cy="392904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4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: Polarization states, linear polariz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Дата 3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Нижний колонтитул 4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Circular polarization (I)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9480" y="289548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the phase difference is </a:t>
            </a:r>
            <a:r>
              <a:rPr b="0" lang="en-US" sz="3200" spc="-1" strike="noStrike">
                <a:solidFill>
                  <a:srgbClr val="000000"/>
                </a:solidFill>
                <a:latin typeface="UniversalMath1 BT"/>
                <a:ea typeface="UniversalMath1 BT"/>
              </a:rPr>
              <a:t>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9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 and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E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n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/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cos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,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/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sin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we get the equation of a circ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" name="Object 5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Object 7"/>
              <p:cNvSpPr txBox="1"/>
              <p:nvPr/>
            </p:nvSpPr>
            <p:spPr>
              <a:xfrm>
                <a:off x="2043000" y="4572000"/>
                <a:ext cx="5273640" cy="12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E</m:t>
                                    </m:r>
                                  </m:e>
                                  <m:sub>
                                    <m:r>
                                      <m:t xml:space="preserve">x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E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0x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E</m:t>
                                    </m:r>
                                  </m:e>
                                  <m:sub>
                                    <m:r>
                                      <m:t xml:space="preserve">y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E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0y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Θ</m:t>
                    </m:r>
                    <m:r>
                      <m:t xml:space="preserve">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 si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Θ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Object 10"/>
              <p:cNvSpPr txBox="1"/>
              <p:nvPr/>
            </p:nvSpPr>
            <p:spPr>
              <a:xfrm>
                <a:off x="2590920" y="1828800"/>
                <a:ext cx="3809880" cy="10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E</m:t>
                                </m:r>
                              </m:e>
                            </m:acc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z,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0x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kz-</m:t>
                        </m:r>
                        <m:r>
                          <m:t xml:space="preserve">ωt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E</m:t>
                                </m:r>
                              </m:e>
                            </m:acc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z,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0y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kz-</m:t>
                        </m:r>
                        <m:r>
                          <m:t xml:space="preserve">ωt</m:t>
                        </m:r>
                        <m:r>
                          <m:t xml:space="preserve">+</m:t>
                        </m:r>
                        <m:r>
                          <m:t xml:space="preserve">ε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7" name="Text Box 11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: Polarization states, circular polariz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Дата 3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Нижний колонтитул 4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Circular polarization (II)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Object 5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pic>
        <p:nvPicPr>
          <p:cNvPr id="162" name="Picture 10" descr="C:\Documents and Settings\manset\My Documents\CFHT_AND_SCIENCE\PolarizationOfLight\Circularlypolarized.gif"/>
          <p:cNvPicPr/>
          <p:nvPr/>
        </p:nvPicPr>
        <p:blipFill>
          <a:blip r:embed="rId1"/>
          <a:stretch/>
        </p:blipFill>
        <p:spPr>
          <a:xfrm>
            <a:off x="2114640" y="2257560"/>
            <a:ext cx="4914720" cy="234288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11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: Polarization states, circular polariz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Дата 3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Нижний колонтитул 4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Circular polarization (III)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" name="Object 3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pic>
        <p:nvPicPr>
          <p:cNvPr id="168" name="Picture 5" descr="C:\Documents and Settings\manset\My Documents\CFHT_AND_SCIENCE\PolarizationOfLight\CircularHecht.jpg"/>
          <p:cNvPicPr/>
          <p:nvPr/>
        </p:nvPicPr>
        <p:blipFill>
          <a:blip r:embed="rId1"/>
          <a:stretch/>
        </p:blipFill>
        <p:spPr>
          <a:xfrm>
            <a:off x="2743200" y="2057400"/>
            <a:ext cx="3633840" cy="371304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6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: Polarization states, circular polariz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Дата 3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Нижний колонтитул 4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Circular polarization (IV)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73" name="Picture 4" descr="C:\Documents and Settings\manset\My Documents\CFHT_AND_SCIENCE\PolarizationOfLight\CircularPolMovie.gif"/>
          <p:cNvPicPr/>
          <p:nvPr/>
        </p:nvPicPr>
        <p:blipFill>
          <a:blip r:embed="rId1"/>
          <a:stretch/>
        </p:blipFill>
        <p:spPr>
          <a:xfrm>
            <a:off x="2895480" y="1752480"/>
            <a:ext cx="3292560" cy="414972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: Polarization states, circular polarization... see it now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Дата 3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Нижний колонтитул 4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Elliptical polarization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" name="Object 3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pic>
        <p:nvPicPr>
          <p:cNvPr id="179" name="Picture 5" descr="C:\Documents and Settings\manset\My Documents\CFHT_AND_SCIENCE\PolarizationOfLight\Elliptically polarized.gif"/>
          <p:cNvPicPr/>
          <p:nvPr/>
        </p:nvPicPr>
        <p:blipFill>
          <a:blip r:embed="rId1"/>
          <a:stretch/>
        </p:blipFill>
        <p:spPr>
          <a:xfrm>
            <a:off x="304920" y="2286000"/>
            <a:ext cx="4914720" cy="230832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6" descr="C:\Documents and Settings\manset\My Documents\CFHT_AND_SCIENCE\PolarizationOfLight\Ellipse.gif"/>
          <p:cNvPicPr/>
          <p:nvPr/>
        </p:nvPicPr>
        <p:blipFill>
          <a:blip r:embed="rId2"/>
          <a:stretch/>
        </p:blipFill>
        <p:spPr>
          <a:xfrm>
            <a:off x="5334120" y="2209680"/>
            <a:ext cx="3438360" cy="250200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7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: Polarization states, elliptical polariz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8"/>
          <p:cNvSpPr/>
          <p:nvPr/>
        </p:nvSpPr>
        <p:spPr>
          <a:xfrm>
            <a:off x="1143000" y="510552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ear + circular polarization = elliptical polar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Дата 2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Нижний колонтитул 3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Unpolarized light</a:t>
            </a:r>
            <a:br>
              <a:rPr sz="4400"/>
            </a:b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(natural light)</a:t>
            </a: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86" name="Picture 3" descr="C:\Documents and Settings\manset\My Documents\CFHT_AND_SCIENCE\PolarizationOfLight\UnpolarizedLightMovie.gif"/>
          <p:cNvPicPr/>
          <p:nvPr/>
        </p:nvPicPr>
        <p:blipFill>
          <a:blip r:embed="rId1"/>
          <a:stretch/>
        </p:blipFill>
        <p:spPr>
          <a:xfrm>
            <a:off x="2817720" y="2131920"/>
            <a:ext cx="3508560" cy="259416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4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: Polarization states, unpolarized ligh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Дата 2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Нижний колонтитул 3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A cool Applet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1" name="Text Box 5"/>
          <p:cNvSpPr/>
          <p:nvPr/>
        </p:nvSpPr>
        <p:spPr>
          <a:xfrm>
            <a:off x="2971800" y="320040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hlinkClick r:id="rId1"/>
              </a:rPr>
              <a:t>Electromagnetic W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6"/>
          <p:cNvSpPr/>
          <p:nvPr/>
        </p:nvSpPr>
        <p:spPr>
          <a:xfrm>
            <a:off x="762120" y="533412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tion: http://www.uno.edu/~jsulliva/java/EMWave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7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: Polarization sta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Дата 3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Нижний колонтитул 4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Part II: Stokes parameters and Mueller matrices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okes parameters, Stokes vec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okes parameters for linear and circular pola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okes parameters and polarization 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eller matrices, Mueller calcul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ones formalis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Дата 2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Нижний колонтитул 3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Stokes parameters</a:t>
            </a:r>
            <a:br>
              <a:rPr sz="4400"/>
            </a:b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A tiny itsy-bitsy little bit of history...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1" name="Text Box 3"/>
          <p:cNvSpPr/>
          <p:nvPr/>
        </p:nvSpPr>
        <p:spPr>
          <a:xfrm>
            <a:off x="762120" y="1676520"/>
            <a:ext cx="784836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69: Bartholinus discovers double refraction in calc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19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enturies: Huygens, Malus, Brewster, Biot, Fresnel and Arago, Nicol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entury: unsuccessful attempts to describe unpolarized light in terms of amplitu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852: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ir George Gabriel Stok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ok a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very different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approach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discovered that polarization can be described in terms of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observables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an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experimental defi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5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I: Stokes parame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Дата 3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Нижний колонтитул 4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Introduction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t I: Different polarization states of l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t II: Stokes parameters, Mueller matri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t III: Optical components for polarime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t IV: Polarime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t V: ESPaD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Дата 2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Нижний колонтитул 3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Stokes parameters (I)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6" name="Text Box 3"/>
          <p:cNvSpPr/>
          <p:nvPr/>
        </p:nvSpPr>
        <p:spPr>
          <a:xfrm>
            <a:off x="533520" y="1981080"/>
            <a:ext cx="8076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olarization ellipse is only valid at a given instant of time (function of time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7" name="Object 4"/>
              <p:cNvSpPr txBox="1"/>
              <p:nvPr/>
            </p:nvSpPr>
            <p:spPr>
              <a:xfrm>
                <a:off x="965160" y="2895480"/>
                <a:ext cx="7253280" cy="12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E</m:t>
                                    </m:r>
                                  </m:e>
                                  <m:sub>
                                    <m:r>
                                      <m:t xml:space="preserve">x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E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0x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E</m:t>
                                    </m:r>
                                  </m:e>
                                  <m:sub>
                                    <m:r>
                                      <m:t xml:space="preserve">y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E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0y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f>
                      <m:num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0x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den>
                    </m:f>
                    <m:f>
                      <m:num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0y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 </m:t>
                    </m:r>
                    <m:r>
                      <m:t xml:space="preserve">ε</m:t>
                    </m:r>
                    <m:r>
                      <m:rPr>
                        <m:lit/>
                        <m:nor/>
                      </m:rPr>
                      <m:t xml:space="preserve"> = 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 </m:t>
                    </m:r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8" name="Text Box 5"/>
          <p:cNvSpPr/>
          <p:nvPr/>
        </p:nvSpPr>
        <p:spPr>
          <a:xfrm>
            <a:off x="533520" y="4419720"/>
            <a:ext cx="8076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get the Stokes parameters, do a time average (integral over time) and a little bit of algebra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6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I: Stokes parame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Дата 2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Нижний колонтитул 3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Stokes parameters (II)</a:t>
            </a:r>
            <a:br>
              <a:rPr sz="4400"/>
            </a:b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described in terms of the electric field</a:t>
            </a: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3" name="Object 3"/>
              <p:cNvSpPr txBox="1"/>
              <p:nvPr/>
            </p:nvSpPr>
            <p:spPr>
              <a:xfrm>
                <a:off x="228600" y="1905120"/>
                <a:ext cx="8756640" cy="66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Sup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0x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0y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d>
                      </m:e>
                      <m:sup>
                        <m:r>
                          <m:t xml:space="preserve"> </m:t>
                        </m:r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Sup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0x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sSubSup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0y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d>
                      </m:e>
                      <m:sup>
                        <m:r>
                          <m:t xml:space="preserve"> </m:t>
                        </m:r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0x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0y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 </m:t>
                            </m:r>
                            <m:r>
                              <m:t xml:space="preserve">ε</m:t>
                            </m:r>
                          </m:e>
                        </m:d>
                      </m:e>
                      <m:sup>
                        <m:r>
                          <m:t xml:space="preserve"> </m:t>
                        </m:r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0x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0y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 </m:t>
                            </m:r>
                            <m:r>
                              <m:t xml:space="preserve">ε</m:t>
                            </m:r>
                          </m:e>
                        </m:d>
                      </m:e>
                      <m:sup>
                        <m:r>
                          <m:t xml:space="preserve"> </m:t>
                        </m:r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14" name="Text Box 4"/>
          <p:cNvSpPr/>
          <p:nvPr/>
        </p:nvSpPr>
        <p:spPr>
          <a:xfrm>
            <a:off x="380880" y="3200400"/>
            <a:ext cx="3505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he 4 Stokes parameter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5" name="Object 5"/>
              <p:cNvSpPr txBox="1"/>
              <p:nvPr/>
            </p:nvSpPr>
            <p:spPr>
              <a:xfrm>
                <a:off x="4191120" y="3200400"/>
                <a:ext cx="3714480" cy="240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I</m:t>
                        </m:r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0x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0y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Q </m:t>
                        </m:r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0x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0y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U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0x</m:t>
                            </m:r>
                          </m:sub>
                        </m:sSub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0y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 </m:t>
                        </m:r>
                        <m:r>
                          <m:t xml:space="preserve">ε</m:t>
                        </m:r>
                      </m:e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V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0x</m:t>
                            </m:r>
                          </m:sub>
                        </m:sSub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0y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 </m:t>
                        </m:r>
                        <m:r>
                          <m:t xml:space="preserve">ε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16" name="Rectangle 6"/>
          <p:cNvSpPr/>
          <p:nvPr/>
        </p:nvSpPr>
        <p:spPr>
          <a:xfrm>
            <a:off x="4191120" y="3200400"/>
            <a:ext cx="3733560" cy="243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7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I: Stokes parame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Дата 2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Нижний колонтитул 3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Stokes parameters (III)</a:t>
            </a:r>
            <a:br>
              <a:rPr sz="4400"/>
            </a:b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described in geometrical terms</a:t>
            </a:r>
            <a:endParaRPr b="1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21" name="Picture 3" descr="C:\Documents and Settings\manset\My Documents\CFHT_AND_SCIENCE\PolarizationOfLight\Ellipse.gif"/>
          <p:cNvPicPr/>
          <p:nvPr/>
        </p:nvPicPr>
        <p:blipFill>
          <a:blip r:embed="rId1"/>
          <a:stretch/>
        </p:blipFill>
        <p:spPr>
          <a:xfrm>
            <a:off x="762120" y="2743200"/>
            <a:ext cx="3438360" cy="25020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22" name="Object 4"/>
              <p:cNvSpPr txBox="1"/>
              <p:nvPr/>
            </p:nvSpPr>
            <p:spPr>
              <a:xfrm>
                <a:off x="4495680" y="2895480"/>
                <a:ext cx="3911760" cy="233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I</m:t>
                              </m:r>
                            </m:e>
                          </m:mr>
                          <m:mr>
                            <m:e>
                              <m:r>
                                <m:t xml:space="preserve">Q</m:t>
                              </m:r>
                            </m:e>
                          </m:mr>
                          <m:mr>
                            <m:e>
                              <m:r>
                                <m:t xml:space="preserve">U</m:t>
                              </m:r>
                            </m:e>
                          </m:mr>
                          <m:mr>
                            <m:e>
                              <m:r>
                                <m:t xml:space="preserve">V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p>
                                <m:e>
                                  <m:r>
                                    <m:t xml:space="preserve">a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</m:mr>
                          <m:mr>
                            <m:e>
                              <m:sSup>
                                <m:e>
                                  <m:r>
                                    <m:t xml:space="preserve">a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2</m:t>
                              </m:r>
                              <m:r>
                                <m:t xml:space="preserve">β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2</m:t>
                              </m:r>
                              <m:r>
                                <m:t xml:space="preserve">φ</m:t>
                              </m:r>
                            </m:e>
                          </m:mr>
                          <m:mr>
                            <m:e>
                              <m:sSup>
                                <m:e>
                                  <m:r>
                                    <m:t xml:space="preserve">a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2</m:t>
                              </m:r>
                              <m:r>
                                <m:t xml:space="preserve">β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t xml:space="preserve">2</m:t>
                              </m:r>
                              <m:r>
                                <m:t xml:space="preserve">φ</m:t>
                              </m:r>
                            </m:e>
                          </m:mr>
                          <m:mr>
                            <m:e>
                              <m:sSup>
                                <m:e>
                                  <m:r>
                                    <m:t xml:space="preserve">a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t xml:space="preserve">2</m:t>
                              </m:r>
                              <m:r>
                                <m:t xml:space="preserve">β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23" name="Text Box 5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I: Stokes parame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Дата 2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Нижний колонтитул 3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Stokes vector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7" name="Text Box 3"/>
          <p:cNvSpPr/>
          <p:nvPr/>
        </p:nvSpPr>
        <p:spPr>
          <a:xfrm>
            <a:off x="685800" y="121932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tokes parameters can be arranged in a Stokes vect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8" name="Object 4"/>
              <p:cNvSpPr txBox="1"/>
              <p:nvPr/>
            </p:nvSpPr>
            <p:spPr>
              <a:xfrm>
                <a:off x="1295280" y="1676520"/>
                <a:ext cx="6070680" cy="217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I</m:t>
                              </m:r>
                            </m:e>
                          </m:mr>
                          <m:mr>
                            <m:e>
                              <m:r>
                                <m:t xml:space="preserve">Q</m:t>
                              </m:r>
                            </m:e>
                          </m:mr>
                          <m:mr>
                            <m:e>
                              <m:r>
                                <m:t xml:space="preserve">U</m:t>
                              </m:r>
                            </m:e>
                          </m:mr>
                          <m:mr>
                            <m:e>
                              <m:r>
                                <m:t xml:space="preserve">V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Sup>
                                <m:e>
                                  <m:r>
                                    <m:t xml:space="preserve">E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0x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  <m:r>
                                <m:t xml:space="preserve">+</m:t>
                              </m:r>
                              <m:sSubSup>
                                <m:e>
                                  <m:r>
                                    <m:t xml:space="preserve">E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0y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</m:e>
                          </m:mr>
                          <m:mr>
                            <m:e>
                              <m:sSubSup>
                                <m:e>
                                  <m:r>
                                    <m:t xml:space="preserve">E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0x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  <m:r>
                                <m:t xml:space="preserve">−</m:t>
                              </m:r>
                              <m:sSubSup>
                                <m:e>
                                  <m:r>
                                    <m:t xml:space="preserve">E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0y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</m:e>
                          </m:mr>
                          <m:mr>
                            <m:e>
                              <m:r>
                                <m:t xml:space="preserve">2</m:t>
                              </m:r>
                              <m:sSub>
                                <m:e>
                                  <m:r>
                                    <m:t xml:space="preserve">E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0x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E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0y</m:t>
                                  </m:r>
                                </m:sub>
                              </m:sSub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 </m:t>
                              </m:r>
                              <m:r>
                                <m:t xml:space="preserve">ε</m:t>
                              </m:r>
                            </m:e>
                          </m:mr>
                          <m:mr>
                            <m:e>
                              <m:r>
                                <m:t xml:space="preserve">2</m:t>
                              </m:r>
                              <m:sSub>
                                <m:e>
                                  <m:r>
                                    <m:t xml:space="preserve">E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0x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E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0y</m:t>
                                  </m:r>
                                </m:sub>
                              </m:sSub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t xml:space="preserve"> </m:t>
                              </m:r>
                              <m:r>
                                <m:t xml:space="preserve">ε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intensity</m:t>
                              </m:r>
                            </m:e>
                          </m:mr>
                          <m:mr>
                            <m:e>
                              <m:r>
                                <m:t xml:space="preserve">I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0</m:t>
                                  </m:r>
                                  <m:r>
                                    <m:t xml:space="preserve">°</m:t>
                                  </m:r>
                                </m:e>
                              </m:d>
                              <m:r>
                                <m:t xml:space="preserve">−</m:t>
                              </m:r>
                              <m:r>
                                <m:t xml:space="preserve">I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90</m:t>
                                  </m:r>
                                  <m:r>
                                    <m:t xml:space="preserve">°</m:t>
                                  </m:r>
                                </m:e>
                              </m:d>
                            </m:e>
                          </m:mr>
                          <m:mr>
                            <m:e>
                              <m:r>
                                <m:t xml:space="preserve">I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45</m:t>
                                  </m:r>
                                  <m:r>
                                    <m:t xml:space="preserve">°</m:t>
                                  </m:r>
                                </m:e>
                              </m:d>
                              <m:r>
                                <m:t xml:space="preserve">−</m:t>
                              </m:r>
                              <m:r>
                                <m:t xml:space="preserve">I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35</m:t>
                                  </m:r>
                                  <m:r>
                                    <m:t xml:space="preserve">°</m:t>
                                  </m:r>
                                </m:e>
                              </m:d>
                            </m:e>
                          </m:mr>
                          <m:mr>
                            <m:e>
                              <m:r>
                                <m:t xml:space="preserve">I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RCP</m:t>
                                  </m:r>
                                </m:e>
                              </m:d>
                              <m:r>
                                <m:t xml:space="preserve">−</m:t>
                              </m:r>
                              <m:r>
                                <m:t xml:space="preserve">I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LCP</m:t>
                                  </m:r>
                                </m:e>
                              </m:d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29" name="Text Box 11"/>
          <p:cNvSpPr/>
          <p:nvPr/>
        </p:nvSpPr>
        <p:spPr>
          <a:xfrm>
            <a:off x="1295280" y="4038480"/>
            <a:ext cx="3276720" cy="21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ear polar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rcular polar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lly polarized l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ially polarized l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polarized l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Object 12"/>
              <p:cNvSpPr txBox="1"/>
              <p:nvPr/>
            </p:nvSpPr>
            <p:spPr>
              <a:xfrm>
                <a:off x="4724280" y="4038480"/>
                <a:ext cx="2286000" cy="216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Q</m:t>
                        </m:r>
                        <m:r>
                          <m:t xml:space="preserve">≠</m:t>
                        </m:r>
                        <m:r>
                          <m:rPr>
                            <m:lit/>
                            <m:nor/>
                          </m:rPr>
                          <m:t xml:space="preserve">0, U</m:t>
                        </m:r>
                        <m:r>
                          <m:t xml:space="preserve">≠</m:t>
                        </m:r>
                        <m:r>
                          <m:rPr>
                            <m:lit/>
                            <m:nor/>
                          </m:rPr>
                          <m:t xml:space="preserve">0, V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Q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0, U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0, V</m:t>
                        </m:r>
                        <m:r>
                          <m:t xml:space="preserve">≠</m:t>
                        </m:r>
                        <m:r>
                          <m:t xml:space="preserve">0</m:t>
                        </m:r>
                      </m:e>
                      <m:e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&gt;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r>
                          <m:t xml:space="preserve">Q</m:t>
                        </m:r>
                        <m:r>
                          <m:t xml:space="preserve">=</m:t>
                        </m:r>
                        <m:r>
                          <m:t xml:space="preserve">U</m:t>
                        </m:r>
                        <m:r>
                          <m:t xml:space="preserve">=</m:t>
                        </m:r>
                        <m:r>
                          <m:t xml:space="preserve">V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31" name="Text Box 13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I: Stokes parameters, Stokes vecto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Дата 2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Нижний колонтитул 3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Pictorial representation of the Stokes parameters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35" name="Picture 3" descr="C:\Documents and Settings\manset\My Documents\CFHT_AND_SCIENCE\PolarizationOfLight\PictorialPolarization.jpg"/>
          <p:cNvPicPr/>
          <p:nvPr/>
        </p:nvPicPr>
        <p:blipFill>
          <a:blip r:embed="rId1"/>
          <a:stretch/>
        </p:blipFill>
        <p:spPr>
          <a:xfrm>
            <a:off x="1371600" y="1905120"/>
            <a:ext cx="6580080" cy="3927240"/>
          </a:xfrm>
          <a:prstGeom prst="rect">
            <a:avLst/>
          </a:prstGeom>
          <a:ln w="0">
            <a:noFill/>
          </a:ln>
        </p:spPr>
      </p:pic>
      <p:sp>
        <p:nvSpPr>
          <p:cNvPr id="236" name="Text Box 4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I: Stokes parame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 Box 5"/>
          <p:cNvSpPr/>
          <p:nvPr/>
        </p:nvSpPr>
        <p:spPr>
          <a:xfrm>
            <a:off x="609480" y="32767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8" name="Object 6"/>
              <p:cNvSpPr txBox="1"/>
              <p:nvPr/>
            </p:nvSpPr>
            <p:spPr>
              <a:xfrm>
                <a:off x="609480" y="2971800"/>
                <a:ext cx="895320" cy="19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Δ</m:t>
                        </m:r>
                      </m:num>
                      <m:den>
                        <m:r>
                          <m:t xml:space="preserve">Σ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Дата 2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Нижний колонтитул 3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Stokes vectors for linearly polarized light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2" name="Text Box 3"/>
          <p:cNvSpPr/>
          <p:nvPr/>
        </p:nvSpPr>
        <p:spPr>
          <a:xfrm>
            <a:off x="990720" y="22860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HP l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3" name="Object 4"/>
              <p:cNvSpPr txBox="1"/>
              <p:nvPr/>
            </p:nvSpPr>
            <p:spPr>
              <a:xfrm>
                <a:off x="1066680" y="2819520"/>
                <a:ext cx="990720" cy="30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44" name="Text Box 5"/>
          <p:cNvSpPr/>
          <p:nvPr/>
        </p:nvSpPr>
        <p:spPr>
          <a:xfrm>
            <a:off x="2819520" y="22860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VP l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 Box 6"/>
          <p:cNvSpPr/>
          <p:nvPr/>
        </p:nvSpPr>
        <p:spPr>
          <a:xfrm>
            <a:off x="4876920" y="22860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4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Text Box 7"/>
          <p:cNvSpPr/>
          <p:nvPr/>
        </p:nvSpPr>
        <p:spPr>
          <a:xfrm>
            <a:off x="6858000" y="22860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4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Object 8"/>
              <p:cNvSpPr txBox="1"/>
              <p:nvPr/>
            </p:nvSpPr>
            <p:spPr>
              <a:xfrm>
                <a:off x="2944800" y="2819520"/>
                <a:ext cx="1085760" cy="320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Object 9"/>
              <p:cNvSpPr txBox="1"/>
              <p:nvPr/>
            </p:nvSpPr>
            <p:spPr>
              <a:xfrm>
                <a:off x="5029200" y="2819520"/>
                <a:ext cx="990720" cy="30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Object 10"/>
              <p:cNvSpPr txBox="1"/>
              <p:nvPr/>
            </p:nvSpPr>
            <p:spPr>
              <a:xfrm>
                <a:off x="6972480" y="2895480"/>
                <a:ext cx="1220760" cy="304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50" name="Text Box 11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I: Stokes parameters, examp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Дата 2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Нижний колонтитул 3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Stokes vectors for circularly polarized light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4" name="Text Box 3"/>
          <p:cNvSpPr/>
          <p:nvPr/>
        </p:nvSpPr>
        <p:spPr>
          <a:xfrm>
            <a:off x="2133720" y="22860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CP l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5" name="Object 4"/>
              <p:cNvSpPr txBox="1"/>
              <p:nvPr/>
            </p:nvSpPr>
            <p:spPr>
              <a:xfrm>
                <a:off x="2286000" y="2819520"/>
                <a:ext cx="990720" cy="30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56" name="Text Box 5"/>
          <p:cNvSpPr/>
          <p:nvPr/>
        </p:nvSpPr>
        <p:spPr>
          <a:xfrm>
            <a:off x="5334120" y="22860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CP l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7" name="Object 8"/>
              <p:cNvSpPr txBox="1"/>
              <p:nvPr/>
            </p:nvSpPr>
            <p:spPr>
              <a:xfrm>
                <a:off x="5410080" y="2819520"/>
                <a:ext cx="1030320" cy="320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58" name="Text Box 11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I: Stokes parameters, examp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Дата 2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Нижний колонтитул 3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(Q,U) to (P,</a:t>
            </a:r>
            <a:r>
              <a:rPr b="1" lang="en-US" sz="4400" spc="-1" strike="noStrike">
                <a:solidFill>
                  <a:srgbClr val="000066"/>
                </a:solidFill>
                <a:latin typeface="UniversalMath1 BT"/>
                <a:ea typeface="UniversalMath1 BT"/>
              </a:rPr>
              <a:t></a:t>
            </a: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)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2" name="Text Box 3"/>
          <p:cNvSpPr/>
          <p:nvPr/>
        </p:nvSpPr>
        <p:spPr>
          <a:xfrm>
            <a:off x="990720" y="1600200"/>
            <a:ext cx="58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the case of linear polarization (V=0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3" name="Object 5"/>
              <p:cNvSpPr txBox="1"/>
              <p:nvPr/>
            </p:nvSpPr>
            <p:spPr>
              <a:xfrm>
                <a:off x="2209680" y="2209680"/>
                <a:ext cx="1765440" cy="84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Q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U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num>
                      <m:den>
                        <m:r>
                          <m:t xml:space="preserve">I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" name="Object 6"/>
              <p:cNvSpPr txBox="1"/>
              <p:nvPr/>
            </p:nvSpPr>
            <p:spPr>
              <a:xfrm>
                <a:off x="4876920" y="2286000"/>
                <a:ext cx="1790640" cy="74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arctan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U</m:t>
                            </m:r>
                          </m:num>
                          <m:den>
                            <m:r>
                              <m:t xml:space="preserve">Q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5" name="Object 7"/>
              <p:cNvSpPr txBox="1"/>
              <p:nvPr/>
            </p:nvSpPr>
            <p:spPr>
              <a:xfrm>
                <a:off x="2209680" y="3352680"/>
                <a:ext cx="179712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P cos 2</m:t>
                    </m:r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6" name="Object 8"/>
              <p:cNvSpPr txBox="1"/>
              <p:nvPr/>
            </p:nvSpPr>
            <p:spPr>
              <a:xfrm>
                <a:off x="4724280" y="3352680"/>
                <a:ext cx="182880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P sin 2</m:t>
                    </m:r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67" name="Picture 9" descr="C:\Documents and Settings\manset\My Documents\CFHT_AND_SCIENCE\PolarizationOfLight\PT-QU.gif"/>
          <p:cNvPicPr/>
          <p:nvPr/>
        </p:nvPicPr>
        <p:blipFill>
          <a:blip r:embed="rId1"/>
          <a:stretch/>
        </p:blipFill>
        <p:spPr>
          <a:xfrm>
            <a:off x="1828800" y="3886200"/>
            <a:ext cx="5189400" cy="2378160"/>
          </a:xfrm>
          <a:prstGeom prst="rect">
            <a:avLst/>
          </a:prstGeom>
          <a:ln w="0">
            <a:noFill/>
          </a:ln>
        </p:spPr>
      </p:pic>
      <p:sp>
        <p:nvSpPr>
          <p:cNvPr id="268" name="Rectangle 10"/>
          <p:cNvSpPr/>
          <p:nvPr/>
        </p:nvSpPr>
        <p:spPr>
          <a:xfrm>
            <a:off x="1981080" y="2133720"/>
            <a:ext cx="480060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Rectangle 11"/>
          <p:cNvSpPr/>
          <p:nvPr/>
        </p:nvSpPr>
        <p:spPr>
          <a:xfrm>
            <a:off x="1981080" y="3352680"/>
            <a:ext cx="48006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Text Box 12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I: Stokes parame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Дата 2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Нижний колонтитул 3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Mueller matrices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4" name="Text Box 3"/>
          <p:cNvSpPr/>
          <p:nvPr/>
        </p:nvSpPr>
        <p:spPr>
          <a:xfrm>
            <a:off x="685800" y="2057400"/>
            <a:ext cx="8001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light is represented by Stokes vectors,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optical components are then described with Mueller matric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output light] = [Muller matrix]  [input ligh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5" name="Object 4"/>
              <p:cNvSpPr txBox="1"/>
              <p:nvPr/>
            </p:nvSpPr>
            <p:spPr>
              <a:xfrm>
                <a:off x="1722600" y="3657600"/>
                <a:ext cx="5229000" cy="227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I'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Q'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U'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V'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3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4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3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4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2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3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4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4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42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43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44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I</m:t>
                              </m:r>
                            </m:e>
                          </m:mr>
                          <m:mr>
                            <m:e>
                              <m:r>
                                <m:t xml:space="preserve">Q</m:t>
                              </m:r>
                            </m:e>
                          </m:mr>
                          <m:mr>
                            <m:e>
                              <m:r>
                                <m:t xml:space="preserve">U</m:t>
                              </m:r>
                            </m:e>
                          </m:mr>
                          <m:mr>
                            <m:e>
                              <m:r>
                                <m:t xml:space="preserve">V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76" name="Text Box 5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I: Stokes parameters, Mueller matr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Дата 2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Нижний колонтитул 3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Mueller calculus (I)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0" name="AutoShape 3"/>
          <p:cNvSpPr/>
          <p:nvPr/>
        </p:nvSpPr>
        <p:spPr>
          <a:xfrm>
            <a:off x="1219320" y="2590920"/>
            <a:ext cx="914400" cy="304560"/>
          </a:xfrm>
          <a:prstGeom prst="rightArrow">
            <a:avLst>
              <a:gd name="adj1" fmla="val 50000"/>
              <a:gd name="adj2" fmla="val 75059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AutoShape 4"/>
          <p:cNvSpPr/>
          <p:nvPr/>
        </p:nvSpPr>
        <p:spPr>
          <a:xfrm>
            <a:off x="7315200" y="2590920"/>
            <a:ext cx="914400" cy="304560"/>
          </a:xfrm>
          <a:prstGeom prst="rightArrow">
            <a:avLst>
              <a:gd name="adj1" fmla="val 50000"/>
              <a:gd name="adj2" fmla="val 75059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AutoShape 5"/>
          <p:cNvSpPr/>
          <p:nvPr/>
        </p:nvSpPr>
        <p:spPr>
          <a:xfrm>
            <a:off x="2743200" y="2590920"/>
            <a:ext cx="914400" cy="380880"/>
          </a:xfrm>
          <a:prstGeom prst="parallelogram">
            <a:avLst>
              <a:gd name="adj" fmla="val 60019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Oval 6"/>
          <p:cNvSpPr/>
          <p:nvPr/>
        </p:nvSpPr>
        <p:spPr>
          <a:xfrm>
            <a:off x="4495680" y="2438280"/>
            <a:ext cx="304920" cy="83844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AutoShape 7"/>
          <p:cNvSpPr/>
          <p:nvPr/>
        </p:nvSpPr>
        <p:spPr>
          <a:xfrm>
            <a:off x="5791320" y="2438280"/>
            <a:ext cx="914400" cy="609840"/>
          </a:xfrm>
          <a:prstGeom prst="rtTriangl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Text Box 8"/>
          <p:cNvSpPr/>
          <p:nvPr/>
        </p:nvSpPr>
        <p:spPr>
          <a:xfrm>
            <a:off x="2286000" y="342900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ement 1       Element 2     Eleme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6" name="Object 9"/>
              <p:cNvSpPr txBox="1"/>
              <p:nvPr/>
            </p:nvSpPr>
            <p:spPr>
              <a:xfrm>
                <a:off x="2666880" y="3962520"/>
                <a:ext cx="57168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7" name="Object 10"/>
              <p:cNvSpPr txBox="1"/>
              <p:nvPr/>
            </p:nvSpPr>
            <p:spPr>
              <a:xfrm>
                <a:off x="4479840" y="3962520"/>
                <a:ext cx="60336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" name="Object 11"/>
              <p:cNvSpPr txBox="1"/>
              <p:nvPr/>
            </p:nvSpPr>
            <p:spPr>
              <a:xfrm>
                <a:off x="6080040" y="3946680"/>
                <a:ext cx="60336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89" name="Text Box 13"/>
          <p:cNvSpPr/>
          <p:nvPr/>
        </p:nvSpPr>
        <p:spPr>
          <a:xfrm>
            <a:off x="3276720" y="4876920"/>
            <a:ext cx="274320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8000"/>
                </a:solidFill>
                <a:latin typeface="Times New Roman"/>
              </a:rPr>
              <a:t>I’</a:t>
            </a:r>
            <a:r>
              <a:rPr b="1" lang="en-US" sz="30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3000" spc="-1" strike="noStrike">
                <a:solidFill>
                  <a:srgbClr val="00cc99"/>
                </a:solidFill>
                <a:latin typeface="Times New Roman"/>
              </a:rPr>
              <a:t>M</a:t>
            </a:r>
            <a:r>
              <a:rPr b="1" lang="en-US" sz="3000" spc="-1" strike="noStrike" baseline="-25000">
                <a:solidFill>
                  <a:srgbClr val="00cc99"/>
                </a:solidFill>
                <a:latin typeface="Times New Roman"/>
              </a:rPr>
              <a:t>3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66cc"/>
                </a:solidFill>
                <a:latin typeface="Times New Roman"/>
              </a:rPr>
              <a:t>M</a:t>
            </a:r>
            <a:r>
              <a:rPr b="1" lang="en-US" sz="3000" spc="-1" strike="noStrike" baseline="-25000">
                <a:solidFill>
                  <a:srgbClr val="ff66cc"/>
                </a:solidFill>
                <a:latin typeface="Times New Roman"/>
              </a:rPr>
              <a:t>2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777777"/>
                </a:solidFill>
                <a:latin typeface="Times New Roman"/>
              </a:rPr>
              <a:t>M</a:t>
            </a:r>
            <a:r>
              <a:rPr b="1" lang="en-US" sz="3000" spc="-1" strike="noStrike" baseline="-25000">
                <a:solidFill>
                  <a:srgbClr val="777777"/>
                </a:solidFill>
                <a:latin typeface="Times New Roman"/>
              </a:rPr>
              <a:t>1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ff"/>
                </a:solidFill>
                <a:latin typeface="Times New Roman"/>
              </a:rPr>
              <a:t>I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Rectangle 15"/>
          <p:cNvSpPr/>
          <p:nvPr/>
        </p:nvSpPr>
        <p:spPr>
          <a:xfrm>
            <a:off x="990720" y="2133720"/>
            <a:ext cx="7391160" cy="12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Rectangle 16"/>
          <p:cNvSpPr/>
          <p:nvPr/>
        </p:nvSpPr>
        <p:spPr>
          <a:xfrm>
            <a:off x="3276720" y="4876920"/>
            <a:ext cx="26668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Text Box 17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I: Stokes parameters, Mueller matr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Дата 3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Нижний колонтитул 4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Part I: Different polarization states of light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259056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ght as an electromagnetic wa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thematical and graphical descriptions of pola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near, circular, elliptical l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larized, unpolarized l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Дата 2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Нижний колонтитул 3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Mueller calculus (II)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6" name="Text Box 3"/>
          <p:cNvSpPr/>
          <p:nvPr/>
        </p:nvSpPr>
        <p:spPr>
          <a:xfrm>
            <a:off x="838080" y="1981080"/>
            <a:ext cx="693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eller matrix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an optical component with Mueller matrix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otated by an angle </a:t>
            </a:r>
            <a:r>
              <a:rPr b="0" lang="en-US" sz="2400" spc="-1" strike="noStrike">
                <a:solidFill>
                  <a:srgbClr val="000000"/>
                </a:solidFill>
                <a:latin typeface="UniversalMath1 BT"/>
                <a:ea typeface="UniversalMath1 BT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Text Box 4"/>
          <p:cNvSpPr/>
          <p:nvPr/>
        </p:nvSpPr>
        <p:spPr>
          <a:xfrm>
            <a:off x="2209680" y="312408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’ = R(- </a:t>
            </a:r>
            <a:r>
              <a:rPr b="0" lang="en-US" sz="2400" spc="-1" strike="noStrike">
                <a:solidFill>
                  <a:srgbClr val="000000"/>
                </a:solidFill>
                <a:latin typeface="UniversalMath1 BT"/>
                <a:ea typeface="UniversalMath1 BT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 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UniversalMath1 BT"/>
                <a:ea typeface="UniversalMath1 BT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     wit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8" name="Object 5"/>
              <p:cNvSpPr txBox="1"/>
              <p:nvPr/>
            </p:nvSpPr>
            <p:spPr>
              <a:xfrm>
                <a:off x="2338560" y="3809880"/>
                <a:ext cx="3958920" cy="171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(</m:t>
                    </m:r>
                    <m:r>
                      <m:t xml:space="preserve">α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2</m:t>
                              </m:r>
                              <m:r>
                                <m:t xml:space="preserve">α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t xml:space="preserve">2</m:t>
                              </m:r>
                              <m:r>
                                <m:t xml:space="preserve">α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t xml:space="preserve">2</m:t>
                              </m:r>
                              <m:r>
                                <m:t xml:space="preserve">α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2</m:t>
                              </m:r>
                              <m:r>
                                <m:t xml:space="preserve">α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99" name="Text Box 6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I: Stokes parameters, Mueller matr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Дата 3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Нижний колонтитул 4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Jones formalism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3" name="Text Box 5"/>
          <p:cNvSpPr/>
          <p:nvPr/>
        </p:nvSpPr>
        <p:spPr>
          <a:xfrm>
            <a:off x="685800" y="2057400"/>
            <a:ext cx="8077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kes vectors and Mueller matrices cannot describe interference effects.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f the phase information is importan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radio-astronomy, masers...),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one has to use the Jones formalis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with complex vectors and Jones matric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Text Box 6"/>
          <p:cNvSpPr/>
          <p:nvPr/>
        </p:nvSpPr>
        <p:spPr>
          <a:xfrm>
            <a:off x="685800" y="3581280"/>
            <a:ext cx="396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nes vectors to describe the polarization of ligh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Text Box 7"/>
          <p:cNvSpPr/>
          <p:nvPr/>
        </p:nvSpPr>
        <p:spPr>
          <a:xfrm>
            <a:off x="4800600" y="3581280"/>
            <a:ext cx="3886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nes matrices to represent optical componen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6" name="Object 8"/>
              <p:cNvSpPr txBox="1"/>
              <p:nvPr/>
            </p:nvSpPr>
            <p:spPr>
              <a:xfrm>
                <a:off x="1676520" y="4495680"/>
                <a:ext cx="1523880" cy="88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J</m:t>
                        </m:r>
                      </m:e>
                    </m:acc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E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t xml:space="preserve">x</m:t>
                                  </m:r>
                                </m:sub>
                              </m:sSub>
                              <m:r>
                                <m:t xml:space="preserve">(</m:t>
                              </m:r>
                              <m:r>
                                <m:t xml:space="preserve">t</m:t>
                              </m:r>
                              <m:r>
                                <m:t xml:space="preserve">)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E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t xml:space="preserve">y</m:t>
                                  </m:r>
                                </m:sub>
                              </m:sSub>
                              <m:r>
                                <m:t xml:space="preserve">(</m:t>
                              </m:r>
                              <m:r>
                                <m:t xml:space="preserve">t</m:t>
                              </m:r>
                              <m:r>
                                <m:t xml:space="preserve">)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" name="Object 9"/>
              <p:cNvSpPr txBox="1"/>
              <p:nvPr/>
            </p:nvSpPr>
            <p:spPr>
              <a:xfrm>
                <a:off x="5791320" y="4419720"/>
                <a:ext cx="1701720" cy="95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j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j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j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j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08" name="Text Box 10"/>
          <p:cNvSpPr/>
          <p:nvPr/>
        </p:nvSpPr>
        <p:spPr>
          <a:xfrm>
            <a:off x="685800" y="556272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: Jones formalism can only deal with 100% polarization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Text Box 11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I: Stokes parameters, Jones formalism, not that important here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Дата 3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Нижний колонтитул 4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Part III: Optical components for polarimetry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980720" y="2743200"/>
            <a:ext cx="57150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lex index of refr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lariz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tard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Дата 2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Нижний колонтитул 3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Complex index of refraction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7" name="Text Box 3"/>
          <p:cNvSpPr/>
          <p:nvPr/>
        </p:nvSpPr>
        <p:spPr>
          <a:xfrm>
            <a:off x="685800" y="167652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index of refraction is actually a complex quantit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8" name="Object 4"/>
              <p:cNvSpPr txBox="1"/>
              <p:nvPr/>
            </p:nvSpPr>
            <p:spPr>
              <a:xfrm>
                <a:off x="2921040" y="2209680"/>
                <a:ext cx="2565360" cy="70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ik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19" name="Text Box 5"/>
          <p:cNvSpPr/>
          <p:nvPr/>
        </p:nvSpPr>
        <p:spPr>
          <a:xfrm>
            <a:off x="1143000" y="3352680"/>
            <a:ext cx="320040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l p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path length, refraction: speed of light depends on med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irefringen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speed of light also depends on 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Text Box 6"/>
          <p:cNvSpPr/>
          <p:nvPr/>
        </p:nvSpPr>
        <p:spPr>
          <a:xfrm>
            <a:off x="4952880" y="3352680"/>
            <a:ext cx="358164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aginary p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sorption, attenuation, extinction: depends on med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dichroism/diattenu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also depends on 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Rectangle 7"/>
          <p:cNvSpPr/>
          <p:nvPr/>
        </p:nvSpPr>
        <p:spPr>
          <a:xfrm>
            <a:off x="1066680" y="3352680"/>
            <a:ext cx="335304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Rectangle 8"/>
          <p:cNvSpPr/>
          <p:nvPr/>
        </p:nvSpPr>
        <p:spPr>
          <a:xfrm>
            <a:off x="4876920" y="3352680"/>
            <a:ext cx="358128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Line 10"/>
          <p:cNvSpPr/>
          <p:nvPr/>
        </p:nvSpPr>
        <p:spPr>
          <a:xfrm flipH="1">
            <a:off x="2743200" y="2971800"/>
            <a:ext cx="129528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Line 11"/>
          <p:cNvSpPr/>
          <p:nvPr/>
        </p:nvSpPr>
        <p:spPr>
          <a:xfrm>
            <a:off x="5257800" y="2971800"/>
            <a:ext cx="121932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AutoShape 13"/>
          <p:cNvSpPr/>
          <p:nvPr/>
        </p:nvSpPr>
        <p:spPr>
          <a:xfrm rot="16243800">
            <a:off x="4038480" y="2666520"/>
            <a:ext cx="304920" cy="457200"/>
          </a:xfrm>
          <a:custGeom>
            <a:avLst/>
            <a:gdLst>
              <a:gd name="textAreaLeft" fmla="*/ 194760 w 304920"/>
              <a:gd name="textAreaRight" fmla="*/ 305280 w 3049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AutoShape 14"/>
          <p:cNvSpPr/>
          <p:nvPr/>
        </p:nvSpPr>
        <p:spPr>
          <a:xfrm rot="16243800">
            <a:off x="4952880" y="2666520"/>
            <a:ext cx="304920" cy="457200"/>
          </a:xfrm>
          <a:custGeom>
            <a:avLst/>
            <a:gdLst>
              <a:gd name="textAreaLeft" fmla="*/ 194760 w 304920"/>
              <a:gd name="textAreaRight" fmla="*/ 305280 w 3049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Text Box 15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II: Optical compon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Дата 2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Нижний колонтитул 3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Polarizers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1" name="Text Box 3"/>
          <p:cNvSpPr/>
          <p:nvPr/>
        </p:nvSpPr>
        <p:spPr>
          <a:xfrm>
            <a:off x="762120" y="1981080"/>
            <a:ext cx="792468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Polarizers absorb one component of the polarization but not the other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input is natural light, the output is polarized light (linear, circular, elliptical). They work by dichroism, birefringence, reflection, or scatter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Text Box 4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II: Optical components, polariz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Дата 3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Нижний колонтитул 4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Wire-grid polarizers (I)</a:t>
            </a:r>
            <a:br>
              <a:rPr sz="4400"/>
            </a:b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[dichroism]</a:t>
            </a: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inly used in the IR and longer wavelength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id of parallel conducting wires with a spacing comparable to the wavelength of observ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ectric field vector parallel to the wires is attenuated because of currents induced in the wi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Text Box 4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II: Optical components, polariz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Дата 2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Нижний колонтитул 3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Wide-grid polarizers (II)</a:t>
            </a:r>
            <a:br>
              <a:rPr sz="4400"/>
            </a:b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[dichroism]</a:t>
            </a: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341" name="Picture 3" descr="C:\Documents and Settings\manset\My Documents\CFHT_AND_SCIENCE\PolarizationOfLight\WireGrid.jpg"/>
          <p:cNvPicPr/>
          <p:nvPr/>
        </p:nvPicPr>
        <p:blipFill>
          <a:blip r:embed="rId1"/>
          <a:stretch/>
        </p:blipFill>
        <p:spPr>
          <a:xfrm>
            <a:off x="685800" y="2895480"/>
            <a:ext cx="4343400" cy="261144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4" descr="C:\Documents and Settings\manset\My Documents\CFHT_AND_SCIENCE\PolarizationOfLight\WireGridImage.gif"/>
          <p:cNvPicPr/>
          <p:nvPr/>
        </p:nvPicPr>
        <p:blipFill>
          <a:blip r:embed="rId2"/>
          <a:stretch/>
        </p:blipFill>
        <p:spPr>
          <a:xfrm>
            <a:off x="5486400" y="2438280"/>
            <a:ext cx="2308320" cy="1657440"/>
          </a:xfrm>
          <a:prstGeom prst="rect">
            <a:avLst/>
          </a:prstGeom>
          <a:ln w="0">
            <a:noFill/>
          </a:ln>
        </p:spPr>
      </p:pic>
      <p:sp>
        <p:nvSpPr>
          <p:cNvPr id="343" name="Text Box 5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II: Optical components, polariz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Дата 2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Нижний колонтитул 3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Dichroic crystals</a:t>
            </a:r>
            <a:br>
              <a:rPr sz="4400"/>
            </a:b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[dichroism]</a:t>
            </a: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7" name="Text Box 3"/>
          <p:cNvSpPr/>
          <p:nvPr/>
        </p:nvSpPr>
        <p:spPr>
          <a:xfrm>
            <a:off x="914400" y="3200400"/>
            <a:ext cx="419112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chroic crystals absorb one polarization state over the other on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: tourmal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8" name="Picture 4" descr="C:\Documents and Settings\manset\My Documents\CFHT_AND_SCIENCE\PolarizationOfLight\DichroicCrystal.jpg"/>
          <p:cNvPicPr/>
          <p:nvPr/>
        </p:nvPicPr>
        <p:blipFill>
          <a:blip r:embed="rId1"/>
          <a:stretch/>
        </p:blipFill>
        <p:spPr>
          <a:xfrm>
            <a:off x="5181480" y="2514600"/>
            <a:ext cx="3097440" cy="3054240"/>
          </a:xfrm>
          <a:prstGeom prst="rect">
            <a:avLst/>
          </a:prstGeom>
          <a:ln w="0">
            <a:noFill/>
          </a:ln>
        </p:spPr>
      </p:pic>
      <p:sp>
        <p:nvSpPr>
          <p:cNvPr id="349" name="Text Box 5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II: Optical components, polariz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Дата 2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Нижний колонтитул 3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Polaroids</a:t>
            </a:r>
            <a:br>
              <a:rPr sz="4400"/>
            </a:b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[dichroism]</a:t>
            </a: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3" name="Text Box 3"/>
          <p:cNvSpPr/>
          <p:nvPr/>
        </p:nvSpPr>
        <p:spPr>
          <a:xfrm>
            <a:off x="838080" y="190512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de by heating and stretching a sheet of PVA laminated to a supporting sheet of cellulose acetate treated with iodine solution (H-type polaroid). Invented in 1928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4" name="Picture 4" descr="C:\Documents and Settings\manset\My Documents\CFHT_AND_SCIENCE\PolarizationOfLight\Polaroid.gif"/>
          <p:cNvPicPr/>
          <p:nvPr/>
        </p:nvPicPr>
        <p:blipFill>
          <a:blip r:embed="rId1"/>
          <a:stretch/>
        </p:blipFill>
        <p:spPr>
          <a:xfrm>
            <a:off x="2362320" y="3809880"/>
            <a:ext cx="4435200" cy="1863720"/>
          </a:xfrm>
          <a:prstGeom prst="rect">
            <a:avLst/>
          </a:prstGeom>
          <a:ln w="0">
            <a:noFill/>
          </a:ln>
        </p:spPr>
      </p:pic>
      <p:sp>
        <p:nvSpPr>
          <p:cNvPr id="355" name="Text Box 5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II: Optical components, polarizers – Polaroids, like in sunglasses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6" name="Picture 6" descr="C:\Documents and Settings\manset\My Documents\My Pictures\animated-sunglasses.gif"/>
          <p:cNvPicPr/>
          <p:nvPr/>
        </p:nvPicPr>
        <p:blipFill>
          <a:blip r:embed="rId2"/>
          <a:stretch/>
        </p:blipFill>
        <p:spPr>
          <a:xfrm>
            <a:off x="6248520" y="152280"/>
            <a:ext cx="914400" cy="49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Дата 3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Нижний колонтитул 4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Crystal polarizers (I)</a:t>
            </a:r>
            <a:br>
              <a:rPr sz="4400"/>
            </a:b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[birefringence]</a:t>
            </a: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0" name="Text Box 5"/>
          <p:cNvSpPr/>
          <p:nvPr/>
        </p:nvSpPr>
        <p:spPr>
          <a:xfrm>
            <a:off x="228600" y="1981080"/>
            <a:ext cx="6324480" cy="38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cally anisotropic crystal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chanical mod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rystal is anisotropic, which means that the electrons are bound with different ‘springs’ depending on the ori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t ‘spring constants’ gives different propagation speeds, therefore different indices of refraction, therefore 2 output beam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1" name="Picture 7" descr="C:\Documents and Settings\manset\My Documents\CFHT_AND_SCIENCE\PolarizationOfLight\ElectronSpring.jpg"/>
          <p:cNvPicPr/>
          <p:nvPr/>
        </p:nvPicPr>
        <p:blipFill>
          <a:blip r:embed="rId1"/>
          <a:stretch/>
        </p:blipFill>
        <p:spPr>
          <a:xfrm>
            <a:off x="6540480" y="2971800"/>
            <a:ext cx="2603520" cy="2365200"/>
          </a:xfrm>
          <a:prstGeom prst="rect">
            <a:avLst/>
          </a:prstGeom>
          <a:ln w="0">
            <a:noFill/>
          </a:ln>
        </p:spPr>
      </p:pic>
      <p:sp>
        <p:nvSpPr>
          <p:cNvPr id="362" name="Text Box 8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II: Optical components, polariz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Дата 3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Нижний колонтитул 4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Light as an electromagnetic wave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ght is a transverse wave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electro</a:t>
            </a:r>
            <a:r>
              <a:rPr b="0" lang="en-US" sz="3200" spc="-1" strike="noStrike">
                <a:solidFill>
                  <a:srgbClr val="66ff33"/>
                </a:solidFill>
                <a:latin typeface="Times New Roman"/>
              </a:rPr>
              <a:t>magneti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wa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Picture 4" descr="C:\Documents and Settings\manset\My Documents\CFHT_AND_SCIENCE\PolarizationOfLight\ElectroMagneticWave.gif"/>
          <p:cNvPicPr/>
          <p:nvPr/>
        </p:nvPicPr>
        <p:blipFill>
          <a:blip r:embed="rId1"/>
          <a:stretch/>
        </p:blipFill>
        <p:spPr>
          <a:xfrm>
            <a:off x="2819520" y="3733920"/>
            <a:ext cx="3336840" cy="193176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5"/>
          <p:cNvSpPr/>
          <p:nvPr/>
        </p:nvSpPr>
        <p:spPr>
          <a:xfrm>
            <a:off x="685800" y="2362320"/>
            <a:ext cx="7772400" cy="3809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: Polarization sta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Дата 2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Нижний колонтитул 3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Crystal polarizers (II)</a:t>
            </a:r>
            <a:br>
              <a:rPr sz="4400"/>
            </a:b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[birefringence]</a:t>
            </a: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6" name="Text Box 6"/>
          <p:cNvSpPr/>
          <p:nvPr/>
        </p:nvSpPr>
        <p:spPr>
          <a:xfrm>
            <a:off x="1676520" y="5257800"/>
            <a:ext cx="624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2 output beams are polarized (orthogonally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7" name="Group 11"/>
          <p:cNvGrpSpPr/>
          <p:nvPr/>
        </p:nvGrpSpPr>
        <p:grpSpPr>
          <a:xfrm>
            <a:off x="1295280" y="3048120"/>
            <a:ext cx="7010640" cy="1828800"/>
            <a:chOff x="1295280" y="3048120"/>
            <a:chExt cx="7010640" cy="1828800"/>
          </a:xfrm>
        </p:grpSpPr>
        <p:pic>
          <p:nvPicPr>
            <p:cNvPr id="368" name="Picture 5" descr="C:\Documents and Settings\manset\My Documents\CFHT_AND_SCIENCE\PolarizationOfLight\DoubleRefraction.gif"/>
            <p:cNvPicPr/>
            <p:nvPr/>
          </p:nvPicPr>
          <p:blipFill>
            <a:blip r:embed="rId1"/>
            <a:stretch/>
          </p:blipFill>
          <p:spPr>
            <a:xfrm>
              <a:off x="2819520" y="3048120"/>
              <a:ext cx="350820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9" name="Text Box 8"/>
            <p:cNvSpPr/>
            <p:nvPr/>
          </p:nvSpPr>
          <p:spPr>
            <a:xfrm>
              <a:off x="1295280" y="3200760"/>
              <a:ext cx="1447920" cy="139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5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8000"/>
                  </a:solidFill>
                  <a:latin typeface="Times New Roman"/>
                </a:rPr>
                <a:t>isotropi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5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8000"/>
                  </a:solidFill>
                  <a:latin typeface="Times New Roman"/>
                </a:rPr>
                <a:t>crystal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5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sodiu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5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hloride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Text Box 9"/>
            <p:cNvSpPr/>
            <p:nvPr/>
          </p:nvSpPr>
          <p:spPr>
            <a:xfrm>
              <a:off x="6553080" y="3353040"/>
              <a:ext cx="1752840" cy="102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5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anisotropi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5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cryst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5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calcite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1" name="Text Box 10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II: Optical components, polariz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Дата 2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Нижний колонтитул 3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Crystal polarizers (IV)</a:t>
            </a:r>
            <a:br>
              <a:rPr sz="4400"/>
            </a:b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[birefringence]</a:t>
            </a: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5" name="Rectangle 3"/>
          <p:cNvSpPr/>
          <p:nvPr/>
        </p:nvSpPr>
        <p:spPr>
          <a:xfrm>
            <a:off x="152280" y="1752480"/>
            <a:ext cx="5639040" cy="40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ystal polarizers used a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am displacer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am splitter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larizer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alyzers,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s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icol prism, Glan-Thomson polarizer, Glan or Glan-Foucault prism,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Wollaston pris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in-film polarizer,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Text Box 4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II: Optical components, polariz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7" name="Picture 5" descr="C:\Documents and Settings\manset\My Documents\CFHT_AND_SCIENCE\PolarizationOfLight\Prisms.jpg"/>
          <p:cNvPicPr/>
          <p:nvPr/>
        </p:nvPicPr>
        <p:blipFill>
          <a:blip r:embed="rId1"/>
          <a:stretch/>
        </p:blipFill>
        <p:spPr>
          <a:xfrm>
            <a:off x="5638680" y="1752480"/>
            <a:ext cx="3321000" cy="4373640"/>
          </a:xfrm>
          <a:prstGeom prst="rect">
            <a:avLst/>
          </a:prstGeom>
          <a:ln w="0">
            <a:noFill/>
          </a:ln>
        </p:spPr>
      </p:pic>
      <p:sp>
        <p:nvSpPr>
          <p:cNvPr id="378" name="Oval 6"/>
          <p:cNvSpPr/>
          <p:nvPr/>
        </p:nvSpPr>
        <p:spPr>
          <a:xfrm>
            <a:off x="5867280" y="4648320"/>
            <a:ext cx="990720" cy="7617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Дата 2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Нижний колонтитул 3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Mueller matrices of polarizers (I)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2" name="Text Box 3"/>
          <p:cNvSpPr/>
          <p:nvPr/>
        </p:nvSpPr>
        <p:spPr>
          <a:xfrm>
            <a:off x="838080" y="2286000"/>
            <a:ext cx="746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Ideal) linear polarizer at angl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3" name="Object 4"/>
              <p:cNvSpPr txBox="1"/>
              <p:nvPr/>
            </p:nvSpPr>
            <p:spPr>
              <a:xfrm>
                <a:off x="1752480" y="3124080"/>
                <a:ext cx="5461200" cy="185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2</m:t>
                              </m:r>
                              <m:r>
                                <m:t xml:space="preserve">χ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t xml:space="preserve">2</m:t>
                              </m:r>
                              <m:r>
                                <m:t xml:space="preserve">χ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2</m:t>
                              </m:r>
                              <m:r>
                                <m:t xml:space="preserve">χ</m:t>
                              </m:r>
                            </m:e>
                            <m:e>
                              <m:sSup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2</m:t>
                              </m:r>
                              <m:r>
                                <m:t xml:space="preserve">χ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t xml:space="preserve">2</m:t>
                              </m:r>
                              <m:r>
                                <m:t xml:space="preserve">χ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2</m:t>
                              </m:r>
                              <m:r>
                                <m:t xml:space="preserve">χ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t xml:space="preserve">2</m:t>
                              </m:r>
                              <m:r>
                                <m:t xml:space="preserve">χ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t xml:space="preserve">2</m:t>
                              </m:r>
                              <m:r>
                                <m:t xml:space="preserve">χ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2</m:t>
                              </m:r>
                              <m:r>
                                <m:t xml:space="preserve">χ</m:t>
                              </m:r>
                            </m:e>
                            <m:e>
                              <m:sSup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sin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2</m:t>
                              </m:r>
                              <m:r>
                                <m:t xml:space="preserve">χ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84" name="Text Box 5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II: Optical components, polarizer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Oval 6"/>
          <p:cNvSpPr/>
          <p:nvPr/>
        </p:nvSpPr>
        <p:spPr>
          <a:xfrm>
            <a:off x="1752480" y="3429000"/>
            <a:ext cx="304920" cy="129528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AutoShape 7"/>
          <p:cNvSpPr/>
          <p:nvPr/>
        </p:nvSpPr>
        <p:spPr>
          <a:xfrm rot="16200000">
            <a:off x="1409400" y="239976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Freeform 8"/>
          <p:cNvSpPr/>
          <p:nvPr/>
        </p:nvSpPr>
        <p:spPr>
          <a:xfrm>
            <a:off x="1054080" y="3048120"/>
            <a:ext cx="647640" cy="1181160"/>
          </a:xfrm>
          <a:custGeom>
            <a:avLst/>
            <a:gdLst>
              <a:gd name="textAreaLeft" fmla="*/ 0 w 647640"/>
              <a:gd name="textAreaRight" fmla="*/ 648000 w 647640"/>
              <a:gd name="textAreaTop" fmla="*/ 0 h 1181160"/>
              <a:gd name="textAreaBottom" fmla="*/ 1181520 h 1181160"/>
            </a:gdLst>
            <a:ahLst/>
            <a:rect l="textAreaLeft" t="textAreaTop" r="textAreaRight" b="textAreaBottom"/>
            <a:pathLst>
              <a:path w="408" h="744">
                <a:moveTo>
                  <a:pt x="296" y="0"/>
                </a:moveTo>
                <a:cubicBezTo>
                  <a:pt x="148" y="88"/>
                  <a:pt x="0" y="176"/>
                  <a:pt x="8" y="288"/>
                </a:cubicBezTo>
                <a:cubicBezTo>
                  <a:pt x="16" y="400"/>
                  <a:pt x="280" y="600"/>
                  <a:pt x="344" y="672"/>
                </a:cubicBezTo>
                <a:cubicBezTo>
                  <a:pt x="408" y="744"/>
                  <a:pt x="400" y="732"/>
                  <a:pt x="392" y="720"/>
                </a:cubicBezTo>
              </a:path>
            </a:pathLst>
          </a:custGeom>
          <a:noFill/>
          <a:ln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Дата 2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Нижний колонтитул 3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Mueller matrices of polarizers (II)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1" name="Text Box 3"/>
          <p:cNvSpPr/>
          <p:nvPr/>
        </p:nvSpPr>
        <p:spPr>
          <a:xfrm>
            <a:off x="838080" y="2514600"/>
            <a:ext cx="251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ear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±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) polarizer at 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2" name="Object 4"/>
              <p:cNvSpPr txBox="1"/>
              <p:nvPr/>
            </p:nvSpPr>
            <p:spPr>
              <a:xfrm>
                <a:off x="457200" y="3429000"/>
                <a:ext cx="2514600" cy="17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±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±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93" name="Text Box 5"/>
          <p:cNvSpPr/>
          <p:nvPr/>
        </p:nvSpPr>
        <p:spPr>
          <a:xfrm>
            <a:off x="3657600" y="2514600"/>
            <a:ext cx="23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ear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±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) polarizer at 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4" name="Object 6"/>
              <p:cNvSpPr txBox="1"/>
              <p:nvPr/>
            </p:nvSpPr>
            <p:spPr>
              <a:xfrm>
                <a:off x="3276720" y="3505320"/>
                <a:ext cx="2361960" cy="163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±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±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95" name="Text Box 7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II: Optical components, polarizer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Text Box 8"/>
          <p:cNvSpPr/>
          <p:nvPr/>
        </p:nvSpPr>
        <p:spPr>
          <a:xfrm>
            <a:off x="6324480" y="251460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rcular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±V) polariz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7" name="Object 9"/>
              <p:cNvSpPr txBox="1"/>
              <p:nvPr/>
            </p:nvSpPr>
            <p:spPr>
              <a:xfrm>
                <a:off x="6019920" y="3505320"/>
                <a:ext cx="2438280" cy="168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±</m:t>
                              </m:r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±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98" name="AutoShape 10"/>
          <p:cNvSpPr/>
          <p:nvPr/>
        </p:nvSpPr>
        <p:spPr>
          <a:xfrm>
            <a:off x="380880" y="2514600"/>
            <a:ext cx="2743200" cy="2971800"/>
          </a:xfrm>
          <a:custGeom>
            <a:avLst/>
            <a:gdLst>
              <a:gd name="textAreaLeft" fmla="*/ 133920 w 2743200"/>
              <a:gd name="textAreaRight" fmla="*/ 2609280 w 2743200"/>
              <a:gd name="textAreaTop" fmla="*/ 133920 h 2971800"/>
              <a:gd name="textAreaBottom" fmla="*/ 2837880 h 2971800"/>
            </a:gdLst>
            <a:ahLst/>
            <a:rect l="textAreaLeft" t="textAreaTop" r="textAreaRight" b="textAreaBottom"/>
            <a:pathLst>
              <a:path w="21600" h="23400">
                <a:moveTo>
                  <a:pt x="3600" y="0"/>
                </a:moveTo>
                <a:arcTo wR="3600" hR="3600" stAng="16200000" swAng="-5400000"/>
                <a:lnTo>
                  <a:pt x="0" y="19800"/>
                </a:lnTo>
                <a:arcTo wR="3600" hR="3600" stAng="10800000" swAng="-5400000"/>
                <a:lnTo>
                  <a:pt x="18000" y="234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AutoShape 11"/>
          <p:cNvSpPr/>
          <p:nvPr/>
        </p:nvSpPr>
        <p:spPr>
          <a:xfrm>
            <a:off x="3124080" y="2514600"/>
            <a:ext cx="2743200" cy="2971800"/>
          </a:xfrm>
          <a:custGeom>
            <a:avLst/>
            <a:gdLst>
              <a:gd name="textAreaLeft" fmla="*/ 133920 w 2743200"/>
              <a:gd name="textAreaRight" fmla="*/ 2609280 w 2743200"/>
              <a:gd name="textAreaTop" fmla="*/ 133920 h 2971800"/>
              <a:gd name="textAreaBottom" fmla="*/ 2837880 h 2971800"/>
            </a:gdLst>
            <a:ahLst/>
            <a:rect l="textAreaLeft" t="textAreaTop" r="textAreaRight" b="textAreaBottom"/>
            <a:pathLst>
              <a:path w="21600" h="23400">
                <a:moveTo>
                  <a:pt x="3600" y="0"/>
                </a:moveTo>
                <a:arcTo wR="3600" hR="3600" stAng="16200000" swAng="-5400000"/>
                <a:lnTo>
                  <a:pt x="0" y="19800"/>
                </a:lnTo>
                <a:arcTo wR="3600" hR="3600" stAng="10800000" swAng="-5400000"/>
                <a:lnTo>
                  <a:pt x="18000" y="234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AutoShape 12"/>
          <p:cNvSpPr/>
          <p:nvPr/>
        </p:nvSpPr>
        <p:spPr>
          <a:xfrm>
            <a:off x="5867280" y="2514600"/>
            <a:ext cx="2743200" cy="2971800"/>
          </a:xfrm>
          <a:custGeom>
            <a:avLst/>
            <a:gdLst>
              <a:gd name="textAreaLeft" fmla="*/ 133920 w 2743200"/>
              <a:gd name="textAreaRight" fmla="*/ 2609280 w 2743200"/>
              <a:gd name="textAreaTop" fmla="*/ 133920 h 2971800"/>
              <a:gd name="textAreaBottom" fmla="*/ 2837880 h 2971800"/>
            </a:gdLst>
            <a:ahLst/>
            <a:rect l="textAreaLeft" t="textAreaTop" r="textAreaRight" b="textAreaBottom"/>
            <a:pathLst>
              <a:path w="21600" h="23400">
                <a:moveTo>
                  <a:pt x="3600" y="0"/>
                </a:moveTo>
                <a:arcTo wR="3600" hR="3600" stAng="16200000" swAng="-5400000"/>
                <a:lnTo>
                  <a:pt x="0" y="19800"/>
                </a:lnTo>
                <a:arcTo wR="3600" hR="3600" stAng="10800000" swAng="-5400000"/>
                <a:lnTo>
                  <a:pt x="18000" y="234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Дата 2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Нижний колонтитул 3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Mueller calculus with a polarizer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4" name="Text Box 3"/>
          <p:cNvSpPr/>
          <p:nvPr/>
        </p:nvSpPr>
        <p:spPr>
          <a:xfrm>
            <a:off x="914400" y="1981080"/>
            <a:ext cx="670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 light: unpolarized --- output light: po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5" name="Object 4"/>
              <p:cNvSpPr txBox="1"/>
              <p:nvPr/>
            </p:nvSpPr>
            <p:spPr>
              <a:xfrm>
                <a:off x="1352520" y="2895480"/>
                <a:ext cx="5780160" cy="202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I'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Q'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U'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V'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I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I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-I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06" name="Text Box 5"/>
          <p:cNvSpPr/>
          <p:nvPr/>
        </p:nvSpPr>
        <p:spPr>
          <a:xfrm>
            <a:off x="4876920" y="52578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tal output intensity: 0.5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Text Box 6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II: Optical components, polariz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Дата 2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Нижний колонтитул 3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Retarders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1" name="Text Box 4"/>
          <p:cNvSpPr/>
          <p:nvPr/>
        </p:nvSpPr>
        <p:spPr>
          <a:xfrm>
            <a:off x="685800" y="1905120"/>
            <a:ext cx="762012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 retarders, one polarization gets ‘retarded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or delayed, with respect to the other one. There is a final phase difference between the 2 components of the polarization. Therefore,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he polarization is chang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st retarders are based on birefringent materials (quartz, mica, polymers) that have different indices of refraction depending on the polarization of the incoming l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Text Box 5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II: Optical components, retard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Дата 4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Нижний колонтитул 5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Half-Wave plate (I)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962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ardation of ½ wave or 18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 for one of the polariza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Used to flip the linear polarization or change the handedness of circular polariz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7" name="Picture 7" descr="C:\Documents and Settings\manset\My Documents\CFHT_AND_SCIENCE\PolarizationOfLight\Half-Wave-process.jpg"/>
          <p:cNvPicPr/>
          <p:nvPr/>
        </p:nvPicPr>
        <p:blipFill>
          <a:blip r:embed="rId1"/>
          <a:stretch/>
        </p:blipFill>
        <p:spPr>
          <a:xfrm>
            <a:off x="4800600" y="2133720"/>
            <a:ext cx="3681360" cy="3651120"/>
          </a:xfrm>
          <a:prstGeom prst="rect">
            <a:avLst/>
          </a:prstGeom>
          <a:ln w="0">
            <a:noFill/>
          </a:ln>
        </p:spPr>
      </p:pic>
      <p:sp>
        <p:nvSpPr>
          <p:cNvPr id="418" name="Text Box 8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II: Optical components, retard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Дата 2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Нижний колонтитул 3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Half-Wave plate (II)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422" name="Picture 3" descr="C:\Documents and Settings\manset\My Documents\CFHT_AND_SCIENCE\PolarizationOfLight\HalfWavePlate.gif"/>
          <p:cNvPicPr/>
          <p:nvPr/>
        </p:nvPicPr>
        <p:blipFill>
          <a:blip r:embed="rId1"/>
          <a:stretch/>
        </p:blipFill>
        <p:spPr>
          <a:xfrm>
            <a:off x="2438280" y="2590920"/>
            <a:ext cx="3886200" cy="2206440"/>
          </a:xfrm>
          <a:prstGeom prst="rect">
            <a:avLst/>
          </a:prstGeom>
          <a:ln w="0">
            <a:noFill/>
          </a:ln>
        </p:spPr>
      </p:pic>
      <p:sp>
        <p:nvSpPr>
          <p:cNvPr id="423" name="Text Box 4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II: Optical components, retard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Дата 4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Нижний колонтитул 5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Quarter-Wave plate (I)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ardation of ¼ wave or 9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 for one of the polariz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Used to convert linear polarization to elliptica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8" name="Picture 8" descr="C:\Documents and Settings\manset\My Documents\CFHT_AND_SCIENCE\PolarizationOfLight\Circularlypolarized.gif"/>
          <p:cNvPicPr/>
          <p:nvPr/>
        </p:nvPicPr>
        <p:blipFill>
          <a:blip r:embed="rId1"/>
          <a:stretch/>
        </p:blipFill>
        <p:spPr>
          <a:xfrm>
            <a:off x="2133720" y="2895480"/>
            <a:ext cx="4914720" cy="2343240"/>
          </a:xfrm>
          <a:prstGeom prst="rect">
            <a:avLst/>
          </a:prstGeom>
          <a:ln w="0">
            <a:noFill/>
          </a:ln>
        </p:spPr>
      </p:pic>
      <p:sp>
        <p:nvSpPr>
          <p:cNvPr id="429" name="Text Box 9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II: Optical components, retard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Дата 2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Нижний колонтитул 3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Text Box 5"/>
          <p:cNvSpPr/>
          <p:nvPr/>
        </p:nvSpPr>
        <p:spPr>
          <a:xfrm>
            <a:off x="609480" y="1981080"/>
            <a:ext cx="8077320" cy="41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ial case: incoming light polarized at 4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 with respect to the retarder’s ax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onversion from linear to circular polarization (vice vers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Quarter-Wave plate (II)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434" name="Picture 4" descr="C:\Documents and Settings\manset\My Documents\CFHT_AND_SCIENCE\PolarizationOfLight\QuarterWavePlate.gif"/>
          <p:cNvPicPr/>
          <p:nvPr/>
        </p:nvPicPr>
        <p:blipFill>
          <a:blip r:embed="rId1"/>
          <a:stretch/>
        </p:blipFill>
        <p:spPr>
          <a:xfrm>
            <a:off x="2971800" y="3048120"/>
            <a:ext cx="3886200" cy="2171520"/>
          </a:xfrm>
          <a:prstGeom prst="rect">
            <a:avLst/>
          </a:prstGeom>
          <a:ln w="0">
            <a:noFill/>
          </a:ln>
        </p:spPr>
      </p:pic>
      <p:sp>
        <p:nvSpPr>
          <p:cNvPr id="435" name="Text Box 6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II: Optical components, retard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Дата 3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Нижний колонтитул 4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Mathematical description of the EM wave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312372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ght wave that propagates in the z dire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Object 5"/>
              <p:cNvSpPr txBox="1"/>
              <p:nvPr/>
            </p:nvSpPr>
            <p:spPr>
              <a:xfrm>
                <a:off x="2286000" y="3886200"/>
                <a:ext cx="4673520" cy="12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E</m:t>
                                </m:r>
                              </m:e>
                            </m:acc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z,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0x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kz-</m:t>
                        </m:r>
                        <m:r>
                          <m:t xml:space="preserve">ωt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E</m:t>
                                </m:r>
                              </m:e>
                            </m:acc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z,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0y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kz-</m:t>
                        </m:r>
                        <m:r>
                          <m:t xml:space="preserve">ωt</m:t>
                        </m:r>
                        <m:r>
                          <m:t xml:space="preserve">+</m:t>
                        </m:r>
                        <m:r>
                          <m:t xml:space="preserve">ε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5" name="Text Box 7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: Polarization sta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Дата 2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Нижний колонтитул 3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Mueller matrix of retarders (I)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9" name="Text Box 3"/>
          <p:cNvSpPr/>
          <p:nvPr/>
        </p:nvSpPr>
        <p:spPr>
          <a:xfrm>
            <a:off x="990720" y="2057400"/>
            <a:ext cx="73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arder of retardanc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position angl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0" name="Object 4"/>
              <p:cNvSpPr txBox="1"/>
              <p:nvPr/>
            </p:nvSpPr>
            <p:spPr>
              <a:xfrm>
                <a:off x="1219320" y="2590920"/>
                <a:ext cx="6832440" cy="300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G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H</m:t>
                                  </m:r>
                                  <m:r>
                                    <m:t xml:space="preserve"> 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4ψ</m:t>
                                  </m:r>
                                </m:e>
                                <m:e>
                                  <m:r>
                                    <m:t xml:space="preserve">H</m:t>
                                  </m:r>
                                  <m:r>
                                    <m:t xml:space="preserve"> 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sin4ψ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sinτ</m:t>
                                  </m:r>
                                  <m:r>
                                    <m:t xml:space="preserve"> 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sin2ψ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H</m:t>
                                  </m:r>
                                  <m:r>
                                    <m:t xml:space="preserve"> 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sin4ψ</m:t>
                                  </m:r>
                                </m:e>
                                <m:e>
                                  <m:r>
                                    <m:t xml:space="preserve">G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H</m:t>
                                  </m:r>
                                  <m:r>
                                    <m:t xml:space="preserve"> 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4ψ</m:t>
                                  </m:r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sinτ</m:t>
                                  </m:r>
                                  <m:r>
                                    <m:t xml:space="preserve"> 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2ψ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sinτ</m:t>
                                  </m:r>
                                  <m:r>
                                    <m:t xml:space="preserve"> 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sin2ψ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sinτ</m:t>
                                  </m:r>
                                  <m:r>
                                    <m:t xml:space="preserve"> 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2ψ</m:t>
                                  </m:r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τ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with: G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τ</m:t>
                            </m:r>
                          </m:e>
                        </m:d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and</m:t>
                        </m:r>
                        <m:r>
                          <m:t xml:space="preserve"> </m:t>
                        </m:r>
                        <m:r>
                          <m:t xml:space="preserve">H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τ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41" name="Text Box 5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II: Optical components, retard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Дата 2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Нижний колонтитул 3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Mueller matrix of retarders (II)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5" name="Text Box 3"/>
          <p:cNvSpPr/>
          <p:nvPr/>
        </p:nvSpPr>
        <p:spPr>
          <a:xfrm>
            <a:off x="762120" y="2286000"/>
            <a:ext cx="342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lf-wave oriented at  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 or 90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Text Box 4"/>
          <p:cNvSpPr/>
          <p:nvPr/>
        </p:nvSpPr>
        <p:spPr>
          <a:xfrm>
            <a:off x="4952880" y="2209680"/>
            <a:ext cx="342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lf-wave oriented at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±45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7" name="Object 5"/>
              <p:cNvSpPr txBox="1"/>
              <p:nvPr/>
            </p:nvSpPr>
            <p:spPr>
              <a:xfrm>
                <a:off x="762120" y="3276720"/>
                <a:ext cx="2971800" cy="23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8" name="Object 6"/>
              <p:cNvSpPr txBox="1"/>
              <p:nvPr/>
            </p:nvSpPr>
            <p:spPr>
              <a:xfrm>
                <a:off x="4876920" y="3200400"/>
                <a:ext cx="2971800" cy="230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49" name="Text Box 7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II: Optical components, retard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Дата 2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Нижний колонтитул 3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Mueller matrix of retarders (III)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3" name="Text Box 3"/>
          <p:cNvSpPr/>
          <p:nvPr/>
        </p:nvSpPr>
        <p:spPr>
          <a:xfrm>
            <a:off x="762120" y="2286000"/>
            <a:ext cx="342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arter-wave oriented at  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Text Box 4"/>
          <p:cNvSpPr/>
          <p:nvPr/>
        </p:nvSpPr>
        <p:spPr>
          <a:xfrm>
            <a:off x="4952880" y="2209680"/>
            <a:ext cx="342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arter-wave oriented at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±45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5" name="Object 5"/>
              <p:cNvSpPr txBox="1"/>
              <p:nvPr/>
            </p:nvSpPr>
            <p:spPr>
              <a:xfrm>
                <a:off x="888840" y="3276720"/>
                <a:ext cx="2716200" cy="23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6" name="Object 6"/>
              <p:cNvSpPr txBox="1"/>
              <p:nvPr/>
            </p:nvSpPr>
            <p:spPr>
              <a:xfrm>
                <a:off x="4876920" y="3200400"/>
                <a:ext cx="2971800" cy="230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∓</m:t>
                              </m:r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±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57" name="Text Box 7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II: Optical components, retard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Дата 2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Нижний колонтитул 3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Mueller calculus with a retarder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1" name="Object 3"/>
              <p:cNvSpPr txBox="1"/>
              <p:nvPr/>
            </p:nvSpPr>
            <p:spPr>
              <a:xfrm>
                <a:off x="1600200" y="3657600"/>
                <a:ext cx="5783400" cy="230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I'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Q'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U'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V'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r>
                      <m:t xml:space="preserve">k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+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r>
                      <m:t xml:space="preserve">k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62" name="Text Box 4"/>
          <p:cNvSpPr/>
          <p:nvPr/>
        </p:nvSpPr>
        <p:spPr>
          <a:xfrm>
            <a:off x="990720" y="2133720"/>
            <a:ext cx="5867280" cy="11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 light linear polarized (Q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arter-wave at +4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put light circularly polarized (V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Text Box 5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II: Optical components, retard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Дата 2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Нижний колонтитул 3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(Back to polarizers, briefly)</a:t>
            </a:r>
            <a:br>
              <a:rPr sz="3200"/>
            </a:b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Circular polarizers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7" name="Text Box 3"/>
          <p:cNvSpPr/>
          <p:nvPr/>
        </p:nvSpPr>
        <p:spPr>
          <a:xfrm>
            <a:off x="609480" y="2057400"/>
            <a:ext cx="426744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 light: unpolarized   --- Output light: circularly po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de of a linear polarizer glued to a quarter-wave plate oriented at 4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 with respect to one anot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8" name="Picture 5" descr="C:\Documents and Settings\manset\My Documents\CFHT_AND_SCIENCE\PolarizationOfLight\Quarter-Wave-Plate.jpg"/>
          <p:cNvPicPr/>
          <p:nvPr/>
        </p:nvPicPr>
        <p:blipFill>
          <a:blip r:embed="rId1"/>
          <a:stretch/>
        </p:blipFill>
        <p:spPr>
          <a:xfrm>
            <a:off x="5029200" y="2057400"/>
            <a:ext cx="3184560" cy="3495600"/>
          </a:xfrm>
          <a:prstGeom prst="rect">
            <a:avLst/>
          </a:prstGeom>
          <a:ln w="0">
            <a:noFill/>
          </a:ln>
        </p:spPr>
      </p:pic>
      <p:sp>
        <p:nvSpPr>
          <p:cNvPr id="469" name="Text Box 6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II: Optical components, polariz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Дата 3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Нижний колонтитул 4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Achromatic retarders (I)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tardation depends on waveleng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hromatic retarders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de of 2 different materials with opposite variations of index of refraction as a function of waveleng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ncharatnam achromatic retarders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de of 3 identical plates rotated w/r one anoth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erachromatic retarders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 pairs of quartz and Mg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 Box 6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II: Optical components, retard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Дата 2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Нижний колонтитул 3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Achromatic retarders (II)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8" name="Text Box 5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II: Optical components, retard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9" name="Picture 7" descr="C:\Documents and Settings\manset\My Documents\CFHT_AND_SCIENCE\PolarizationOfLight\Retardance-panch.jpg"/>
          <p:cNvPicPr/>
          <p:nvPr/>
        </p:nvPicPr>
        <p:blipFill>
          <a:blip r:embed="rId1"/>
          <a:stretch/>
        </p:blipFill>
        <p:spPr>
          <a:xfrm>
            <a:off x="2286000" y="2666880"/>
            <a:ext cx="4495680" cy="3570480"/>
          </a:xfrm>
          <a:prstGeom prst="rect">
            <a:avLst/>
          </a:prstGeom>
          <a:ln w="0">
            <a:noFill/>
          </a:ln>
        </p:spPr>
      </p:pic>
      <p:pic>
        <p:nvPicPr>
          <p:cNvPr id="480" name="Picture 6" descr="C:\Documents and Settings\manset\My Documents\CFHT_AND_SCIENCE\PolarizationOfLight\Retardance-halfwave.jpg"/>
          <p:cNvPicPr/>
          <p:nvPr/>
        </p:nvPicPr>
        <p:blipFill>
          <a:blip r:embed="rId2"/>
          <a:stretch/>
        </p:blipFill>
        <p:spPr>
          <a:xfrm>
            <a:off x="2286000" y="1905120"/>
            <a:ext cx="4486320" cy="2377800"/>
          </a:xfrm>
          <a:prstGeom prst="rect">
            <a:avLst/>
          </a:prstGeom>
          <a:ln w="0">
            <a:noFill/>
          </a:ln>
        </p:spPr>
      </p:pic>
      <p:sp>
        <p:nvSpPr>
          <p:cNvPr id="481" name="AutoShape 8"/>
          <p:cNvSpPr/>
          <p:nvPr/>
        </p:nvSpPr>
        <p:spPr>
          <a:xfrm>
            <a:off x="1828800" y="22096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AutoShape 9"/>
          <p:cNvSpPr/>
          <p:nvPr/>
        </p:nvSpPr>
        <p:spPr>
          <a:xfrm>
            <a:off x="1752480" y="4419720"/>
            <a:ext cx="381240" cy="990360"/>
          </a:xfrm>
          <a:custGeom>
            <a:avLst/>
            <a:gdLst>
              <a:gd name="textAreaLeft" fmla="*/ 243720 w 381240"/>
              <a:gd name="textAreaRight" fmla="*/ 381600 w 381240"/>
              <a:gd name="textAreaTop" fmla="*/ 25560 h 990360"/>
              <a:gd name="textAreaBottom" fmla="*/ 964800 h 99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Text Box 10"/>
          <p:cNvSpPr/>
          <p:nvPr/>
        </p:nvSpPr>
        <p:spPr>
          <a:xfrm>
            <a:off x="304920" y="2286000"/>
            <a:ext cx="1981080" cy="11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UniversalMath1 BT"/>
                <a:ea typeface="UniversalMath1 BT"/>
              </a:rPr>
              <a:t>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=140-220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not very achromatic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 Box 11"/>
          <p:cNvSpPr/>
          <p:nvPr/>
        </p:nvSpPr>
        <p:spPr>
          <a:xfrm>
            <a:off x="228600" y="4495680"/>
            <a:ext cx="175248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UniversalMath1 BT"/>
                <a:ea typeface="UniversalMath1 BT"/>
              </a:rPr>
              <a:t>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= 177-183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much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etter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Дата 3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Нижний колонтитул 4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Retardation on total internal reflection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837720" y="2133720"/>
            <a:ext cx="312444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tal internal reflection produces retardation (phase shif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Rectangle 8"/>
          <p:cNvSpPr/>
          <p:nvPr/>
        </p:nvSpPr>
        <p:spPr>
          <a:xfrm>
            <a:off x="838080" y="4267080"/>
            <a:ext cx="77724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this case, retardation is very achromatic since it only depends on the refractive inde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: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Fresnel rhomb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0" name="Picture 7" descr="C:\Documents and Settings\manset\My Documents\CFHT_AND_SCIENCE\PolarizationOfLight\ReflectionPhaseShift2.gif"/>
          <p:cNvPicPr/>
          <p:nvPr/>
        </p:nvPicPr>
        <p:blipFill>
          <a:blip r:embed="rId1"/>
          <a:stretch/>
        </p:blipFill>
        <p:spPr>
          <a:xfrm>
            <a:off x="4038480" y="1981080"/>
            <a:ext cx="4059360" cy="2354400"/>
          </a:xfrm>
          <a:prstGeom prst="rect">
            <a:avLst/>
          </a:prstGeom>
          <a:ln w="0">
            <a:noFill/>
          </a:ln>
        </p:spPr>
      </p:pic>
      <p:sp>
        <p:nvSpPr>
          <p:cNvPr id="491" name="Text Box 9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II: Optical components, retard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Дата 3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Нижний колонтитул 4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Fresnel rhombs 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rter-wave and half-wave rhombs are achieved with 2 or 4 refle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6" name="Picture 4" descr="C:\Documents and Settings\manset\My Documents\CFHT_AND_SCIENCE\PolarizationOfLight\FresnelRhombs.gif"/>
          <p:cNvPicPr/>
          <p:nvPr/>
        </p:nvPicPr>
        <p:blipFill>
          <a:blip r:embed="rId1"/>
          <a:stretch/>
        </p:blipFill>
        <p:spPr>
          <a:xfrm>
            <a:off x="762120" y="3581280"/>
            <a:ext cx="7589880" cy="2103480"/>
          </a:xfrm>
          <a:prstGeom prst="rect">
            <a:avLst/>
          </a:prstGeom>
          <a:ln w="0">
            <a:noFill/>
          </a:ln>
        </p:spPr>
      </p:pic>
      <p:sp>
        <p:nvSpPr>
          <p:cNvPr id="497" name="Text Box 5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II: Optical components, retard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Дата 3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Нижний колонтитул 4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Other retarders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leil-Babinet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riable retardation to better than 0.01 wav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matic liquid crystals... Liquid crystal variable retarders... Ferroelectric liquid crystals... Piezo-elastic modulators... Pockels and Kerr cells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Text Box 4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II: Optical components, retard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Дата 3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Нижний колонтитул 4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Graphical representation of the EM wave (I)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e can go fro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the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equation of an ellips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using trigonometric identities, squaring, adding)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Object 6"/>
              <p:cNvSpPr txBox="1"/>
              <p:nvPr/>
            </p:nvSpPr>
            <p:spPr>
              <a:xfrm>
                <a:off x="1676520" y="4572000"/>
                <a:ext cx="5981760" cy="12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E</m:t>
                                    </m:r>
                                  </m:e>
                                  <m:sub>
                                    <m:r>
                                      <m:t xml:space="preserve">x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E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0x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E</m:t>
                                    </m:r>
                                  </m:e>
                                  <m:sub>
                                    <m:r>
                                      <m:t xml:space="preserve">y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E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0y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f>
                      <m:num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0x</m:t>
                            </m:r>
                          </m:sub>
                        </m:sSub>
                      </m:den>
                    </m:f>
                    <m:f>
                      <m:num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0y</m:t>
                            </m:r>
                          </m:sub>
                        </m:sSub>
                      </m:den>
                    </m:f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 </m:t>
                    </m:r>
                    <m:r>
                      <m:t xml:space="preserve">ε</m:t>
                    </m:r>
                    <m:r>
                      <m:rPr>
                        <m:lit/>
                        <m:nor/>
                      </m:rPr>
                      <m:t xml:space="preserve"> = 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 </m:t>
                    </m:r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Object 8"/>
              <p:cNvSpPr txBox="1"/>
              <p:nvPr/>
            </p:nvSpPr>
            <p:spPr>
              <a:xfrm>
                <a:off x="3886200" y="2362320"/>
                <a:ext cx="3809880" cy="10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E</m:t>
                                </m:r>
                              </m:e>
                            </m:acc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z,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0x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kz-</m:t>
                        </m:r>
                        <m:r>
                          <m:t xml:space="preserve">ωt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E</m:t>
                                </m:r>
                              </m:e>
                            </m:acc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z,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0y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kz-</m:t>
                        </m:r>
                        <m:r>
                          <m:t xml:space="preserve">ωt</m:t>
                        </m:r>
                        <m:r>
                          <m:t xml:space="preserve">+</m:t>
                        </m:r>
                        <m:r>
                          <m:t xml:space="preserve">ε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2" name="Text Box 10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: Polarization sta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Дата 3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Нижний колонтитул 4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Part IV: Polarimeters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1828440" y="2895120"/>
            <a:ext cx="5715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Polaroid-type polarimeter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8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Dual-beam polarimeter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Дата 3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Нижний колонтитул 4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Polaroid-type polarimeter</a:t>
            </a:r>
            <a:br>
              <a:rPr sz="4400"/>
            </a:b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for linear polarimetry (I)</a:t>
            </a: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0" name="Rectangle 5"/>
          <p:cNvSpPr/>
          <p:nvPr/>
        </p:nvSpPr>
        <p:spPr>
          <a:xfrm>
            <a:off x="685800" y="2057400"/>
            <a:ext cx="777240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a linear polarizer (polaroid) to measure linear polarization ...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  <a:hlinkClick r:id="rId1"/>
              </a:rPr>
              <a:t>[another cool applet]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hlinkClick r:id="rId2"/>
              </a:rPr>
              <a:t>http://www.colorado.edu/physics/2000/applets/lens.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larization percentage and position angle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1" name="Object 7"/>
              <p:cNvSpPr txBox="1"/>
              <p:nvPr/>
            </p:nvSpPr>
            <p:spPr>
              <a:xfrm>
                <a:off x="2666880" y="3962520"/>
                <a:ext cx="3187800" cy="21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max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min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max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min</m:t>
                                </m:r>
                              </m:sub>
                            </m:sSub>
                          </m:den>
                        </m:f>
                      </m:e>
                      <m:e>
                        <m:r>
                          <m:t xml:space="preserve">Θ</m:t>
                        </m:r>
                        <m:r>
                          <m:t xml:space="preserve">=</m:t>
                        </m:r>
                        <m:r>
                          <m:t xml:space="preserve">Θ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12" name="Text Box 8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V: Polarimeters, polaroid-ty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3" name="Object 9"/>
              <p:cNvSpPr txBox="1"/>
              <p:nvPr/>
            </p:nvSpPr>
            <p:spPr>
              <a:xfrm>
                <a:off x="6858000" y="4114800"/>
                <a:ext cx="895320" cy="19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Δ</m:t>
                        </m:r>
                      </m:num>
                      <m:den>
                        <m:r>
                          <m:t xml:space="preserve">Σ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Дата 3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Нижний колонтитул 4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Polaroid-type polarimeter</a:t>
            </a:r>
            <a:br>
              <a:rPr sz="4400"/>
            </a:b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for linear polarimetry (II)</a:t>
            </a: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762120" y="327636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vantage: very simple to mak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advantage: half of the light is cut o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her disadvantages: non-simultaneous measurements, cross-talk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Rectangle 4"/>
          <p:cNvSpPr/>
          <p:nvPr/>
        </p:nvSpPr>
        <p:spPr>
          <a:xfrm>
            <a:off x="762120" y="228600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ve the polaroid to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2 position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 and 45º (to measure Q, then U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9" name="Picture 5" descr="C:\Documents and Settings\manset\My Documents\CFHT_AND_SCIENCE\PolarizationOfLight\PT-QU.gif"/>
          <p:cNvPicPr/>
          <p:nvPr/>
        </p:nvPicPr>
        <p:blipFill>
          <a:blip r:embed="rId1"/>
          <a:stretch/>
        </p:blipFill>
        <p:spPr>
          <a:xfrm>
            <a:off x="1981080" y="3809880"/>
            <a:ext cx="5189760" cy="2378160"/>
          </a:xfrm>
          <a:prstGeom prst="rect">
            <a:avLst/>
          </a:prstGeom>
          <a:ln w="0">
            <a:noFill/>
          </a:ln>
        </p:spPr>
      </p:pic>
      <p:sp>
        <p:nvSpPr>
          <p:cNvPr id="520" name="Text Box 6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V: Polarimeters, polaroid-ty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Дата 3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Нижний колонтитул 4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Polaroid-type polarimeter</a:t>
            </a:r>
            <a:br>
              <a:rPr sz="4400"/>
            </a:b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for circular polarimetry</a:t>
            </a: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laroids are not sensitive to circular polarization, so convert circular polarization to linear first, by using  a quarter-wave pl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larimeter now uses a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quarter-wave plate and a polar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me disadvantages as bef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Text Box 4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V: Polarimeters, polaroid-ty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Дата 3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Нижний колонтитул 4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Dual-beam polarimeters</a:t>
            </a:r>
            <a:br>
              <a:rPr sz="4400"/>
            </a:b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Principle</a:t>
            </a: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 of cutting out one polarization and keeping the other one (polaroid), split the 2 polarization states and keep them bo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a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Wollaston pris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s an analy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advantages: need 2 detectors (PMTs, APDs) or an array; end up with 2 ‘pixels’ with different g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lution: rotate the Wollaston or keep it fixed and use a half-wave plate to switch the 2 bea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 Box 4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V: Polarimeters, dual-beam ty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Дата 2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Нижний колонтитул 3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Dual-beam polarimeters</a:t>
            </a:r>
            <a:br>
              <a:rPr sz="4400"/>
            </a:b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Switching beams</a:t>
            </a: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4" name="AutoShape 13"/>
          <p:cNvSpPr/>
          <p:nvPr/>
        </p:nvSpPr>
        <p:spPr>
          <a:xfrm>
            <a:off x="1219320" y="3276720"/>
            <a:ext cx="761760" cy="1295280"/>
          </a:xfrm>
          <a:prstGeom prst="can">
            <a:avLst>
              <a:gd name="adj" fmla="val 25000"/>
            </a:avLst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AutoShape 14"/>
          <p:cNvSpPr/>
          <p:nvPr/>
        </p:nvSpPr>
        <p:spPr>
          <a:xfrm>
            <a:off x="1066680" y="2209680"/>
            <a:ext cx="990720" cy="914400"/>
          </a:xfrm>
          <a:custGeom>
            <a:avLst/>
            <a:gdLst>
              <a:gd name="textAreaLeft" fmla="*/ 99000 w 990720"/>
              <a:gd name="textAreaRight" fmla="*/ 891720 w 990720"/>
              <a:gd name="textAreaTop" fmla="*/ 365760 h 914400"/>
              <a:gd name="textAreaBottom" fmla="*/ 548640 h 91440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6480" y="4320"/>
                </a:lnTo>
                <a:lnTo>
                  <a:pt x="8640" y="4320"/>
                </a:lnTo>
                <a:lnTo>
                  <a:pt x="8640" y="8640"/>
                </a:lnTo>
                <a:lnTo>
                  <a:pt x="4320" y="8640"/>
                </a:lnTo>
                <a:lnTo>
                  <a:pt x="4320" y="6480"/>
                </a:lnTo>
                <a:lnTo>
                  <a:pt x="0" y="10800"/>
                </a:lnTo>
                <a:lnTo>
                  <a:pt x="4320" y="15120"/>
                </a:lnTo>
                <a:lnTo>
                  <a:pt x="4320" y="12960"/>
                </a:lnTo>
                <a:lnTo>
                  <a:pt x="8640" y="12960"/>
                </a:lnTo>
                <a:lnTo>
                  <a:pt x="8640" y="17280"/>
                </a:lnTo>
                <a:lnTo>
                  <a:pt x="6480" y="17280"/>
                </a:lnTo>
                <a:lnTo>
                  <a:pt x="10800" y="21600"/>
                </a:lnTo>
                <a:lnTo>
                  <a:pt x="15120" y="17280"/>
                </a:lnTo>
                <a:lnTo>
                  <a:pt x="12960" y="17280"/>
                </a:lnTo>
                <a:lnTo>
                  <a:pt x="12960" y="12960"/>
                </a:lnTo>
                <a:lnTo>
                  <a:pt x="17280" y="12960"/>
                </a:lnTo>
                <a:lnTo>
                  <a:pt x="17280" y="15120"/>
                </a:lnTo>
                <a:lnTo>
                  <a:pt x="21600" y="10800"/>
                </a:lnTo>
                <a:lnTo>
                  <a:pt x="17280" y="6480"/>
                </a:lnTo>
                <a:lnTo>
                  <a:pt x="17280" y="8640"/>
                </a:lnTo>
                <a:lnTo>
                  <a:pt x="12960" y="8640"/>
                </a:lnTo>
                <a:lnTo>
                  <a:pt x="12960" y="4320"/>
                </a:lnTo>
                <a:lnTo>
                  <a:pt x="15120" y="4320"/>
                </a:lnTo>
                <a:lnTo>
                  <a:pt x="10800" y="0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AutoShape 15"/>
          <p:cNvSpPr/>
          <p:nvPr/>
        </p:nvSpPr>
        <p:spPr>
          <a:xfrm>
            <a:off x="990720" y="4724280"/>
            <a:ext cx="152280" cy="990720"/>
          </a:xfrm>
          <a:prstGeom prst="upDownArrow">
            <a:avLst>
              <a:gd name="adj1" fmla="val 50000"/>
              <a:gd name="adj2" fmla="val 129516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AutoShape 16"/>
          <p:cNvSpPr/>
          <p:nvPr/>
        </p:nvSpPr>
        <p:spPr>
          <a:xfrm rot="5400000">
            <a:off x="1904400" y="4800600"/>
            <a:ext cx="152640" cy="990360"/>
          </a:xfrm>
          <a:prstGeom prst="upDownArrow">
            <a:avLst>
              <a:gd name="adj1" fmla="val 50000"/>
              <a:gd name="adj2" fmla="val 129163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Rectangle 17"/>
          <p:cNvSpPr/>
          <p:nvPr/>
        </p:nvSpPr>
        <p:spPr>
          <a:xfrm>
            <a:off x="609480" y="1828800"/>
            <a:ext cx="2057400" cy="419112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19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V: Polarimeters, dual-beam ty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Text Box 20"/>
          <p:cNvSpPr/>
          <p:nvPr/>
        </p:nvSpPr>
        <p:spPr>
          <a:xfrm>
            <a:off x="3276720" y="1828800"/>
            <a:ext cx="5486400" cy="43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polarized light: two beams have identical intensities whatever the prism’s position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f the 2 pixels have the same g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compensate different gains, switch the 2 beams and average the 2 measur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1" name="Object 21"/>
              <p:cNvSpPr txBox="1"/>
              <p:nvPr/>
            </p:nvSpPr>
            <p:spPr>
              <a:xfrm>
                <a:off x="5410080" y="3276720"/>
                <a:ext cx="895320" cy="19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Δ</m:t>
                        </m:r>
                      </m:num>
                      <m:den>
                        <m:r>
                          <m:t xml:space="preserve">Σ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Дата 2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Нижний колонтитул 3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Dual-beam polarimeters</a:t>
            </a:r>
            <a:br>
              <a:rPr sz="4400"/>
            </a:b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Switching beams by rotating the prism</a:t>
            </a: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545" name="Group 20"/>
          <p:cNvGrpSpPr/>
          <p:nvPr/>
        </p:nvGrpSpPr>
        <p:grpSpPr>
          <a:xfrm>
            <a:off x="2362320" y="1828800"/>
            <a:ext cx="5029200" cy="4267080"/>
            <a:chOff x="2362320" y="1828800"/>
            <a:chExt cx="5029200" cy="4267080"/>
          </a:xfrm>
        </p:grpSpPr>
        <p:sp>
          <p:nvSpPr>
            <p:cNvPr id="546" name="AutoShape 3"/>
            <p:cNvSpPr/>
            <p:nvPr/>
          </p:nvSpPr>
          <p:spPr>
            <a:xfrm>
              <a:off x="2895480" y="3276720"/>
              <a:ext cx="762120" cy="1295280"/>
            </a:xfrm>
            <a:prstGeom prst="can">
              <a:avLst>
                <a:gd name="adj" fmla="val 25000"/>
              </a:avLst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AutoShape 4"/>
            <p:cNvSpPr/>
            <p:nvPr/>
          </p:nvSpPr>
          <p:spPr>
            <a:xfrm rot="1141800">
              <a:off x="3276360" y="2133360"/>
              <a:ext cx="152280" cy="990360"/>
            </a:xfrm>
            <a:prstGeom prst="upDownArrow">
              <a:avLst>
                <a:gd name="adj1" fmla="val 50000"/>
                <a:gd name="adj2" fmla="val 129469"/>
              </a:avLst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AutoShape 5"/>
            <p:cNvSpPr/>
            <p:nvPr/>
          </p:nvSpPr>
          <p:spPr>
            <a:xfrm>
              <a:off x="2895480" y="4724280"/>
              <a:ext cx="152640" cy="990720"/>
            </a:xfrm>
            <a:prstGeom prst="upDownArrow">
              <a:avLst>
                <a:gd name="adj1" fmla="val 50000"/>
                <a:gd name="adj2" fmla="val 129210"/>
              </a:avLst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AutoShape 6"/>
            <p:cNvSpPr/>
            <p:nvPr/>
          </p:nvSpPr>
          <p:spPr>
            <a:xfrm rot="5400000">
              <a:off x="3466440" y="5143320"/>
              <a:ext cx="190800" cy="266760"/>
            </a:xfrm>
            <a:prstGeom prst="upDownArrow">
              <a:avLst>
                <a:gd name="adj1" fmla="val 50000"/>
                <a:gd name="adj2" fmla="val 27833"/>
              </a:avLst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AutoShape 7"/>
            <p:cNvSpPr/>
            <p:nvPr/>
          </p:nvSpPr>
          <p:spPr>
            <a:xfrm rot="1141800">
              <a:off x="5409720" y="2133360"/>
              <a:ext cx="152640" cy="990360"/>
            </a:xfrm>
            <a:prstGeom prst="upDownArrow">
              <a:avLst>
                <a:gd name="adj1" fmla="val 50000"/>
                <a:gd name="adj2" fmla="val 129163"/>
              </a:avLst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AutoShape 8"/>
            <p:cNvSpPr/>
            <p:nvPr/>
          </p:nvSpPr>
          <p:spPr>
            <a:xfrm>
              <a:off x="4952880" y="3276720"/>
              <a:ext cx="762120" cy="1295280"/>
            </a:xfrm>
            <a:prstGeom prst="can">
              <a:avLst>
                <a:gd name="adj" fmla="val 25000"/>
              </a:avLst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AutoShape 9"/>
            <p:cNvSpPr/>
            <p:nvPr/>
          </p:nvSpPr>
          <p:spPr>
            <a:xfrm>
              <a:off x="5638680" y="4876920"/>
              <a:ext cx="152640" cy="990360"/>
            </a:xfrm>
            <a:prstGeom prst="upDownArrow">
              <a:avLst>
                <a:gd name="adj1" fmla="val 50000"/>
                <a:gd name="adj2" fmla="val 129163"/>
              </a:avLst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AutoShape 10"/>
            <p:cNvSpPr/>
            <p:nvPr/>
          </p:nvSpPr>
          <p:spPr>
            <a:xfrm rot="5400000">
              <a:off x="5067000" y="5067360"/>
              <a:ext cx="190440" cy="266760"/>
            </a:xfrm>
            <a:prstGeom prst="upDownArrow">
              <a:avLst>
                <a:gd name="adj1" fmla="val 50000"/>
                <a:gd name="adj2" fmla="val 27885"/>
              </a:avLst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AutoShape 11"/>
            <p:cNvSpPr/>
            <p:nvPr/>
          </p:nvSpPr>
          <p:spPr>
            <a:xfrm>
              <a:off x="4267080" y="3733920"/>
              <a:ext cx="533520" cy="609480"/>
            </a:xfrm>
            <a:custGeom>
              <a:avLst/>
              <a:gdLst>
                <a:gd name="textAreaLeft" fmla="*/ 71280 w 533520"/>
                <a:gd name="textAreaRight" fmla="*/ 462240 w 533520"/>
                <a:gd name="textAreaTop" fmla="*/ 106560 h 609480"/>
                <a:gd name="textAreaBottom" fmla="*/ 44208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Text Box 12"/>
            <p:cNvSpPr/>
            <p:nvPr/>
          </p:nvSpPr>
          <p:spPr>
            <a:xfrm>
              <a:off x="5867280" y="3581280"/>
              <a:ext cx="1524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otate by 180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º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Rectangle 18"/>
            <p:cNvSpPr/>
            <p:nvPr/>
          </p:nvSpPr>
          <p:spPr>
            <a:xfrm>
              <a:off x="2362320" y="1828800"/>
              <a:ext cx="4876560" cy="426708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7" name="Text Box 19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V: Polarimeters, dual-beam ty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Дата 2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Нижний колонтитул 3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Dual-beam polarimeters</a:t>
            </a:r>
            <a:br>
              <a:rPr sz="4400"/>
            </a:b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Switching beams using a ½ wave plate</a:t>
            </a: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561" name="Group 20"/>
          <p:cNvGrpSpPr/>
          <p:nvPr/>
        </p:nvGrpSpPr>
        <p:grpSpPr>
          <a:xfrm>
            <a:off x="1905120" y="1602360"/>
            <a:ext cx="838080" cy="4569840"/>
            <a:chOff x="1905120" y="1602360"/>
            <a:chExt cx="838080" cy="4569840"/>
          </a:xfrm>
        </p:grpSpPr>
        <p:sp>
          <p:nvSpPr>
            <p:cNvPr id="562" name="AutoShape 3"/>
            <p:cNvSpPr/>
            <p:nvPr/>
          </p:nvSpPr>
          <p:spPr>
            <a:xfrm>
              <a:off x="1981080" y="3886200"/>
              <a:ext cx="761760" cy="1295280"/>
            </a:xfrm>
            <a:prstGeom prst="can">
              <a:avLst>
                <a:gd name="adj" fmla="val 25000"/>
              </a:avLst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AutoShape 4"/>
            <p:cNvSpPr/>
            <p:nvPr/>
          </p:nvSpPr>
          <p:spPr>
            <a:xfrm rot="1141800">
              <a:off x="2361600" y="1599840"/>
              <a:ext cx="152280" cy="990720"/>
            </a:xfrm>
            <a:prstGeom prst="upDownArrow">
              <a:avLst>
                <a:gd name="adj1" fmla="val 50000"/>
                <a:gd name="adj2" fmla="val 129516"/>
              </a:avLst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AutoShape 5"/>
            <p:cNvSpPr/>
            <p:nvPr/>
          </p:nvSpPr>
          <p:spPr>
            <a:xfrm>
              <a:off x="1905120" y="2590920"/>
              <a:ext cx="838080" cy="304560"/>
            </a:xfrm>
            <a:prstGeom prst="can">
              <a:avLst>
                <a:gd name="adj" fmla="val 25000"/>
              </a:avLst>
            </a:prstGeom>
            <a:solidFill>
              <a:srgbClr val="00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AutoShape 10"/>
            <p:cNvSpPr/>
            <p:nvPr/>
          </p:nvSpPr>
          <p:spPr>
            <a:xfrm rot="1141800">
              <a:off x="2285640" y="2895120"/>
              <a:ext cx="151920" cy="990720"/>
            </a:xfrm>
            <a:prstGeom prst="upDownArrow">
              <a:avLst>
                <a:gd name="adj1" fmla="val 50000"/>
                <a:gd name="adj2" fmla="val 129823"/>
              </a:avLst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AutoShape 11"/>
            <p:cNvSpPr/>
            <p:nvPr/>
          </p:nvSpPr>
          <p:spPr>
            <a:xfrm>
              <a:off x="2133360" y="5181480"/>
              <a:ext cx="152280" cy="990720"/>
            </a:xfrm>
            <a:prstGeom prst="upDownArrow">
              <a:avLst>
                <a:gd name="adj1" fmla="val 50000"/>
                <a:gd name="adj2" fmla="val 129516"/>
              </a:avLst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AutoShape 12"/>
            <p:cNvSpPr/>
            <p:nvPr/>
          </p:nvSpPr>
          <p:spPr>
            <a:xfrm rot="5400000">
              <a:off x="2476080" y="5600880"/>
              <a:ext cx="190800" cy="266400"/>
            </a:xfrm>
            <a:prstGeom prst="upDownArrow">
              <a:avLst>
                <a:gd name="adj1" fmla="val 50000"/>
                <a:gd name="adj2" fmla="val 27795"/>
              </a:avLst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8" name="Text Box 14"/>
          <p:cNvSpPr/>
          <p:nvPr/>
        </p:nvSpPr>
        <p:spPr>
          <a:xfrm>
            <a:off x="6095880" y="2819520"/>
            <a:ext cx="1371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tated by 4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9" name="Group 21"/>
          <p:cNvGrpSpPr/>
          <p:nvPr/>
        </p:nvGrpSpPr>
        <p:grpSpPr>
          <a:xfrm>
            <a:off x="4343400" y="1830960"/>
            <a:ext cx="1828440" cy="4150800"/>
            <a:chOff x="4343400" y="1830960"/>
            <a:chExt cx="1828440" cy="4150800"/>
          </a:xfrm>
        </p:grpSpPr>
        <p:sp>
          <p:nvSpPr>
            <p:cNvPr id="570" name="AutoShape 7"/>
            <p:cNvSpPr/>
            <p:nvPr/>
          </p:nvSpPr>
          <p:spPr>
            <a:xfrm rot="1141800">
              <a:off x="5410080" y="1828440"/>
              <a:ext cx="152280" cy="990720"/>
            </a:xfrm>
            <a:prstGeom prst="upDownArrow">
              <a:avLst>
                <a:gd name="adj1" fmla="val 50000"/>
                <a:gd name="adj2" fmla="val 129516"/>
              </a:avLst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AutoShape 8"/>
            <p:cNvSpPr/>
            <p:nvPr/>
          </p:nvSpPr>
          <p:spPr>
            <a:xfrm>
              <a:off x="4953240" y="2971800"/>
              <a:ext cx="838080" cy="304920"/>
            </a:xfrm>
            <a:prstGeom prst="can">
              <a:avLst>
                <a:gd name="adj" fmla="val 25000"/>
              </a:avLst>
            </a:prstGeom>
            <a:solidFill>
              <a:srgbClr val="00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AutoShape 9"/>
            <p:cNvSpPr/>
            <p:nvPr/>
          </p:nvSpPr>
          <p:spPr>
            <a:xfrm>
              <a:off x="4953240" y="4038840"/>
              <a:ext cx="761760" cy="1295280"/>
            </a:xfrm>
            <a:prstGeom prst="can">
              <a:avLst>
                <a:gd name="adj" fmla="val 25000"/>
              </a:avLst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AutoShape 13"/>
            <p:cNvSpPr/>
            <p:nvPr/>
          </p:nvSpPr>
          <p:spPr>
            <a:xfrm>
              <a:off x="4343400" y="2895840"/>
              <a:ext cx="533520" cy="609480"/>
            </a:xfrm>
            <a:custGeom>
              <a:avLst/>
              <a:gdLst>
                <a:gd name="textAreaLeft" fmla="*/ 71280 w 533520"/>
                <a:gd name="textAreaRight" fmla="*/ 462240 w 533520"/>
                <a:gd name="textAreaTop" fmla="*/ 106560 h 609480"/>
                <a:gd name="textAreaBottom" fmla="*/ 44208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AutoShape 15"/>
            <p:cNvSpPr/>
            <p:nvPr/>
          </p:nvSpPr>
          <p:spPr>
            <a:xfrm rot="6540000">
              <a:off x="5295600" y="3238560"/>
              <a:ext cx="152640" cy="990720"/>
            </a:xfrm>
            <a:prstGeom prst="upDownArrow">
              <a:avLst>
                <a:gd name="adj1" fmla="val 50000"/>
                <a:gd name="adj2" fmla="val 129210"/>
              </a:avLst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AutoShape 16"/>
            <p:cNvSpPr/>
            <p:nvPr/>
          </p:nvSpPr>
          <p:spPr>
            <a:xfrm>
              <a:off x="4800600" y="5715000"/>
              <a:ext cx="190800" cy="266760"/>
            </a:xfrm>
            <a:prstGeom prst="upDownArrow">
              <a:avLst>
                <a:gd name="adj1" fmla="val 50000"/>
                <a:gd name="adj2" fmla="val 27833"/>
              </a:avLst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AutoShape 17"/>
            <p:cNvSpPr/>
            <p:nvPr/>
          </p:nvSpPr>
          <p:spPr>
            <a:xfrm rot="5400000">
              <a:off x="5600160" y="5295960"/>
              <a:ext cx="152640" cy="990360"/>
            </a:xfrm>
            <a:prstGeom prst="upDownArrow">
              <a:avLst>
                <a:gd name="adj1" fmla="val 50000"/>
                <a:gd name="adj2" fmla="val 129163"/>
              </a:avLst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7" name="Text Box 18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V: Polarimeters, dual-beam ty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Rectangle 19"/>
          <p:cNvSpPr/>
          <p:nvPr/>
        </p:nvSpPr>
        <p:spPr>
          <a:xfrm>
            <a:off x="1143000" y="1523880"/>
            <a:ext cx="6781680" cy="4724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Дата 2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Нижний колонтитул 3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Dual-beam polarimeter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for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circular polarization - Wollaston and quarter-wave plate</a:t>
            </a:r>
            <a:endParaRPr b="1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582" name="Group 14"/>
          <p:cNvGrpSpPr/>
          <p:nvPr/>
        </p:nvGrpSpPr>
        <p:grpSpPr>
          <a:xfrm>
            <a:off x="1599840" y="1752480"/>
            <a:ext cx="838440" cy="4343400"/>
            <a:chOff x="1599840" y="1752480"/>
            <a:chExt cx="838440" cy="4343400"/>
          </a:xfrm>
        </p:grpSpPr>
        <p:sp>
          <p:nvSpPr>
            <p:cNvPr id="583" name="AutoShape 3"/>
            <p:cNvSpPr/>
            <p:nvPr/>
          </p:nvSpPr>
          <p:spPr>
            <a:xfrm>
              <a:off x="1600200" y="3733920"/>
              <a:ext cx="761760" cy="1295280"/>
            </a:xfrm>
            <a:prstGeom prst="can">
              <a:avLst>
                <a:gd name="adj" fmla="val 25000"/>
              </a:avLst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AutoShape 4"/>
            <p:cNvSpPr/>
            <p:nvPr/>
          </p:nvSpPr>
          <p:spPr>
            <a:xfrm>
              <a:off x="1600200" y="2438280"/>
              <a:ext cx="838080" cy="304920"/>
            </a:xfrm>
            <a:prstGeom prst="can">
              <a:avLst>
                <a:gd name="adj" fmla="val 25000"/>
              </a:avLst>
            </a:prstGeom>
            <a:solidFill>
              <a:srgbClr val="00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AutoShape 6"/>
            <p:cNvSpPr/>
            <p:nvPr/>
          </p:nvSpPr>
          <p:spPr>
            <a:xfrm rot="1141800">
              <a:off x="1980720" y="2742840"/>
              <a:ext cx="151920" cy="990720"/>
            </a:xfrm>
            <a:prstGeom prst="upDownArrow">
              <a:avLst>
                <a:gd name="adj1" fmla="val 50000"/>
                <a:gd name="adj2" fmla="val 129823"/>
              </a:avLst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AutoShape 7"/>
            <p:cNvSpPr/>
            <p:nvPr/>
          </p:nvSpPr>
          <p:spPr>
            <a:xfrm>
              <a:off x="1676160" y="5105520"/>
              <a:ext cx="151920" cy="990360"/>
            </a:xfrm>
            <a:prstGeom prst="upDownArrow">
              <a:avLst>
                <a:gd name="adj1" fmla="val 50000"/>
                <a:gd name="adj2" fmla="val 129775"/>
              </a:avLst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AutoShape 8"/>
            <p:cNvSpPr/>
            <p:nvPr/>
          </p:nvSpPr>
          <p:spPr>
            <a:xfrm rot="5400000">
              <a:off x="2094840" y="5448240"/>
              <a:ext cx="190440" cy="266400"/>
            </a:xfrm>
            <a:prstGeom prst="upDownArrow">
              <a:avLst>
                <a:gd name="adj1" fmla="val 50000"/>
                <a:gd name="adj2" fmla="val 27848"/>
              </a:avLst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8" name="Group 12"/>
            <p:cNvGrpSpPr/>
            <p:nvPr/>
          </p:nvGrpSpPr>
          <p:grpSpPr>
            <a:xfrm>
              <a:off x="1599840" y="1752480"/>
              <a:ext cx="685440" cy="533520"/>
              <a:chOff x="1599840" y="1752480"/>
              <a:chExt cx="685440" cy="533520"/>
            </a:xfrm>
          </p:grpSpPr>
          <p:sp>
            <p:nvSpPr>
              <p:cNvPr id="589" name="Oval 5"/>
              <p:cNvSpPr/>
              <p:nvPr/>
            </p:nvSpPr>
            <p:spPr>
              <a:xfrm>
                <a:off x="1752480" y="1752480"/>
                <a:ext cx="532800" cy="533520"/>
              </a:xfrm>
              <a:prstGeom prst="ellipse">
                <a:avLst/>
              </a:prstGeom>
              <a:noFill/>
              <a:ln w="63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Line 10"/>
              <p:cNvSpPr/>
              <p:nvPr/>
            </p:nvSpPr>
            <p:spPr>
              <a:xfrm flipH="1" flipV="1">
                <a:off x="1599840" y="1828440"/>
                <a:ext cx="152280" cy="228600"/>
              </a:xfrm>
              <a:prstGeom prst="line">
                <a:avLst/>
              </a:prstGeom>
              <a:ln w="63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Line 11"/>
              <p:cNvSpPr/>
              <p:nvPr/>
            </p:nvSpPr>
            <p:spPr>
              <a:xfrm flipV="1">
                <a:off x="1752480" y="1904760"/>
                <a:ext cx="228240" cy="152640"/>
              </a:xfrm>
              <a:prstGeom prst="line">
                <a:avLst/>
              </a:prstGeom>
              <a:ln w="63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92" name="Text Box 13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V: Polarimeters, dual-beam ty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5"/>
          <p:cNvSpPr/>
          <p:nvPr/>
        </p:nvSpPr>
        <p:spPr>
          <a:xfrm>
            <a:off x="1295280" y="1676520"/>
            <a:ext cx="1447920" cy="457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Text Box 16"/>
          <p:cNvSpPr/>
          <p:nvPr/>
        </p:nvSpPr>
        <p:spPr>
          <a:xfrm>
            <a:off x="3200400" y="1981080"/>
            <a:ext cx="525780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easurements V/I 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itch the beams to compensate the gain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5" name="Object 17"/>
              <p:cNvSpPr txBox="1"/>
              <p:nvPr/>
            </p:nvSpPr>
            <p:spPr>
              <a:xfrm>
                <a:off x="5181480" y="2590920"/>
                <a:ext cx="895320" cy="19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Δ</m:t>
                        </m:r>
                      </m:num>
                      <m:den>
                        <m:r>
                          <m:t xml:space="preserve">Σ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Дата 2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Нижний колонтитул 3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A real circular polarimeter</a:t>
            </a:r>
            <a:br>
              <a:rPr sz="4400"/>
            </a:b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Semel, Donati, Rees (1993)</a:t>
            </a: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9" name="AutoShape 3"/>
          <p:cNvSpPr/>
          <p:nvPr/>
        </p:nvSpPr>
        <p:spPr>
          <a:xfrm>
            <a:off x="1371600" y="2971800"/>
            <a:ext cx="838080" cy="304920"/>
          </a:xfrm>
          <a:prstGeom prst="can">
            <a:avLst>
              <a:gd name="adj" fmla="val 25000"/>
            </a:avLst>
          </a:prstGeom>
          <a:solidFill>
            <a:srgbClr val="00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0" name="Group 6"/>
          <p:cNvGrpSpPr/>
          <p:nvPr/>
        </p:nvGrpSpPr>
        <p:grpSpPr>
          <a:xfrm>
            <a:off x="1219320" y="4191120"/>
            <a:ext cx="1143000" cy="457200"/>
            <a:chOff x="1219320" y="4191120"/>
            <a:chExt cx="1143000" cy="457200"/>
          </a:xfrm>
        </p:grpSpPr>
        <p:sp>
          <p:nvSpPr>
            <p:cNvPr id="601" name="Rectangle 4"/>
            <p:cNvSpPr/>
            <p:nvPr/>
          </p:nvSpPr>
          <p:spPr>
            <a:xfrm>
              <a:off x="1219320" y="4191120"/>
              <a:ext cx="1143000" cy="2286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Rectangle 5"/>
            <p:cNvSpPr/>
            <p:nvPr/>
          </p:nvSpPr>
          <p:spPr>
            <a:xfrm>
              <a:off x="1219320" y="4419720"/>
              <a:ext cx="1143000" cy="22860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3" name="Text Box 7"/>
          <p:cNvSpPr/>
          <p:nvPr/>
        </p:nvSpPr>
        <p:spPr>
          <a:xfrm>
            <a:off x="2743200" y="281952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arter-wave plate, rotated at -4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 and +45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Text Box 8"/>
          <p:cNvSpPr/>
          <p:nvPr/>
        </p:nvSpPr>
        <p:spPr>
          <a:xfrm>
            <a:off x="2895480" y="419112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alyser: double calcite crys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5" name="Group 10"/>
          <p:cNvGrpSpPr/>
          <p:nvPr/>
        </p:nvGrpSpPr>
        <p:grpSpPr>
          <a:xfrm>
            <a:off x="1371600" y="2209680"/>
            <a:ext cx="685800" cy="533520"/>
            <a:chOff x="1371600" y="2209680"/>
            <a:chExt cx="685800" cy="533520"/>
          </a:xfrm>
        </p:grpSpPr>
        <p:sp>
          <p:nvSpPr>
            <p:cNvPr id="606" name="Oval 11"/>
            <p:cNvSpPr/>
            <p:nvPr/>
          </p:nvSpPr>
          <p:spPr>
            <a:xfrm>
              <a:off x="1524240" y="2209680"/>
              <a:ext cx="533160" cy="533520"/>
            </a:xfrm>
            <a:prstGeom prst="ellipse">
              <a:avLst/>
            </a:prstGeom>
            <a:noFill/>
            <a:ln w="63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Line 12"/>
            <p:cNvSpPr/>
            <p:nvPr/>
          </p:nvSpPr>
          <p:spPr>
            <a:xfrm flipH="1" flipV="1">
              <a:off x="1371600" y="2285640"/>
              <a:ext cx="152640" cy="228600"/>
            </a:xfrm>
            <a:prstGeom prst="line">
              <a:avLst/>
            </a:prstGeom>
            <a:ln w="63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Line 13"/>
            <p:cNvSpPr/>
            <p:nvPr/>
          </p:nvSpPr>
          <p:spPr>
            <a:xfrm flipV="1">
              <a:off x="1524240" y="2361960"/>
              <a:ext cx="228600" cy="152640"/>
            </a:xfrm>
            <a:prstGeom prst="line">
              <a:avLst/>
            </a:prstGeom>
            <a:ln w="63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9" name="AutoShape 14"/>
          <p:cNvSpPr/>
          <p:nvPr/>
        </p:nvSpPr>
        <p:spPr>
          <a:xfrm rot="19581600">
            <a:off x="1295280" y="3657240"/>
            <a:ext cx="838440" cy="152280"/>
          </a:xfrm>
          <a:prstGeom prst="leftRightArrow">
            <a:avLst>
              <a:gd name="adj1" fmla="val 50000"/>
              <a:gd name="adj2" fmla="val 109608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AutoShape 15"/>
          <p:cNvSpPr/>
          <p:nvPr/>
        </p:nvSpPr>
        <p:spPr>
          <a:xfrm>
            <a:off x="1371600" y="4800600"/>
            <a:ext cx="152280" cy="990720"/>
          </a:xfrm>
          <a:prstGeom prst="upDownArrow">
            <a:avLst>
              <a:gd name="adj1" fmla="val 50000"/>
              <a:gd name="adj2" fmla="val 129516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AutoShape 16"/>
          <p:cNvSpPr/>
          <p:nvPr/>
        </p:nvSpPr>
        <p:spPr>
          <a:xfrm rot="5400000">
            <a:off x="1942560" y="5143320"/>
            <a:ext cx="190800" cy="266760"/>
          </a:xfrm>
          <a:prstGeom prst="upDownArrow">
            <a:avLst>
              <a:gd name="adj1" fmla="val 50000"/>
              <a:gd name="adj2" fmla="val 27833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17"/>
          <p:cNvSpPr/>
          <p:nvPr/>
        </p:nvSpPr>
        <p:spPr>
          <a:xfrm>
            <a:off x="914400" y="1905120"/>
            <a:ext cx="1676520" cy="4114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Text Box 18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V: Polarimeters, example of circular polarime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Дата 3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Нижний колонтитул 4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Graphical representation of the EM wave (II)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26" name="Picture 4" descr="C:\Documents and Settings\manset\My Documents\CFHT_AND_SCIENCE\PolarizationOfLight\Ellipse.gif"/>
          <p:cNvPicPr/>
          <p:nvPr/>
        </p:nvPicPr>
        <p:blipFill>
          <a:blip r:embed="rId1"/>
          <a:stretch/>
        </p:blipFill>
        <p:spPr>
          <a:xfrm>
            <a:off x="380880" y="2743200"/>
            <a:ext cx="3438720" cy="250200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5"/>
          <p:cNvSpPr/>
          <p:nvPr/>
        </p:nvSpPr>
        <p:spPr>
          <a:xfrm>
            <a:off x="4038480" y="2743200"/>
            <a:ext cx="4038840" cy="253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n ellipse can be represented by 4 quantiti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65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ze of minor ax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65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ze of major ax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65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ientation (ang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65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se (CW, CC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6"/>
          <p:cNvSpPr/>
          <p:nvPr/>
        </p:nvSpPr>
        <p:spPr>
          <a:xfrm>
            <a:off x="2514600" y="5562720"/>
            <a:ext cx="55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Light can be represented by 4 quantitie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7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: Polarization sta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AutoShape 8"/>
          <p:cNvSpPr/>
          <p:nvPr/>
        </p:nvSpPr>
        <p:spPr>
          <a:xfrm>
            <a:off x="685800" y="5562720"/>
            <a:ext cx="1523880" cy="457200"/>
          </a:xfrm>
          <a:prstGeom prst="rightArrow">
            <a:avLst>
              <a:gd name="adj1" fmla="val 50000"/>
              <a:gd name="adj2" fmla="val 8332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Дата 2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Нижний колонтитул 3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A real circular polarimeter</a:t>
            </a:r>
            <a:br>
              <a:rPr sz="4400"/>
            </a:b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free from gain (g) and atmospheric transmission (</a:t>
            </a:r>
            <a:r>
              <a:rPr b="1" lang="en-US" sz="3200" spc="-1" strike="noStrike">
                <a:solidFill>
                  <a:srgbClr val="000066"/>
                </a:solidFill>
                <a:latin typeface="Symbol"/>
                <a:ea typeface="Symbol"/>
              </a:rPr>
              <a:t>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) variation effects</a:t>
            </a: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7" name="Text Box 3"/>
          <p:cNvSpPr/>
          <p:nvPr/>
        </p:nvSpPr>
        <p:spPr>
          <a:xfrm>
            <a:off x="609480" y="2362320"/>
            <a:ext cx="746784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rst measurement with quarter-wave plate at -4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signal in the (r)ight and (l)eft beam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measurement with quarter-wave plate at +4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, signal in the (r)ight and (l)eft beam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asurements of the signal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8" name="Object 4"/>
              <p:cNvSpPr txBox="1"/>
              <p:nvPr/>
            </p:nvSpPr>
            <p:spPr>
              <a:xfrm>
                <a:off x="4495680" y="2666880"/>
                <a:ext cx="114300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l</m:t>
                        </m:r>
                      </m:sup>
                    </m:sSubSup>
                    <m:r>
                      <m:t xml:space="preserve">,</m:t>
                    </m:r>
                    <m:r>
                      <m:t xml:space="preserve"> </m:t>
                    </m:r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r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9" name="Object 5"/>
              <p:cNvSpPr txBox="1"/>
              <p:nvPr/>
            </p:nvSpPr>
            <p:spPr>
              <a:xfrm>
                <a:off x="5334120" y="3581280"/>
                <a:ext cx="114300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l</m:t>
                        </m:r>
                      </m:sup>
                    </m:sSubSup>
                    <m:r>
                      <m:t xml:space="preserve">,</m:t>
                    </m:r>
                    <m:r>
                      <m:t xml:space="preserve"> </m:t>
                    </m:r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r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0" name="Object 6"/>
              <p:cNvSpPr txBox="1"/>
              <p:nvPr/>
            </p:nvSpPr>
            <p:spPr>
              <a:xfrm>
                <a:off x="1752480" y="4599000"/>
                <a:ext cx="5905800" cy="119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l</m:t>
                            </m:r>
                          </m:sup>
                        </m:sSub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g</m:t>
                            </m:r>
                          </m:e>
                          <m:sup>
                            <m:r>
                              <m:t xml:space="preserve">l</m:t>
                            </m:r>
                          </m:sup>
                        </m:sSup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 </m:t>
                        </m:r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r</m:t>
                            </m:r>
                          </m:sup>
                        </m:sSub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g</m:t>
                            </m:r>
                          </m:e>
                          <m:sup>
                            <m:r>
                              <m:t xml:space="preserve">r</m:t>
                            </m:r>
                          </m:sup>
                        </m:sSup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l</m:t>
                            </m:r>
                          </m:sup>
                        </m:sSub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g</m:t>
                            </m:r>
                          </m:e>
                          <m:sup>
                            <m:r>
                              <m:t xml:space="preserve">l</m:t>
                            </m:r>
                          </m:sup>
                        </m:sSup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 </m:t>
                        </m:r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r</m:t>
                            </m:r>
                          </m:sup>
                        </m:sSub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g</m:t>
                            </m:r>
                          </m:e>
                          <m:sup>
                            <m:r>
                              <m:t xml:space="preserve">r</m:t>
                            </m:r>
                          </m:sup>
                        </m:sSup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21" name="Text Box 7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V: Polarimeters, example of circular polarime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Дата 2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Нижний колонтитул 3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A real circular polarimeter</a:t>
            </a:r>
            <a:br>
              <a:rPr sz="4400"/>
            </a:b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free from gain and atmospheric transmission variation effects</a:t>
            </a: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5" name="Text Box 3"/>
          <p:cNvSpPr/>
          <p:nvPr/>
        </p:nvSpPr>
        <p:spPr>
          <a:xfrm>
            <a:off x="533520" y="243828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a ratio of measured signals which is free of gain and variable atmospheric transmission effec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6" name="Object 4"/>
              <p:cNvSpPr txBox="1"/>
              <p:nvPr/>
            </p:nvSpPr>
            <p:spPr>
              <a:xfrm>
                <a:off x="1143000" y="3352680"/>
                <a:ext cx="6375240" cy="220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Sup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l</m:t>
                                    </m:r>
                                  </m:sup>
                                </m:sSubSup>
                              </m:num>
                              <m:den>
                                <m:sSubSup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  <m:sup>
                                    <m:r>
                                      <m:t xml:space="preserve">l</m:t>
                                    </m:r>
                                  </m:sup>
                                </m:sSubSup>
                              </m:den>
                            </m:f>
                            <m:f>
                              <m:num>
                                <m:sSubSup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  <m:sup>
                                    <m:r>
                                      <m:t xml:space="preserve">r</m:t>
                                    </m:r>
                                  </m:sup>
                                </m:sSubSup>
                              </m:num>
                              <m:den>
                                <m:sSubSup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r</m:t>
                                    </m:r>
                                  </m:sup>
                                </m:sSubSup>
                              </m:den>
                            </m:f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f>
                          <m:num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  <m:e>
                        <m:r>
                          <m:t xml:space="preserve">F</m:t>
                        </m:r>
                        <m:r>
                          <m:t xml:space="preserve">≈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for </m:t>
                        </m:r>
                        <m:r>
                          <m:t xml:space="preserve">V</m:t>
                        </m:r>
                        <m:r>
                          <m:rPr>
                            <m:lit/>
                            <m:nor/>
                          </m:rPr>
                          <m:t xml:space="preserve">&lt;&lt;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27" name="AutoShape 5"/>
          <p:cNvSpPr/>
          <p:nvPr/>
        </p:nvSpPr>
        <p:spPr>
          <a:xfrm rot="16200000">
            <a:off x="2514600" y="4800240"/>
            <a:ext cx="228600" cy="1752840"/>
          </a:xfrm>
          <a:custGeom>
            <a:avLst/>
            <a:gdLst>
              <a:gd name="textAreaLeft" fmla="*/ 146160 w 228600"/>
              <a:gd name="textAreaRight" fmla="*/ 228960 w 228600"/>
              <a:gd name="textAreaTop" fmla="*/ 45720 h 1752840"/>
              <a:gd name="textAreaBottom" fmla="*/ 1707120 h 1752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6"/>
          <p:cNvSpPr/>
          <p:nvPr/>
        </p:nvSpPr>
        <p:spPr>
          <a:xfrm>
            <a:off x="838080" y="5715000"/>
            <a:ext cx="495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erage of the 2 measur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7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V: Polarimeters, example of circular polarime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Дата 3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Нижний колонтитул 4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Polarimeters - Summary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 typ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laroid-type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sy to make but ½ light is lost, and affected by variable atmospheric transmi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al-beam type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light lost but affected by gain differences and variable transmission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near polarimetry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alyzer, rota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alyzer + half-wave pl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ircular polarimetr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alyzer + quarter-wave pl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5"/>
          <p:cNvSpPr/>
          <p:nvPr/>
        </p:nvSpPr>
        <p:spPr>
          <a:xfrm>
            <a:off x="5486400" y="40384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 positions minim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Text Box 6"/>
          <p:cNvSpPr/>
          <p:nvPr/>
        </p:nvSpPr>
        <p:spPr>
          <a:xfrm>
            <a:off x="5867280" y="51055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position minim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Text Box 8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V: Polarimeters, summa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Дата 3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Нижний колонтитул 4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Part V: ESPaDOnS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53341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cal components of the polarimeter part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llaston prism: analyses the polarization and separates the 2 (linear!) orthogonal polarization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arders, 3 Fresnel rhomb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half-wave plates to switch the beams aro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arter-wave plate to do circular polarimetry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1" name="Picture 5" descr="C:\Documents and Settings\manset\My Documents\My Pictures\Polarimeter-white.jpg"/>
          <p:cNvPicPr/>
          <p:nvPr/>
        </p:nvPicPr>
        <p:blipFill>
          <a:blip r:embed="rId1"/>
          <a:stretch/>
        </p:blipFill>
        <p:spPr>
          <a:xfrm>
            <a:off x="5715000" y="1676520"/>
            <a:ext cx="2355840" cy="4506840"/>
          </a:xfrm>
          <a:prstGeom prst="rect">
            <a:avLst/>
          </a:prstGeom>
          <a:ln w="0">
            <a:noFill/>
          </a:ln>
        </p:spPr>
      </p:pic>
      <p:sp>
        <p:nvSpPr>
          <p:cNvPr id="642" name="Oval 6"/>
          <p:cNvSpPr/>
          <p:nvPr/>
        </p:nvSpPr>
        <p:spPr>
          <a:xfrm>
            <a:off x="6248520" y="4572000"/>
            <a:ext cx="1676160" cy="3049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AutoShape 7"/>
          <p:cNvSpPr/>
          <p:nvPr/>
        </p:nvSpPr>
        <p:spPr>
          <a:xfrm>
            <a:off x="7543800" y="2666880"/>
            <a:ext cx="304920" cy="1600200"/>
          </a:xfrm>
          <a:custGeom>
            <a:avLst/>
            <a:gdLst>
              <a:gd name="textAreaLeft" fmla="*/ 0 w 304920"/>
              <a:gd name="textAreaRight" fmla="*/ 110160 w 30492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Дата 3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Нижний колонтитул 4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ESPaDOnS: circular polarimetry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xed quarter-wave rhom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tating bottom half-wave, at 22.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 incr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p half-wave rotates continuously at about 1Hz to average out linear polarization when measuring circular pola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Text Box 4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V: ESPaDOnS, circular polarimetry m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Дата 2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Нижний колонтитул 3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ESPaDOnS: circular polarimetry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 of circular polarization</a:t>
            </a: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2" name="AutoShape 3"/>
          <p:cNvSpPr/>
          <p:nvPr/>
        </p:nvSpPr>
        <p:spPr>
          <a:xfrm rot="5400000">
            <a:off x="6667560" y="2628720"/>
            <a:ext cx="380880" cy="609840"/>
          </a:xfrm>
          <a:prstGeom prst="parallelogram">
            <a:avLst>
              <a:gd name="adj" fmla="val 25000"/>
            </a:avLst>
          </a:prstGeom>
          <a:solidFill>
            <a:srgbClr val="ff99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3" name="Group 7"/>
          <p:cNvGrpSpPr/>
          <p:nvPr/>
        </p:nvGrpSpPr>
        <p:grpSpPr>
          <a:xfrm>
            <a:off x="4109040" y="2658600"/>
            <a:ext cx="1224720" cy="397800"/>
            <a:chOff x="4109040" y="2658600"/>
            <a:chExt cx="1224720" cy="397800"/>
          </a:xfrm>
        </p:grpSpPr>
        <p:sp>
          <p:nvSpPr>
            <p:cNvPr id="654" name="AutoShape 4"/>
            <p:cNvSpPr/>
            <p:nvPr/>
          </p:nvSpPr>
          <p:spPr>
            <a:xfrm rot="5400000">
              <a:off x="4838400" y="2552400"/>
              <a:ext cx="380880" cy="609840"/>
            </a:xfrm>
            <a:prstGeom prst="parallelogram">
              <a:avLst>
                <a:gd name="adj" fmla="val 25000"/>
              </a:avLst>
            </a:prstGeom>
            <a:solidFill>
              <a:srgbClr val="ff99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AutoShape 5"/>
            <p:cNvSpPr/>
            <p:nvPr/>
          </p:nvSpPr>
          <p:spPr>
            <a:xfrm flipV="1" rot="5303400">
              <a:off x="4228200" y="2552400"/>
              <a:ext cx="380880" cy="609480"/>
            </a:xfrm>
            <a:prstGeom prst="parallelogram">
              <a:avLst>
                <a:gd name="adj" fmla="val 25000"/>
              </a:avLst>
            </a:prstGeom>
            <a:solidFill>
              <a:srgbClr val="ff99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6" name="AutoShape 6"/>
          <p:cNvSpPr/>
          <p:nvPr/>
        </p:nvSpPr>
        <p:spPr>
          <a:xfrm rot="5400000">
            <a:off x="2400120" y="2400120"/>
            <a:ext cx="533160" cy="914400"/>
          </a:xfrm>
          <a:prstGeom prst="can">
            <a:avLst>
              <a:gd name="adj" fmla="val 25000"/>
            </a:avLst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7" name="Group 8"/>
          <p:cNvGrpSpPr/>
          <p:nvPr/>
        </p:nvGrpSpPr>
        <p:grpSpPr>
          <a:xfrm>
            <a:off x="7467480" y="2666880"/>
            <a:ext cx="685800" cy="533520"/>
            <a:chOff x="7467480" y="2666880"/>
            <a:chExt cx="685800" cy="533520"/>
          </a:xfrm>
        </p:grpSpPr>
        <p:sp>
          <p:nvSpPr>
            <p:cNvPr id="658" name="Oval 9"/>
            <p:cNvSpPr/>
            <p:nvPr/>
          </p:nvSpPr>
          <p:spPr>
            <a:xfrm>
              <a:off x="7620120" y="2666880"/>
              <a:ext cx="533160" cy="533520"/>
            </a:xfrm>
            <a:prstGeom prst="ellipse">
              <a:avLst/>
            </a:prstGeom>
            <a:noFill/>
            <a:ln w="63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0"/>
            <p:cNvSpPr/>
            <p:nvPr/>
          </p:nvSpPr>
          <p:spPr>
            <a:xfrm flipH="1" flipV="1">
              <a:off x="7467480" y="2742840"/>
              <a:ext cx="152640" cy="228600"/>
            </a:xfrm>
            <a:prstGeom prst="line">
              <a:avLst/>
            </a:prstGeom>
            <a:ln w="63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1"/>
            <p:cNvSpPr/>
            <p:nvPr/>
          </p:nvSpPr>
          <p:spPr>
            <a:xfrm flipV="1">
              <a:off x="7620120" y="2819160"/>
              <a:ext cx="228600" cy="152640"/>
            </a:xfrm>
            <a:prstGeom prst="line">
              <a:avLst/>
            </a:prstGeom>
            <a:ln w="63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1" name="AutoShape 12"/>
          <p:cNvSpPr/>
          <p:nvPr/>
        </p:nvSpPr>
        <p:spPr>
          <a:xfrm rot="19581600">
            <a:off x="5562720" y="2819160"/>
            <a:ext cx="838080" cy="152280"/>
          </a:xfrm>
          <a:prstGeom prst="leftRightArrow">
            <a:avLst>
              <a:gd name="adj1" fmla="val 50000"/>
              <a:gd name="adj2" fmla="val 109561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AutoShape 13"/>
          <p:cNvSpPr/>
          <p:nvPr/>
        </p:nvSpPr>
        <p:spPr>
          <a:xfrm rot="3060000">
            <a:off x="3161520" y="2781360"/>
            <a:ext cx="838440" cy="152280"/>
          </a:xfrm>
          <a:prstGeom prst="leftRightArrow">
            <a:avLst>
              <a:gd name="adj1" fmla="val 50000"/>
              <a:gd name="adj2" fmla="val 109608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AutoShape 14"/>
          <p:cNvSpPr/>
          <p:nvPr/>
        </p:nvSpPr>
        <p:spPr>
          <a:xfrm rot="5400000">
            <a:off x="1333440" y="2095200"/>
            <a:ext cx="152280" cy="990720"/>
          </a:xfrm>
          <a:prstGeom prst="upDownArrow">
            <a:avLst>
              <a:gd name="adj1" fmla="val 50000"/>
              <a:gd name="adj2" fmla="val 129516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AutoShape 15"/>
          <p:cNvSpPr/>
          <p:nvPr/>
        </p:nvSpPr>
        <p:spPr>
          <a:xfrm rot="10800000">
            <a:off x="1295280" y="3047760"/>
            <a:ext cx="190800" cy="266760"/>
          </a:xfrm>
          <a:prstGeom prst="upDownArrow">
            <a:avLst>
              <a:gd name="adj1" fmla="val 50000"/>
              <a:gd name="adj2" fmla="val 27833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 Box 16"/>
          <p:cNvSpPr/>
          <p:nvPr/>
        </p:nvSpPr>
        <p:spPr>
          <a:xfrm>
            <a:off x="3962520" y="3505320"/>
            <a:ext cx="2286000" cy="28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lf-w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2.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ips polar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ain, transmi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 Box 17"/>
          <p:cNvSpPr/>
          <p:nvPr/>
        </p:nvSpPr>
        <p:spPr>
          <a:xfrm>
            <a:off x="6324480" y="3505320"/>
            <a:ext cx="144792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arter-w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rcular to lin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 Box 18"/>
          <p:cNvSpPr/>
          <p:nvPr/>
        </p:nvSpPr>
        <p:spPr>
          <a:xfrm>
            <a:off x="1981080" y="358128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aly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Rectangle 19"/>
          <p:cNvSpPr/>
          <p:nvPr/>
        </p:nvSpPr>
        <p:spPr>
          <a:xfrm>
            <a:off x="533520" y="2286000"/>
            <a:ext cx="80010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 Box 20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V: ESPaDOnS, circular polarimetry m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0" name="Object 21"/>
              <p:cNvSpPr txBox="1"/>
              <p:nvPr/>
            </p:nvSpPr>
            <p:spPr>
              <a:xfrm>
                <a:off x="762120" y="3733920"/>
                <a:ext cx="895320" cy="19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Δ</m:t>
                        </m:r>
                      </m:num>
                      <m:den>
                        <m:r>
                          <m:t xml:space="preserve">Σ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Дата 2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Нижний колонтитул 3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ESPaDOnS: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circular polarimetry of (unwanted) linear polarization</a:t>
            </a: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4" name="Text Box 16"/>
          <p:cNvSpPr/>
          <p:nvPr/>
        </p:nvSpPr>
        <p:spPr>
          <a:xfrm>
            <a:off x="3581280" y="3505320"/>
            <a:ext cx="18288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lf-w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2.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ain, transmi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 Box 17"/>
          <p:cNvSpPr/>
          <p:nvPr/>
        </p:nvSpPr>
        <p:spPr>
          <a:xfrm>
            <a:off x="5638680" y="3505320"/>
            <a:ext cx="144792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arter-w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ear to ellipt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Text Box 18"/>
          <p:cNvSpPr/>
          <p:nvPr/>
        </p:nvSpPr>
        <p:spPr>
          <a:xfrm>
            <a:off x="1523880" y="335268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aly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7" name="Group 26"/>
          <p:cNvGrpSpPr/>
          <p:nvPr/>
        </p:nvGrpSpPr>
        <p:grpSpPr>
          <a:xfrm>
            <a:off x="533520" y="2286000"/>
            <a:ext cx="8001000" cy="1143000"/>
            <a:chOff x="533520" y="2286000"/>
            <a:chExt cx="8001000" cy="1143000"/>
          </a:xfrm>
        </p:grpSpPr>
        <p:sp>
          <p:nvSpPr>
            <p:cNvPr id="678" name="AutoShape 3"/>
            <p:cNvSpPr/>
            <p:nvPr/>
          </p:nvSpPr>
          <p:spPr>
            <a:xfrm rot="5400000">
              <a:off x="5981760" y="2628720"/>
              <a:ext cx="380880" cy="609840"/>
            </a:xfrm>
            <a:prstGeom prst="parallelogram">
              <a:avLst>
                <a:gd name="adj" fmla="val 25000"/>
              </a:avLst>
            </a:prstGeom>
            <a:solidFill>
              <a:srgbClr val="ff99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AutoShape 7"/>
            <p:cNvSpPr/>
            <p:nvPr/>
          </p:nvSpPr>
          <p:spPr>
            <a:xfrm rot="5400000">
              <a:off x="1866960" y="2400120"/>
              <a:ext cx="533160" cy="914400"/>
            </a:xfrm>
            <a:prstGeom prst="can">
              <a:avLst>
                <a:gd name="adj" fmla="val 25000"/>
              </a:avLst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AutoShape 12"/>
            <p:cNvSpPr/>
            <p:nvPr/>
          </p:nvSpPr>
          <p:spPr>
            <a:xfrm rot="19581600">
              <a:off x="6552720" y="2895120"/>
              <a:ext cx="838440" cy="152640"/>
            </a:xfrm>
            <a:prstGeom prst="leftRightArrow">
              <a:avLst>
                <a:gd name="adj1" fmla="val 50000"/>
                <a:gd name="adj2" fmla="val 109350"/>
              </a:avLst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AutoShape 14"/>
            <p:cNvSpPr/>
            <p:nvPr/>
          </p:nvSpPr>
          <p:spPr>
            <a:xfrm rot="5400000">
              <a:off x="1028520" y="2095200"/>
              <a:ext cx="152280" cy="990720"/>
            </a:xfrm>
            <a:prstGeom prst="upDownArrow">
              <a:avLst>
                <a:gd name="adj1" fmla="val 50000"/>
                <a:gd name="adj2" fmla="val 129516"/>
              </a:avLst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AutoShape 15"/>
            <p:cNvSpPr/>
            <p:nvPr/>
          </p:nvSpPr>
          <p:spPr>
            <a:xfrm rot="10800000">
              <a:off x="990360" y="3047760"/>
              <a:ext cx="190440" cy="266760"/>
            </a:xfrm>
            <a:prstGeom prst="upDownArrow">
              <a:avLst>
                <a:gd name="adj1" fmla="val 50000"/>
                <a:gd name="adj2" fmla="val 27885"/>
              </a:avLst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Rectangle 19"/>
            <p:cNvSpPr/>
            <p:nvPr/>
          </p:nvSpPr>
          <p:spPr>
            <a:xfrm>
              <a:off x="533520" y="2286000"/>
              <a:ext cx="8001000" cy="1143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Oval 20"/>
            <p:cNvSpPr/>
            <p:nvPr/>
          </p:nvSpPr>
          <p:spPr>
            <a:xfrm rot="2106600">
              <a:off x="5333760" y="2514600"/>
              <a:ext cx="228600" cy="762120"/>
            </a:xfrm>
            <a:prstGeom prst="ellipse">
              <a:avLst/>
            </a:prstGeom>
            <a:noFill/>
            <a:ln w="63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Oval 21"/>
            <p:cNvSpPr/>
            <p:nvPr/>
          </p:nvSpPr>
          <p:spPr>
            <a:xfrm rot="6720000">
              <a:off x="3009600" y="2476080"/>
              <a:ext cx="228600" cy="762120"/>
            </a:xfrm>
            <a:prstGeom prst="ellipse">
              <a:avLst/>
            </a:prstGeom>
            <a:noFill/>
            <a:ln w="63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Text Box 22"/>
          <p:cNvSpPr/>
          <p:nvPr/>
        </p:nvSpPr>
        <p:spPr>
          <a:xfrm>
            <a:off x="380880" y="3581280"/>
            <a:ext cx="1828800" cy="275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ircular part goes through not analyzed and adds same intensities to both bea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near part is analyzed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Text Box 23"/>
          <p:cNvSpPr/>
          <p:nvPr/>
        </p:nvSpPr>
        <p:spPr>
          <a:xfrm>
            <a:off x="7315200" y="3581280"/>
            <a:ext cx="1447920" cy="24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Add a rotating half-wave to “spread out” the unwanted sign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8" name="Group 25"/>
          <p:cNvGrpSpPr/>
          <p:nvPr/>
        </p:nvGrpSpPr>
        <p:grpSpPr>
          <a:xfrm>
            <a:off x="7540920" y="2590920"/>
            <a:ext cx="764640" cy="609480"/>
            <a:chOff x="7540920" y="2590920"/>
            <a:chExt cx="764640" cy="609480"/>
          </a:xfrm>
        </p:grpSpPr>
        <p:grpSp>
          <p:nvGrpSpPr>
            <p:cNvPr id="689" name="Group 4"/>
            <p:cNvGrpSpPr/>
            <p:nvPr/>
          </p:nvGrpSpPr>
          <p:grpSpPr>
            <a:xfrm>
              <a:off x="7540920" y="2814480"/>
              <a:ext cx="764640" cy="239040"/>
              <a:chOff x="7540920" y="2814480"/>
              <a:chExt cx="764640" cy="239040"/>
            </a:xfrm>
          </p:grpSpPr>
          <p:sp>
            <p:nvSpPr>
              <p:cNvPr id="690" name="AutoShape 5"/>
              <p:cNvSpPr/>
              <p:nvPr/>
            </p:nvSpPr>
            <p:spPr>
              <a:xfrm rot="5400000">
                <a:off x="8000640" y="2743200"/>
                <a:ext cx="228600" cy="381240"/>
              </a:xfrm>
              <a:prstGeom prst="parallelogram">
                <a:avLst>
                  <a:gd name="adj" fmla="val 25000"/>
                </a:avLst>
              </a:prstGeom>
              <a:solidFill>
                <a:srgbClr val="ff99cc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AutoShape 6"/>
              <p:cNvSpPr/>
              <p:nvPr/>
            </p:nvSpPr>
            <p:spPr>
              <a:xfrm flipV="1" rot="5303400">
                <a:off x="7619760" y="2743560"/>
                <a:ext cx="228600" cy="380520"/>
              </a:xfrm>
              <a:prstGeom prst="parallelogram">
                <a:avLst>
                  <a:gd name="adj" fmla="val 25000"/>
                </a:avLst>
              </a:prstGeom>
              <a:solidFill>
                <a:srgbClr val="ff99cc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2" name="AutoShape 24"/>
            <p:cNvSpPr/>
            <p:nvPr/>
          </p:nvSpPr>
          <p:spPr>
            <a:xfrm>
              <a:off x="7772400" y="2590920"/>
              <a:ext cx="380880" cy="609480"/>
            </a:xfrm>
            <a:custGeom>
              <a:avLst/>
              <a:gdLst>
                <a:gd name="textAreaLeft" fmla="*/ 66600 w 380880"/>
                <a:gd name="textAreaRight" fmla="*/ 276120 w 380880"/>
                <a:gd name="textAreaTop" fmla="*/ 81360 h 609480"/>
                <a:gd name="textAreaBottom" fmla="*/ 52812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3" name="Group 27"/>
          <p:cNvGrpSpPr/>
          <p:nvPr/>
        </p:nvGrpSpPr>
        <p:grpSpPr>
          <a:xfrm>
            <a:off x="3729240" y="2658600"/>
            <a:ext cx="1223640" cy="397800"/>
            <a:chOff x="3729240" y="2658600"/>
            <a:chExt cx="1223640" cy="397800"/>
          </a:xfrm>
        </p:grpSpPr>
        <p:sp>
          <p:nvSpPr>
            <p:cNvPr id="694" name="AutoShape 28"/>
            <p:cNvSpPr/>
            <p:nvPr/>
          </p:nvSpPr>
          <p:spPr>
            <a:xfrm rot="5400000">
              <a:off x="4457520" y="2552400"/>
              <a:ext cx="380880" cy="609480"/>
            </a:xfrm>
            <a:prstGeom prst="parallelogram">
              <a:avLst>
                <a:gd name="adj" fmla="val 25000"/>
              </a:avLst>
            </a:prstGeom>
            <a:solidFill>
              <a:srgbClr val="ff99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AutoShape 29"/>
            <p:cNvSpPr/>
            <p:nvPr/>
          </p:nvSpPr>
          <p:spPr>
            <a:xfrm flipV="1" rot="5303400">
              <a:off x="3848400" y="2552400"/>
              <a:ext cx="380880" cy="609120"/>
            </a:xfrm>
            <a:prstGeom prst="parallelogram">
              <a:avLst>
                <a:gd name="adj" fmla="val 25000"/>
              </a:avLst>
            </a:prstGeom>
            <a:solidFill>
              <a:srgbClr val="ff99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6" name="Text Box 30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V: ESPaDOnS, circular polarimetry m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Дата 3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Нижний колонтитул 4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ESPaDOnS: linear polarimetry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609480" y="3580920"/>
            <a:ext cx="7772400" cy="22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lf-Wave rhombs positioned at 22.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 incr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arter-Wave fix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Text Box 4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V: ESPaDOnS, linear polari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AutoShape 5"/>
          <p:cNvSpPr/>
          <p:nvPr/>
        </p:nvSpPr>
        <p:spPr>
          <a:xfrm rot="5400000">
            <a:off x="5371920" y="2705040"/>
            <a:ext cx="304920" cy="380880"/>
          </a:xfrm>
          <a:prstGeom prst="parallelogram">
            <a:avLst>
              <a:gd name="adj" fmla="val 25000"/>
            </a:avLst>
          </a:prstGeom>
          <a:solidFill>
            <a:srgbClr val="ff99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AutoShape 6"/>
          <p:cNvSpPr/>
          <p:nvPr/>
        </p:nvSpPr>
        <p:spPr>
          <a:xfrm rot="5400000">
            <a:off x="1828440" y="2514600"/>
            <a:ext cx="381240" cy="685800"/>
          </a:xfrm>
          <a:prstGeom prst="can">
            <a:avLst>
              <a:gd name="adj" fmla="val 25000"/>
            </a:avLst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AutoShape 7"/>
          <p:cNvSpPr/>
          <p:nvPr/>
        </p:nvSpPr>
        <p:spPr>
          <a:xfrm rot="19581600">
            <a:off x="5866920" y="2895120"/>
            <a:ext cx="838440" cy="152640"/>
          </a:xfrm>
          <a:prstGeom prst="leftRightArrow">
            <a:avLst>
              <a:gd name="adj1" fmla="val 50000"/>
              <a:gd name="adj2" fmla="val 109350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AutoShape 8"/>
          <p:cNvSpPr/>
          <p:nvPr/>
        </p:nvSpPr>
        <p:spPr>
          <a:xfrm rot="5400000">
            <a:off x="1028520" y="2095200"/>
            <a:ext cx="152280" cy="990720"/>
          </a:xfrm>
          <a:prstGeom prst="upDownArrow">
            <a:avLst>
              <a:gd name="adj1" fmla="val 50000"/>
              <a:gd name="adj2" fmla="val 129516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AutoShape 9"/>
          <p:cNvSpPr/>
          <p:nvPr/>
        </p:nvSpPr>
        <p:spPr>
          <a:xfrm rot="10800000">
            <a:off x="990360" y="3047760"/>
            <a:ext cx="190440" cy="266760"/>
          </a:xfrm>
          <a:prstGeom prst="upDownArrow">
            <a:avLst>
              <a:gd name="adj1" fmla="val 50000"/>
              <a:gd name="adj2" fmla="val 27885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Rectangle 10"/>
          <p:cNvSpPr/>
          <p:nvPr/>
        </p:nvSpPr>
        <p:spPr>
          <a:xfrm>
            <a:off x="533520" y="2286000"/>
            <a:ext cx="80010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Oval 11"/>
          <p:cNvSpPr/>
          <p:nvPr/>
        </p:nvSpPr>
        <p:spPr>
          <a:xfrm rot="2106600">
            <a:off x="4723920" y="2514600"/>
            <a:ext cx="228600" cy="762120"/>
          </a:xfrm>
          <a:prstGeom prst="ellipse">
            <a:avLst/>
          </a:prstGeom>
          <a:noFill/>
          <a:ln w="63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Oval 12"/>
          <p:cNvSpPr/>
          <p:nvPr/>
        </p:nvSpPr>
        <p:spPr>
          <a:xfrm rot="6720000">
            <a:off x="2704680" y="2476080"/>
            <a:ext cx="228600" cy="762120"/>
          </a:xfrm>
          <a:prstGeom prst="ellipse">
            <a:avLst/>
          </a:prstGeom>
          <a:noFill/>
          <a:ln w="63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0" name="Group 13"/>
          <p:cNvGrpSpPr/>
          <p:nvPr/>
        </p:nvGrpSpPr>
        <p:grpSpPr>
          <a:xfrm>
            <a:off x="3425400" y="2661120"/>
            <a:ext cx="841680" cy="316440"/>
            <a:chOff x="3425400" y="2661120"/>
            <a:chExt cx="841680" cy="316440"/>
          </a:xfrm>
        </p:grpSpPr>
        <p:sp>
          <p:nvSpPr>
            <p:cNvPr id="711" name="AutoShape 14"/>
            <p:cNvSpPr/>
            <p:nvPr/>
          </p:nvSpPr>
          <p:spPr>
            <a:xfrm rot="5400000">
              <a:off x="3904920" y="2609640"/>
              <a:ext cx="304920" cy="419040"/>
            </a:xfrm>
            <a:prstGeom prst="parallelogram">
              <a:avLst>
                <a:gd name="adj" fmla="val 25000"/>
              </a:avLst>
            </a:prstGeom>
            <a:solidFill>
              <a:srgbClr val="ff99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AutoShape 15"/>
            <p:cNvSpPr/>
            <p:nvPr/>
          </p:nvSpPr>
          <p:spPr>
            <a:xfrm flipV="1" rot="5303400">
              <a:off x="3486240" y="2609640"/>
              <a:ext cx="304920" cy="418320"/>
            </a:xfrm>
            <a:prstGeom prst="parallelogram">
              <a:avLst>
                <a:gd name="adj" fmla="val 25000"/>
              </a:avLst>
            </a:prstGeom>
            <a:solidFill>
              <a:srgbClr val="ff99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3" name="Group 16"/>
          <p:cNvGrpSpPr/>
          <p:nvPr/>
        </p:nvGrpSpPr>
        <p:grpSpPr>
          <a:xfrm>
            <a:off x="6703200" y="2814480"/>
            <a:ext cx="764280" cy="239040"/>
            <a:chOff x="6703200" y="2814480"/>
            <a:chExt cx="764280" cy="239040"/>
          </a:xfrm>
        </p:grpSpPr>
        <p:sp>
          <p:nvSpPr>
            <p:cNvPr id="714" name="AutoShape 17"/>
            <p:cNvSpPr/>
            <p:nvPr/>
          </p:nvSpPr>
          <p:spPr>
            <a:xfrm rot="5400000">
              <a:off x="7162560" y="2743200"/>
              <a:ext cx="228600" cy="380880"/>
            </a:xfrm>
            <a:prstGeom prst="parallelogram">
              <a:avLst>
                <a:gd name="adj" fmla="val 25000"/>
              </a:avLst>
            </a:prstGeom>
            <a:solidFill>
              <a:srgbClr val="ff99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AutoShape 18"/>
            <p:cNvSpPr/>
            <p:nvPr/>
          </p:nvSpPr>
          <p:spPr>
            <a:xfrm flipV="1" rot="5303400">
              <a:off x="6782040" y="2743920"/>
              <a:ext cx="228600" cy="380160"/>
            </a:xfrm>
            <a:prstGeom prst="parallelogram">
              <a:avLst>
                <a:gd name="adj" fmla="val 25000"/>
              </a:avLst>
            </a:prstGeom>
            <a:solidFill>
              <a:srgbClr val="ff99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6" name="AutoShape 19"/>
          <p:cNvSpPr/>
          <p:nvPr/>
        </p:nvSpPr>
        <p:spPr>
          <a:xfrm rot="19581600">
            <a:off x="7543440" y="2895120"/>
            <a:ext cx="838080" cy="152640"/>
          </a:xfrm>
          <a:prstGeom prst="leftRightArrow">
            <a:avLst>
              <a:gd name="adj1" fmla="val 50000"/>
              <a:gd name="adj2" fmla="val 109303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Дата 3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Нижний колонтитул 4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ESPaDOnS: linear polarimetry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lf-Wave rhombs positioned as 22.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 incr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st position gives 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ond position gives 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witch beams for gain and atmosphere eff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arter-Wave fix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Text Box 4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V: ESPaDOnS, linear polari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2" name="Object 5"/>
              <p:cNvSpPr txBox="1"/>
              <p:nvPr/>
            </p:nvSpPr>
            <p:spPr>
              <a:xfrm>
                <a:off x="5486400" y="2666880"/>
                <a:ext cx="689040" cy="152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Δ</m:t>
                        </m:r>
                      </m:num>
                      <m:den>
                        <m:r>
                          <m:t xml:space="preserve">Σ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Дата 3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Нижний колонтитул 4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ESPaDOnS - Summary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PaDOnS can do linear and circular polarimetry (quarter-wave plat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ams are switched around to do the measurements, compensate for gain and atmospheric eff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esnel rhombs are very achromat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Text Box 4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V: ESPaDOnS, summa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Дата 3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Нижний колонтитул 4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Vertically polarized light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33520" y="274284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there is no amplitude in x (E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0), there is only one component, in y (vertical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5" descr="C:\Documents and Settings\manset\My Documents\CFHT_AND_SCIENCE\PolarizationOfLight\VerticallyPolarized2.gif"/>
          <p:cNvPicPr/>
          <p:nvPr/>
        </p:nvPicPr>
        <p:blipFill>
          <a:blip r:embed="rId1"/>
          <a:stretch/>
        </p:blipFill>
        <p:spPr>
          <a:xfrm>
            <a:off x="2209680" y="3809880"/>
            <a:ext cx="4915080" cy="23781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36" name="Object 6"/>
              <p:cNvSpPr txBox="1"/>
              <p:nvPr/>
            </p:nvSpPr>
            <p:spPr>
              <a:xfrm>
                <a:off x="2666880" y="1752480"/>
                <a:ext cx="3810240" cy="10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E</m:t>
                                </m:r>
                              </m:e>
                            </m:acc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z,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0x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kz-</m:t>
                        </m:r>
                        <m:r>
                          <m:t xml:space="preserve">ωt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E</m:t>
                                </m:r>
                              </m:e>
                            </m:acc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z,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0y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kz-</m:t>
                        </m:r>
                        <m:r>
                          <m:t xml:space="preserve">ωt</m:t>
                        </m:r>
                        <m:r>
                          <m:t xml:space="preserve">+</m:t>
                        </m:r>
                        <m:r>
                          <m:t xml:space="preserve">ε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37" name="Text Box 7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: Polarization states, linear polariz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Дата 1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Нижний колонтитул 2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0" name="Picture 5" descr="C:\Documents and Settings\manset\My Documents\My Pictures\dancecal2.gif"/>
          <p:cNvPicPr/>
          <p:nvPr/>
        </p:nvPicPr>
        <p:blipFill>
          <a:blip r:embed="rId1"/>
          <a:stretch/>
        </p:blipFill>
        <p:spPr>
          <a:xfrm>
            <a:off x="4876920" y="2362320"/>
            <a:ext cx="1933560" cy="1160280"/>
          </a:xfrm>
          <a:prstGeom prst="rect">
            <a:avLst/>
          </a:prstGeom>
          <a:ln w="0">
            <a:noFill/>
          </a:ln>
        </p:spPr>
      </p:pic>
      <p:pic>
        <p:nvPicPr>
          <p:cNvPr id="731" name="Picture 6" descr="C:\Documents and Settings\manset\My Documents\My Pictures\calvinhobbesdance.gif"/>
          <p:cNvPicPr/>
          <p:nvPr/>
        </p:nvPicPr>
        <p:blipFill>
          <a:blip r:embed="rId2"/>
          <a:stretch/>
        </p:blipFill>
        <p:spPr>
          <a:xfrm>
            <a:off x="2514600" y="2514600"/>
            <a:ext cx="125748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Дата 3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Нижний колонтитул 4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Credits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for pictures and movies</a:t>
            </a: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762120" y="12189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ristoph Keller’s home page – his 5 lectur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hlinkClick r:id="rId1"/>
              </a:rPr>
              <a:t>http://www.noao.edu/noao/staff/keller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ic Polarisation techniques and devices”, Meadowlark Optics Inc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hlinkClick r:id="rId2"/>
              </a:rPr>
              <a:t>http://www.meadowlark.com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Optic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E. Hecht  and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Astronomical Polarimetr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J. Tinberg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Planets, Stars and Nebulae Studied With Photopolarimetr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T. Gehr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ircular polarization movi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  <a:hlinkClick r:id="rId3"/>
              </a:rPr>
              <a:t>http://www.optics.arizona.edu/jcwyant/JoseDiaz/Polarization-Circular.ht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polarized light movi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  <a:hlinkClick r:id="rId4"/>
              </a:rPr>
              <a:t>http://www.colorado.edu/physics/2000/polarization/polarizationII.htm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flection of wav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://www.physicsclassroom.com/mmedia/waves/fix.htm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SPaDOnS web page and docu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Дата 3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Нижний колонтитул 4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References/Further reading </a:t>
            </a:r>
            <a:br>
              <a:rPr sz="4400"/>
            </a:b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On the Web</a:t>
            </a: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ry short and quick introduction, no equation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hlinkClick r:id="rId1"/>
              </a:rPr>
              <a:t>http://www.cfht.hawaii.edu/~manset/PolarIntro_eng.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sy fun page with Applets, on polarizing filters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hlinkClick r:id="rId2"/>
              </a:rPr>
              <a:t>http://www.colorado.edu/physics/2000/polarization/polarizationI.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larization short cours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hlinkClick r:id="rId3"/>
              </a:rPr>
              <a:t>http://www.glenbrook.k12.il.us/gbssci/phys/Class/light/u12l1e.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rumentation for Astrophysical Spectropolarimetry”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series of 5 lectures given at the IAC Winter School on Astrophysical Spectropolarimetry, November 2000 –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ttp://www.noao.edu/noao/staff/keller/lectures/index.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AutoShape 4"/>
          <p:cNvSpPr/>
          <p:nvPr/>
        </p:nvSpPr>
        <p:spPr>
          <a:xfrm>
            <a:off x="152280" y="4038480"/>
            <a:ext cx="609840" cy="381240"/>
          </a:xfrm>
          <a:custGeom>
            <a:avLst/>
            <a:gdLst>
              <a:gd name="textAreaLeft" fmla="*/ 95040 w 609840"/>
              <a:gd name="textAreaRight" fmla="*/ 533880 w 60984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Дата 3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Нижний колонтитул 4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References/Further reading </a:t>
            </a:r>
            <a:br>
              <a:rPr sz="4400"/>
            </a:b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Polarization basics</a:t>
            </a: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685800" y="25142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Polarized Ligh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D. Goldstein – excellent book, easy read, gives a lot of insight, highly recommend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dergraduate textbooks, either will d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ptic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E. Hec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av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F. S. Crawford,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erkeley Physics Course vol.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AutoShape 4"/>
          <p:cNvSpPr/>
          <p:nvPr/>
        </p:nvSpPr>
        <p:spPr>
          <a:xfrm>
            <a:off x="152280" y="3962520"/>
            <a:ext cx="609840" cy="380880"/>
          </a:xfrm>
          <a:custGeom>
            <a:avLst/>
            <a:gdLst>
              <a:gd name="textAreaLeft" fmla="*/ 95040 w 609840"/>
              <a:gd name="textAreaRight" fmla="*/ 533880 w 60984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AutoShape 5"/>
          <p:cNvSpPr/>
          <p:nvPr/>
        </p:nvSpPr>
        <p:spPr>
          <a:xfrm>
            <a:off x="152280" y="2590920"/>
            <a:ext cx="609840" cy="380880"/>
          </a:xfrm>
          <a:custGeom>
            <a:avLst/>
            <a:gdLst>
              <a:gd name="textAreaLeft" fmla="*/ 95040 w 609840"/>
              <a:gd name="textAreaRight" fmla="*/ 533880 w 60984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Дата 3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Нижний колонтитул 4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References/Further reading</a:t>
            </a:r>
            <a:br>
              <a:rPr sz="4400"/>
            </a:b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Astronomy, easy/intermediate</a:t>
            </a: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stronomical Polarimetr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J. Tinberge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rumentation-orien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La polarisation de la lumière et l'observation astronomiqu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J.-L. Leroy –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tronomy-orien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Planets, Stars and Nebulae Studied With Photopolarimetr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. Gehrels –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ld but class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 papers by K. Serkowski –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rumentation-orien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Дата 3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Нижний колонтитул 4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References/Further reading</a:t>
            </a:r>
            <a:br>
              <a:rPr sz="4400"/>
            </a:b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Astronomy, advanced</a:t>
            </a: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Introduction to Spectropolarimetr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J.C. del Toro Iniesta –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diative transfer – ouch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strophysical Spectropolarimetr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Trujillo-Bueno et al. (eds) –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ications to astronom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5" name="Picture 4" descr="C:\Documents and Settings\manset\My Documents\My Pictures\SourFace.gif"/>
          <p:cNvPicPr/>
          <p:nvPr/>
        </p:nvPicPr>
        <p:blipFill>
          <a:blip r:embed="rId1"/>
          <a:stretch/>
        </p:blipFill>
        <p:spPr>
          <a:xfrm>
            <a:off x="7848720" y="3048120"/>
            <a:ext cx="285480" cy="28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Дата 3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Нижний колонтитул 4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Polarization at 45</a:t>
            </a:r>
            <a:r>
              <a:rPr b="1" lang="en-US" sz="4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º (I)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there is no phase difference (</a:t>
            </a:r>
            <a:r>
              <a:rPr b="0" lang="en-US" sz="3200" spc="-1" strike="noStrike">
                <a:solidFill>
                  <a:srgbClr val="000000"/>
                </a:solidFill>
                <a:latin typeface="UniversalMath1 BT"/>
                <a:ea typeface="UniversalMath1 BT"/>
              </a:rPr>
              <a:t>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0) 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E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then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Picture 5" descr="C:\Documents and Settings\manset\My Documents\CFHT_AND_SCIENCE\PolarizationOfLight\45degPolarization2.gif"/>
          <p:cNvPicPr/>
          <p:nvPr/>
        </p:nvPicPr>
        <p:blipFill>
          <a:blip r:embed="rId1"/>
          <a:stretch/>
        </p:blipFill>
        <p:spPr>
          <a:xfrm>
            <a:off x="2209680" y="3962520"/>
            <a:ext cx="4915080" cy="23079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43" name="Object 6"/>
              <p:cNvSpPr txBox="1"/>
              <p:nvPr/>
            </p:nvSpPr>
            <p:spPr>
              <a:xfrm>
                <a:off x="2590920" y="1752480"/>
                <a:ext cx="3809880" cy="10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E</m:t>
                                </m:r>
                              </m:e>
                            </m:acc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z,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0x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kz-</m:t>
                        </m:r>
                        <m:r>
                          <m:t xml:space="preserve">ωt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E</m:t>
                                </m:r>
                              </m:e>
                            </m:acc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z,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0y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kz-</m:t>
                        </m:r>
                        <m:r>
                          <m:t xml:space="preserve">ωt</m:t>
                        </m:r>
                        <m:r>
                          <m:t xml:space="preserve">+</m:t>
                        </m:r>
                        <m:r>
                          <m:t xml:space="preserve">ε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4" name="Text Box 7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: Polarization states, linear polariz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21T23:34:26Z</dcterms:created>
  <dc:creator>N. Manset</dc:creator>
  <dc:description/>
  <dc:language>en-US</dc:language>
  <cp:lastModifiedBy>LEGION</cp:lastModifiedBy>
  <dcterms:modified xsi:type="dcterms:W3CDTF">2018-03-12T09:37:05Z</dcterms:modified>
  <cp:revision>101</cp:revision>
  <dc:subject/>
  <dc:title>Polarization of Light</dc:title>
</cp:coreProperties>
</file>