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8E80-3AC4-4AFD-9603-3D371B93B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615B-4414-451B-B79F-4FCE464EDE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1E33-DB92-4A88-9204-5AAC74F50D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517B-5436-4CA7-95CE-FA2E4AD17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60C9-C627-407D-B7C4-43D0F31D4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BB22-F877-4DC9-B71B-B149EB58C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DB46-B756-4C91-BDA1-6BF04A1915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83BF-D7FF-4E20-8098-78BA1BBF76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CAAA-AD50-4018-BD11-8BAFA6963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9154-7316-418B-BEB9-C14EEDB593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0F99-3B88-44C4-A008-80D19B4A92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42A3-A945-4CB3-801F-860E56558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484-C0D3-4DFE-8E02-7E0083EC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226-86CA-4424-9F76-1650AD1E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525-0D12-4C67-B94B-3668DA6D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186-886C-44A9-A3B5-C8665947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B2C-EFA1-45CB-8674-DEE9E97A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C15-1731-404B-AD9A-28D697BD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72F-CC04-449F-9262-855CCE61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E87-738C-4B4F-884F-6960F82A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B4A-16CA-4CC2-B7DB-846C3CBB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5E0-E9B9-48E2-84BF-C995AA31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E40-36F7-4F34-BA93-FFA3D4D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28A-0026-48CA-8F41-0ED7D228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4080-A1A2-4D15-ACC7-2098ED5F5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6093000"/>
            <a:ext cx="640080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neptune"/>
          <p:cNvPicPr/>
          <p:nvPr/>
        </p:nvPicPr>
        <p:blipFill>
          <a:blip r:embed="rId1"/>
          <a:stretch/>
        </p:blipFill>
        <p:spPr>
          <a:xfrm>
            <a:off x="2540160" y="1868400"/>
            <a:ext cx="40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luto"/>
          <p:cNvPicPr/>
          <p:nvPr/>
        </p:nvPicPr>
        <p:blipFill>
          <a:blip r:embed="rId1"/>
          <a:stretch/>
        </p:blipFill>
        <p:spPr>
          <a:xfrm>
            <a:off x="2556000" y="1413000"/>
            <a:ext cx="40273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un_skylab"/>
          <p:cNvPicPr/>
          <p:nvPr/>
        </p:nvPicPr>
        <p:blipFill>
          <a:blip r:embed="rId1"/>
          <a:stretch/>
        </p:blipFill>
        <p:spPr>
          <a:xfrm>
            <a:off x="1763640" y="1268280"/>
            <a:ext cx="5515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ercury2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nus"/>
          <p:cNvPicPr/>
          <p:nvPr/>
        </p:nvPicPr>
        <p:blipFill>
          <a:blip r:embed="rId1"/>
          <a:stretch/>
        </p:blipFill>
        <p:spPr>
          <a:xfrm>
            <a:off x="2340000" y="1197000"/>
            <a:ext cx="4381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earth"/>
          <p:cNvPicPr/>
          <p:nvPr/>
        </p:nvPicPr>
        <p:blipFill>
          <a:blip r:embed="rId1"/>
          <a:stretch/>
        </p:blipFill>
        <p:spPr>
          <a:xfrm>
            <a:off x="2330280" y="160020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rs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upiteR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aturn"/>
          <p:cNvPicPr/>
          <p:nvPr/>
        </p:nvPicPr>
        <p:blipFill>
          <a:blip r:embed="rId1"/>
          <a:stretch/>
        </p:blipFill>
        <p:spPr>
          <a:xfrm>
            <a:off x="1654200" y="1600200"/>
            <a:ext cx="58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uranus"/>
          <p:cNvPicPr/>
          <p:nvPr/>
        </p:nvPicPr>
        <p:blipFill>
          <a:blip r:embed="rId1"/>
          <a:stretch/>
        </p:blipFill>
        <p:spPr>
          <a:xfrm>
            <a:off x="2556000" y="1413000"/>
            <a:ext cx="4198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06:35Z</dcterms:created>
  <dc:creator>GB</dc:creator>
  <dc:description/>
  <dc:language>en-US</dc:language>
  <cp:lastModifiedBy>RomaK</cp:lastModifiedBy>
  <dcterms:modified xsi:type="dcterms:W3CDTF">2015-07-31T22:51:08Z</dcterms:modified>
  <cp:revision>5</cp:revision>
  <dc:subject/>
  <dc:title>OUR SOLAR SYSTEM</dc:title>
</cp:coreProperties>
</file>