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BF6A-6F7A-48B8-B809-36BCA6B2C0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80EA-5D68-4311-AEBD-FEFF3C8E81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594F-BDE6-44F1-8E9D-83E4E653FB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5A0D-1BB3-4B1D-AD84-8D4622353C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47BD-B391-4D0B-9E6B-02D290522B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03CD-6AAD-4245-8FB8-552ABB611E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6E27-962A-434B-BB08-4C5ECD4E47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3B69-672C-44F4-809F-9F7EA06357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CFE7-E660-4837-914F-58940466F5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6895-8CC8-48CD-88B5-51F66DD1D4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9718-580D-485B-AF87-40556825DB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413C-6DCF-4AFD-8958-91448262AB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3C5D-D2BF-46C7-9D8E-DFABCA96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73C3-B6BB-4066-801C-E7EA9034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FB67-CF5B-4C25-A27A-50C95B67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A9B4-D4CB-4F2C-8535-A769B50C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71C-93D5-4AC1-9F5D-C34EC932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1DC-F2D6-459F-911C-FD5D2EED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0B90-7D5B-4A80-AF0A-3ADA3F73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DA00-825C-4567-B957-7ABC1AB1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12E-FCE5-4B5D-B9BB-7DB72B91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76B5-84D1-498E-A094-DA05E767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44C3-F824-471A-8C28-0CE19BCB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145F-1910-41E2-A2BE-07E8F645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4816-8776-450C-B837-4D9014DBE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81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4360" y="6093000"/>
            <a:ext cx="6400800" cy="62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neptune"/>
          <p:cNvPicPr/>
          <p:nvPr/>
        </p:nvPicPr>
        <p:blipFill>
          <a:blip r:embed="rId1"/>
          <a:stretch/>
        </p:blipFill>
        <p:spPr>
          <a:xfrm>
            <a:off x="2540160" y="1868400"/>
            <a:ext cx="40636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Pluto"/>
          <p:cNvPicPr/>
          <p:nvPr/>
        </p:nvPicPr>
        <p:blipFill>
          <a:blip r:embed="rId1"/>
          <a:stretch/>
        </p:blipFill>
        <p:spPr>
          <a:xfrm>
            <a:off x="2556000" y="1413000"/>
            <a:ext cx="402732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sun_skylab"/>
          <p:cNvPicPr/>
          <p:nvPr/>
        </p:nvPicPr>
        <p:blipFill>
          <a:blip r:embed="rId1"/>
          <a:stretch/>
        </p:blipFill>
        <p:spPr>
          <a:xfrm>
            <a:off x="1763640" y="1268280"/>
            <a:ext cx="55152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mercury2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venus"/>
          <p:cNvPicPr/>
          <p:nvPr/>
        </p:nvPicPr>
        <p:blipFill>
          <a:blip r:embed="rId1"/>
          <a:stretch/>
        </p:blipFill>
        <p:spPr>
          <a:xfrm>
            <a:off x="2340000" y="1197000"/>
            <a:ext cx="438156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earth"/>
          <p:cNvPicPr/>
          <p:nvPr/>
        </p:nvPicPr>
        <p:blipFill>
          <a:blip r:embed="rId1"/>
          <a:stretch/>
        </p:blipFill>
        <p:spPr>
          <a:xfrm>
            <a:off x="2330280" y="1600200"/>
            <a:ext cx="4483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mars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jupiteR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saturn"/>
          <p:cNvPicPr/>
          <p:nvPr/>
        </p:nvPicPr>
        <p:blipFill>
          <a:blip r:embed="rId1"/>
          <a:stretch/>
        </p:blipFill>
        <p:spPr>
          <a:xfrm>
            <a:off x="1654200" y="1600200"/>
            <a:ext cx="5834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uranus"/>
          <p:cNvPicPr/>
          <p:nvPr/>
        </p:nvPicPr>
        <p:blipFill>
          <a:blip r:embed="rId1"/>
          <a:stretch/>
        </p:blipFill>
        <p:spPr>
          <a:xfrm>
            <a:off x="2556000" y="1413000"/>
            <a:ext cx="419868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8:06:35Z</dcterms:created>
  <dc:creator>GB</dc:creator>
  <dc:description/>
  <dc:language>en-US</dc:language>
  <cp:lastModifiedBy>RomaK</cp:lastModifiedBy>
  <dcterms:modified xsi:type="dcterms:W3CDTF">2015-07-31T22:51:08Z</dcterms:modified>
  <cp:revision>5</cp:revision>
  <dc:subject/>
  <dc:title>OUR SOLAR SYSTEM</dc:title>
</cp:coreProperties>
</file>