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ZZZZ.wav" ContentType="audio/x-wav"/>
  <Override PartName="/ppt/media/image9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8EE4-E3EC-443A-BB90-94F05240772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76F-3DAF-44DC-93BD-46595893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EB5-52EF-4495-80D6-05A968D0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4C9-1C9C-4760-8518-41A21CA7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3E0-61BE-4006-B49D-DA0C6F8E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8492-F4C1-4AA5-AD6E-846CBFDE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1A42-8F15-43B7-8BC6-AE7AA562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9A04-DC2C-41F7-9DFE-EA2B3AD1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8FB2-C3B0-44A7-9A9D-A847BB0E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5A21-0A17-42C3-8A4E-320061B6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BD2C-2F42-45B7-AC31-E731D54F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B6EE-FA11-42FB-B925-10F7182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DCB-EFC7-4AD0-98CD-D322773A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83C3-4C3C-422D-B134-70AF7B0A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6AF2-CE1A-4B63-AC22-4C7642FD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AC14-B98D-446F-B594-CDB3529C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2CC1-B644-4422-A9AF-D6DDD2F4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943E-3093-4968-9687-E6829F5A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47441-26D1-490F-8D5D-9CC996BC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B4AD0-929A-45E3-9989-39D1C059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A62DC-9269-4A78-92C7-5D3A46E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7179B-F981-4CCC-B056-FEF9903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BD5B3-9A1C-4A72-932B-E06D9EB3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B9E-DAB8-42D6-89B3-BCD737A3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B03FE-A20D-4A29-80E8-D294A41B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42E52-B505-48EF-89A3-ECC79831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F0FBA-50CC-4925-87C4-8F85E29A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AEC1F-C3CF-4AB9-AEA5-F6471C7C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E101D-F96C-4A7A-84B4-6A51FF48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34F8F-4D5A-4497-816D-278B369A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7A5AA-8B4F-4277-A997-19145B7E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559F6-3996-4022-9278-ED28F495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55D68-84EE-4DA4-AD36-7BF6EFA5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09DDF-2AC8-45AD-94A1-3323758D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F9D-9144-413F-A113-5E81CE72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CE63D-977A-48FB-BDBD-B99C771B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A8B52-4282-43AE-A318-92291A41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025E2-FCF0-4AB3-8FA5-4C9031E6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38FAF-D630-4857-A442-55650DD7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2648C-80B6-4946-A030-E91B8F5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EEEEA-A3F0-47A9-8097-362D4AF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9FA52-2294-4E49-A2C2-D77C5674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F7993-C3CF-4C39-B748-8CC9D557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8E6C7-F5B4-45DD-BF1D-DC37653B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CBF8C-28D4-4D33-BFD6-AFA74F8E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510-DAC2-4CED-8FAE-21140D0D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0E226-7CE9-44AB-AD13-53558377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05215-B8EE-440F-B691-D75043C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CDE6C-3F77-4588-87FE-00248106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DC94C-181D-4946-BF06-ABE3CB1A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E6E30-B94B-4AE3-B878-1BBC150D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DA210-4771-43B6-93F2-E1C5722B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850EB-941F-4B23-8B67-5A5886D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9E6DA-9880-4DAA-A373-26EE444F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12B05-C7FB-4721-95F1-A3AA0209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70927-AC55-4D50-B418-32E22476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44E-3C8A-4C60-B67F-CD9B2C97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76E55-1C58-449D-8358-F5DAA0A1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BB047-082C-4A03-A7C8-A34AA4C0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98524-760A-4384-BBEB-CC1F69E0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7CBD0-1932-45C9-9323-CC2779DA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0B4EC-B895-4D71-BA75-D78305CD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19B45-0114-4A5B-AE0A-3A78E3D1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50608-6FA3-4D1C-8DC5-1D13A7CF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F98C2-D6BB-4605-94AA-24F8F53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493CE-979C-4D72-A3AB-C4EFCBA5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0E2E-6F97-4514-9902-ED537240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D31-B1CF-4149-B090-74869C20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16B8-5E34-4A51-BF08-49AD3961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6573-2CD5-42C2-B25C-ACD17FD3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16C52-D98B-4710-AE2E-0FDB1DC4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6E68C-61E4-480F-9F54-3C5D6DB9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F5F68-3CCC-4F0A-8BB0-28870E2A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15ACA-DD4B-482B-B6CA-21E0AA4B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5DB70-4F4D-4811-9157-B51DDA8C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2F622-CFB6-44A0-B5EB-14DFCFBE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40D4B-98A4-44CC-82B6-55476604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8A075-D24E-4AFB-BE8E-1D9960B6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067-42FE-4473-A7A8-AB38DF8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24848-2811-4E3C-9B67-5CCD8DBF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C3F29-20F1-451D-A752-D5C6572E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94418-A4FE-4374-8450-7CFFC54B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02CC1-1FE9-4317-B5C2-1B85BD0D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93624-70BC-4E39-B5CF-D21B141C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238C-D8A4-4B37-831F-41B8883B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3290E-1D9B-4C14-957B-3376530A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ADC79-DFA6-4A28-BE8B-0451B4C1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4D7DC-DA6F-4E68-9A2B-29BC3545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4B868-9911-4CC6-8082-3F7BCD71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1A3-2A51-43E0-905D-1FC84BE5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845F-DDD0-4A7E-A48D-79680D80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BCF91-52F0-4CB9-8E1B-B8B1596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A4D2E-8201-4845-920C-6DC96B17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5BD2-11B4-4F70-B13B-F1054319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5FB48-2048-4E3B-9416-82B34941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D2B41-4B27-4A83-A64F-E8F13F08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1669-4DD1-4E98-A0E8-7751E80C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776F-6927-4A51-9732-B0529010AE0E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9FAF-D646-45CE-9A6F-CB53BD8E2B9E}" type="slidenum">
              <a:rPr b="1" lang="en-US" sz="1400" spc="-1" strike="noStrike">
                <a:solidFill>
                  <a:srgbClr val="ebddc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4D6D-2603-40CC-971F-8EF5A7FF9F42}" type="slidenum">
              <a:rPr b="1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F4BE-E209-407C-825F-4187A3F81619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0D9E-C597-41D9-A67B-3EAA1D881C3A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2B19-1187-4763-AEF5-FE39678D5E75}" type="slidenum">
              <a:rPr b="1" lang="en-US" sz="1400" spc="-1" strike="noStrike">
                <a:solidFill>
                  <a:srgbClr val="775f55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оугольник 16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6196-4EFA-4A96-94FC-89F17E5C6A37}" type="slidenum">
              <a:rPr b="1" lang="en-US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2972-CBA6-4991-AF74-1FCAC872E210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Animals in the Winter</a:t>
            </a:r>
            <a:r>
              <a:rPr b="1" lang="en-US" sz="6000" spc="-1" strike="noStrike">
                <a:solidFill>
                  <a:srgbClr val="775f55"/>
                </a:solidFill>
                <a:latin typeface="Comic Sans MS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4" descr="bear-hibernate"/>
          <p:cNvPicPr/>
          <p:nvPr/>
        </p:nvPicPr>
        <p:blipFill>
          <a:blip r:embed="rId1"/>
          <a:stretch/>
        </p:blipFill>
        <p:spPr>
          <a:xfrm>
            <a:off x="2438280" y="2209680"/>
            <a:ext cx="4133880" cy="3934080"/>
          </a:xfrm>
          <a:prstGeom prst="rect">
            <a:avLst/>
          </a:prstGeom>
          <a:ln w="0">
            <a:noFill/>
          </a:ln>
        </p:spPr>
      </p:pic>
      <p:sp>
        <p:nvSpPr>
          <p:cNvPr id="368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  <p:sndAc>
      <p:stSnd>
        <p:snd r:embed="rId2" name="ZZZZ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03456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4" descr="think-boy1"/>
          <p:cNvPicPr/>
          <p:nvPr/>
        </p:nvPicPr>
        <p:blipFill>
          <a:blip r:embed="rId1"/>
          <a:stretch/>
        </p:blipFill>
        <p:spPr>
          <a:xfrm>
            <a:off x="3733920" y="2895480"/>
            <a:ext cx="2651040" cy="27622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3045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think-boy1"/>
          <p:cNvPicPr/>
          <p:nvPr/>
        </p:nvPicPr>
        <p:blipFill>
          <a:blip r:embed="rId1"/>
          <a:stretch/>
        </p:blipFill>
        <p:spPr>
          <a:xfrm>
            <a:off x="5410080" y="2362320"/>
            <a:ext cx="2651400" cy="276228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0320" y="-6876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4" descr="thinking"/>
          <p:cNvPicPr/>
          <p:nvPr/>
        </p:nvPicPr>
        <p:blipFill>
          <a:blip r:embed="rId1"/>
          <a:stretch/>
        </p:blipFill>
        <p:spPr>
          <a:xfrm>
            <a:off x="2971800" y="2057400"/>
            <a:ext cx="2260440" cy="390204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bird-aviator"/>
          <p:cNvPicPr/>
          <p:nvPr/>
        </p:nvPicPr>
        <p:blipFill>
          <a:blip r:embed="rId1"/>
          <a:stretch/>
        </p:blipFill>
        <p:spPr>
          <a:xfrm>
            <a:off x="3505320" y="2971800"/>
            <a:ext cx="2879640" cy="28926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0320" y="3924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4" descr="bird-aviator"/>
          <p:cNvPicPr/>
          <p:nvPr/>
        </p:nvPicPr>
        <p:blipFill>
          <a:blip r:embed="rId1"/>
          <a:stretch/>
        </p:blipFill>
        <p:spPr>
          <a:xfrm>
            <a:off x="3276720" y="1905120"/>
            <a:ext cx="2125440" cy="1828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136368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5"/>
          <p:cNvGrpSpPr/>
          <p:nvPr/>
        </p:nvGrpSpPr>
        <p:grpSpPr>
          <a:xfrm>
            <a:off x="3811680" y="2400480"/>
            <a:ext cx="9144000" cy="360"/>
            <a:chOff x="3811680" y="2400480"/>
            <a:chExt cx="9144000" cy="360"/>
          </a:xfrm>
        </p:grpSpPr>
        <p:sp>
          <p:nvSpPr>
            <p:cNvPr id="381" name="Rectangle 14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83" name="Picture 12" descr=" Bears - Pictures "/>
          <p:cNvPicPr/>
          <p:nvPr/>
        </p:nvPicPr>
        <p:blipFill>
          <a:blip r:embed="rId2"/>
          <a:stretch/>
        </p:blipFill>
        <p:spPr>
          <a:xfrm>
            <a:off x="3505320" y="3657600"/>
            <a:ext cx="1520640" cy="20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3"/>
          <p:cNvSpPr/>
          <p:nvPr/>
        </p:nvSpPr>
        <p:spPr>
          <a:xfrm>
            <a:off x="3811680" y="2400480"/>
            <a:ext cx="2514600" cy="360"/>
          </a:xfrm>
          <a:prstGeom prst="rect">
            <a:avLst/>
          </a:prstGeom>
          <a:solidFill>
            <a:srgbClr val="ed8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Нижний колонтитул 10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4" descr="bird-aviator"/>
          <p:cNvPicPr/>
          <p:nvPr/>
        </p:nvPicPr>
        <p:blipFill>
          <a:blip r:embed="rId1"/>
          <a:stretch/>
        </p:blipFill>
        <p:spPr>
          <a:xfrm>
            <a:off x="3352680" y="2133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 Bears - Pictures "/>
          <p:cNvPicPr/>
          <p:nvPr/>
        </p:nvPicPr>
        <p:blipFill>
          <a:blip r:embed="rId2"/>
          <a:stretch/>
        </p:blipFill>
        <p:spPr>
          <a:xfrm>
            <a:off x="3429000" y="380988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squirrel-nuts"/>
          <p:cNvPicPr/>
          <p:nvPr/>
        </p:nvPicPr>
        <p:blipFill>
          <a:blip r:embed="rId3"/>
          <a:stretch/>
        </p:blipFill>
        <p:spPr>
          <a:xfrm>
            <a:off x="4876920" y="5105520"/>
            <a:ext cx="1530360" cy="13222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-16848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Mig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bird-anim"/>
          <p:cNvPicPr/>
          <p:nvPr/>
        </p:nvPicPr>
        <p:blipFill>
          <a:blip r:embed="rId1"/>
          <a:stretch/>
        </p:blipFill>
        <p:spPr>
          <a:xfrm>
            <a:off x="3733920" y="3048120"/>
            <a:ext cx="1976400" cy="26096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Hibern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Picture 4" descr="bear-hibernate"/>
          <p:cNvPicPr/>
          <p:nvPr/>
        </p:nvPicPr>
        <p:blipFill>
          <a:blip r:embed="rId1"/>
          <a:stretch/>
        </p:blipFill>
        <p:spPr>
          <a:xfrm>
            <a:off x="3276720" y="2924280"/>
            <a:ext cx="3295440" cy="3136680"/>
          </a:xfrm>
          <a:prstGeom prst="rect">
            <a:avLst/>
          </a:prstGeom>
          <a:ln w="0">
            <a:noFill/>
          </a:ln>
        </p:spPr>
      </p:pic>
      <p:sp>
        <p:nvSpPr>
          <p:cNvPr id="399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Adap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deer1"/>
          <p:cNvPicPr/>
          <p:nvPr/>
        </p:nvPicPr>
        <p:blipFill>
          <a:blip r:embed="rId1"/>
          <a:stretch/>
        </p:blipFill>
        <p:spPr>
          <a:xfrm>
            <a:off x="3505320" y="3962520"/>
            <a:ext cx="239076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71200" y="-76680"/>
            <a:ext cx="8163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</a:rPr>
              <a:t>Surviving Winte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4" descr="snow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50Z</dcterms:created>
  <dc:creator>Jefferson County Tech Center</dc:creator>
  <dc:description/>
  <dc:language>en-US</dc:language>
  <cp:lastModifiedBy>LEGION</cp:lastModifiedBy>
  <dcterms:modified xsi:type="dcterms:W3CDTF">2018-03-22T08:19:22Z</dcterms:modified>
  <cp:revision>13</cp:revision>
  <dc:subject/>
  <dc:title>Animals in the Winter  Second Grade</dc:title>
</cp:coreProperties>
</file>