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ZZZZ.wav" ContentType="audio/x-wav"/>
  <Override PartName="/ppt/media/image9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A527-991B-41E7-8FFB-5DD1B8798ED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A36-A2BE-4EA4-875C-914E19F0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D05-5CD3-4D5D-9B58-2EF4EB8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03A-54EC-4A83-A68D-6ABAA500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2D3-8355-4CF2-81FC-E40794E5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4575-63B0-4817-BCED-D10F8033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AF2E-3EFE-4D7C-A9CD-9C364E66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2EE8-A4C9-47B0-828F-49D6A225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DDB0-367C-4E38-9988-B2BF36FF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6681-9EAA-423F-9D3B-EA23EB3B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9454-C99D-4317-AB2F-75052972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77D5-5F79-41C3-B8AE-28FBB504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AEF-63E6-44C3-B876-BDD651C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C4C5-612A-4F8D-81DD-1984A856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073B-0994-4AD8-AAE2-68C9134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01A1-10A6-44BF-A89C-D916C11E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E961-9283-46C1-83F0-8AABC2EA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82D3-9AD4-4A12-9CDA-C800A338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7BD31-4F09-4C0D-91F1-3BB60FA5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BD32A-03B6-44B5-8625-B04BFE17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BC503-6920-43A0-9CF0-4964DBF5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C868E-7AA1-4A5A-BC78-70B1D4B7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6B684-1761-474D-B46C-251C82D2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912-9EDB-492F-AD0F-D6F4464F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71592-207D-4570-8D31-BC543389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ED78E-B3BF-4599-A273-A6F60F2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14191-68BC-41DC-A0A5-8C1C481E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4C663-90CB-44E7-A98E-1B45E84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7ECD0-8004-48E6-9FDD-15DD2D6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86984-25BF-4C5B-A117-14A29F71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F8B8D-D056-4E9F-A083-E898207B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3C081-2EAA-4069-9EF2-B3FF87C9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909B7-CA93-4048-86CD-C692783C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549B6-D618-4A75-8DCD-D762BF8B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2A7-8E94-4E2E-A8EE-E1D14D40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E249C9-2443-4008-BAEF-59E153BD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E487C-BE2F-4B34-A69B-25A0C262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E7B8E-4875-4A33-BDDF-D81FE47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9A5AB-4330-4901-B6CD-9112C5F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9DB084-124C-4929-BA64-14A9030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6E144-7AAB-4221-8075-FF4415E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107F1-99FB-4ED2-88F7-1C89A7E6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4AE7B6-5CCC-4532-BBA9-26D55795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ECB13-7491-4151-B537-3D84C5AE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277EC-4004-48A2-B2ED-04C7FB98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C5B-9AC0-4E80-8500-5ACF6FF1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A6088-C6A4-4892-A012-B16A9615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AD9CB-6BA6-4845-A402-9B18D6FD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ACB99-7605-4B16-BD93-42C4D85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78148-A65D-4D62-8837-2F3E9FF4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D4D5B-8DFB-461A-B070-82544AC9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9B8D5-4020-4BCE-85D7-A67A2BB7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836A6-513C-4372-8FFF-C36FD3A2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AFB31-4A48-40CD-A5EA-B0BB903E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A3758-8919-49E6-8848-713FE2D9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AD686-FEDB-415C-B863-C0597FFB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074-7648-46C9-BB72-A7A6281F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747D3-2B07-4868-B335-FCB74479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FD6F8-A974-47F5-9090-4DE6A734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55E46-0593-41EB-AF95-07EC7085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0334F-6554-49DC-B210-C95066F1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52388-A111-48EC-8787-DC6AF31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76190-D46D-4DC0-B178-8CEC64B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0B5ED-E0CE-46E4-864E-506AB5D8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C8744-1EAC-442A-8BDF-2871D635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A437-1B8B-4797-981C-42ADC55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9F6FA-57C5-4169-BA62-4404F63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855-B183-43CE-B1AC-5A68D80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307BA-EBFF-4FBE-BF5C-6E6E2359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870B6-9575-4079-B5E4-A70CC748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EA492-D4D0-4F9E-AB3E-91676868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E212E-CE21-4097-8A1E-3CFC0876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195BD-2651-45B3-BB61-27A7D619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FF10B-B064-4D3C-A512-FDFA6907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4BA3A-5676-4A18-A514-7E43CB60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7ECB0-8256-43E5-BBDC-B6467513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4D7DD-0FA2-4D7E-9A93-9A0141D8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0C91A-E4FE-4FE8-8D42-0CAE2A5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1BD-0AB5-4E39-A808-1270D1D6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FBA4B-86D3-4EAB-AF2B-1CD7DFB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A1134-0338-48E1-AB69-CDB29F76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0A753-A994-4807-9573-1762A99B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A101F-5C84-45D5-A435-ED1344CD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CDBE2-96DB-49F9-B89F-01FEAED8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D573-0B2A-4134-B642-73F91D99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9C5BA-5152-45AB-86E3-B2357880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86F2E-9B9D-4454-96E9-0DE7E885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8C423-F128-405A-8BFF-49019F1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B5B86-0806-458B-9728-D4B5CE52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FC6-4175-42C6-B740-C0970C4A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C29C9-BE49-48A5-B3C6-FC7C2B96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F32AD-EEFC-4C2E-955D-BBD3EBF0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2AE1F-709A-472A-84E0-E5877529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8565A-4E67-47DC-A734-F927C6A4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D013E-5F81-4EF7-81E7-6609A894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8D2C1-D11E-44D4-8570-6EC2B7A6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B3655-9F82-4075-A9B0-C6B55C43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2D57-219B-4ED4-A513-40B48E189648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ACEF-6EC1-4B7F-83E7-3CE6C05B2C10}" type="slidenum">
              <a:rPr b="1" lang="en-US" sz="1400" spc="-1" strike="noStrike">
                <a:solidFill>
                  <a:srgbClr val="ebddc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5A5F-A70C-4827-89E2-AEF807DFD333}" type="slidenum">
              <a:rPr b="1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18AA-6FDD-407C-8048-B0139624B891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3B04-9F95-4E05-9053-80CC9628F555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0D33-D025-4DB6-A774-A871DA1752CC}" type="slidenum">
              <a:rPr b="1" lang="en-US" sz="1400" spc="-1" strike="noStrike">
                <a:solidFill>
                  <a:srgbClr val="775f55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оугольник 16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8FC0-770F-452D-BB8B-10E1DC5C3509}" type="slidenum">
              <a:rPr b="1" lang="en-US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1C95-4FB0-4624-92AA-350C9C420602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Animals in the Winter</a:t>
            </a:r>
            <a:r>
              <a:rPr b="1" lang="en-US" sz="6000" spc="-1" strike="noStrike">
                <a:solidFill>
                  <a:srgbClr val="775f55"/>
                </a:solidFill>
                <a:latin typeface="Comic Sans MS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4" descr="bear-hibernate"/>
          <p:cNvPicPr/>
          <p:nvPr/>
        </p:nvPicPr>
        <p:blipFill>
          <a:blip r:embed="rId1"/>
          <a:stretch/>
        </p:blipFill>
        <p:spPr>
          <a:xfrm>
            <a:off x="2438280" y="2209680"/>
            <a:ext cx="4133880" cy="3934080"/>
          </a:xfrm>
          <a:prstGeom prst="rect">
            <a:avLst/>
          </a:prstGeom>
          <a:ln w="0">
            <a:noFill/>
          </a:ln>
        </p:spPr>
      </p:pic>
      <p:sp>
        <p:nvSpPr>
          <p:cNvPr id="368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  <p:sndAc>
      <p:stSnd>
        <p:snd r:embed="rId2" name="ZZZZ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03456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4" descr="think-boy1"/>
          <p:cNvPicPr/>
          <p:nvPr/>
        </p:nvPicPr>
        <p:blipFill>
          <a:blip r:embed="rId1"/>
          <a:stretch/>
        </p:blipFill>
        <p:spPr>
          <a:xfrm>
            <a:off x="3733920" y="2895480"/>
            <a:ext cx="2651040" cy="27622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3045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think-boy1"/>
          <p:cNvPicPr/>
          <p:nvPr/>
        </p:nvPicPr>
        <p:blipFill>
          <a:blip r:embed="rId1"/>
          <a:stretch/>
        </p:blipFill>
        <p:spPr>
          <a:xfrm>
            <a:off x="5410080" y="2362320"/>
            <a:ext cx="2651400" cy="276228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0320" y="-6876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4" descr="thinking"/>
          <p:cNvPicPr/>
          <p:nvPr/>
        </p:nvPicPr>
        <p:blipFill>
          <a:blip r:embed="rId1"/>
          <a:stretch/>
        </p:blipFill>
        <p:spPr>
          <a:xfrm>
            <a:off x="2971800" y="2057400"/>
            <a:ext cx="2260440" cy="390204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bird-aviator"/>
          <p:cNvPicPr/>
          <p:nvPr/>
        </p:nvPicPr>
        <p:blipFill>
          <a:blip r:embed="rId1"/>
          <a:stretch/>
        </p:blipFill>
        <p:spPr>
          <a:xfrm>
            <a:off x="3505320" y="2971800"/>
            <a:ext cx="2879640" cy="28926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0320" y="3924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4" descr="bird-aviator"/>
          <p:cNvPicPr/>
          <p:nvPr/>
        </p:nvPicPr>
        <p:blipFill>
          <a:blip r:embed="rId1"/>
          <a:stretch/>
        </p:blipFill>
        <p:spPr>
          <a:xfrm>
            <a:off x="3276720" y="1905120"/>
            <a:ext cx="2125440" cy="1828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136368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5"/>
          <p:cNvGrpSpPr/>
          <p:nvPr/>
        </p:nvGrpSpPr>
        <p:grpSpPr>
          <a:xfrm>
            <a:off x="3811680" y="2400480"/>
            <a:ext cx="9144000" cy="360"/>
            <a:chOff x="3811680" y="2400480"/>
            <a:chExt cx="9144000" cy="360"/>
          </a:xfrm>
        </p:grpSpPr>
        <p:sp>
          <p:nvSpPr>
            <p:cNvPr id="381" name="Rectangle 14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83" name="Picture 12" descr=" Bears - Pictures "/>
          <p:cNvPicPr/>
          <p:nvPr/>
        </p:nvPicPr>
        <p:blipFill>
          <a:blip r:embed="rId2"/>
          <a:stretch/>
        </p:blipFill>
        <p:spPr>
          <a:xfrm>
            <a:off x="3505320" y="3657600"/>
            <a:ext cx="1520640" cy="20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3"/>
          <p:cNvSpPr/>
          <p:nvPr/>
        </p:nvSpPr>
        <p:spPr>
          <a:xfrm>
            <a:off x="3811680" y="2400480"/>
            <a:ext cx="2514600" cy="360"/>
          </a:xfrm>
          <a:prstGeom prst="rect">
            <a:avLst/>
          </a:prstGeom>
          <a:solidFill>
            <a:srgbClr val="ed8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Нижний колонтитул 10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4" descr="bird-aviator"/>
          <p:cNvPicPr/>
          <p:nvPr/>
        </p:nvPicPr>
        <p:blipFill>
          <a:blip r:embed="rId1"/>
          <a:stretch/>
        </p:blipFill>
        <p:spPr>
          <a:xfrm>
            <a:off x="3352680" y="2133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 Bears - Pictures "/>
          <p:cNvPicPr/>
          <p:nvPr/>
        </p:nvPicPr>
        <p:blipFill>
          <a:blip r:embed="rId2"/>
          <a:stretch/>
        </p:blipFill>
        <p:spPr>
          <a:xfrm>
            <a:off x="3429000" y="380988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squirrel-nuts"/>
          <p:cNvPicPr/>
          <p:nvPr/>
        </p:nvPicPr>
        <p:blipFill>
          <a:blip r:embed="rId3"/>
          <a:stretch/>
        </p:blipFill>
        <p:spPr>
          <a:xfrm>
            <a:off x="4876920" y="5105520"/>
            <a:ext cx="1530360" cy="13222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-16848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Mig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bird-anim"/>
          <p:cNvPicPr/>
          <p:nvPr/>
        </p:nvPicPr>
        <p:blipFill>
          <a:blip r:embed="rId1"/>
          <a:stretch/>
        </p:blipFill>
        <p:spPr>
          <a:xfrm>
            <a:off x="3733920" y="3048120"/>
            <a:ext cx="1976400" cy="26096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Hibern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Picture 4" descr="bear-hibernate"/>
          <p:cNvPicPr/>
          <p:nvPr/>
        </p:nvPicPr>
        <p:blipFill>
          <a:blip r:embed="rId1"/>
          <a:stretch/>
        </p:blipFill>
        <p:spPr>
          <a:xfrm>
            <a:off x="3276720" y="2924280"/>
            <a:ext cx="3295440" cy="3136680"/>
          </a:xfrm>
          <a:prstGeom prst="rect">
            <a:avLst/>
          </a:prstGeom>
          <a:ln w="0">
            <a:noFill/>
          </a:ln>
        </p:spPr>
      </p:pic>
      <p:sp>
        <p:nvSpPr>
          <p:cNvPr id="399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Adap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deer1"/>
          <p:cNvPicPr/>
          <p:nvPr/>
        </p:nvPicPr>
        <p:blipFill>
          <a:blip r:embed="rId1"/>
          <a:stretch/>
        </p:blipFill>
        <p:spPr>
          <a:xfrm>
            <a:off x="3505320" y="3962520"/>
            <a:ext cx="239076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71200" y="-76680"/>
            <a:ext cx="8163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</a:rPr>
              <a:t>Surviving Winte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4" descr="snow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50Z</dcterms:created>
  <dc:creator>Jefferson County Tech Center</dc:creator>
  <dc:description/>
  <dc:language>en-US</dc:language>
  <cp:lastModifiedBy>LEGION</cp:lastModifiedBy>
  <dcterms:modified xsi:type="dcterms:W3CDTF">2018-03-22T08:19:22Z</dcterms:modified>
  <cp:revision>13</cp:revision>
  <dc:subject/>
  <dc:title>Animals in the Winter  Second Grade</dc:title>
</cp:coreProperties>
</file>