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ZZZZ.wav" ContentType="audio/x-wav"/>
  <Override PartName="/ppt/media/image9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9908-CB34-4999-92A1-C858DB4B02F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E46-7E40-4E11-8844-DA4F09DE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26D-BC70-4D0F-8200-4182D215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FC3-6DB7-4BD4-8C54-85184F7E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004-C096-47D3-A247-AA0E77C5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FCAB-6496-4676-837A-78D57E85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D61C-8E20-4915-BD8A-D395685C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3CCF-20E5-402B-8B0C-A942EFF9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4486-9625-478F-BFDB-36D3A31C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EED9-EE5D-46C9-A0DD-69E600DF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7B1B-ED96-4BBA-AEFB-A385EA0C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5072-1F62-46F2-853A-CB8F2E8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AB1-4C03-4DD0-8536-E17794EC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B41B-064A-493C-BADD-8D860D59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6045-2CF9-4FD7-A6A9-B48C6617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275C-115D-448F-B88C-EBC99FA4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C5BD-A4C5-4BA3-ABDD-6E47435C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9E46-BC32-4060-AA0C-EE9A4BEB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34784-C35E-456D-B6A4-97152F69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8F91D-FEC0-4354-820A-08645DCB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1881A-BAAB-465A-9811-D54C63CD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23AC0-D0BF-48A2-8387-5B9B11A0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00462-E4EC-4305-8C45-D037C874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935-57CF-4FC3-8D9F-4E82B86D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35CE3-031A-47F3-B22F-111AA1B4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3DADC-74BF-4CCA-A869-A95C513C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9FB57-1F1A-4460-92B5-9AA496D7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BB726-A1F5-4F4D-B390-997CDCBA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9863E-B092-4DCC-A9CE-19745BDA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E025E-A00B-4F33-B94C-4BC29D73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1D905-BC4A-41D0-8759-66E48857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598C26-9E1F-4715-84A4-FE7B5814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01EB94-CE6E-4914-A3CC-07645A04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4C614-7FFD-4C89-A8E4-2400E08B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F07-7CA6-415F-A359-D0A2E6B7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DE80A-90FD-40F0-A3C9-7662FA5B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81D553-55C4-47C1-BE02-3CBA9CD2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13768-2100-44CF-8C71-8EA0AEE5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9A246-8FF8-46F9-A157-FA618974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6BEA0-88A7-4114-95E2-3814252D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0BD5B-8D56-4C9F-8F41-1798A21D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00982-E75D-4EC4-8140-E3804F3E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9D5D8-D9D1-4E18-A302-FD43D613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55055-BB2E-4A5C-A559-F95CB0EB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B8063-425B-4E5C-86C7-ED56E352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9B0-0553-4514-8110-1307965D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88656-E8E7-4F94-86D4-36F30E8E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42B3B-DEF6-411A-871B-816E8815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3DD63-440D-45B4-A1F7-152D0694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A477B-0DEE-43C1-A27F-E04B4D60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34EA45-E253-4309-A66E-D442CEFE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F8EA1-6871-4DFA-B973-7FCDB56A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D62BB-1B44-4B4C-A06B-C645372E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9F171-5585-42C1-8D07-74E3C42D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2C156-373A-4DA8-91FB-F1CD9169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821B0-06A6-4A40-9B6A-C5743AAE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BFC-C627-4C51-9B22-A4287085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FF74D-00CA-4402-B8C4-C2C5DF5F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90701-8EE5-4B13-A82E-FFB09E34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02236-33FF-41FB-AA68-E9F6E04F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9EC07-EE34-4955-8C0C-1D2A542B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B37A3-3AD4-41F1-BA97-E0E03893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90CB3-20F9-4A68-AFB7-E068272B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5917A-2DF7-476E-83B4-44B85C15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9A9BE-8611-4479-94D5-187E6166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38864-1B85-403F-B4E6-B5BCF50A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259C5-A31F-4533-89AE-5585E221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ECF-F29A-4148-8D94-A52E9812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F6A8C-D768-4284-B400-6F664887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7B3C8-DF1D-497D-BDA3-082F05CC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5D3DC-7316-4865-8FA6-03D10B3F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A0590-62F9-44C7-B52C-55CBF3B2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DC2DC-6178-4724-98A8-E09E6831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7F262-3D77-4005-B1ED-BE76D9FD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5846A5-C399-4352-A9F9-DD9093EA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1F7E3-6A2A-442D-A68F-01E0B9F6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8542C-3F18-4DC5-A6DF-2FAAA87F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0248F6-04FD-4503-B750-20721F64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F6F-E17C-47DB-B297-CE536CC2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9F31C0-727C-4910-9458-E191EBB0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A3B47-FE00-4E20-9DB1-1CE1EFBC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0CB1F-E345-432C-91DA-41C4767E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A9242-9622-4FAD-8DAC-E0C3E9FE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AA8D9-29BA-4E84-9C1E-ED1B503D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C443B-9AA0-44C1-B43A-F7AA50B7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E40C8-E299-4292-A02A-713B5E98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6E41F-EADF-4A15-ACF0-52398990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B9E64-DC00-4EA8-8309-FF2ED059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8D035-A579-4ED4-8316-DAEEB30A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3B44-CC0D-4161-812F-4B9F31F6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514B1-4355-48B0-8198-0F52358B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DE04A-D913-4ABA-BB49-7AAEC7F0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268AB-81A5-4859-894F-531BAA0E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D18E5-8908-41AB-B306-E375826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A7A66-313D-4D07-B1D0-13028557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87891-F71B-4B1A-A413-BD489C42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FFB8B-B4F0-4EE3-BC01-4AABC69E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C467-023F-40DD-917A-8B4B4B328D0D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0B65-AD6D-48EC-AC59-A045DFDD2F75}" type="slidenum">
              <a:rPr b="1" lang="en-US" sz="1400" spc="-1" strike="noStrike">
                <a:solidFill>
                  <a:srgbClr val="ebddc3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2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Прямоугольник 1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A10A-956F-4792-8D92-456C41CE3008}" type="slidenum">
              <a:rPr b="1" lang="en-US" sz="2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D215-ADFF-48A9-80FB-D443153BEDF3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2784-0976-4567-8425-BA85084B966D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7B35-980B-467C-B7F5-7876157CDF1C}" type="slidenum">
              <a:rPr b="1" lang="en-US" sz="1400" spc="-1" strike="noStrike">
                <a:solidFill>
                  <a:srgbClr val="775f55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Прямоугольник 14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Прямоугольник 16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6FE0-27F0-4B37-A545-19CA26C2FA57}" type="slidenum">
              <a:rPr b="1" lang="en-US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2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Прямоугольник 1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BCAD-E61C-42DE-B95E-22722464EB17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Animals in the Winter</a:t>
            </a:r>
            <a:r>
              <a:rPr b="1" lang="en-US" sz="6000" spc="-1" strike="noStrike">
                <a:solidFill>
                  <a:srgbClr val="775f55"/>
                </a:solidFill>
                <a:latin typeface="Comic Sans MS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4" descr="bear-hibernate"/>
          <p:cNvPicPr/>
          <p:nvPr/>
        </p:nvPicPr>
        <p:blipFill>
          <a:blip r:embed="rId1"/>
          <a:stretch/>
        </p:blipFill>
        <p:spPr>
          <a:xfrm>
            <a:off x="2438280" y="2209680"/>
            <a:ext cx="4133880" cy="3934080"/>
          </a:xfrm>
          <a:prstGeom prst="rect">
            <a:avLst/>
          </a:prstGeom>
          <a:ln w="0">
            <a:noFill/>
          </a:ln>
        </p:spPr>
      </p:pic>
      <p:sp>
        <p:nvSpPr>
          <p:cNvPr id="368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  <p:sndAc>
      <p:stSnd>
        <p:snd r:embed="rId2" name="ZZZZ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57040"/>
            <a:ext cx="903456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9" name="Picture 4" descr="think-boy1"/>
          <p:cNvPicPr/>
          <p:nvPr/>
        </p:nvPicPr>
        <p:blipFill>
          <a:blip r:embed="rId1"/>
          <a:stretch/>
        </p:blipFill>
        <p:spPr>
          <a:xfrm>
            <a:off x="3733920" y="2895480"/>
            <a:ext cx="2651040" cy="2762280"/>
          </a:xfrm>
          <a:prstGeom prst="rect">
            <a:avLst/>
          </a:prstGeom>
          <a:ln w="0">
            <a:noFill/>
          </a:ln>
        </p:spPr>
      </p:pic>
      <p:sp>
        <p:nvSpPr>
          <p:cNvPr id="410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71200" y="3045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4" descr="think-boy1"/>
          <p:cNvPicPr/>
          <p:nvPr/>
        </p:nvPicPr>
        <p:blipFill>
          <a:blip r:embed="rId1"/>
          <a:stretch/>
        </p:blipFill>
        <p:spPr>
          <a:xfrm>
            <a:off x="5410080" y="2362320"/>
            <a:ext cx="2651400" cy="2762280"/>
          </a:xfrm>
          <a:prstGeom prst="rect">
            <a:avLst/>
          </a:prstGeom>
          <a:ln w="0">
            <a:noFill/>
          </a:ln>
        </p:spPr>
      </p:pic>
      <p:sp>
        <p:nvSpPr>
          <p:cNvPr id="414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0320" y="-6876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4" descr="thinking"/>
          <p:cNvPicPr/>
          <p:nvPr/>
        </p:nvPicPr>
        <p:blipFill>
          <a:blip r:embed="rId1"/>
          <a:stretch/>
        </p:blipFill>
        <p:spPr>
          <a:xfrm>
            <a:off x="2971800" y="2057400"/>
            <a:ext cx="2260440" cy="3902040"/>
          </a:xfrm>
          <a:prstGeom prst="rect">
            <a:avLst/>
          </a:prstGeom>
          <a:ln w="0">
            <a:noFill/>
          </a:ln>
        </p:spPr>
      </p:pic>
      <p:sp>
        <p:nvSpPr>
          <p:cNvPr id="371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4" descr="bird-aviator"/>
          <p:cNvPicPr/>
          <p:nvPr/>
        </p:nvPicPr>
        <p:blipFill>
          <a:blip r:embed="rId1"/>
          <a:stretch/>
        </p:blipFill>
        <p:spPr>
          <a:xfrm>
            <a:off x="3505320" y="2971800"/>
            <a:ext cx="2879640" cy="289260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0320" y="3924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4" descr="bird-aviator"/>
          <p:cNvPicPr/>
          <p:nvPr/>
        </p:nvPicPr>
        <p:blipFill>
          <a:blip r:embed="rId1"/>
          <a:stretch/>
        </p:blipFill>
        <p:spPr>
          <a:xfrm>
            <a:off x="3276720" y="1905120"/>
            <a:ext cx="2125440" cy="18288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8"/>
          <p:cNvSpPr/>
          <p:nvPr/>
        </p:nvSpPr>
        <p:spPr>
          <a:xfrm>
            <a:off x="1363680" y="265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Group 15"/>
          <p:cNvGrpSpPr/>
          <p:nvPr/>
        </p:nvGrpSpPr>
        <p:grpSpPr>
          <a:xfrm>
            <a:off x="3811680" y="2400480"/>
            <a:ext cx="9144000" cy="360"/>
            <a:chOff x="3811680" y="2400480"/>
            <a:chExt cx="9144000" cy="360"/>
          </a:xfrm>
        </p:grpSpPr>
        <p:sp>
          <p:nvSpPr>
            <p:cNvPr id="381" name="Rectangle 14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83" name="Picture 12" descr=" Bears - Pictures "/>
          <p:cNvPicPr/>
          <p:nvPr/>
        </p:nvPicPr>
        <p:blipFill>
          <a:blip r:embed="rId2"/>
          <a:stretch/>
        </p:blipFill>
        <p:spPr>
          <a:xfrm>
            <a:off x="3505320" y="3657600"/>
            <a:ext cx="1520640" cy="20574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3"/>
          <p:cNvSpPr/>
          <p:nvPr/>
        </p:nvSpPr>
        <p:spPr>
          <a:xfrm>
            <a:off x="3811680" y="2400480"/>
            <a:ext cx="2514600" cy="360"/>
          </a:xfrm>
          <a:prstGeom prst="rect">
            <a:avLst/>
          </a:prstGeom>
          <a:solidFill>
            <a:srgbClr val="ed8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Нижний колонтитул 10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4" descr="bird-aviator"/>
          <p:cNvPicPr/>
          <p:nvPr/>
        </p:nvPicPr>
        <p:blipFill>
          <a:blip r:embed="rId1"/>
          <a:stretch/>
        </p:blipFill>
        <p:spPr>
          <a:xfrm>
            <a:off x="3352680" y="2133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 Bears - Pictures "/>
          <p:cNvPicPr/>
          <p:nvPr/>
        </p:nvPicPr>
        <p:blipFill>
          <a:blip r:embed="rId2"/>
          <a:stretch/>
        </p:blipFill>
        <p:spPr>
          <a:xfrm>
            <a:off x="3429000" y="3809880"/>
            <a:ext cx="1139760" cy="1600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squirrel-nuts"/>
          <p:cNvPicPr/>
          <p:nvPr/>
        </p:nvPicPr>
        <p:blipFill>
          <a:blip r:embed="rId3"/>
          <a:stretch/>
        </p:blipFill>
        <p:spPr>
          <a:xfrm>
            <a:off x="4876920" y="5105520"/>
            <a:ext cx="1530360" cy="1322280"/>
          </a:xfrm>
          <a:prstGeom prst="rect">
            <a:avLst/>
          </a:prstGeom>
          <a:ln w="0">
            <a:noFill/>
          </a:ln>
        </p:spPr>
      </p:pic>
      <p:sp>
        <p:nvSpPr>
          <p:cNvPr id="391" name="Нижний колонтитул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-168480"/>
            <a:ext cx="816300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Migr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bird-anim"/>
          <p:cNvPicPr/>
          <p:nvPr/>
        </p:nvPicPr>
        <p:blipFill>
          <a:blip r:embed="rId1"/>
          <a:stretch/>
        </p:blipFill>
        <p:spPr>
          <a:xfrm>
            <a:off x="3733920" y="3048120"/>
            <a:ext cx="1976400" cy="2609640"/>
          </a:xfrm>
          <a:prstGeom prst="rect">
            <a:avLst/>
          </a:prstGeom>
          <a:ln w="0">
            <a:noFill/>
          </a:ln>
        </p:spPr>
      </p:pic>
      <p:sp>
        <p:nvSpPr>
          <p:cNvPr id="39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Hibern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8" name="Picture 4" descr="bear-hibernate"/>
          <p:cNvPicPr/>
          <p:nvPr/>
        </p:nvPicPr>
        <p:blipFill>
          <a:blip r:embed="rId1"/>
          <a:stretch/>
        </p:blipFill>
        <p:spPr>
          <a:xfrm>
            <a:off x="3276720" y="2924280"/>
            <a:ext cx="3295440" cy="3136680"/>
          </a:xfrm>
          <a:prstGeom prst="rect">
            <a:avLst/>
          </a:prstGeom>
          <a:ln w="0">
            <a:noFill/>
          </a:ln>
        </p:spPr>
      </p:pic>
      <p:sp>
        <p:nvSpPr>
          <p:cNvPr id="399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Adapt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4" descr="deer1"/>
          <p:cNvPicPr/>
          <p:nvPr/>
        </p:nvPicPr>
        <p:blipFill>
          <a:blip r:embed="rId1"/>
          <a:stretch/>
        </p:blipFill>
        <p:spPr>
          <a:xfrm>
            <a:off x="3505320" y="3962520"/>
            <a:ext cx="2390760" cy="259056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71200" y="-76680"/>
            <a:ext cx="8163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</a:rPr>
              <a:t>Surviving Winter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4" descr="snow"/>
          <p:cNvPicPr/>
          <p:nvPr/>
        </p:nvPicPr>
        <p:blipFill>
          <a:blip r:embed="rId1"/>
          <a:stretch/>
        </p:blipFill>
        <p:spPr>
          <a:xfrm>
            <a:off x="2895480" y="3124080"/>
            <a:ext cx="3353040" cy="2667240"/>
          </a:xfrm>
          <a:prstGeom prst="rect">
            <a:avLst/>
          </a:prstGeom>
          <a:ln w="0">
            <a:noFill/>
          </a:ln>
        </p:spPr>
      </p:pic>
      <p:sp>
        <p:nvSpPr>
          <p:cNvPr id="407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9:00:50Z</dcterms:created>
  <dc:creator>Jefferson County Tech Center</dc:creator>
  <dc:description/>
  <dc:language>en-US</dc:language>
  <cp:lastModifiedBy>LEGION</cp:lastModifiedBy>
  <dcterms:modified xsi:type="dcterms:W3CDTF">2018-03-22T08:19:22Z</dcterms:modified>
  <cp:revision>13</cp:revision>
  <dc:subject/>
  <dc:title>Animals in the Winter  Second Grade</dc:title>
</cp:coreProperties>
</file>