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F27F-90FD-4F83-ABC2-8F19193121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okshelf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amir S Deeb, PhD, Arno G Motulsky, MD, “Red-Green Color Vision Defects,” GeneReviews, September 19, 2005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LORBLINDNESS, PARTIAL, DEUTAN SERIES; CB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 ID: 3038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arrison, R.; Hoefnagel, D.; Hayward, J. N.  “Congenital total color blindness.” Arch. Ophthal. 64: 685-692, 1960. PubMed ID: 1371183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tstein, D. “The molecular biology of color vision.” (Editorial) Science 232: 142-143, 1986. PubMed ID: 293714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inderickx, J.; Sanocki, E.; Lindsey, D. T.; Teller, D. Y.; Motulsky, A. G.; Deeb, S. S. 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efective colour vision associated with a missense mutation in the human green visual pigment gene.” Nature Genet. 1: 251-256, 1992.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 ID: 130202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okshel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ir S Deeb, PhD, Arno G Motulsky, MD, “Red-Green Color Vision Defects,” GeneReviews, September 19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LORBLINDNESS, PARTIAL, DEUTAN SERIES; CB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 ID: 303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rison, R.; Hoefnagel, D.; Hayward, J. N.  “Congenital total color blindness.” Arch. Ophthal. 64: 685-692, 1960. PubMed ID: 137118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stein, D. “The molecular biology of color vision.” (Editorial) Science 232: 142-143, 1986. PubMed ID: 29371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nderickx, J.; Sanocki, E.; Lindsey, D. T.; Teller, D. Y.; Motulsky, A. G.; Deeb, S. S.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ective colour vision associated with a missense mutation in the human green visual pigment gene.” Nature Genet. 1: 251-256, 1992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 ID: 13020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B58-74A6-41C8-BD8F-2210E933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D49-2B00-4148-A0B1-ABC314CA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381-F8DD-493B-94D8-887E1C0A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EA3-A82F-4073-A3DF-C6FB087F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C3C2-4CA4-4444-B3AB-968A5BE6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9784-CAB2-4E7F-BAC7-795099C6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819E-9114-4AA8-B661-162EE591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D175-ACA4-4562-9D41-36C4DA0F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6AF4-84AC-446E-B7A8-D2CF5246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D604-93B2-463E-83CA-1BC37BBC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CE72-8715-4A76-9E1A-66997BC4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BC6-9B4B-4945-9443-CA9A89A8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D562-FDFE-4C26-B619-ED830882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3B12-19B4-46EE-A98E-39F29F16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5A62-CF69-494A-917B-B6724D51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3294-91AC-4348-8329-2D7D07F7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CFB1-E820-4A50-884A-6546EEF7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8BC-D54E-42AD-B348-0829482A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0B5-BFD5-4961-82BF-E5DA11D6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044-ABD4-4442-BCFD-79D8AF0F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DFF-FE6D-4B19-88C6-F0F83E68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D63-1D04-4615-8678-23BE3A70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215-238D-47FA-BB62-395502EC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2F7-123C-42C3-BCDE-37D7689D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1529-F631-4039-AD05-22BB583C851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2BF0-0D40-4DD2-A50D-FA505BE7825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Color Blindn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By Jessie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41907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mally, there are three kind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es (each one sensitive to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 range of wavelength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6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gre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3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2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895840" cy="2427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85800" y="1676520"/>
            <a:ext cx="7543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ormal human retina contains two kinds of light sensitive cells: the rod cells (active only in low light) and the cone cells (active in normal daylight and responsible for color perceptio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2666880" y="533520"/>
            <a:ext cx="3962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 there be light!!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62120" y="4876920"/>
            <a:ext cx="74674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fferent kinds of inherited color blindness result from partial or complete loss of function of one or more of the different cone systems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Different Types of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two or all three of the cone pigments are missing and color and lightness vision is reduced to one dimen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Tot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only one of the cone pigments is missing and color is reduced to two dimen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Parti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red-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blue-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Total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known as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rod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complete achromatops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typical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are, non-progressive inability to distinguish any colors as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 of absent or nonfunctioning retinal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everything as white, black, or some shade of g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ly caused by a missense mutation (a switched amino aci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0" lang="en-US" sz="2000" spc="-1" strike="noStrike">
                <a:solidFill>
                  <a:srgbClr val="66ffff"/>
                </a:solidFill>
                <a:latin typeface="Tahoma"/>
              </a:rPr>
              <a:t>CNGB3 ge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YCLIC NUCLEOTIDE-GATED CHANNEL, BETA-3 (CNGB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c achromatopsia results from a complete loss of CNGB3 fun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encodes for the beta subunit of the cone cyclic nucleotide-gated cation channel, found photoreceptor plasma membra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n activation by cGMP, it leads to an opening of cation channels which thereby cause a depolarization of rod photorecepto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ene is essential for the generation of light-evoked electrical responses in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is not required for vital processes outside the visual syst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CNGB3 Co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man CNGB3 gene consists of 18 ex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ed over 200 kb of genomic seque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ene typ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rotein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omain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imilar to ion transport prot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545120" y="5715000"/>
            <a:ext cx="57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Cytogenetic locus:  chromosome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: 8; </a:t>
            </a: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Location: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 8q21-q2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9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92468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Amino acid sequ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Length: 809 a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LTIEVKEKAKQ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Mutation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66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The genetic basis for achromatopsia is found on chromosome 8 (locatio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q21-q22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) where there is a recessive point mutation in CNGB3 tha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serine at residue 435 to phenylalanine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 in a highly conserved site in the S6 membrane-spanning domai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Bookshelf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ir S Deeb, PhD, Arno G Motulsky, MD,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Red-Green Color Vision Defects,”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neReviews, September 19, 20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rg, Jeremy M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32.3.5. Rearrangements in the Genes for the Green and Red Pigments Lead to ‘Color Blindness,’”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Biochemistry 5th edition, W.H. Freeman and Company, 20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OMI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BLINDNESS, PARTIAL, DEUTAN SERIES; CBD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IM ID: 3038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PubMed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rrison, R.; Hoefnagel, D.; Hayward, J. N. 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Congenital total color blindness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Arch. Ophthal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4: 685-692, 1960. PubMed ID: 137118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tstein, D.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The molecular biology of color vision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(Editorial) </a:t>
            </a:r>
            <a:r>
              <a:rPr b="0" i="1" lang="nl-NL" sz="1400" spc="-1" strike="noStrike">
                <a:solidFill>
                  <a:srgbClr val="ffffff"/>
                </a:solidFill>
                <a:latin typeface="Tahoma"/>
              </a:rPr>
              <a:t>Science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232: 142-143, 1986. PubMed ID: 293714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Reyniers, E.; Van Thienen, M.-N.; Meire, F.; De Boulle, K.; Devries, K.; Kestelijn, P.; Willems, P. J.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Tahoma"/>
              </a:rPr>
              <a:t>“Gene conversion between red and defective green opsin gene in blue cone monochromacy.”</a:t>
            </a:r>
            <a:r>
              <a:rPr b="1" lang="nl-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Genomic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9: 323-328, 1995. PubMed ID: 866637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inderickx, J.; Sanocki, E.; Lindsey, D. T.; Teller, D. Y.; Motulsky, A. G.; Deeb, S. S. 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Defective colour vision associated with a missense mutation in the human green visual pigment gene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Nature Genet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: 251-256, 1992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ubMed ID: 130202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21:55Z</dcterms:created>
  <dc:creator>Jessie Wright</dc:creator>
  <dc:description/>
  <dc:language>en-US</dc:language>
  <cp:lastModifiedBy>LEGION</cp:lastModifiedBy>
  <dcterms:modified xsi:type="dcterms:W3CDTF">2018-03-22T08:41:49Z</dcterms:modified>
  <cp:revision>18</cp:revision>
  <dc:subject/>
  <dc:title>Color Blindness</dc:title>
</cp:coreProperties>
</file>