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47DA-1864-4F73-8593-15FCBB998E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okshelf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amir S Deeb, PhD, Arno G Motulsky, MD, “Red-Green Color Vision Defects,” GeneReviews, September 19, 2005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LORBLINDNESS, PARTIAL, DEUTAN SERIES; CBD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 ID: 3038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arrison, R.; Hoefnagel, D.; Hayward, J. N.  “Congenital total color blindness.” Arch. Ophthal. 64: 685-692, 1960. PubMed ID: 1371183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tstein, D. “The molecular biology of color vision.” (Editorial) Science 232: 142-143, 1986. PubMed ID: 293714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inderickx, J.; Sanocki, E.; Lindsey, D. T.; Teller, D. Y.; Motulsky, A. G.; Deeb, S. S. 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efective colour vision associated with a missense mutation in the human green visual pigment gene.” Nature Genet. 1: 251-256, 1992.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 ID: 130202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okshel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ir S Deeb, PhD, Arno G Motulsky, MD, “Red-Green Color Vision Defects,” GeneReviews, September 19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LORBLINDNESS, PARTIAL, DEUTAN SERIES; CB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 ID: 303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rison, R.; Hoefnagel, D.; Hayward, J. N.  “Congenital total color blindness.” Arch. Ophthal. 64: 685-692, 1960. PubMed ID: 137118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stein, D. “The molecular biology of color vision.” (Editorial) Science 232: 142-143, 1986. PubMed ID: 293714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nderickx, J.; Sanocki, E.; Lindsey, D. T.; Teller, D. Y.; Motulsky, A. G.; Deeb, S. S.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ective colour vision associated with a missense mutation in the human green visual pigment gene.” Nature Genet. 1: 251-256, 1992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 ID: 13020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68D-020A-444B-9F17-1EC95AE3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8E4-34C0-40D6-A605-E1B63453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D8B-B708-4E7E-92B4-117F11C8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461-0D8B-42DB-91F9-DC59E2D5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9943-E546-4C17-9BDE-0654A0A6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DAE1-AD0B-4A56-99FC-9B48186D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83F2-FF5F-4D84-A020-4DD37CF9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7788-6E34-4FD2-B0D0-0B7E1107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F2DC-D2FF-47AD-B5C3-0AED8944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2CAD-0A08-4E7B-A347-5F13A936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CF3A-82F0-46CE-9C84-5A4692B1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72F-2B8E-4FA3-AA8A-C21FDBBF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36BC-F84E-4709-AC05-FECD62A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18ED-2F1C-4437-A031-7BC2C7BC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1BFF-E0E2-4E97-B404-D1419219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1306-2CCB-49D3-A70A-F6E4B52F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CA86-3A58-4845-93CE-BF695E50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EE7-F1B3-4831-B0F6-C6C0C150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47F-9699-4103-AB4D-63E047A0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A45-9F07-438E-B094-838B98C5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BA4-19BE-45A8-9A7B-821DBE06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75B-9709-467F-8C74-0234713D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B5D-9622-4859-8C08-DD6A3719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599-5B23-44F6-9D5A-48C6CBE3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765D-1C51-43AB-919B-E497805683A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1807-ADF7-4DB3-8BD0-C96933F4F0E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Color Blindness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By Jessie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41907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mally, there are three kind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es (each one sensitive to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 range of wavelength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r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6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gre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3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2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895840" cy="2427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685800" y="1676520"/>
            <a:ext cx="7543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ormal human retina contains two kinds of light sensitive cells: the rod cells (active only in low light) and the cone cells (active in normal daylight and responsible for color perception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2666880" y="533520"/>
            <a:ext cx="3962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 there be light!!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62120" y="4876920"/>
            <a:ext cx="74674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ifferent kinds of inherited color blindness result from partial or complete loss of function of one or more of the different cone systems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Different Types of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two or all three of the cone pigments are missing and color and lightness vision is reduced to one dimen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Tot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only one of the cone pigments is missing and color is reduced to two dimens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Parti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red-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blue-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Total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known as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rod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complete achromatopsi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typical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are, non-progressive inability to distinguish any colors as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 of absent or nonfunctioning retinal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e everything as white, black, or some shade of gra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ypically caused by a missense mutation (a switched amino aci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</a:t>
            </a:r>
            <a:r>
              <a:rPr b="0" lang="en-US" sz="2000" spc="-1" strike="noStrike">
                <a:solidFill>
                  <a:srgbClr val="66ffff"/>
                </a:solidFill>
                <a:latin typeface="Tahoma"/>
              </a:rPr>
              <a:t>CNGB3 ge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CYCLIC NUCLEOTIDE-GATED CHANNEL, BETA-3 (CNGB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c achromatopsia results from a complete loss of CNGB3 fun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encodes for the beta subunit of the cone cyclic nucleotide-gated cation channel, found photoreceptor plasma membra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on activation by cGMP, it leads to an opening of cation channels which thereby cause a depolarization of rod photorecepto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gene is essential for the generation of light-evoked electrical responses in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is not required for vital processes outside the visual syste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CNGB3 Con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uman CNGB3 gene consists of 18 ex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ed over 200 kb of genomic seque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ene typ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rotein 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omain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imilar to ion transport prot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545120" y="5715000"/>
            <a:ext cx="57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Cytogenetic locus:  chromosome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: 8; </a:t>
            </a: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Location: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 8q21-q2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9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7924680" cy="99072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Amino acid sequ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Length: 809 a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LTIEVKEKAKQ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Mutation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66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The genetic basis for achromatopsia is found on chromosome 8 (location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q21-q22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) where there is a recessive point mutation in CNGB3 tha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ges serine at residue 435 to phenylalanine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 in a highly conserved site in the S6 membrane-spanning domai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Bookshelf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ir S Deeb, PhD, Arno G Motulsky, MD,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Red-Green Color Vision Defects,”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neReviews, September 19, 20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rg, Jeremy M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32.3.5. Rearrangements in the Genes for the Green and Red Pigments Lead to ‘Color Blindness,’”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Biochemistry 5th edition, W.H. Freeman and Company, 200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OMI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LORBLINDNESS, PARTIAL, DEUTAN SERIES; CBD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MIM ID: 3038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PubMed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rrison, R.; Hoefnagel, D.; Hayward, J. N. 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Congenital total color blindness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Arch. Ophthal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4: 685-692, 1960. PubMed ID: 1371183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otstein, D.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The molecular biology of color vision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(Editorial) </a:t>
            </a:r>
            <a:r>
              <a:rPr b="0" i="1" lang="nl-NL" sz="1400" spc="-1" strike="noStrike">
                <a:solidFill>
                  <a:srgbClr val="ffffff"/>
                </a:solidFill>
                <a:latin typeface="Tahoma"/>
              </a:rPr>
              <a:t>Science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232: 142-143, 1986. PubMed ID: 293714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Reyniers, E.; Van Thienen, M.-N.; Meire, F.; De Boulle, K.; Devries, K.; Kestelijn, P.; Willems, P. J.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Tahoma"/>
              </a:rPr>
              <a:t>“Gene conversion between red and defective green opsin gene in blue cone monochromacy.”</a:t>
            </a:r>
            <a:r>
              <a:rPr b="1" lang="nl-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Genomic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9: 323-328, 1995. PubMed ID: 866637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inderickx, J.; Sanocki, E.; Lindsey, D. T.; Teller, D. Y.; Motulsky, A. G.; Deeb, S. S. 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Defective colour vision associated with a missense mutation in the human green visual pigment gene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Nature Genet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: 251-256, 1992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ubMed ID: 130202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0:21:55Z</dcterms:created>
  <dc:creator>Jessie Wright</dc:creator>
  <dc:description/>
  <dc:language>en-US</dc:language>
  <cp:lastModifiedBy>LEGION</cp:lastModifiedBy>
  <dcterms:modified xsi:type="dcterms:W3CDTF">2018-03-22T08:41:49Z</dcterms:modified>
  <cp:revision>18</cp:revision>
  <dc:subject/>
  <dc:title>Color Blindness</dc:title>
</cp:coreProperties>
</file>