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40EF-8C69-4B05-8283-E8C24DD07B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okshelf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amir S Deeb, PhD, Arno G Motulsky, MD, “Red-Green Color Vision Defects,” GeneReviews, September 19, 2005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LORBLINDNESS, PARTIAL, DEUTAN SERIES; CB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 ID: 3038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arrison, R.; Hoefnagel, D.; Hayward, J. N.  “Congenital total color blindness.” Arch. Ophthal. 64: 685-692, 1960. PubMed ID: 1371183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tstein, D. “The molecular biology of color vision.” (Editorial) Science 232: 142-143, 1986. PubMed ID: 293714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inderickx, J.; Sanocki, E.; Lindsey, D. T.; Teller, D. Y.; Motulsky, A. G.; Deeb, S. S. 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efective colour vision associated with a missense mutation in the human green visual pigment gene.” Nature Genet. 1: 251-256, 1992.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 ID: 130202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okshel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ir S Deeb, PhD, Arno G Motulsky, MD, “Red-Green Color Vision Defects,” GeneReviews, September 19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LORBLINDNESS, PARTIAL, DEUTAN SERIES; CB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 ID: 303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rison, R.; Hoefnagel, D.; Hayward, J. N.  “Congenital total color blindness.” Arch. Ophthal. 64: 685-692, 1960. PubMed ID: 137118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stein, D. “The molecular biology of color vision.” (Editorial) Science 232: 142-143, 1986. PubMed ID: 29371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nderickx, J.; Sanocki, E.; Lindsey, D. T.; Teller, D. Y.; Motulsky, A. G.; Deeb, S. S.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ective colour vision associated with a missense mutation in the human green visual pigment gene.” Nature Genet. 1: 251-256, 1992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 ID: 13020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86B-8CA6-43A4-9BA0-A6139CF0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275-4AE4-4927-BB88-9E209515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E05-9308-4044-A7F6-F6FD3F2C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7BD-A2B1-47CF-A135-44834BED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8C78-8EEA-4236-AA0B-EF48FAD3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0457-40AA-4A31-BFE7-0344FC01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A667-9669-4B0E-9BFD-B4A047DE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9DD5-0DD8-4277-8552-FA3BFCAE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35A1-3E3A-4F3A-85A5-1EE9C6CB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DB71-E113-48FF-8B76-274F2D4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B03E-8942-4A39-8E8C-4B3E8840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D06-94D8-4CB0-8419-93D7300C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5957-623C-438D-ACC2-A3F68A61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11E9-81EE-45C7-926B-66E6993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504D-8140-477A-9827-63896396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F99D-7DE8-40E3-96A5-C7DEB083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A49D-17E8-4D7F-835A-78BF250D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633-F275-4F4C-B2F4-FACC39C0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ECD-A6E0-4E81-9874-217B4EAB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2C8-6431-4C17-89E4-0BFA8397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EA2-1721-43AD-A8F7-7ABD3EBD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279-E07A-4DAD-B4FC-41332A31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9B7-7B81-43EF-9E7E-15E1467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0CE-D9BD-4084-8583-11A918F3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134C-2177-448B-B64D-7808A02D71A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144A-F12F-4BEB-BD6B-DFEA6742C56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Color Blindn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By Jessie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4190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mally, there are three kind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es (each one sensitive to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 range of wavelength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6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3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2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895840" cy="2427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85800" y="1676520"/>
            <a:ext cx="7543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ormal human retina contains two kinds of light sensitive cells: the rod cells (active only in low light) and the cone cells (active in normal daylight and responsible for color perceptio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2666880" y="533520"/>
            <a:ext cx="3962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 there be light!!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62120" y="4876920"/>
            <a:ext cx="74674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fferent kinds of inherited color blindness result from partial or complete loss of function of one or more of the different cone systems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Different Types of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two or all three of the cone pigments are missing and color and lightness vision is reduced to one dimen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Tot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only one of the cone pigments is missing and color is reduced to two dimen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Parti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red-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blue-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Total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known as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rod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complete achromatops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typical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are, non-progressive inability to distinguish any colors as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 of absent or nonfunctioning retinal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everything as white, black, or some shade of g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used by a missense mutation (a switched amino aci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0" lang="en-US" sz="2000" spc="-1" strike="noStrike">
                <a:solidFill>
                  <a:srgbClr val="66ffff"/>
                </a:solidFill>
                <a:latin typeface="Tahoma"/>
              </a:rPr>
              <a:t>CNGB3 ge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YCLIC NUCLEOTIDE-GATED CHANNEL, BETA-3 (CNGB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c achromatopsia results from a complete loss of CNGB3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encodes for the beta subunit of the cone cyclic nucleotide-gated cation channel, found photoreceptor plasma membra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n activation by cGMP, it leads to an opening of cation channels which thereby cause a depolarization of rod photorecepto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ene is essential for the generation of light-evoked electrical responses in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is not required for vital processes outside the visual syst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CNGB3 Co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man CNGB3 gene consists of 18 ex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over 200 kb of genomic seque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ene typ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rotein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omain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imilar to ion transport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45120" y="5715000"/>
            <a:ext cx="57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Cytogenetic locus:  chromosome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: 8; </a:t>
            </a: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Location: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 8q21-q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9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92468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Amino acid seq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Length: 809 a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LTIEVKEKAKQ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Mutation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66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The genetic basis for achromatopsia is found on chromosome 8 (locatio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q21-q22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) where there is a recessive point mutation in CNGB3 tha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serine at residue 435 to phenylalanine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 in a highly conserved site in the S6 membrane-spanning domai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Bookshelf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ir S Deeb, PhD, Arno G Motulsky, MD,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Red-Green Color Vision Defects,”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neReviews, September 19,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rg, Jeremy M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32.3.5. Rearrangements in the Genes for the Green and Red Pigments Lead to ‘Color Blindness,’”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Biochemistry 5th edition, W.H. Freeman and Company, 20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OMI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BLINDNESS, PARTIAL, DEUTAN SERIES; CBD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IM ID: 3038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ubMed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rrison, R.; Hoefnagel, D.; Hayward, J. N. 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ngenital total color blindness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rch. Ophthal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4: 685-692, 1960. PubMed ID: 137118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tstein, D.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he molecular biology of color vision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(Editorial) </a:t>
            </a:r>
            <a:r>
              <a:rPr b="0" i="1" lang="nl-NL" sz="1400" spc="-1" strike="noStrike">
                <a:solidFill>
                  <a:srgbClr val="ffffff"/>
                </a:solidFill>
                <a:latin typeface="Tahoma"/>
              </a:rPr>
              <a:t>Science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232: 142-143, 1986. PubMed ID: 293714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Reyniers, E.; Van Thienen, M.-N.; Meire, F.; De Boulle, K.; Devries, K.; Kestelijn, P.; Willems, P. J.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Tahoma"/>
              </a:rPr>
              <a:t>“Gene conversion between red and defective green opsin gene in blue cone monochromacy.”</a:t>
            </a:r>
            <a:r>
              <a:rPr b="1" lang="nl-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Genomic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: 323-328, 1995. PubMed ID: 866637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derickx, J.; Sanocki, E.; Lindsey, D. T.; Teller, D. Y.; Motulsky, A. G.; Deeb, S. S.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efective colour vision associated with a missense mutation in the human green visual pigment gene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Nature Genet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: 251-256, 1992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ubMed ID: 130202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21:55Z</dcterms:created>
  <dc:creator>Jessie Wright</dc:creator>
  <dc:description/>
  <dc:language>en-US</dc:language>
  <cp:lastModifiedBy>LEGION</cp:lastModifiedBy>
  <dcterms:modified xsi:type="dcterms:W3CDTF">2018-03-22T08:41:49Z</dcterms:modified>
  <cp:revision>18</cp:revision>
  <dc:subject/>
  <dc:title>Color Blindness</dc:title>
</cp:coreProperties>
</file>