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A876-CCFE-429B-B0DF-EA1EEC651F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06C-AF09-4974-8B3A-9D640F15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BB0-2B84-4162-904A-42AFC2D6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547-CC5F-4FB3-9FF4-012A5144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442-BD30-4370-8E02-23F3CD34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9D4-7EB5-42A1-963C-AFB7B0ED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62E-02B0-4071-ACC1-4897B92B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034-46E8-481B-AB12-F189386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F55-D563-41D3-8369-476AF869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D1A-7D39-4E0F-8026-CED61A11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C8C-ABD2-44E6-B8F0-73332E22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6D2-40A0-4F1D-B0E8-51C64F18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AB4-05C1-4E23-A902-29D3B011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98FF-C5FA-4D62-BC3B-59936AAD8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ижний колонтитул 9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8-03-22T08:59:41Z</dcterms:modified>
  <cp:revision>147</cp:revision>
  <dc:subject/>
  <dc:title>Introduction to Astronomy</dc:title>
</cp:coreProperties>
</file>