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A30A-60B8-4730-A0CD-EDA7EB2499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85B-6088-4D7C-8491-BC0EA249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667-B3FE-409D-862B-D60F7363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27D-4BE9-4DCC-AE50-6A96F607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05EA-1BBC-4215-A019-DDE11FE1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4CC-091A-44AB-99A6-2C0D1B7A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86E-157F-4700-991B-12940FB4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593-EF33-45B8-B5C8-BE35A408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835-ADE5-47B4-9B1E-C29726E9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9D5-FDD2-4504-B9B1-E8B8EE4C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DAF-3F91-4E07-92B8-CBDAA24B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A0E-6C21-4CD9-9183-C8F8EA1B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52B-8B67-439C-8762-C2F08212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C88F-BF03-40C9-9D72-61E4A1CA0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Нижний колонтитул 9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8-03-22T08:59:41Z</dcterms:modified>
  <cp:revision>147</cp:revision>
  <dc:subject/>
  <dc:title>Introduction to Astronomy</dc:title>
</cp:coreProperties>
</file>