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0444D-2622-4F4A-87A2-D39379D833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1A303-8F24-453A-AA0B-9C777F721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36C-755F-4E59-9627-A0155B0E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AF5-6FB4-484B-836B-F00AA429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436-C14F-4052-8178-AB9BDC02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51F-AF7E-49F2-9FAF-01D5506A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FCB6-F549-4B32-A487-10F78238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B175-4834-466D-AFFD-A0B2E563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A7C2-79AA-4D04-BE9D-DEAE8BA8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503B-5881-40B1-AF9F-917B923E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C55E-B148-4861-88A1-47AFF790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B450-6EA1-4864-A38D-3BB89286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EA57-5DA1-4C79-9FE2-85EF863D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BA0-02A9-4679-BDCA-E75DC45F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21F2-B575-47C0-9593-8CC04EB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7A75-2375-46F4-95B5-6CF72DDE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B7DA-930F-4FAC-B6DF-1ACDCC19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CBF8-6EAA-45E3-BE19-CEB47A1B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EAF9-9C51-4C7C-86AB-021410EB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43C-72C7-4C8D-BEF1-4EA99B8E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8E6-580B-4C2B-AE48-B8700554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55E-7A73-4099-810A-5AB59381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858-8DD4-43A1-8157-B4CE4ED8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8EC-3BE4-4ED0-857F-FA9E5D11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4A5-0390-4F97-B29D-480FC583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8E4-DB78-4853-B42A-C3765642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D5A83-C1B1-4691-9E9E-D55B0C93CE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74980-89A8-4039-9EFF-481B34291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6396C-2918-4761-95C7-A955D97AA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98A20-FA63-46C9-80F6-D727E5398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8-03-22T09:03:55Z</dcterms:modified>
  <cp:revision>21</cp:revision>
  <dc:subject/>
  <dc:title>How are images of the Sun taken?</dc:title>
</cp:coreProperties>
</file>