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D81D-C4F0-41A3-9CE2-0347FBD9B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0F8-A414-4969-A84D-0F92054A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000-D3AE-4501-ABE6-5F221562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397-37FA-4F9E-9291-0D864675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A45-767B-43B3-BCBD-B0AB8DBD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DF9-68CA-4741-979B-29932CD6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2D7-BAD7-4B69-8B29-6A386750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363-EBAC-42AB-8AF0-DD6FE6F0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534-572F-4C50-B052-89066CE4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A70-9809-49AA-8A58-41F72E1D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17F-E32A-447B-956A-1B7EFA33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9C5-14BE-41C9-B78A-FB1C1137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1C0-D536-4531-9A68-D2EB68FC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C081-0E36-4673-94B3-BA589F056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80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>
                  <a:gd name="textAreaLeft" fmla="*/ 0 w 768240"/>
                  <a:gd name="textAreaRight" fmla="*/ 768600 w 768240"/>
                  <a:gd name="textAreaTop" fmla="*/ 0 h 3886200"/>
                  <a:gd name="textAreaBottom" fmla="*/ 3886560 h 3886200"/>
                </a:gdLst>
                <a:ahLst/>
                <a:rect l="textAreaLeft" t="textAreaTop" r="textAreaRight" b="textAreaBottom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>
              <a:gd name="textAreaLeft" fmla="*/ 0 w 1136880"/>
              <a:gd name="textAreaRight" fmla="*/ 1136880 w 1136880"/>
              <a:gd name="textAreaTop" fmla="*/ 0 h 852840"/>
              <a:gd name="textAreaBottom" fmla="*/ 853200 h 852840"/>
            </a:gdLst>
            <a:ahLst/>
            <a:rect l="textAreaLeft" t="textAreaTop" r="textAreaRight" b="textAreaBottom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5283000"/>
                <a:gd name="textAreaBottom" fmla="*/ 5283360 h 52830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197400"/>
                <a:gd name="textAreaBottom" fmla="*/ 6197760 h 61974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>
                <a:gd name="textAreaLeft" fmla="*/ 0 w 578160"/>
                <a:gd name="textAreaRight" fmla="*/ 578520 w 578160"/>
                <a:gd name="textAreaTop" fmla="*/ 0 h 6197760"/>
                <a:gd name="textAreaBottom" fmla="*/ 6198120 h 619776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462040"/>
              <a:gd name="textAreaBottom" fmla="*/ 2462400 h 2462040"/>
            </a:gdLst>
            <a:ahLst/>
            <a:rect l="textAreaLeft" t="textAreaTop" r="textAreaRight" b="textAreaBottom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Нижний колонтитул 4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>
              <a:gd name="textAreaLeft" fmla="*/ 0 w 2550960"/>
              <a:gd name="textAreaRight" fmla="*/ 2551320 w 255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625760"/>
              <a:gd name="textAreaBottom" fmla="*/ 1626120 h 162576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Нижний колонтитул 5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LEGION</dc:creator>
  <dc:description/>
  <dc:language>en-US</dc:language>
  <cp:lastModifiedBy>LEGION</cp:lastModifiedBy>
  <dcterms:modified xsi:type="dcterms:W3CDTF">2018-03-22T09:20:08Z</dcterms:modified>
  <cp:revision>13</cp:revision>
  <dc:subject/>
  <dc:title>The Sun as an  Energy Source</dc:title>
</cp:coreProperties>
</file>