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21DC-D2A8-4DD4-99DD-DDB92EF4B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A6C-7F5E-44F5-ADCB-10861632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DD0-3FDA-4155-A0B2-5A6AACEA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2A4-0CB8-43B0-83DF-23C3A461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8106-9301-498E-B956-E1B1E9CD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504-1882-425E-946A-0961B3D2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8B8-F53B-4C0C-83E9-0C919697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BB0-9AF8-4034-834F-B718CD96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3EE-27A7-42B4-A0C1-FB585432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25B-C9CB-4A3E-BA70-804CDD86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DE7-02A5-4258-BC81-C9F94C02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7AA-41D7-428A-AAAB-83EFDBEE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C40-088B-4223-97EA-9B509152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069B-AB9A-482E-BC42-4EB7042A7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80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>
                  <a:gd name="textAreaLeft" fmla="*/ 0 w 768240"/>
                  <a:gd name="textAreaRight" fmla="*/ 768600 w 768240"/>
                  <a:gd name="textAreaTop" fmla="*/ 0 h 3886200"/>
                  <a:gd name="textAreaBottom" fmla="*/ 3886560 h 3886200"/>
                </a:gdLst>
                <a:ahLst/>
                <a:rect l="textAreaLeft" t="textAreaTop" r="textAreaRight" b="textAreaBottom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>
              <a:gd name="textAreaLeft" fmla="*/ 0 w 1136880"/>
              <a:gd name="textAreaRight" fmla="*/ 1136880 w 1136880"/>
              <a:gd name="textAreaTop" fmla="*/ 0 h 852840"/>
              <a:gd name="textAreaBottom" fmla="*/ 853200 h 852840"/>
            </a:gdLst>
            <a:ahLst/>
            <a:rect l="textAreaLeft" t="textAreaTop" r="textAreaRight" b="textAreaBottom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5283000"/>
                <a:gd name="textAreaBottom" fmla="*/ 5283360 h 52830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197400"/>
                <a:gd name="textAreaBottom" fmla="*/ 6197760 h 61974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>
                <a:gd name="textAreaLeft" fmla="*/ 0 w 578160"/>
                <a:gd name="textAreaRight" fmla="*/ 578520 w 578160"/>
                <a:gd name="textAreaTop" fmla="*/ 0 h 6197760"/>
                <a:gd name="textAreaBottom" fmla="*/ 6198120 h 619776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Нижний колонтитул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>
              <a:gd name="textAreaLeft" fmla="*/ 0 w 2550960"/>
              <a:gd name="textAreaRight" fmla="*/ 2551320 w 255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Нижний колонтитул 5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LEGION</dc:creator>
  <dc:description/>
  <dc:language>en-US</dc:language>
  <cp:lastModifiedBy>LEGION</cp:lastModifiedBy>
  <dcterms:modified xsi:type="dcterms:W3CDTF">2018-03-22T09:20:08Z</dcterms:modified>
  <cp:revision>13</cp:revision>
  <dc:subject/>
  <dc:title>The Sun as an  Energy Source</dc:title>
</cp:coreProperties>
</file>