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3937-4EDA-4BDC-843E-DFF009EB0C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D596-A0D1-4438-B3FE-F7D176B0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33999-B7FB-4692-A06A-0CB6D8E2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2D281-0878-42F5-866D-2466BEA1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BBA6-B308-4487-89C6-869A3018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876B-4C32-4CE4-B72E-FEEC9C1A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8AD6-DAF6-4A05-96C8-B8B264CC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DB3E-EB94-4775-AE2C-F4DAD19C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F44A-C8C3-48B8-803D-985F9A69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1D45-5CDC-4228-AFE2-F9707592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C8EA-AE02-4D11-B717-0795794C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4016-78DF-4F88-B0ED-964E2665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AAFD-8DF3-4C4F-A00B-6558D98A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FAC5-5A4E-4C82-B8FE-16CAF4D6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1286-329C-4B4E-8AE6-03327C69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E510-4F7B-447A-84AC-7C93BCAD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A5BF-D398-40D0-852E-C3C8208A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280B-DD47-4DE6-AC75-378729E3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D0D75-2419-448D-BD97-736EDAC0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AA52A-6E16-4830-A048-D0B7D7D9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DDBCB-9CFD-4AA9-95CE-61A10E3E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F5318-998C-4725-98D6-001782CD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283B-B9A1-4366-9AB8-BE1A3722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2634-3370-41A1-AEB7-A5C97694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811D6-F71F-4754-B317-859AD1BB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9603-E78C-4AE0-82B2-1C7DDE1E766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2450-F099-49C7-AB87-0906E5CD975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ssdc.gsfc.nasa.gov/planetary/image/featherdrop_sound.mo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04640"/>
            <a:ext cx="672336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FOR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40000" y="436536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s gravity real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or does the Ear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ust s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d7a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1080"/>
          <a:ext cx="8229600" cy="3902040"/>
        </p:xfrm>
        <a:graphic>
          <a:graphicData uri="http://schemas.openxmlformats.org/drawingml/2006/table">
            <a:tbl>
              <a:tblPr/>
              <a:tblGrid>
                <a:gridCol w="3754440"/>
                <a:gridCol w="1512720"/>
                <a:gridCol w="1511640"/>
                <a:gridCol w="145080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Measurement in Newt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Predict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Re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forcemeter3"/>
          <p:cNvPicPr/>
          <p:nvPr/>
        </p:nvPicPr>
        <p:blipFill>
          <a:blip r:embed="rId1"/>
          <a:stretch/>
        </p:blipFill>
        <p:spPr>
          <a:xfrm>
            <a:off x="539640" y="692280"/>
            <a:ext cx="2365560" cy="5132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2700360" y="5877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ce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11" descr="force meters"/>
          <p:cNvPicPr/>
          <p:nvPr/>
        </p:nvPicPr>
        <p:blipFill>
          <a:blip r:embed="rId2"/>
          <a:stretch/>
        </p:blipFill>
        <p:spPr>
          <a:xfrm>
            <a:off x="2916360" y="981000"/>
            <a:ext cx="5945040" cy="475452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Now another ga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Lifting a ping pong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3924360" y="4653000"/>
            <a:ext cx="936720" cy="93492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211640" y="2492280"/>
            <a:ext cx="360360" cy="2233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78800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399564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ping pong ball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76720" y="1915920"/>
            <a:ext cx="534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rrow represents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5292720" y="3573360"/>
            <a:ext cx="936720" cy="1655640"/>
            <a:chOff x="5292720" y="3573360"/>
            <a:chExt cx="936720" cy="1655640"/>
          </a:xfrm>
        </p:grpSpPr>
        <p:sp>
          <p:nvSpPr>
            <p:cNvPr id="163" name="Oval 20"/>
            <p:cNvSpPr/>
            <p:nvPr/>
          </p:nvSpPr>
          <p:spPr>
            <a:xfrm>
              <a:off x="5292720" y="357336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1"/>
            <p:cNvSpPr/>
            <p:nvPr/>
          </p:nvSpPr>
          <p:spPr>
            <a:xfrm>
              <a:off x="5797440" y="4149360"/>
              <a:ext cx="0" cy="1079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32"/>
          <p:cNvGrpSpPr/>
          <p:nvPr/>
        </p:nvGrpSpPr>
        <p:grpSpPr>
          <a:xfrm>
            <a:off x="1258920" y="2205000"/>
            <a:ext cx="936720" cy="2447640"/>
            <a:chOff x="1258920" y="2205000"/>
            <a:chExt cx="936720" cy="2447640"/>
          </a:xfrm>
        </p:grpSpPr>
        <p:sp>
          <p:nvSpPr>
            <p:cNvPr id="166" name="Oval 27"/>
            <p:cNvSpPr/>
            <p:nvPr/>
          </p:nvSpPr>
          <p:spPr>
            <a:xfrm>
              <a:off x="1258920" y="371772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169092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205128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>
              <a:off x="147492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sucking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0"/>
          <p:cNvGrpSpPr/>
          <p:nvPr/>
        </p:nvGrpSpPr>
        <p:grpSpPr>
          <a:xfrm>
            <a:off x="1403280" y="1700280"/>
            <a:ext cx="3168720" cy="4636440"/>
            <a:chOff x="1403280" y="1700280"/>
            <a:chExt cx="3168720" cy="4636440"/>
          </a:xfrm>
        </p:grpSpPr>
        <p:sp>
          <p:nvSpPr>
            <p:cNvPr id="173" name="Oval 11"/>
            <p:cNvSpPr/>
            <p:nvPr/>
          </p:nvSpPr>
          <p:spPr>
            <a:xfrm>
              <a:off x="205092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2338560" y="256392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140328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4"/>
            <p:cNvSpPr/>
            <p:nvPr/>
          </p:nvSpPr>
          <p:spPr>
            <a:xfrm>
              <a:off x="2554200" y="5229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 flipV="1">
              <a:off x="2554200" y="17002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277164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Text Box 17"/>
            <p:cNvSpPr/>
            <p:nvPr/>
          </p:nvSpPr>
          <p:spPr>
            <a:xfrm>
              <a:off x="2916360" y="5877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0" name="AutoShape 21"/>
          <p:cNvSpPr/>
          <p:nvPr/>
        </p:nvSpPr>
        <p:spPr>
          <a:xfrm flipH="1">
            <a:off x="5364000" y="3357720"/>
            <a:ext cx="2664000" cy="2087280"/>
          </a:xfrm>
          <a:prstGeom prst="cloudCallout">
            <a:avLst>
              <a:gd name="adj1" fmla="val -41898"/>
              <a:gd name="adj2" fmla="val 65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 have I shown thi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33ff"/>
                </a:solidFill>
                <a:latin typeface="Arial"/>
              </a:rPr>
              <a:t>Which diagram shows the sucking force equal to the force of gra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684360" y="1844640"/>
            <a:ext cx="2449440" cy="4753080"/>
            <a:chOff x="684360" y="1844640"/>
            <a:chExt cx="2449440" cy="4753080"/>
          </a:xfrm>
        </p:grpSpPr>
        <p:sp>
          <p:nvSpPr>
            <p:cNvPr id="184" name="Oval 4"/>
            <p:cNvSpPr/>
            <p:nvPr/>
          </p:nvSpPr>
          <p:spPr>
            <a:xfrm>
              <a:off x="133200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1621080" y="2565360"/>
              <a:ext cx="360360" cy="22338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Text Box 6"/>
            <p:cNvSpPr/>
            <p:nvPr/>
          </p:nvSpPr>
          <p:spPr>
            <a:xfrm>
              <a:off x="68436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>
              <a:off x="1835280" y="5229360"/>
              <a:ext cx="1800" cy="1368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 flipV="1">
              <a:off x="1835280" y="2060280"/>
              <a:ext cx="1800" cy="7189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205272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0" name="Text Box 10"/>
          <p:cNvSpPr/>
          <p:nvPr/>
        </p:nvSpPr>
        <p:spPr>
          <a:xfrm>
            <a:off x="2195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Group 31"/>
          <p:cNvGrpSpPr/>
          <p:nvPr/>
        </p:nvGrpSpPr>
        <p:grpSpPr>
          <a:xfrm>
            <a:off x="3276720" y="1699920"/>
            <a:ext cx="2394000" cy="4824720"/>
            <a:chOff x="3276720" y="1699920"/>
            <a:chExt cx="2394000" cy="4824720"/>
          </a:xfrm>
        </p:grpSpPr>
        <p:sp>
          <p:nvSpPr>
            <p:cNvPr id="192" name="Oval 13"/>
            <p:cNvSpPr/>
            <p:nvPr/>
          </p:nvSpPr>
          <p:spPr>
            <a:xfrm>
              <a:off x="3924360" y="5229360"/>
              <a:ext cx="91584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>
              <a:off x="4211640" y="3068640"/>
              <a:ext cx="35244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5"/>
            <p:cNvSpPr/>
            <p:nvPr/>
          </p:nvSpPr>
          <p:spPr>
            <a:xfrm>
              <a:off x="3276720" y="3933720"/>
              <a:ext cx="9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6"/>
            <p:cNvSpPr/>
            <p:nvPr/>
          </p:nvSpPr>
          <p:spPr>
            <a:xfrm>
              <a:off x="4427640" y="5734080"/>
              <a:ext cx="0" cy="7905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Line 17"/>
            <p:cNvSpPr/>
            <p:nvPr/>
          </p:nvSpPr>
          <p:spPr>
            <a:xfrm flipV="1">
              <a:off x="4356000" y="1699920"/>
              <a:ext cx="0" cy="1584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614840" y="249408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 Box 19"/>
          <p:cNvSpPr/>
          <p:nvPr/>
        </p:nvSpPr>
        <p:spPr>
          <a:xfrm>
            <a:off x="4859280" y="59500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" name="Group 23"/>
          <p:cNvGrpSpPr/>
          <p:nvPr/>
        </p:nvGrpSpPr>
        <p:grpSpPr>
          <a:xfrm>
            <a:off x="5975280" y="1989000"/>
            <a:ext cx="3168720" cy="4636440"/>
            <a:chOff x="5975280" y="1989000"/>
            <a:chExt cx="3168720" cy="4636440"/>
          </a:xfrm>
        </p:grpSpPr>
        <p:sp>
          <p:nvSpPr>
            <p:cNvPr id="200" name="Oval 24"/>
            <p:cNvSpPr/>
            <p:nvPr/>
          </p:nvSpPr>
          <p:spPr>
            <a:xfrm>
              <a:off x="6622920" y="501300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5"/>
            <p:cNvSpPr/>
            <p:nvPr/>
          </p:nvSpPr>
          <p:spPr>
            <a:xfrm>
              <a:off x="6910560" y="285264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5975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7126200" y="55180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 flipV="1">
              <a:off x="7126200" y="198900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7343640" y="213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Text Box 30"/>
            <p:cNvSpPr/>
            <p:nvPr/>
          </p:nvSpPr>
          <p:spPr>
            <a:xfrm>
              <a:off x="7488360" y="6165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Нижний колонтитул 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upward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4356000" y="1773360"/>
            <a:ext cx="3168720" cy="4636440"/>
            <a:chOff x="4356000" y="1773360"/>
            <a:chExt cx="3168720" cy="4636440"/>
          </a:xfrm>
        </p:grpSpPr>
        <p:sp>
          <p:nvSpPr>
            <p:cNvPr id="210" name="Oval 4"/>
            <p:cNvSpPr/>
            <p:nvPr/>
          </p:nvSpPr>
          <p:spPr>
            <a:xfrm>
              <a:off x="5003640" y="479736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5291280" y="263700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4356000" y="3357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5506920" y="530244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8"/>
            <p:cNvSpPr/>
            <p:nvPr/>
          </p:nvSpPr>
          <p:spPr>
            <a:xfrm flipV="1">
              <a:off x="5506920" y="1773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5724360" y="191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5869080" y="59500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0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do not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3203640" y="1597320"/>
            <a:ext cx="4316400" cy="4818960"/>
            <a:chOff x="3203640" y="1597320"/>
            <a:chExt cx="4316400" cy="4818960"/>
          </a:xfrm>
        </p:grpSpPr>
        <p:pic>
          <p:nvPicPr>
            <p:cNvPr id="221" name="Picture 7" descr="MPj03142680000[1]"/>
            <p:cNvPicPr/>
            <p:nvPr/>
          </p:nvPicPr>
          <p:blipFill>
            <a:blip r:embed="rId1"/>
            <a:stretch/>
          </p:blipFill>
          <p:spPr>
            <a:xfrm>
              <a:off x="3203640" y="1916280"/>
              <a:ext cx="3492360" cy="36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8" descr="MCj04060880000[1]"/>
            <p:cNvPicPr/>
            <p:nvPr/>
          </p:nvPicPr>
          <p:blipFill>
            <a:blip r:embed="rId2"/>
            <a:stretch/>
          </p:blipFill>
          <p:spPr>
            <a:xfrm rot="2124600">
              <a:off x="5435640" y="1700280"/>
              <a:ext cx="77292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9" descr="MCj04060880000[1]"/>
            <p:cNvPicPr/>
            <p:nvPr/>
          </p:nvPicPr>
          <p:blipFill>
            <a:blip r:embed="rId3"/>
            <a:stretch/>
          </p:blipFill>
          <p:spPr>
            <a:xfrm flipH="1" rot="5400000">
              <a:off x="6441840" y="3069720"/>
              <a:ext cx="8636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0" descr="MCj04060880000[1]"/>
            <p:cNvPicPr/>
            <p:nvPr/>
          </p:nvPicPr>
          <p:blipFill>
            <a:blip r:embed="rId4"/>
            <a:stretch/>
          </p:blipFill>
          <p:spPr>
            <a:xfrm rot="10800000">
              <a:off x="4787640" y="5157360"/>
              <a:ext cx="771480" cy="12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24360" y="1483920"/>
            <a:ext cx="260208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33ff"/>
                </a:solidFill>
                <a:latin typeface="Comic Sans MS"/>
              </a:rPr>
              <a:t>two objects dropped at the sam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falling objects"/>
          <p:cNvPicPr/>
          <p:nvPr/>
        </p:nvPicPr>
        <p:blipFill>
          <a:blip r:embed="rId1"/>
          <a:stretch/>
        </p:blipFill>
        <p:spPr>
          <a:xfrm>
            <a:off x="900000" y="404640"/>
            <a:ext cx="4038840" cy="6153480"/>
          </a:xfrm>
          <a:prstGeom prst="rect">
            <a:avLst/>
          </a:prstGeom>
          <a:ln w="0">
            <a:noFill/>
          </a:ln>
        </p:spPr>
      </p:pic>
      <p:sp>
        <p:nvSpPr>
          <p:cNvPr id="22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What do forc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ke things ---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Arial"/>
              </a:rPr>
              <a:t>On the Moon – Apollo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64000" y="5805000"/>
            <a:ext cx="518472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7d7a"/>
                </a:solidFill>
                <a:uFillTx/>
                <a:latin typeface="Arial"/>
                <a:hlinkClick r:id="rId1"/>
              </a:rPr>
              <a:t>http://nssdc.gsfc.nasa.gov/planetary/image/featherdrop_sound.mo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photo taken from Apollo 15 movie of feather and hammer drop experiment"/>
          <p:cNvPicPr/>
          <p:nvPr/>
        </p:nvPicPr>
        <p:blipFill>
          <a:blip r:embed="rId2"/>
          <a:stretch/>
        </p:blipFill>
        <p:spPr>
          <a:xfrm>
            <a:off x="611280" y="364500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PICTURE OF LUNAR FEATHER DROP"/>
          <p:cNvPicPr/>
          <p:nvPr/>
        </p:nvPicPr>
        <p:blipFill>
          <a:blip r:embed="rId3"/>
          <a:stretch/>
        </p:blipFill>
        <p:spPr>
          <a:xfrm>
            <a:off x="5651640" y="1052640"/>
            <a:ext cx="2857320" cy="40003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539640" y="1052640"/>
            <a:ext cx="47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A heavy geological hammer and a falcon feather were dropped from the same he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They hit the lunar surface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94036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2110"/>
                </a:solidFill>
                <a:latin typeface="Arial"/>
              </a:rPr>
              <a:t>astronaut David Scot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8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5003640" y="5013360"/>
            <a:ext cx="0" cy="1079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268360" y="566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MCAN00531_0000[1]"/>
          <p:cNvPicPr/>
          <p:nvPr/>
        </p:nvPicPr>
        <p:blipFill>
          <a:blip r:embed="rId1"/>
          <a:stretch/>
        </p:blipFill>
        <p:spPr>
          <a:xfrm rot="18089400">
            <a:off x="2877840" y="1738440"/>
            <a:ext cx="2404800" cy="432576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672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3634920" y="2204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051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ut not getting f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5866920" y="2420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8" name="Line 5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6804000" y="522936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4140360" y="59500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6588000" y="98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How can we slow Hippo dow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95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2170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The cannon</a:t>
            </a:r>
            <a:r>
              <a:rPr b="0" lang="en-GB" sz="2800" spc="-1" strike="noStrike">
                <a:solidFill>
                  <a:srgbClr val="fe211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ball must move very quickly to orbi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 orbits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cannonS"/>
          <p:cNvPicPr/>
          <p:nvPr/>
        </p:nvPicPr>
        <p:blipFill>
          <a:blip r:embed="rId1"/>
          <a:stretch/>
        </p:blipFill>
        <p:spPr>
          <a:xfrm>
            <a:off x="3527280" y="1268280"/>
            <a:ext cx="4484880" cy="4743720"/>
          </a:xfrm>
          <a:prstGeom prst="rect">
            <a:avLst/>
          </a:prstGeom>
          <a:ln w="0">
            <a:noFill/>
          </a:ln>
        </p:spPr>
      </p:pic>
      <p:sp>
        <p:nvSpPr>
          <p:cNvPr id="27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gal_moon_color"/>
          <p:cNvPicPr/>
          <p:nvPr/>
        </p:nvPicPr>
        <p:blipFill>
          <a:blip r:embed="rId1"/>
          <a:stretch/>
        </p:blipFill>
        <p:spPr>
          <a:xfrm>
            <a:off x="611280" y="342900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0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3640" y="458100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gal_moon_color"/>
          <p:cNvPicPr/>
          <p:nvPr/>
        </p:nvPicPr>
        <p:blipFill>
          <a:blip r:embed="rId1"/>
          <a:stretch/>
        </p:blipFill>
        <p:spPr>
          <a:xfrm>
            <a:off x="61128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Picture 6" descr="gal_moon_color"/>
          <p:cNvPicPr/>
          <p:nvPr/>
        </p:nvPicPr>
        <p:blipFill>
          <a:blip r:embed="rId3"/>
          <a:stretch/>
        </p:blipFill>
        <p:spPr>
          <a:xfrm>
            <a:off x="3492360" y="270828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gal_moon_color"/>
          <p:cNvPicPr/>
          <p:nvPr/>
        </p:nvPicPr>
        <p:blipFill>
          <a:blip r:embed="rId4"/>
          <a:stretch/>
        </p:blipFill>
        <p:spPr>
          <a:xfrm>
            <a:off x="4716360" y="278136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gal_moon_color"/>
          <p:cNvPicPr/>
          <p:nvPr/>
        </p:nvPicPr>
        <p:blipFill>
          <a:blip r:embed="rId5"/>
          <a:stretch/>
        </p:blipFill>
        <p:spPr>
          <a:xfrm>
            <a:off x="601200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gal_moon_color"/>
          <p:cNvPicPr/>
          <p:nvPr/>
        </p:nvPicPr>
        <p:blipFill>
          <a:blip r:embed="rId6"/>
          <a:stretch/>
        </p:blipFill>
        <p:spPr>
          <a:xfrm>
            <a:off x="7308720" y="2781360"/>
            <a:ext cx="1567080" cy="162072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5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ig and Litt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trees wind2"/>
          <p:cNvPicPr/>
          <p:nvPr/>
        </p:nvPicPr>
        <p:blipFill>
          <a:blip r:embed="rId1"/>
          <a:stretch/>
        </p:blipFill>
        <p:spPr>
          <a:xfrm>
            <a:off x="250920" y="2111400"/>
            <a:ext cx="4825800" cy="412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MPj04010640000[1]"/>
          <p:cNvPicPr/>
          <p:nvPr/>
        </p:nvPicPr>
        <p:blipFill>
          <a:blip r:embed="rId2"/>
          <a:stretch/>
        </p:blipFill>
        <p:spPr>
          <a:xfrm>
            <a:off x="6372360" y="0"/>
            <a:ext cx="2614320" cy="5354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feather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1253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076720" y="5373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We can measure fo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Using a force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MPj01787140000[1]"/>
          <p:cNvPicPr/>
          <p:nvPr/>
        </p:nvPicPr>
        <p:blipFill>
          <a:blip r:embed="rId1"/>
          <a:stretch/>
        </p:blipFill>
        <p:spPr>
          <a:xfrm>
            <a:off x="4932360" y="1700280"/>
            <a:ext cx="3343320" cy="4305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Pj01827690000[1]"/>
          <p:cNvPicPr/>
          <p:nvPr/>
        </p:nvPicPr>
        <p:blipFill>
          <a:blip r:embed="rId2"/>
          <a:stretch/>
        </p:blipFill>
        <p:spPr>
          <a:xfrm>
            <a:off x="971640" y="1700280"/>
            <a:ext cx="3246480" cy="40910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6"/>
          <p:cNvSpPr/>
          <p:nvPr/>
        </p:nvSpPr>
        <p:spPr>
          <a:xfrm>
            <a:off x="539640" y="61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Very heavy boots-</a:t>
            </a: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gravity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ightless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them float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eigh very much less than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huge b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’s gravity is very much less than the Earth’s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2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75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Arial"/>
              </a:rPr>
              <a:t>Weight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8000" y="3573360"/>
            <a:ext cx="35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Arial"/>
              </a:rPr>
              <a:t>or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thirsk"/>
          <p:cNvPicPr/>
          <p:nvPr/>
        </p:nvPicPr>
        <p:blipFill>
          <a:blip r:embed="rId1"/>
          <a:stretch/>
        </p:blipFill>
        <p:spPr>
          <a:xfrm>
            <a:off x="684360" y="1341360"/>
            <a:ext cx="3975120" cy="4392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comet4"/>
          <p:cNvPicPr/>
          <p:nvPr/>
        </p:nvPicPr>
        <p:blipFill>
          <a:blip r:embed="rId2"/>
          <a:stretch/>
        </p:blipFill>
        <p:spPr>
          <a:xfrm>
            <a:off x="4859280" y="549360"/>
            <a:ext cx="3960720" cy="2641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KC-135_150"/>
          <p:cNvPicPr/>
          <p:nvPr/>
        </p:nvPicPr>
        <p:blipFill>
          <a:blip r:embed="rId3"/>
          <a:stretch/>
        </p:blipFill>
        <p:spPr>
          <a:xfrm>
            <a:off x="5867280" y="4221000"/>
            <a:ext cx="2987640" cy="21322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0"/>
          <p:cNvSpPr/>
          <p:nvPr/>
        </p:nvSpPr>
        <p:spPr>
          <a:xfrm>
            <a:off x="684360" y="630864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(NASA pictur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arently weightless</a:t>
            </a:r>
            <a:br>
              <a:rPr sz="4400"/>
            </a:b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(pictures or animation only –not a demon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forcemeter 2"/>
          <p:cNvPicPr/>
          <p:nvPr/>
        </p:nvPicPr>
        <p:blipFill>
          <a:blip r:embed="rId1"/>
          <a:stretch/>
        </p:blipFill>
        <p:spPr>
          <a:xfrm>
            <a:off x="2411280" y="1989000"/>
            <a:ext cx="4286520" cy="426744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33ff"/>
                </a:solidFill>
                <a:latin typeface="Comic Sans MS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No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an apple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things stay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keep asking question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-like Newto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Sir Isaac Newt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Cj03790630000[1]"/>
          <p:cNvPicPr/>
          <p:nvPr/>
        </p:nvPicPr>
        <p:blipFill>
          <a:blip r:embed="rId1"/>
          <a:stretch/>
        </p:blipFill>
        <p:spPr>
          <a:xfrm>
            <a:off x="3924360" y="907920"/>
            <a:ext cx="4043160" cy="5612040"/>
          </a:xfrm>
          <a:prstGeom prst="rect">
            <a:avLst/>
          </a:prstGeom>
          <a:ln w="0">
            <a:noFill/>
          </a:ln>
        </p:spPr>
      </p:pic>
      <p:sp>
        <p:nvSpPr>
          <p:cNvPr id="12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MCj02461150000[1]"/>
          <p:cNvPicPr/>
          <p:nvPr/>
        </p:nvPicPr>
        <p:blipFill>
          <a:blip r:embed="rId1"/>
          <a:stretch/>
        </p:blipFill>
        <p:spPr>
          <a:xfrm rot="20635800">
            <a:off x="826920" y="2492280"/>
            <a:ext cx="2513160" cy="1833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apple2"/>
          <p:cNvPicPr/>
          <p:nvPr/>
        </p:nvPicPr>
        <p:blipFill>
          <a:blip r:embed="rId2"/>
          <a:stretch/>
        </p:blipFill>
        <p:spPr>
          <a:xfrm rot="1471800">
            <a:off x="2195280" y="2636640"/>
            <a:ext cx="2450880" cy="226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MCj01127900000[1]"/>
          <p:cNvPicPr/>
          <p:nvPr/>
        </p:nvPicPr>
        <p:blipFill>
          <a:blip r:embed="rId3"/>
          <a:stretch/>
        </p:blipFill>
        <p:spPr>
          <a:xfrm>
            <a:off x="4356000" y="2276640"/>
            <a:ext cx="4972320" cy="4268520"/>
          </a:xfrm>
          <a:prstGeom prst="rect">
            <a:avLst/>
          </a:prstGeom>
          <a:ln w="0">
            <a:noFill/>
          </a:ln>
        </p:spPr>
      </p:pic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60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1981750000[1]"/>
          <p:cNvPicPr/>
          <p:nvPr/>
        </p:nvPicPr>
        <p:blipFill>
          <a:blip r:embed="rId1"/>
          <a:stretch/>
        </p:blipFill>
        <p:spPr>
          <a:xfrm>
            <a:off x="3276720" y="549360"/>
            <a:ext cx="5209920" cy="576108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When gravity pulls something towards the Ear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- we call this force the </a:t>
            </a:r>
            <a:r>
              <a:rPr b="1" lang="en-GB" sz="3600" spc="-1" strike="noStrike">
                <a:solidFill>
                  <a:srgbClr val="fe2110"/>
                </a:solidFill>
                <a:latin typeface="Comic Sans MS"/>
              </a:rPr>
              <a:t>weight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orces are measured in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New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97180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ight of an apple = about 1 Newt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484360" y="1989000"/>
            <a:ext cx="431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Let’s pl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a game 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22T09:24:15Z</dcterms:modified>
  <cp:revision>51</cp:revision>
  <dc:subject/>
  <dc:title>WOW !</dc:title>
</cp:coreProperties>
</file>