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2AE-15CB-4B49-9457-E9D71FF02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8213-D874-4706-8A59-BB04F47B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7530-C6DE-4E91-82A3-78624413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FF51-B122-49BD-A84A-645FEF62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A448-9C7B-415B-826F-9321728C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4955-E825-4480-BB72-6ADEBDC3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FD6A-8796-4257-AE1A-8D83091C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78CE-8C4D-48D3-9AE5-770A6BA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9BAA-2F2D-4D3B-BA89-354B9E71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6000-BC58-4553-8A5B-9DFA9FA4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D1EB-DADB-4675-92DA-76DE157E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E8C7-4B8A-4260-B3A1-8CE943B1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3597-8D00-4C97-9EEE-2271BD42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F892-A113-4A9B-BED7-0AF9DD96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5FCC-0965-40F4-AB06-54951492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8F9B-6F6F-44C4-A60E-23FF90E0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BEFB-9802-42CD-8478-48559B8E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90AC-3288-42CD-9E95-CF9DD5D3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C116-0168-49B6-9A05-9A7EFFA4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B5C6-55B2-4164-A359-D9DFC633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D7ED-C227-419D-A52B-234C288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6BE2-8747-49DC-91D2-E7A4B3A1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D885-E4F9-4A5E-A7A7-7262E8A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A6D6-8AE1-48D7-9D81-8CEF156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1D15-CD6B-4814-BD06-7DA8FF83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8668-7656-4085-BFED-5F06BC30E55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3168-BD06-47FD-8497-BDC854FB2CC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3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6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3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4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2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200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Нижний колонтитул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10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1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8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22T09:24:15Z</dcterms:modified>
  <cp:revision>51</cp:revision>
  <dc:subject/>
  <dc:title>WOW !</dc:title>
</cp:coreProperties>
</file>