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0405-CC2B-4F36-93B8-97070A617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8E0-A6B6-4974-82B3-669E3DE5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0F0-701D-4BBA-B9D9-4D160D7A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AD6-2020-4B7C-BF6C-6CC7C099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3A7-0580-4428-8731-E5BA2A8D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174-D03D-4FDC-9816-B79E3A37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A39-0593-45B9-BA3D-AD22F9B8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968-88A0-4115-A21E-D0E3601B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82A5-7CE6-424B-8596-4620BA9F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E89C-C29E-4400-BF9B-E5ED1A68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45B5-CA4D-4791-BFB5-3DB63088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372-E665-43D1-B258-CBB7A211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424-0A62-44EA-8798-419FD027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D95C-6791-4447-849C-459211B50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8-03-22T09:26:10Z</dcterms:modified>
  <cp:revision>135</cp:revision>
  <dc:subject/>
  <dc:title>PowerPoint Presentation</dc:title>
</cp:coreProperties>
</file>